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5C7E-5B53-483C-81E9-A9A8CF8A0A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12FD-5051-4152-BBBA-C8FDA90E4C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F60B-34BA-4C9A-B572-26BD9FC80D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3C06-D2EC-4482-8192-971A12BA72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F70A-CEB4-4EF1-A075-DF0EFB63B8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F7C4-655B-4556-859A-E5F67C79FB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26DF-6E4B-426D-B55E-6FDC1E18CC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D113-A8AA-4352-96AA-1536FA5AD5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5672-C1F8-4B8F-8F8F-2CFCF1C915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4B21-3C09-4C94-974B-38E23A05B5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8967-D766-4B01-B89B-0482E9B226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A66C-D253-46F4-92B4-8CE3312EC3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B1C1-BB2E-4648-B270-9B2ADAC459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DA9C-5338-4830-83D0-05E0D160D1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31C2-D5E5-44AC-A0EE-18FA5FBE58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9A88-ACC8-48B3-9B01-EF483C684C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6AB1-27AA-4924-BB4F-DE994C5C1C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F7F3-65AB-4623-B5F3-B5922309F8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10920" y="4076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Het wetenschappelijk bewijs is onmiskenb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oeikasg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32000" y="1335240"/>
          <a:ext cx="7354800" cy="4545000"/>
        </p:xfrm>
        <a:graphic>
          <a:graphicData uri="http://schemas.openxmlformats.org/drawingml/2006/table">
            <a:tbl>
              <a:tblPr/>
              <a:tblGrid>
                <a:gridCol w="3678120"/>
                <a:gridCol w="367668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oldioxide (CO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randing van steenkool, aardolie en aardgas voor energie, vervoer en verwar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kstofoxide (N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ortplaatsen, landbouw en v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aan (CH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koolwaterstoffen (H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luorkoolwaterstoffen (P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ebruikt in koelkasten, airconditioners en zelfs scho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avelhexafluoride (SF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ar is het bewij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8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grootste wetenschappelijke autoriteit op het gebied van klimaatverandering is het Intergovernmental Panel on Climate Change (IPCC) van de Verenigde Nati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ördineert de bevindingen van 2 500 deskundigen van over heel de wer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e evaluatierapport gepubliceerd in november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atierapport vertegenwoordigt 6 jaar van onderzoek en analy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voorzichtige en streng wetenschappelijke benadering van de conclusie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innaar van de Nobelprijs voor de vrede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ststellingen van het 4e evaluatiera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nomstotelijk bewijs dat de opwarming van de aarde het gevolg is van de menselijke activitei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en de gemiddelde temperatuur met meer dan 2 °C stijgt, kunnen de gevolgen onverhoeds toeslaan en onomkeerbaa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is nog voldoende tijd om de klimaatverandering af te remmen en ons aan de gevolgen ervan aan te pas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bestaan al heel wat nuttige technologieën, die economisch ook verantwoord 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ar er moet nu meteen actie worden onderno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doen de regeringen era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339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geringen werken samen in het kader van het Raamverdrag van de Verenigde Naties inzake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 de huidige overeenkomst, het Protocol van Kyoto, zijn bindende emissiedoelstellingen vastgesteld voor de industriel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worden momenteel onderhandelingen gevoerd over een vervolg, waarover in december 2009 in Kopenhagen een akkoord moet worden berei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Europese Unie neemt het voortouw in de strijd tegen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-lidstaten hebben zichzelf voor 2020 tot doel gestel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met 20 % te verminderen (met 30 % in geval van een mondiaal akkoord)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nergie-efficiëntie met 20 % op te drijven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 % van de opgewekte energie uit hernieuwbare energiebronnen te ha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 dringt aan op een nieuwe, ambitieuze, wereldwijde overeenkomst om de uitstoot te beper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35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voudige handelingen in het dagelijkse leven spelen een belangrijke rol i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t andere woor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ring zuinig om met warm water door een douche te nemen in plaats van een bad (vier keer minder energi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 op school, in uw tuin of in uw wij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1187280" y="260280"/>
            <a:ext cx="7823520" cy="6124680"/>
            <a:chOff x="1187280" y="260280"/>
            <a:chExt cx="7823520" cy="6124680"/>
          </a:xfrm>
        </p:grpSpPr>
        <p:pic>
          <p:nvPicPr>
            <p:cNvPr id="122" name="Picture 5" descr="Prospects PIC00126-lo"/>
            <p:cNvPicPr/>
            <p:nvPr/>
          </p:nvPicPr>
          <p:blipFill>
            <a:blip r:embed="rId1"/>
            <a:stretch/>
          </p:blipFill>
          <p:spPr>
            <a:xfrm>
              <a:off x="1187280" y="2406600"/>
              <a:ext cx="3121200" cy="39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Lightbulb_iStock_000001548394-lo"/>
            <p:cNvPicPr/>
            <p:nvPr/>
          </p:nvPicPr>
          <p:blipFill>
            <a:blip r:embed="rId2"/>
            <a:stretch/>
          </p:blipFill>
          <p:spPr>
            <a:xfrm>
              <a:off x="4427640" y="260280"/>
              <a:ext cx="45831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"/>
            <p:cNvPicPr/>
            <p:nvPr/>
          </p:nvPicPr>
          <p:blipFill>
            <a:blip r:embed="rId3"/>
            <a:stretch/>
          </p:blipFill>
          <p:spPr>
            <a:xfrm>
              <a:off x="5076720" y="3645000"/>
              <a:ext cx="2833920" cy="27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het openbaar vervoer of de fiets of ga gewoon te vo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elektrische toestellen niet in stand-by staan. Gebruik de aan/uit-func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lader van uw mobiele telefoon niet in het stopcontact zitten wanneer u uw telefoon niet oplaad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limaat” verwijst naar de atmosferische toestand over een langere tijd, terwijl het “weer” voortdurend vari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eranderingen in het klimaat zijn een natuurlijk fenomeen: zo lag de gemiddelde temperatuur na de laatste ijstijd (11 500 jaar geleden) wereldwijd 5 °C lager dan 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: we stellen nu vast dat de temperatuur in een nooit eerder gezien tempo stij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tenschappers zijn van mening dat de activiteiten van de mens hiervoor verantwoordelijk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emperatuur is in Europa met bijna 1 °C gestegen sinds 18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bijkomende stijging van 1,2 °C zou onomkeerbare, massale en mogelijk catastrofale milieuschade kunnen veroorza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therm-sxc-499008_65787286-lo"/>
          <p:cNvPicPr/>
          <p:nvPr/>
        </p:nvPicPr>
        <p:blipFill>
          <a:blip r:embed="rId1"/>
          <a:stretch/>
        </p:blipFill>
        <p:spPr>
          <a:xfrm>
            <a:off x="3657600" y="2054160"/>
            <a:ext cx="1828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treme weersomstandigheden – stormen, overstromingen, droogtes en hittegolven – komen steeds vaker voor en worden alsmaar hevi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0 % van de natuurrampen in Europa sinds 1980 waren het gevolg van het weer en het klima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floods_31256-lo"/>
          <p:cNvPicPr/>
          <p:nvPr/>
        </p:nvPicPr>
        <p:blipFill>
          <a:blip r:embed="rId1"/>
          <a:stretch/>
        </p:blipFill>
        <p:spPr>
          <a:xfrm>
            <a:off x="3641760" y="3417840"/>
            <a:ext cx="1859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ropese gletsjers hebben sinds 1850 twee derden van hun omvang verloren en het afsmeltingstempo gaat in stijgende l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poolkappen smelten en de zeespiegel stijgt dubbel zo snel als 50 jaar gele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ljoenen mensen over de hele wereld worden bedreigd door waterschaarste, hongersnood en armoe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66880" y="650880"/>
            <a:ext cx="6550200" cy="5514840"/>
            <a:chOff x="1766880" y="650880"/>
            <a:chExt cx="6550200" cy="5514840"/>
          </a:xfrm>
        </p:grpSpPr>
        <p:pic>
          <p:nvPicPr>
            <p:cNvPr id="98" name="Picture 5" descr="climate change_36121-lo"/>
            <p:cNvPicPr/>
            <p:nvPr/>
          </p:nvPicPr>
          <p:blipFill>
            <a:blip r:embed="rId1"/>
            <a:stretch/>
          </p:blipFill>
          <p:spPr>
            <a:xfrm>
              <a:off x="4500720" y="650880"/>
              <a:ext cx="3816360" cy="29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Fotolia_4301873_XL-lo"/>
            <p:cNvPicPr/>
            <p:nvPr/>
          </p:nvPicPr>
          <p:blipFill>
            <a:blip r:embed="rId2"/>
            <a:stretch/>
          </p:blipFill>
          <p:spPr>
            <a:xfrm>
              <a:off x="1766880" y="2492280"/>
              <a:ext cx="2448000" cy="36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395280" y="404640"/>
            <a:ext cx="8666280" cy="5628960"/>
            <a:chOff x="395280" y="404640"/>
            <a:chExt cx="8666280" cy="5628960"/>
          </a:xfrm>
        </p:grpSpPr>
        <p:pic>
          <p:nvPicPr>
            <p:cNvPr id="101" name="Picture 5" descr="satellite-observations-in-arctic-sea-ice-1979-and-2003"/>
            <p:cNvPicPr/>
            <p:nvPr/>
          </p:nvPicPr>
          <p:blipFill>
            <a:blip r:embed="rId1"/>
            <a:stretch/>
          </p:blipFill>
          <p:spPr>
            <a:xfrm>
              <a:off x="5057640" y="404640"/>
              <a:ext cx="3762360" cy="51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6"/>
            <p:cNvGrpSpPr/>
            <p:nvPr/>
          </p:nvGrpSpPr>
          <p:grpSpPr>
            <a:xfrm>
              <a:off x="395280" y="3486600"/>
              <a:ext cx="8666280" cy="2547000"/>
              <a:chOff x="395280" y="3486600"/>
              <a:chExt cx="8666280" cy="254700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395280" y="5726520"/>
                <a:ext cx="842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Source: http://maps.grida.no/go/graphic/satellite-observations-in-arctic-sea-ice-1979-and-2003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 rot="16200000">
                <a:off x="7915320" y="4401720"/>
                <a:ext cx="206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ffffff"/>
                    </a:solidFill>
                    <a:latin typeface="Arial"/>
                  </a:rPr>
                  <a:t>Hugo Ahlenius, UNEP/GRID-Arend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veroorzaakt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mens pompt steeds meer “broeikasgassen” in de atmosf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atmosfeer werkt zoals de glazen wanden van een k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atuurlijke broeikasgassen helpen de warmte vasthouden; zonder deze gassen zou de temperatuur 30 °C lage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oordat de broeikasgasemissies als gevolg van de menselijke activiteit sinds 1970 met 70 % zijn toegenomen, wordt meer warmte vastgehou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greenhouse_effects_nl"/>
          <p:cNvPicPr/>
          <p:nvPr/>
        </p:nvPicPr>
        <p:blipFill>
          <a:blip r:embed="rId1"/>
          <a:stretch/>
        </p:blipFill>
        <p:spPr>
          <a:xfrm>
            <a:off x="2050920" y="0"/>
            <a:ext cx="49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4:34Z</dcterms:modified>
  <cp:revision>17</cp:revision>
  <dc:subject/>
  <dc:title>Slide 1</dc:title>
</cp:coreProperties>
</file>