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0FF7-EC6A-4F55-93AC-04196D99C7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03BF-CED2-4C63-BD27-733D7F86F3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48B7-A062-46E7-94DE-DEEDAC70B7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5926-2B44-4864-A8FF-2F4D469344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A2CB-4944-4046-8484-8B72628B75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533A-29E5-4A5D-A38A-8111EF9A84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37CF-2639-474D-817D-C6AA1A8AB3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8AC6-C7E1-4D61-AA96-E2845FB815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6450-55E7-4966-A01B-67BC7285BA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2CE4-A0D4-4292-9CFB-0288573EA1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7235-1086-43AD-A3D8-CE5618439C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1180-45CE-4394-B8A3-E1EA2F880A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4FBB-0316-498E-A875-A2B555859E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EA9D-1D1B-4ED2-A7C3-CB4F72B334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A5E7-C1C9-4762-BE07-05F6C6DE12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2704-0A58-4C9B-B173-FB493AC63E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17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39280" y="422064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Wat kun je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11280" y="3213000"/>
            <a:ext cx="410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UROPEAN COMMISS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ffffff"/>
                </a:solidFill>
                <a:latin typeface="Times New Roman"/>
              </a:rPr>
              <a:t>Klimaatverander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lligent vervo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2124000" y="1322280"/>
            <a:ext cx="5400720" cy="5235840"/>
            <a:chOff x="2124000" y="1322280"/>
            <a:chExt cx="5400720" cy="5235840"/>
          </a:xfrm>
        </p:grpSpPr>
        <p:pic>
          <p:nvPicPr>
            <p:cNvPr id="105" name="Picture 6" descr="mobility_town-roller-lo"/>
            <p:cNvPicPr/>
            <p:nvPr/>
          </p:nvPicPr>
          <p:blipFill>
            <a:blip r:embed="rId1"/>
            <a:stretch/>
          </p:blipFill>
          <p:spPr>
            <a:xfrm>
              <a:off x="5724360" y="3429000"/>
              <a:ext cx="1770120" cy="28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7" descr="sx_NL_88493_3182-lo"/>
            <p:cNvPicPr/>
            <p:nvPr/>
          </p:nvPicPr>
          <p:blipFill>
            <a:blip r:embed="rId2"/>
            <a:stretch/>
          </p:blipFill>
          <p:spPr>
            <a:xfrm>
              <a:off x="5003640" y="1322280"/>
              <a:ext cx="2521080" cy="18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8" descr="alstom_metro_L14_paris-lo"/>
            <p:cNvPicPr/>
            <p:nvPr/>
          </p:nvPicPr>
          <p:blipFill>
            <a:blip r:embed="rId3"/>
            <a:stretch/>
          </p:blipFill>
          <p:spPr>
            <a:xfrm>
              <a:off x="2124000" y="4221000"/>
              <a:ext cx="3351240" cy="233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9" descr="UK-0091-lo"/>
            <p:cNvPicPr/>
            <p:nvPr/>
          </p:nvPicPr>
          <p:blipFill>
            <a:blip r:embed="rId4"/>
            <a:stretch/>
          </p:blipFill>
          <p:spPr>
            <a:xfrm>
              <a:off x="2124000" y="1341360"/>
              <a:ext cx="1967040" cy="257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lligent vervo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2000" y="155592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auto staan voor korte afstan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a lopen of neem de fiets of het openbaar vervo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ijd met anderen mee of laat anderen met jou meerij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ijd efficië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eperk uw koolstofvoetafdruk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ergebruiken en recyc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bins-lo"/>
          <p:cNvPicPr/>
          <p:nvPr/>
        </p:nvPicPr>
        <p:blipFill>
          <a:blip r:embed="rId1"/>
          <a:stretch/>
        </p:blipFill>
        <p:spPr>
          <a:xfrm>
            <a:off x="1530360" y="1863720"/>
            <a:ext cx="60832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ergebruiken en recyc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ergebruik tassen en verpakkingsmateria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cycle glas, metaal en plast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bruik producten met zo weinig mogelijk verpakkingsmateria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op zoveel mogelijk vullingen voor navulpakken in plaats van nieuwe produc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ecycling en hergebruik besparen energi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an je nog meer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142640"/>
            <a:ext cx="7355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Zoek naar de Europese milieukeur wanneer je huishoudtoestellen koop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ies voor houten producten die afkomstig zijn van duurzame bosbou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t lokaal geproduceerde voedingsmiddelen die in het geschikte seizoen zijn gekweek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t meer groenten. Het kweken van dieren vergt meer energ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nt een b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int  documenten dubbelzijdig af ... wanneer je ze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ech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op papier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ing op deze dingen aan bij familie en vriend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www.climatechange.eu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is klimaatverander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2000" y="2347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assen in de atmosfeer van de aarde houden warmte v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uitstoot neemt toe als gevolg van de activiteiten van de m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toenemende concentratie van gassen leidt tot een opwarming op lange termijn =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2000" y="148392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roeikasgassen worden van nature uit in de atmosfeer uitgesto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 de emissies nemen toe door de activiteiten van de m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dragsveranderingen kunnen de emissies verminde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edereen kan bijdragen aan de strijd tegen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ctief reageren op klimaatverandering bespaard g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at vrag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32000" y="148392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missies, wat is dat eigenlijk?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elk gedrag zou je kunnen veranderen waardoor de emissies verminder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edereen kan bijdragen aan de strijd tegen klimaatverandering.  En jij? Geef eens een voorbeel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Zet apparatuur op een lagere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5" descr="iStock_000002325215-lo"/>
          <p:cNvPicPr/>
          <p:nvPr/>
        </p:nvPicPr>
        <p:blipFill>
          <a:blip r:embed="rId1"/>
          <a:stretch/>
        </p:blipFill>
        <p:spPr>
          <a:xfrm>
            <a:off x="2411280" y="1989000"/>
            <a:ext cx="3807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Zet apparatuur op een lagere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2000" y="2131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el de temperatuur van uw verwarming één of twee graden lager 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bruik een timer zodat de verwarming enkel aanslaat wanneer dat nodig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el de koelkast niet op de koudste stand 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Koop energiezuinige produc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76360" y="1844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anneer u apparatuur en andere uitrusting moet vervange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loeilam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elkast, vriesk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entrale verwa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amen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ies dan voor energie-efficiënte modelle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chakel apparatuur 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oe het licht uit wanneer je geen extra verlichting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toestellen niet in stand-by 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aai de kraan dicht wanneer je je tanden poet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erspil  nie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treef efficiënti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32000" y="1371600"/>
            <a:ext cx="7354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Zet wasmachines en vaatwassers pas aan wanneer ze volledig gevuld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eem een douche in plaats van een b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ok enkel het water dat je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deur van de koelkast niet open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ramen in de winter niet te lang open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ats isolat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erbruik minder energi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9:36:24Z</dcterms:created>
  <dc:creator>Admin</dc:creator>
  <dc:description/>
  <dc:language>en-US</dc:language>
  <cp:lastModifiedBy>Heuvelejvanden</cp:lastModifiedBy>
  <dcterms:modified xsi:type="dcterms:W3CDTF">2012-10-25T13:02:16Z</dcterms:modified>
  <cp:revision>17</cp:revision>
  <dc:subject/>
  <dc:title>Slide 1</dc:title>
</cp:coreProperties>
</file>