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7.jpeg" ContentType="image/jpeg"/>
  <Override PartName="/ppt/media/image11.png" ContentType="image/png"/>
  <Override PartName="/ppt/media/image8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E011-E595-4729-8A41-B55E5279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BF5F-DE19-4F16-B6B5-C0AB6C48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F8A5-F4B3-4AFC-B2B3-AFDABF83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DF65-427B-4655-9CCF-554E882E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C3D9-5452-4029-8CE4-9930A6A2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BE60-645A-4334-B45B-85D3D256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34EE-7C0A-43B7-8E14-D6FC3398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A374-A0BA-41F8-8F9D-EA3F022E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116B-766E-4F39-8525-1EDEC8F4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EF0B-5C77-4EA3-AC17-0FF45FB1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9E50-F788-44B8-8831-6C5B7C46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E7C-9AD3-490C-BEBC-FF9DD214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627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189E-71A8-4C07-9F91-1D7DAE0CFEF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gif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95280" y="18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Hoe verschilt de plantenwer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68360" y="76500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rebuchet MS"/>
              </a:rPr>
              <a:t>A  Welke plantenzones zijn 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globcover_MOSAIC_H"/>
          <p:cNvPicPr/>
          <p:nvPr/>
        </p:nvPicPr>
        <p:blipFill>
          <a:blip r:embed="rId1"/>
          <a:stretch/>
        </p:blipFill>
        <p:spPr>
          <a:xfrm>
            <a:off x="-46080" y="1989000"/>
            <a:ext cx="9226440" cy="4824720"/>
          </a:xfrm>
          <a:prstGeom prst="rect">
            <a:avLst/>
          </a:prstGeom>
          <a:ln w="0">
            <a:noFill/>
          </a:ln>
        </p:spPr>
      </p:pic>
      <p:sp>
        <p:nvSpPr>
          <p:cNvPr id="44" name="Line 8"/>
          <p:cNvSpPr/>
          <p:nvPr/>
        </p:nvSpPr>
        <p:spPr>
          <a:xfrm flipH="1">
            <a:off x="-36720" y="4437000"/>
            <a:ext cx="918036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H="1">
            <a:off x="-36720" y="3716280"/>
            <a:ext cx="918036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H="1">
            <a:off x="0" y="5157720"/>
            <a:ext cx="914400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-36360" y="4437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-36360" y="5157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-36360" y="371628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68360" y="148428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rebuchet MS"/>
              </a:rPr>
              <a:t>Op lage breedte liggen vier plantenz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506920" y="43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tropisch regenw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3490920" y="39988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sava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924360" y="450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sava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067280" y="472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rebuchet MS"/>
              </a:rPr>
              <a:t>st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3276720" y="3789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rebuchet MS"/>
              </a:rPr>
              <a:t>st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3059280" y="3573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rebuchet MS"/>
              </a:rPr>
              <a:t>woest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3995640" y="50785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rebuchet MS"/>
              </a:rPr>
              <a:t>woest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2"/>
          <p:cNvSpPr/>
          <p:nvPr/>
        </p:nvSpPr>
        <p:spPr>
          <a:xfrm flipH="1">
            <a:off x="-36720" y="3357720"/>
            <a:ext cx="918036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2195640" y="3284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subtropische pla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-36360" y="3357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4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95280" y="18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rebuchet MS"/>
              </a:rPr>
              <a:t>1.3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  Hoe verschilt de plantenwer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468360" y="76500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rebuchet MS"/>
              </a:rPr>
              <a:t>A  Welke plantenzones zijn 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globcover_MOSAIC_H"/>
          <p:cNvPicPr/>
          <p:nvPr/>
        </p:nvPicPr>
        <p:blipFill>
          <a:blip r:embed="rId1"/>
          <a:stretch/>
        </p:blipFill>
        <p:spPr>
          <a:xfrm>
            <a:off x="-46080" y="1989000"/>
            <a:ext cx="9226440" cy="4824720"/>
          </a:xfrm>
          <a:prstGeom prst="rect">
            <a:avLst/>
          </a:prstGeom>
          <a:ln w="0">
            <a:noFill/>
          </a:ln>
        </p:spPr>
      </p:pic>
      <p:sp>
        <p:nvSpPr>
          <p:cNvPr id="64" name="Line 5"/>
          <p:cNvSpPr/>
          <p:nvPr/>
        </p:nvSpPr>
        <p:spPr>
          <a:xfrm flipH="1">
            <a:off x="-36360" y="4437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 flipH="1">
            <a:off x="0" y="3068640"/>
            <a:ext cx="9144000" cy="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 flipH="1">
            <a:off x="-34920" y="5734080"/>
            <a:ext cx="9144000" cy="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-36360" y="4437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-36360" y="573408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5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-36360" y="306864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5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468360" y="148428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ff"/>
                </a:solidFill>
                <a:latin typeface="Trebuchet MS"/>
              </a:rPr>
              <a:t>Op hoge breedte liggen vier plantenz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6227640" y="22701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Trebuchet MS"/>
              </a:rPr>
              <a:t>toen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2987640" y="2133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rebuchet MS"/>
              </a:rPr>
              <a:t>landi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5722920" y="2637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dcf3d"/>
                </a:solidFill>
                <a:latin typeface="Trebuchet MS"/>
              </a:rPr>
              <a:t>ta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4211640" y="2708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rebuchet MS"/>
              </a:rPr>
              <a:t>loofb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 flipH="1">
            <a:off x="0" y="2565360"/>
            <a:ext cx="9144000" cy="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0"/>
          <p:cNvSpPr/>
          <p:nvPr/>
        </p:nvSpPr>
        <p:spPr>
          <a:xfrm flipH="1">
            <a:off x="0" y="6308640"/>
            <a:ext cx="9144000" cy="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-71280" y="25653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7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-36360" y="62499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7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africa-image"/>
          <p:cNvPicPr/>
          <p:nvPr/>
        </p:nvPicPr>
        <p:blipFill>
          <a:blip r:embed="rId1"/>
          <a:stretch/>
        </p:blipFill>
        <p:spPr>
          <a:xfrm>
            <a:off x="1203480" y="0"/>
            <a:ext cx="67532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Line 6"/>
          <p:cNvSpPr/>
          <p:nvPr/>
        </p:nvSpPr>
        <p:spPr>
          <a:xfrm>
            <a:off x="1189080" y="3716280"/>
            <a:ext cx="676764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250920" y="35733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 flipH="1">
            <a:off x="1187280" y="1268280"/>
            <a:ext cx="684072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 flipH="1">
            <a:off x="1187280" y="6237360"/>
            <a:ext cx="684072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576360" y="11253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611280" y="6093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4" descr="africa-image"/>
          <p:cNvPicPr/>
          <p:nvPr/>
        </p:nvPicPr>
        <p:blipFill>
          <a:blip r:embed="rId1"/>
          <a:stretch/>
        </p:blipFill>
        <p:spPr>
          <a:xfrm>
            <a:off x="-36360" y="4678200"/>
            <a:ext cx="9180360" cy="2179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0" y="2349360"/>
            <a:ext cx="9144000" cy="2374920"/>
          </a:xfrm>
          <a:prstGeom prst="rect">
            <a:avLst/>
          </a:prstGeom>
          <a:solidFill>
            <a:srgbClr val="00b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008000" y="5589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0000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244000" y="5589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0000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3851280" y="2060640"/>
            <a:ext cx="2305080" cy="576360"/>
          </a:xfrm>
          <a:prstGeom prst="ellipse">
            <a:avLst/>
          </a:prstGeom>
          <a:solidFill>
            <a:srgbClr val="00b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zon007"/>
          <p:cNvPicPr/>
          <p:nvPr/>
        </p:nvPicPr>
        <p:blipFill>
          <a:blip r:embed="rId2"/>
          <a:stretch/>
        </p:blipFill>
        <p:spPr>
          <a:xfrm>
            <a:off x="4356000" y="69228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2"/>
          <p:cNvSpPr/>
          <p:nvPr/>
        </p:nvSpPr>
        <p:spPr>
          <a:xfrm>
            <a:off x="4716360" y="3068640"/>
            <a:ext cx="505080" cy="1297080"/>
          </a:xfrm>
          <a:prstGeom prst="upArrow">
            <a:avLst>
              <a:gd name="adj1" fmla="val 50000"/>
              <a:gd name="adj2" fmla="val 64202"/>
            </a:avLst>
          </a:prstGeom>
          <a:gradFill rotWithShape="0">
            <a:gsLst>
              <a:gs pos="0">
                <a:srgbClr val="333399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weer004"/>
          <p:cNvPicPr/>
          <p:nvPr/>
        </p:nvPicPr>
        <p:blipFill>
          <a:blip r:embed="rId3"/>
          <a:stretch/>
        </p:blipFill>
        <p:spPr>
          <a:xfrm>
            <a:off x="4211640" y="2349360"/>
            <a:ext cx="1512720" cy="116064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14"/>
          <p:cNvSpPr/>
          <p:nvPr/>
        </p:nvSpPr>
        <p:spPr>
          <a:xfrm flipH="1" rot="16167000">
            <a:off x="1295280" y="2169000"/>
            <a:ext cx="1081080" cy="720720"/>
          </a:xfrm>
          <a:custGeom>
            <a:avLst/>
            <a:gdLst>
              <a:gd name="textAreaLeft" fmla="*/ 622080 w 1081080"/>
              <a:gd name="textAreaRight" fmla="*/ 960120 w 108108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0000"/>
              </a:gs>
            </a:gsLst>
            <a:lin ang="161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 flipH="1" flipV="1" rot="16166400">
            <a:off x="7560000" y="2168640"/>
            <a:ext cx="1081080" cy="720720"/>
          </a:xfrm>
          <a:custGeom>
            <a:avLst/>
            <a:gdLst>
              <a:gd name="textAreaLeft" fmla="*/ 622080 w 1081080"/>
              <a:gd name="textAreaRight" fmla="*/ 960120 w 108108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0000"/>
              </a:gs>
            </a:gsLst>
            <a:lin ang="54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 flipH="1" rot="10733400">
            <a:off x="1617840" y="3789360"/>
            <a:ext cx="1081080" cy="720720"/>
          </a:xfrm>
          <a:custGeom>
            <a:avLst/>
            <a:gdLst>
              <a:gd name="textAreaLeft" fmla="*/ 622080 w 1081080"/>
              <a:gd name="textAreaRight" fmla="*/ 960120 w 108108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 rot="10800000">
            <a:off x="7308360" y="3716280"/>
            <a:ext cx="1008360" cy="720720"/>
          </a:xfrm>
          <a:custGeom>
            <a:avLst/>
            <a:gdLst>
              <a:gd name="textAreaLeft" fmla="*/ 580320 w 1008360"/>
              <a:gd name="textAreaRight" fmla="*/ 895320 w 100836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8" descr="weer004"/>
          <p:cNvPicPr/>
          <p:nvPr/>
        </p:nvPicPr>
        <p:blipFill>
          <a:blip r:embed="rId4"/>
          <a:stretch/>
        </p:blipFill>
        <p:spPr>
          <a:xfrm>
            <a:off x="4932360" y="2565360"/>
            <a:ext cx="1512720" cy="1160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weer004"/>
          <p:cNvPicPr/>
          <p:nvPr/>
        </p:nvPicPr>
        <p:blipFill>
          <a:blip r:embed="rId5"/>
          <a:stretch/>
        </p:blipFill>
        <p:spPr>
          <a:xfrm>
            <a:off x="3708360" y="2637000"/>
            <a:ext cx="1513080" cy="116028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20"/>
          <p:cNvSpPr/>
          <p:nvPr/>
        </p:nvSpPr>
        <p:spPr>
          <a:xfrm flipH="1" flipV="1" rot="10800000">
            <a:off x="5076720" y="1910160"/>
            <a:ext cx="2232000" cy="576360"/>
          </a:xfrm>
          <a:custGeom>
            <a:avLst/>
            <a:gdLst>
              <a:gd name="textAreaLeft" fmla="*/ 1284120 w 2232000"/>
              <a:gd name="textAreaRight" fmla="*/ 2011320 w 2232000"/>
              <a:gd name="textAreaTop" fmla="*/ 118800 h 576360"/>
              <a:gd name="textAreaBottom" fmla="*/ 2055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599" y="0"/>
                </a:lnTo>
                <a:lnTo>
                  <a:pt x="13599" y="4456"/>
                </a:lnTo>
                <a:lnTo>
                  <a:pt x="12427" y="4456"/>
                </a:lnTo>
                <a:cubicBezTo>
                  <a:pt x="5564" y="4456"/>
                  <a:pt x="0" y="7904"/>
                  <a:pt x="0" y="12158"/>
                </a:cubicBezTo>
                <a:lnTo>
                  <a:pt x="0" y="21600"/>
                </a:lnTo>
                <a:lnTo>
                  <a:pt x="3318" y="21600"/>
                </a:lnTo>
                <a:lnTo>
                  <a:pt x="3318" y="12158"/>
                </a:lnTo>
                <a:cubicBezTo>
                  <a:pt x="3318" y="9697"/>
                  <a:pt x="7396" y="7702"/>
                  <a:pt x="12427" y="7702"/>
                </a:cubicBezTo>
                <a:lnTo>
                  <a:pt x="13599" y="7702"/>
                </a:lnTo>
                <a:lnTo>
                  <a:pt x="1359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 flipV="1" rot="10800000">
            <a:off x="2771640" y="1916280"/>
            <a:ext cx="2160720" cy="576000"/>
          </a:xfrm>
          <a:custGeom>
            <a:avLst/>
            <a:gdLst>
              <a:gd name="textAreaLeft" fmla="*/ 1243080 w 2160720"/>
              <a:gd name="textAreaRight" fmla="*/ 1947240 w 2160720"/>
              <a:gd name="textAreaTop" fmla="*/ 118800 h 576000"/>
              <a:gd name="textAreaBottom" fmla="*/ 20520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599" y="0"/>
                </a:lnTo>
                <a:lnTo>
                  <a:pt x="13599" y="4456"/>
                </a:lnTo>
                <a:lnTo>
                  <a:pt x="12427" y="4456"/>
                </a:lnTo>
                <a:cubicBezTo>
                  <a:pt x="5564" y="4456"/>
                  <a:pt x="0" y="7904"/>
                  <a:pt x="0" y="12158"/>
                </a:cubicBezTo>
                <a:lnTo>
                  <a:pt x="0" y="21600"/>
                </a:lnTo>
                <a:lnTo>
                  <a:pt x="3318" y="21600"/>
                </a:lnTo>
                <a:lnTo>
                  <a:pt x="3318" y="12158"/>
                </a:lnTo>
                <a:cubicBezTo>
                  <a:pt x="3318" y="9697"/>
                  <a:pt x="7396" y="7702"/>
                  <a:pt x="12427" y="7702"/>
                </a:cubicBezTo>
                <a:lnTo>
                  <a:pt x="13599" y="7702"/>
                </a:lnTo>
                <a:lnTo>
                  <a:pt x="1359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2" descr="zon007"/>
          <p:cNvPicPr/>
          <p:nvPr/>
        </p:nvPicPr>
        <p:blipFill>
          <a:blip r:embed="rId6"/>
          <a:stretch/>
        </p:blipFill>
        <p:spPr>
          <a:xfrm>
            <a:off x="7885080" y="2997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3" descr="zon007"/>
          <p:cNvPicPr/>
          <p:nvPr/>
        </p:nvPicPr>
        <p:blipFill>
          <a:blip r:embed="rId7"/>
          <a:stretch/>
        </p:blipFill>
        <p:spPr>
          <a:xfrm>
            <a:off x="1332000" y="3068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4"/>
          <p:cNvSpPr/>
          <p:nvPr/>
        </p:nvSpPr>
        <p:spPr>
          <a:xfrm>
            <a:off x="5724360" y="314172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tijgingsre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324000" y="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rebuchet MS"/>
              </a:rPr>
              <a:t>1.3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  Hoe verschilt de plantenwer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395280" y="40464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rebuchet MS"/>
              </a:rPr>
              <a:t>B  Waardoor veraschilt de plantengroei op aar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8"/>
          <p:cNvSpPr/>
          <p:nvPr/>
        </p:nvSpPr>
        <p:spPr>
          <a:xfrm>
            <a:off x="442764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regenwo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320364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ava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"/>
          <p:cNvSpPr/>
          <p:nvPr/>
        </p:nvSpPr>
        <p:spPr>
          <a:xfrm>
            <a:off x="586728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ava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1"/>
          <p:cNvSpPr/>
          <p:nvPr/>
        </p:nvSpPr>
        <p:spPr>
          <a:xfrm>
            <a:off x="694836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tep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219564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tep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3"/>
          <p:cNvSpPr/>
          <p:nvPr/>
        </p:nvSpPr>
        <p:spPr>
          <a:xfrm>
            <a:off x="118728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woestij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7740720" y="43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woestij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356000" y="5589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6" descr="savannah"/>
          <p:cNvPicPr/>
          <p:nvPr/>
        </p:nvPicPr>
        <p:blipFill>
          <a:blip r:embed="rId8"/>
          <a:stretch/>
        </p:blipFill>
        <p:spPr>
          <a:xfrm>
            <a:off x="3348000" y="4724280"/>
            <a:ext cx="1109880" cy="865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7" descr="savannah"/>
          <p:cNvPicPr/>
          <p:nvPr/>
        </p:nvPicPr>
        <p:blipFill>
          <a:blip r:embed="rId9"/>
          <a:stretch/>
        </p:blipFill>
        <p:spPr>
          <a:xfrm>
            <a:off x="5508720" y="4724280"/>
            <a:ext cx="1109520" cy="865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9" descr="jungle"/>
          <p:cNvPicPr/>
          <p:nvPr/>
        </p:nvPicPr>
        <p:blipFill>
          <a:blip r:embed="rId10"/>
          <a:stretch/>
        </p:blipFill>
        <p:spPr>
          <a:xfrm>
            <a:off x="4356000" y="4724280"/>
            <a:ext cx="1297080" cy="854280"/>
          </a:xfrm>
          <a:prstGeom prst="rect">
            <a:avLst/>
          </a:prstGeom>
          <a:ln w="0">
            <a:noFill/>
          </a:ln>
        </p:spPr>
      </p:pic>
      <p:sp>
        <p:nvSpPr>
          <p:cNvPr id="118" name="Line 7"/>
          <p:cNvSpPr/>
          <p:nvPr/>
        </p:nvSpPr>
        <p:spPr>
          <a:xfrm flipV="1">
            <a:off x="5003640" y="4752720"/>
            <a:ext cx="0" cy="220500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8" descr="tj8"/>
          <p:cNvPicPr/>
          <p:nvPr/>
        </p:nvPicPr>
        <p:blipFill>
          <a:blip r:embed="rId11"/>
          <a:stretch/>
        </p:blipFill>
        <p:spPr>
          <a:xfrm>
            <a:off x="4572000" y="4724280"/>
            <a:ext cx="1143000" cy="1486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0" descr="nature_795"/>
          <p:cNvPicPr/>
          <p:nvPr/>
        </p:nvPicPr>
        <p:blipFill>
          <a:blip r:embed="rId12"/>
          <a:stretch/>
        </p:blipFill>
        <p:spPr>
          <a:xfrm>
            <a:off x="1116000" y="4724280"/>
            <a:ext cx="1176480" cy="865440"/>
          </a:xfrm>
          <a:prstGeom prst="rect">
            <a:avLst/>
          </a:prstGeom>
          <a:ln w="0">
            <a:noFill/>
          </a:ln>
        </p:spPr>
      </p:pic>
      <p:sp>
        <p:nvSpPr>
          <p:cNvPr id="121" name="Line 9"/>
          <p:cNvSpPr/>
          <p:nvPr/>
        </p:nvSpPr>
        <p:spPr>
          <a:xfrm flipV="1">
            <a:off x="1692360" y="4752720"/>
            <a:ext cx="0" cy="2205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1" descr="nature_795"/>
          <p:cNvPicPr/>
          <p:nvPr/>
        </p:nvPicPr>
        <p:blipFill>
          <a:blip r:embed="rId13"/>
          <a:stretch/>
        </p:blipFill>
        <p:spPr>
          <a:xfrm>
            <a:off x="7643880" y="4724280"/>
            <a:ext cx="1176120" cy="865440"/>
          </a:xfrm>
          <a:prstGeom prst="rect">
            <a:avLst/>
          </a:prstGeom>
          <a:ln w="0">
            <a:noFill/>
          </a:ln>
        </p:spPr>
      </p:pic>
      <p:sp>
        <p:nvSpPr>
          <p:cNvPr id="123" name="Line 8"/>
          <p:cNvSpPr/>
          <p:nvPr/>
        </p:nvSpPr>
        <p:spPr>
          <a:xfrm flipV="1">
            <a:off x="8244000" y="4652640"/>
            <a:ext cx="0" cy="2205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2" descr="steppe"/>
          <p:cNvPicPr/>
          <p:nvPr/>
        </p:nvPicPr>
        <p:blipFill>
          <a:blip r:embed="rId14"/>
          <a:stretch/>
        </p:blipFill>
        <p:spPr>
          <a:xfrm>
            <a:off x="6588000" y="4724280"/>
            <a:ext cx="1079640" cy="865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3" descr="steppe"/>
          <p:cNvPicPr/>
          <p:nvPr/>
        </p:nvPicPr>
        <p:blipFill>
          <a:blip r:embed="rId15"/>
          <a:stretch/>
        </p:blipFill>
        <p:spPr>
          <a:xfrm>
            <a:off x="2268360" y="4724280"/>
            <a:ext cx="1079640" cy="865440"/>
          </a:xfrm>
          <a:prstGeom prst="rect">
            <a:avLst/>
          </a:prstGeom>
          <a:ln w="0">
            <a:noFill/>
          </a:ln>
        </p:spPr>
      </p:pic>
      <p:pic>
        <p:nvPicPr>
          <p:cNvPr id="126" name="MSj02567.wav" descr=""/>
          <p:cNvPicPr/>
          <p:nvPr/>
        </p:nvPicPr>
        <p:blipFill>
          <a:blip r:embed="rId16"/>
          <a:stretch/>
        </p:blipFill>
        <p:spPr>
          <a:xfrm>
            <a:off x="5076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92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1996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2"/>
          <p:cNvSpPr/>
          <p:nvPr/>
        </p:nvSpPr>
        <p:spPr>
          <a:xfrm>
            <a:off x="3564000" y="342900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Ei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9:43:43Z</dcterms:created>
  <dc:creator>Rene Anjewierden</dc:creator>
  <dc:description/>
  <dc:language>en-US</dc:language>
  <cp:lastModifiedBy>Heuvelejvanden</cp:lastModifiedBy>
  <dcterms:modified xsi:type="dcterms:W3CDTF">2012-10-28T17:16:43Z</dcterms:modified>
  <cp:revision>8</cp:revision>
  <dc:subject/>
  <dc:title>Dia 1</dc:title>
</cp:coreProperties>
</file>