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C24D-0D1E-45CC-8798-D4347DEF2D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795B-1BAA-44F5-985F-A7F0674C8E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FC03-A8D6-491B-B6C2-E31E09F1C5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E894-EEF8-45C5-82A4-86B709B009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BD7E-6763-4936-9E98-424532E54B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2B9F-6E58-43FF-AF6F-1EB51E8A1D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94B6-2959-44F3-A0C4-D9486F915B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E803-07A9-4ED5-AED7-D6054485E1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D893-BD54-48AB-A67B-96E72FDC46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B218-FBFC-49BA-87A8-26075DA4D0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AF9F-0F0F-47BB-A90E-66A7DE927D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87C1-464D-4DD0-87C9-4F4C1C215A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BA3A-1CC3-4F63-BB0B-C7B7D9799F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3CFB-1BB5-4FEA-9BA0-FDF95712DB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71D8-178A-4F59-B258-0DC2A94AA0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82C7-F0D2-4305-A9D1-02D227DDBA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6723-15AC-4767-B955-99D4B5539C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C4C3-0AFD-44EA-B0CA-1F5BE85183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17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10920" y="407628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Het wetenschappelijk bewijs is onmiskenba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11280" y="3213000"/>
            <a:ext cx="410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EUROPEAN COMMISS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ffffff"/>
                </a:solidFill>
                <a:latin typeface="Times New Roman"/>
              </a:rPr>
              <a:t>Klimaatverander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roeikasgass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332000" y="1335240"/>
          <a:ext cx="7354800" cy="4545000"/>
        </p:xfrm>
        <a:graphic>
          <a:graphicData uri="http://schemas.openxmlformats.org/drawingml/2006/table">
            <a:tbl>
              <a:tblPr/>
              <a:tblGrid>
                <a:gridCol w="3678120"/>
                <a:gridCol w="3676680"/>
              </a:tblGrid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oldioxide (CO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verbranding van steenkool, aardolie en aardgas voor energie, vervoer en verwarm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ikstofoxide (N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tortplaatsen, landbouw en v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aan (CH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uorkoolwaterstoffen (HFK'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luorkoolwaterstoffen (PFK'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gebruikt in koelkasten, airconditioners en zelfs schoe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wavelhexafluoride (SF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ar is het bewij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488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grootste wetenschappelijke autoriteit op het gebied van klimaatverandering is het Intergovernmental Panel on Climate Change (IPCC) van de Verenigde Natie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ördineert de bevindingen van 2 500 deskundigen van over heel de wer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e evaluatierapport gepubliceerd in november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valuatierapport vertegenwoordigt 6 jaar van onderzoek en analy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n voorzichtige en streng wetenschappelijke benadering van de conclusievo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innaar van de Nobelprijs voor de vrede in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Vaststellingen van het 4e evaluatiera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0" y="155592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nomstotelijk bewijs dat de opwarming van de aarde het gevolg is van de menselijke activitei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dien de gemiddelde temperatuur met meer dan 2 °C stijgt, kunnen de gevolgen onverhoeds toeslaan en onomkeerbaar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 is nog voldoende tijd om de klimaatverandering af te remmen en ons aan de gevolgen ervan aan te pass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 bestaan al heel wat nuttige technologieën, die economisch ook verantwoord zij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aar er moet nu meteen actie worden ondernom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doen de regeringen era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32000" y="133956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geringen werken samen in het kader van het Raamverdrag van de Verenigde Naties inzake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 de huidige overeenkomst, het Protocol van Kyoto, zijn bindende emissiedoelstellingen vastgesteld voor de industrielan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 worden momenteel onderhandelingen gevoerd over een vervolg, waarover in december 2009 in Kopenhagen een akkoord moet worden bereik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e Europese Unie neemt het voortouw in de strijd tegen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2000" y="191628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U-lidstaten hebben zichzelf voor 2020 tot doel gestel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uitstoot met 20 % te verminderen (met 30 % in geval van een mondiaal akkoord);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nergie-efficiëntie met 20 % op te drijven;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0 % van de opgewekte energie uit hernieuwbare energiebronnen te hal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U dringt aan op een nieuwe, ambitieuze, wereldwijde overeenkomst om de uitstoot te beperk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unt u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355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nvoudige handelingen in het dagelijkse leven spelen een belangrijke rol in de strijd tegen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et andere woor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cycl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pring zuinig om met warm water door een douche te nemen in plaats van een bad (vier keer minder energi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ant een boom op school, in uw tuin of in uw wij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4"/>
          <p:cNvGrpSpPr/>
          <p:nvPr/>
        </p:nvGrpSpPr>
        <p:grpSpPr>
          <a:xfrm>
            <a:off x="1187280" y="260280"/>
            <a:ext cx="7823520" cy="6124680"/>
            <a:chOff x="1187280" y="260280"/>
            <a:chExt cx="7823520" cy="6124680"/>
          </a:xfrm>
        </p:grpSpPr>
        <p:pic>
          <p:nvPicPr>
            <p:cNvPr id="122" name="Picture 5" descr="Prospects PIC00126-lo"/>
            <p:cNvPicPr/>
            <p:nvPr/>
          </p:nvPicPr>
          <p:blipFill>
            <a:blip r:embed="rId1"/>
            <a:stretch/>
          </p:blipFill>
          <p:spPr>
            <a:xfrm>
              <a:off x="1187280" y="2406600"/>
              <a:ext cx="3121200" cy="39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" descr="Lightbulb_iStock_000001548394-lo"/>
            <p:cNvPicPr/>
            <p:nvPr/>
          </p:nvPicPr>
          <p:blipFill>
            <a:blip r:embed="rId2"/>
            <a:stretch/>
          </p:blipFill>
          <p:spPr>
            <a:xfrm>
              <a:off x="4427640" y="260280"/>
              <a:ext cx="458316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" descr=""/>
            <p:cNvPicPr/>
            <p:nvPr/>
          </p:nvPicPr>
          <p:blipFill>
            <a:blip r:embed="rId3"/>
            <a:stretch/>
          </p:blipFill>
          <p:spPr>
            <a:xfrm>
              <a:off x="5076720" y="3645000"/>
              <a:ext cx="2833920" cy="273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unt u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eem het openbaar vervoer of de fiets of ga gewoon te vo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elektrische toestellen niet in stand-by staan. Gebruik de aan/uit-funct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de lader van uw mobiele telefoon niet in het stopcontact zitten wanneer u uw telefoon niet oplaad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32000" y="83628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www.climatechange.eu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limaat” verwijst naar de atmosferische toestand over een langere tijd, terwijl het “weer” voortdurend varie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Veranderingen in het klimaat zijn een natuurlijk fenomeen: zo lag de gemiddelde temperatuur na de laatste ijstijd (11 500 jaar geleden) wereldwijd 5 °C lager dan n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AR: we stellen nu vast dat de temperatuur in een nooit eerder gezien tempo stij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etenschappers zijn van mening dat de activiteiten van de mens hiervoor verantwoordelijk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eiten over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temperatuur is in Europa met bijna 1 °C gestegen sinds 185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n bijkomende stijging van 1,2 °C zou onomkeerbare, massale en mogelijk catastrofale milieuschade kunnen veroorzak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therm-sxc-499008_65787286-lo"/>
          <p:cNvPicPr/>
          <p:nvPr/>
        </p:nvPicPr>
        <p:blipFill>
          <a:blip r:embed="rId1"/>
          <a:stretch/>
        </p:blipFill>
        <p:spPr>
          <a:xfrm>
            <a:off x="3657600" y="2054160"/>
            <a:ext cx="18288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eiten over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xtreme weersomstandigheden – stormen, overstromingen, droogtes en hittegolven – komen steeds vaker voor en worden alsmaar hevig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90 % van de natuurrampen in Europa sinds 1980 waren het gevolg van het weer en het klima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floods_31256-lo"/>
          <p:cNvPicPr/>
          <p:nvPr/>
        </p:nvPicPr>
        <p:blipFill>
          <a:blip r:embed="rId1"/>
          <a:stretch/>
        </p:blipFill>
        <p:spPr>
          <a:xfrm>
            <a:off x="3641760" y="3417840"/>
            <a:ext cx="1859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eiten over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uropese gletsjers hebben sinds 1850 twee derden van hun omvang verloren en het afsmeltingstempo gaat in stijgende l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poolkappen smelten en de zeespiegel stijgt dubbel zo snel als 50 jaar gele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iljoenen mensen over de hele wereld worden bedreigd door waterschaarste, hongersnood en armoe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4"/>
          <p:cNvGrpSpPr/>
          <p:nvPr/>
        </p:nvGrpSpPr>
        <p:grpSpPr>
          <a:xfrm>
            <a:off x="1766880" y="650880"/>
            <a:ext cx="6550200" cy="5514840"/>
            <a:chOff x="1766880" y="650880"/>
            <a:chExt cx="6550200" cy="5514840"/>
          </a:xfrm>
        </p:grpSpPr>
        <p:pic>
          <p:nvPicPr>
            <p:cNvPr id="98" name="Picture 5" descr="climate change_36121-lo"/>
            <p:cNvPicPr/>
            <p:nvPr/>
          </p:nvPicPr>
          <p:blipFill>
            <a:blip r:embed="rId1"/>
            <a:stretch/>
          </p:blipFill>
          <p:spPr>
            <a:xfrm>
              <a:off x="4500720" y="650880"/>
              <a:ext cx="3816360" cy="29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6" descr="Fotolia_4301873_XL-lo"/>
            <p:cNvPicPr/>
            <p:nvPr/>
          </p:nvPicPr>
          <p:blipFill>
            <a:blip r:embed="rId2"/>
            <a:stretch/>
          </p:blipFill>
          <p:spPr>
            <a:xfrm>
              <a:off x="1766880" y="2492280"/>
              <a:ext cx="2448000" cy="367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395280" y="404640"/>
            <a:ext cx="8666280" cy="5628960"/>
            <a:chOff x="395280" y="404640"/>
            <a:chExt cx="8666280" cy="5628960"/>
          </a:xfrm>
        </p:grpSpPr>
        <p:pic>
          <p:nvPicPr>
            <p:cNvPr id="101" name="Picture 5" descr="satellite-observations-in-arctic-sea-ice-1979-and-2003"/>
            <p:cNvPicPr/>
            <p:nvPr/>
          </p:nvPicPr>
          <p:blipFill>
            <a:blip r:embed="rId1"/>
            <a:stretch/>
          </p:blipFill>
          <p:spPr>
            <a:xfrm>
              <a:off x="5057640" y="404640"/>
              <a:ext cx="3762360" cy="514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Group 6"/>
            <p:cNvGrpSpPr/>
            <p:nvPr/>
          </p:nvGrpSpPr>
          <p:grpSpPr>
            <a:xfrm>
              <a:off x="395280" y="3486600"/>
              <a:ext cx="8666280" cy="2547000"/>
              <a:chOff x="395280" y="3486600"/>
              <a:chExt cx="8666280" cy="2547000"/>
            </a:xfrm>
          </p:grpSpPr>
          <p:sp>
            <p:nvSpPr>
              <p:cNvPr id="103" name="Rectangle 7"/>
              <p:cNvSpPr/>
              <p:nvPr/>
            </p:nvSpPr>
            <p:spPr>
              <a:xfrm>
                <a:off x="395280" y="5726520"/>
                <a:ext cx="8424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ffffff"/>
                    </a:solidFill>
                    <a:latin typeface="Arial"/>
                  </a:rPr>
                  <a:t>Source: http://maps.grida.no/go/graphic/satellite-observations-in-arctic-sea-ice-1979-and-2003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8"/>
              <p:cNvSpPr/>
              <p:nvPr/>
            </p:nvSpPr>
            <p:spPr>
              <a:xfrm rot="16200000">
                <a:off x="7915320" y="4401720"/>
                <a:ext cx="2061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ffffff"/>
                    </a:solidFill>
                    <a:latin typeface="Arial"/>
                  </a:rPr>
                  <a:t>Hugo Ahlenius, UNEP/GRID-Arend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veroorzaakt klimaatverander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mens pompt steeds meer “broeikasgassen” in de atmosfe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atmosfeer werkt zoals de glazen wanden van een k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atuurlijke broeikasgassen helpen de warmte vasthouden; zonder deze gassen zou de temperatuur 30 °C lager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ar doordat de broeikasgasemissies als gevolg van de menselijke activiteit sinds 1970 met 70 % zijn toegenomen, wordt meer warmte vastgehou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greenhouse_effects_nl"/>
          <p:cNvPicPr/>
          <p:nvPr/>
        </p:nvPicPr>
        <p:blipFill>
          <a:blip r:embed="rId1"/>
          <a:stretch/>
        </p:blipFill>
        <p:spPr>
          <a:xfrm>
            <a:off x="2050920" y="0"/>
            <a:ext cx="49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9:36:24Z</dcterms:created>
  <dc:creator>Admin</dc:creator>
  <dc:description/>
  <dc:language>en-US</dc:language>
  <cp:lastModifiedBy>Heuvelejvanden</cp:lastModifiedBy>
  <dcterms:modified xsi:type="dcterms:W3CDTF">2012-10-25T13:04:34Z</dcterms:modified>
  <cp:revision>17</cp:revision>
  <dc:subject/>
  <dc:title>Slide 1</dc:title>
</cp:coreProperties>
</file>