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9375-A019-4786-B4E4-840D2898EB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826A-74F1-4D1D-B64D-8EF046EEA6C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D846-DC5A-4B89-9266-F4341CB5281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39AF-6ECE-4FB9-B69D-8D0D33A9BDA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D3DB-AE51-44CB-996B-B4DC4D27B2F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83E0-1EE0-4F85-8BD8-E92483B2891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8481-D589-4DBA-B093-FF11A7A1B19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D348-1DB5-48AE-A1AC-DC00F60F2E8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AD98-2DDB-4583-AB33-C2AA6CDC510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93E7-87E0-43E7-9C49-98B9E361E78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60E3-CAB1-4838-8EA9-C0B97B32EB2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6E56-EA45-4D5E-8FA2-2308DD0BCA6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FE6D-ABE7-47F0-A037-33CD75B398F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8763-DF14-48A4-88F7-2747E8CC78B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BE94-4D43-4966-A6FF-E84EA93B1A2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9879-C465-4896-9174-819BDCB9278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AB1A-BABE-446E-B7E8-2A8BDEAEE21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BB9B-FF20-44BF-974F-8A6D9385AD2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3200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1888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576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33200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81888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30576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175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10920" y="4076280"/>
            <a:ext cx="5040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"/>
              </a:rPr>
              <a:t>Het wetenschappelijk bewijs is onmiskenba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611280" y="3213000"/>
            <a:ext cx="410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EUROPEAN COMMISS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10920" y="1267920"/>
            <a:ext cx="453708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ffffff"/>
                </a:solidFill>
                <a:latin typeface="Times New Roman"/>
              </a:rPr>
              <a:t>Klimaatverandering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roeikasgass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332000" y="1335240"/>
          <a:ext cx="7354800" cy="4545000"/>
        </p:xfrm>
        <a:graphic>
          <a:graphicData uri="http://schemas.openxmlformats.org/drawingml/2006/table">
            <a:tbl>
              <a:tblPr/>
              <a:tblGrid>
                <a:gridCol w="3678120"/>
                <a:gridCol w="3676680"/>
              </a:tblGrid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oldioxide (CO</a:t>
                      </a:r>
                      <a:r>
                        <a:rPr b="0" lang="fr-FR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verbranding van steenkool, aardolie en aardgas voor energie, vervoer en verwarm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tikstofoxide (N</a:t>
                      </a:r>
                      <a:r>
                        <a:rPr b="0" lang="fr-FR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tortplaatsen, landbouw en v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aan (CH</a:t>
                      </a:r>
                      <a:r>
                        <a:rPr b="0" lang="fr-FR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uorkoolwaterstoffen (HFK'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luorkoolwaterstoffen (PFK'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gebruikt in koelkasten, airconditioners en zelfs schoen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wavelhexafluoride (SF</a:t>
                      </a:r>
                      <a:r>
                        <a:rPr b="0" lang="fr-FR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ar is het bewij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488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grootste wetenschappelijke autoriteit op het gebied van klimaatverandering is het Intergovernmental Panel on Climate Change (IPCC) van de Verenigde Natie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oördineert de bevindingen van 2 500 deskundigen van over heel de wer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4e evaluatierapport gepubliceerd in november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valuatierapport vertegenwoordigt 6 jaar van onderzoek en analy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en voorzichtige en streng wetenschappelijke benadering van de conclusievor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innaar van de Nobelprijs voor de vrede in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Vaststellingen van het 4e evaluatiera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32000" y="1555920"/>
            <a:ext cx="7354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Onomstotelijk bewijs dat de opwarming van de aarde het gevolg is van de menselijke activiteit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ndien de gemiddelde temperatuur met meer dan 2 °C stijgt, kunnen de gevolgen onverhoeds toeslaan en onomkeerbaar zij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r is nog voldoende tijd om de klimaatverandering af te remmen en ons aan de gevolgen ervan aan te pass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r bestaan al heel wat nuttige technologieën, die economisch ook verantwoord zij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maar er moet nu meteen actie worden ondernome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doen de regeringen era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32000" y="133956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egeringen werken samen in het kader van het Raamverdrag van de Verenigde Naties inzake klimaatverande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n de huidige overeenkomst, het Protocol van Kyoto, zijn bindende emissiedoelstellingen vastgesteld voor de industrielan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r worden momenteel onderhandelingen gevoerd over een vervolg, waarover in december 2009 in Kopenhagen een akkoord moet worden bereik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e Europese Unie neemt het voortouw in de strijd tegen klimaatver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32000" y="1916280"/>
            <a:ext cx="7354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EU-lidstaten hebben zichzelf voor 2020 tot doel gestel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uitstoot met 20 % te verminderen (met 30 % in geval van een mondiaal akkoord);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energie-efficiëntie met 20 % op te drijven;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0 % van de opgewekte energie uit hernieuwbare energiebronnen te hal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EU dringt aan op een nieuwe, ambitieuze, wereldwijde overeenkomst om de uitstoot te beperk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kunt u eraan do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73551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envoudige handelingen in het dagelijkse leven spelen een belangrijke rol in de strijd tegen klimaatverande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et andere woord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ecycl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pring zuinig om met warm water door een douche te nemen in plaats van een bad (vier keer minder energi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lant een boom op school, in uw tuin of in uw wij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4"/>
          <p:cNvGrpSpPr/>
          <p:nvPr/>
        </p:nvGrpSpPr>
        <p:grpSpPr>
          <a:xfrm>
            <a:off x="1187280" y="260280"/>
            <a:ext cx="7823520" cy="6124680"/>
            <a:chOff x="1187280" y="260280"/>
            <a:chExt cx="7823520" cy="6124680"/>
          </a:xfrm>
        </p:grpSpPr>
        <p:pic>
          <p:nvPicPr>
            <p:cNvPr id="122" name="Picture 5" descr="Prospects PIC00126-lo"/>
            <p:cNvPicPr/>
            <p:nvPr/>
          </p:nvPicPr>
          <p:blipFill>
            <a:blip r:embed="rId1"/>
            <a:stretch/>
          </p:blipFill>
          <p:spPr>
            <a:xfrm>
              <a:off x="1187280" y="2406600"/>
              <a:ext cx="3121200" cy="39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6" descr="Lightbulb_iStock_000001548394-lo"/>
            <p:cNvPicPr/>
            <p:nvPr/>
          </p:nvPicPr>
          <p:blipFill>
            <a:blip r:embed="rId2"/>
            <a:stretch/>
          </p:blipFill>
          <p:spPr>
            <a:xfrm>
              <a:off x="4427640" y="260280"/>
              <a:ext cx="4583160" cy="30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7" descr=""/>
            <p:cNvPicPr/>
            <p:nvPr/>
          </p:nvPicPr>
          <p:blipFill>
            <a:blip r:embed="rId3"/>
            <a:stretch/>
          </p:blipFill>
          <p:spPr>
            <a:xfrm>
              <a:off x="5076720" y="3645000"/>
              <a:ext cx="2833920" cy="273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kunt u eraan do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7354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eem het openbaar vervoer of de fiets of ga gewoon te vo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elektrische toestellen niet in stand-by staan. Gebruik de aan/uit-functi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de lader van uw mobiele telefoon niet in het stopcontact zitten wanneer u uw telefoon niet oplaad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332000" y="836280"/>
            <a:ext cx="7354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www.climatechange.eu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limaat” verwijst naar de atmosferische toestand over een langere tijd, terwijl het “weer” voortdurend varie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Veranderingen in het klimaat zijn een natuurlijk fenomeen: zo lag de gemiddelde temperatuur na de laatste ijstijd (11 500 jaar geleden) wereldwijd 5 °C lager dan n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AR: we stellen nu vast dat de temperatuur in een nooit eerder gezien tempo stij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etenschappers zijn van mening dat de activiteiten van de mens hiervoor verantwoordelijk zij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eiten over klimaatver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temperatuur is in Europa met bijna 1 °C gestegen sinds 185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en bijkomende stijging van 1,2 °C zou onomkeerbare, massale en mogelijk catastrofale milieuschade kunnen veroorzak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therm-sxc-499008_65787286-lo"/>
          <p:cNvPicPr/>
          <p:nvPr/>
        </p:nvPicPr>
        <p:blipFill>
          <a:blip r:embed="rId1"/>
          <a:stretch/>
        </p:blipFill>
        <p:spPr>
          <a:xfrm>
            <a:off x="3657600" y="2054160"/>
            <a:ext cx="18288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eiten over klimaatver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xtreme weersomstandigheden – stormen, overstromingen, droogtes en hittegolven – komen steeds vaker voor en worden alsmaar hevig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90 % van de natuurrampen in Europa sinds 1980 waren het gevolg van het weer en het klima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4" descr="floods_31256-lo"/>
          <p:cNvPicPr/>
          <p:nvPr/>
        </p:nvPicPr>
        <p:blipFill>
          <a:blip r:embed="rId1"/>
          <a:stretch/>
        </p:blipFill>
        <p:spPr>
          <a:xfrm>
            <a:off x="3641760" y="3417840"/>
            <a:ext cx="18590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eiten over klimaatver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Europese gletsjers hebben sinds 1850 twee derden van hun omvang verloren en het afsmeltingstempo gaat in stijgende lij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poolkappen smelten en de zeespiegel stijgt dubbel zo snel als 50 jaar gele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iljoenen mensen over de hele wereld worden bedreigd door waterschaarste, hongersnood en armoe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4"/>
          <p:cNvGrpSpPr/>
          <p:nvPr/>
        </p:nvGrpSpPr>
        <p:grpSpPr>
          <a:xfrm>
            <a:off x="1766880" y="650880"/>
            <a:ext cx="6550200" cy="5514840"/>
            <a:chOff x="1766880" y="650880"/>
            <a:chExt cx="6550200" cy="5514840"/>
          </a:xfrm>
        </p:grpSpPr>
        <p:pic>
          <p:nvPicPr>
            <p:cNvPr id="98" name="Picture 5" descr="climate change_36121-lo"/>
            <p:cNvPicPr/>
            <p:nvPr/>
          </p:nvPicPr>
          <p:blipFill>
            <a:blip r:embed="rId1"/>
            <a:stretch/>
          </p:blipFill>
          <p:spPr>
            <a:xfrm>
              <a:off x="4500720" y="650880"/>
              <a:ext cx="3816360" cy="299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6" descr="Fotolia_4301873_XL-lo"/>
            <p:cNvPicPr/>
            <p:nvPr/>
          </p:nvPicPr>
          <p:blipFill>
            <a:blip r:embed="rId2"/>
            <a:stretch/>
          </p:blipFill>
          <p:spPr>
            <a:xfrm>
              <a:off x="1766880" y="2492280"/>
              <a:ext cx="2448000" cy="3673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4"/>
          <p:cNvGrpSpPr/>
          <p:nvPr/>
        </p:nvGrpSpPr>
        <p:grpSpPr>
          <a:xfrm>
            <a:off x="395280" y="404640"/>
            <a:ext cx="8666280" cy="5628960"/>
            <a:chOff x="395280" y="404640"/>
            <a:chExt cx="8666280" cy="5628960"/>
          </a:xfrm>
        </p:grpSpPr>
        <p:pic>
          <p:nvPicPr>
            <p:cNvPr id="101" name="Picture 5" descr="satellite-observations-in-arctic-sea-ice-1979-and-2003"/>
            <p:cNvPicPr/>
            <p:nvPr/>
          </p:nvPicPr>
          <p:blipFill>
            <a:blip r:embed="rId1"/>
            <a:stretch/>
          </p:blipFill>
          <p:spPr>
            <a:xfrm>
              <a:off x="5057640" y="404640"/>
              <a:ext cx="3762360" cy="514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" name="Group 6"/>
            <p:cNvGrpSpPr/>
            <p:nvPr/>
          </p:nvGrpSpPr>
          <p:grpSpPr>
            <a:xfrm>
              <a:off x="395280" y="3486600"/>
              <a:ext cx="8666280" cy="2547000"/>
              <a:chOff x="395280" y="3486600"/>
              <a:chExt cx="8666280" cy="2547000"/>
            </a:xfrm>
          </p:grpSpPr>
          <p:sp>
            <p:nvSpPr>
              <p:cNvPr id="103" name="Rectangle 7"/>
              <p:cNvSpPr/>
              <p:nvPr/>
            </p:nvSpPr>
            <p:spPr>
              <a:xfrm>
                <a:off x="395280" y="5726520"/>
                <a:ext cx="8424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 algn="ctr"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ffffff"/>
                    </a:solidFill>
                    <a:latin typeface="Arial"/>
                  </a:rPr>
                  <a:t>Source: http://maps.grida.no/go/graphic/satellite-observations-in-arctic-sea-ice-1979-and-2003</a:t>
                </a: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8"/>
              <p:cNvSpPr/>
              <p:nvPr/>
            </p:nvSpPr>
            <p:spPr>
              <a:xfrm rot="16200000">
                <a:off x="7915320" y="4401720"/>
                <a:ext cx="2061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900" spc="-1" strike="noStrike">
                    <a:solidFill>
                      <a:srgbClr val="ffffff"/>
                    </a:solidFill>
                    <a:latin typeface="Arial"/>
                  </a:rPr>
                  <a:t>Hugo Ahlenius, UNEP/GRID-Arenda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veroorzaakt klimaatverander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mens pompt steeds meer “broeikasgassen” in de atmosfe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atmosfeer werkt zoals de glazen wanden van een k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atuurlijke broeikasgassen helpen de warmte vasthouden; zonder deze gassen zou de temperatuur 30 °C lager zij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ar doordat de broeikasgasemissies als gevolg van de menselijke activiteit sinds 1970 met 70 % zijn toegenomen, wordt meer warmte vastgehou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6" descr="greenhouse_effects_nl"/>
          <p:cNvPicPr/>
          <p:nvPr/>
        </p:nvPicPr>
        <p:blipFill>
          <a:blip r:embed="rId1"/>
          <a:stretch/>
        </p:blipFill>
        <p:spPr>
          <a:xfrm>
            <a:off x="2050920" y="0"/>
            <a:ext cx="499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9:36:24Z</dcterms:created>
  <dc:creator>Admin</dc:creator>
  <dc:description/>
  <dc:language>en-US</dc:language>
  <cp:lastModifiedBy>Heuvelejvanden</cp:lastModifiedBy>
  <dcterms:modified xsi:type="dcterms:W3CDTF">2012-10-25T13:04:34Z</dcterms:modified>
  <cp:revision>17</cp:revision>
  <dc:subject/>
  <dc:title>Slide 1</dc:title>
</cp:coreProperties>
</file>