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BE9C-2AB4-4F00-8841-E0307856EA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9DDA-273D-4AF0-9FFA-33BF9DF952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4286-6F85-4439-9475-2D314252A4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6DB4-F21C-4F55-B4BB-29CBE68C95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26CF-BA4A-4559-AB78-214BBA4C99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F737-7ABE-4F03-8752-35CDA144C2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3903-4D18-419E-B530-7AAB9B1EAF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4FA8-7C59-4AB4-B3A2-F769D24E93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8FDB-3E76-4095-B174-6E986A2AC8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3BC3-0A95-472D-B05B-385D2E8D68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F27A-A12D-4AC7-8065-7312DA5FFB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C460-90CC-451F-BBD9-3C0B17C0F0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80C3-8163-48F4-8458-C673736FD2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51D3-CA67-418A-8604-3CD1783EE7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001D-7B35-4500-84A0-4FABF10B2E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B862-539E-4629-9F5A-C85BCF6BE3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157E-D8F1-4148-9EEC-779B4FEFC6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A486-A023-4428-A1C3-38732A4DD9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10920" y="4076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Het wetenschappelijk bewijs is onmiskenba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oeikasgas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32000" y="1335240"/>
          <a:ext cx="7354800" cy="4545000"/>
        </p:xfrm>
        <a:graphic>
          <a:graphicData uri="http://schemas.openxmlformats.org/drawingml/2006/table">
            <a:tbl>
              <a:tblPr/>
              <a:tblGrid>
                <a:gridCol w="3678120"/>
                <a:gridCol w="367668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oldioxide (CO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randing van steenkool, aardolie en aardgas voor energie, vervoer en verwar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kstofoxide (N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tortplaatsen, landbouw en v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aan (CH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rkoolwaterstoffen (H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luorkoolwaterstoffen (P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gebruikt in koelkasten, airconditioners en zelfs schoe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wavelhexafluoride (SF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ar is het bewij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48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grootste wetenschappelijke autoriteit op het gebied van klimaatverandering is het Intergovernmental Panel on Climate Change (IPCC) van de Verenigde Nati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ördineert de bevindingen van 2 500 deskundigen van over heel de wer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e evaluatierapport gepubliceerd in november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aluatierapport vertegenwoordigt 6 jaar van onderzoek en analy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voorzichtige en streng wetenschappelijke benadering van de conclusie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innaar van de Nobelprijs voor de vrede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aststellingen van het 4e evaluatiera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nomstotelijk bewijs dat de opwarming van de aarde het gevolg is van de menselijke activitei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en de gemiddelde temperatuur met meer dan 2 °C stijgt, kunnen de gevolgen onverhoeds toeslaan en onomkeerbaa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is nog voldoende tijd om de klimaatverandering af te remmen en ons aan de gevolgen ervan aan te pass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bestaan al heel wat nuttige technologieën, die economisch ook verantwoord 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aar er moet nu meteen actie worden ondernom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doen de regeringen era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2000" y="1339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geringen werken samen in het kader van het Raamverdrag van de Verenigde Naties inzake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 de huidige overeenkomst, het Protocol van Kyoto, zijn bindende emissiedoelstellingen vastgesteld voor de industriel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worden momenteel onderhandelingen gevoerd over een vervolg, waarover in december 2009 in Kopenhagen een akkoord moet worden berei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 Europese Unie neemt het voortouw in de strijd tegen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-lidstaten hebben zichzelf voor 2020 tot doel gestel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met 20 % te verminderen (met 30 % in geval van een mondiaal akkoord)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nergie-efficiëntie met 20 % op te drijven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 % van de opgewekte energie uit hernieuwbare energiebronnen te ha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 dringt aan op een nieuwe, ambitieuze, wereldwijde overeenkomst om de uitstoot te beper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355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voudige handelingen in het dagelijkse leven spelen een belangrijke rol i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et andere woor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pring zuinig om met warm water door een douche te nemen in plaats van een bad (vier keer minder energi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 op school, in uw tuin of in uw wij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1187280" y="260280"/>
            <a:ext cx="7823520" cy="6124680"/>
            <a:chOff x="1187280" y="260280"/>
            <a:chExt cx="7823520" cy="6124680"/>
          </a:xfrm>
        </p:grpSpPr>
        <p:pic>
          <p:nvPicPr>
            <p:cNvPr id="122" name="Picture 5" descr="Prospects PIC00126-lo"/>
            <p:cNvPicPr/>
            <p:nvPr/>
          </p:nvPicPr>
          <p:blipFill>
            <a:blip r:embed="rId1"/>
            <a:stretch/>
          </p:blipFill>
          <p:spPr>
            <a:xfrm>
              <a:off x="1187280" y="2406600"/>
              <a:ext cx="3121200" cy="39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Lightbulb_iStock_000001548394-lo"/>
            <p:cNvPicPr/>
            <p:nvPr/>
          </p:nvPicPr>
          <p:blipFill>
            <a:blip r:embed="rId2"/>
            <a:stretch/>
          </p:blipFill>
          <p:spPr>
            <a:xfrm>
              <a:off x="4427640" y="260280"/>
              <a:ext cx="458316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" descr=""/>
            <p:cNvPicPr/>
            <p:nvPr/>
          </p:nvPicPr>
          <p:blipFill>
            <a:blip r:embed="rId3"/>
            <a:stretch/>
          </p:blipFill>
          <p:spPr>
            <a:xfrm>
              <a:off x="5076720" y="3645000"/>
              <a:ext cx="2833920" cy="273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het openbaar vervoer of de fiets of ga gewoon te vo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elektrische toestellen niet in stand-by staan. Gebruik de aan/uit-func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lader van uw mobiele telefoon niet in het stopcontact zitten wanneer u uw telefoon niet oplaad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32000" y="83628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limaat” verwijst naar de atmosferische toestand over een langere tijd, terwijl het “weer” voortdurend varie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eranderingen in het klimaat zijn een natuurlijk fenomeen: zo lag de gemiddelde temperatuur na de laatste ijstijd (11 500 jaar geleden) wereldwijd 5 °C lager dan n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: we stellen nu vast dat de temperatuur in een nooit eerder gezien tempo stij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tenschappers zijn van mening dat de activiteiten van de mens hiervoor verantwoordelijk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emperatuur is in Europa met bijna 1 °C gestegen sinds 185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bijkomende stijging van 1,2 °C zou onomkeerbare, massale en mogelijk catastrofale milieuschade kunnen veroorza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therm-sxc-499008_65787286-lo"/>
          <p:cNvPicPr/>
          <p:nvPr/>
        </p:nvPicPr>
        <p:blipFill>
          <a:blip r:embed="rId1"/>
          <a:stretch/>
        </p:blipFill>
        <p:spPr>
          <a:xfrm>
            <a:off x="3657600" y="2054160"/>
            <a:ext cx="1828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treme weersomstandigheden – stormen, overstromingen, droogtes en hittegolven – komen steeds vaker voor en worden alsmaar hevig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0 % van de natuurrampen in Europa sinds 1980 waren het gevolg van het weer en het klima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floods_31256-lo"/>
          <p:cNvPicPr/>
          <p:nvPr/>
        </p:nvPicPr>
        <p:blipFill>
          <a:blip r:embed="rId1"/>
          <a:stretch/>
        </p:blipFill>
        <p:spPr>
          <a:xfrm>
            <a:off x="3641760" y="3417840"/>
            <a:ext cx="1859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ropese gletsjers hebben sinds 1850 twee derden van hun omvang verloren en het afsmeltingstempo gaat in stijgende l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poolkappen smelten en de zeespiegel stijgt dubbel zo snel als 50 jaar gele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ljoenen mensen over de hele wereld worden bedreigd door waterschaarste, hongersnood en armoe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4"/>
          <p:cNvGrpSpPr/>
          <p:nvPr/>
        </p:nvGrpSpPr>
        <p:grpSpPr>
          <a:xfrm>
            <a:off x="1766880" y="650880"/>
            <a:ext cx="6550200" cy="5514840"/>
            <a:chOff x="1766880" y="650880"/>
            <a:chExt cx="6550200" cy="5514840"/>
          </a:xfrm>
        </p:grpSpPr>
        <p:pic>
          <p:nvPicPr>
            <p:cNvPr id="98" name="Picture 5" descr="climate change_36121-lo"/>
            <p:cNvPicPr/>
            <p:nvPr/>
          </p:nvPicPr>
          <p:blipFill>
            <a:blip r:embed="rId1"/>
            <a:stretch/>
          </p:blipFill>
          <p:spPr>
            <a:xfrm>
              <a:off x="4500720" y="650880"/>
              <a:ext cx="3816360" cy="29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Fotolia_4301873_XL-lo"/>
            <p:cNvPicPr/>
            <p:nvPr/>
          </p:nvPicPr>
          <p:blipFill>
            <a:blip r:embed="rId2"/>
            <a:stretch/>
          </p:blipFill>
          <p:spPr>
            <a:xfrm>
              <a:off x="1766880" y="2492280"/>
              <a:ext cx="2448000" cy="36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395280" y="404640"/>
            <a:ext cx="8666280" cy="5628960"/>
            <a:chOff x="395280" y="404640"/>
            <a:chExt cx="8666280" cy="5628960"/>
          </a:xfrm>
        </p:grpSpPr>
        <p:pic>
          <p:nvPicPr>
            <p:cNvPr id="101" name="Picture 5" descr="satellite-observations-in-arctic-sea-ice-1979-and-2003"/>
            <p:cNvPicPr/>
            <p:nvPr/>
          </p:nvPicPr>
          <p:blipFill>
            <a:blip r:embed="rId1"/>
            <a:stretch/>
          </p:blipFill>
          <p:spPr>
            <a:xfrm>
              <a:off x="5057640" y="404640"/>
              <a:ext cx="3762360" cy="514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6"/>
            <p:cNvGrpSpPr/>
            <p:nvPr/>
          </p:nvGrpSpPr>
          <p:grpSpPr>
            <a:xfrm>
              <a:off x="395280" y="3486600"/>
              <a:ext cx="8666280" cy="2547000"/>
              <a:chOff x="395280" y="3486600"/>
              <a:chExt cx="8666280" cy="254700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395280" y="5726520"/>
                <a:ext cx="8424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Source: http://maps.grida.no/go/graphic/satellite-observations-in-arctic-sea-ice-1979-and-2003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 rot="16200000">
                <a:off x="7915320" y="4401720"/>
                <a:ext cx="2061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ffffff"/>
                    </a:solidFill>
                    <a:latin typeface="Arial"/>
                  </a:rPr>
                  <a:t>Hugo Ahlenius, UNEP/GRID-Arend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veroorzaakt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mens pompt steeds meer “broeikasgassen” in de atmosf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atmosfeer werkt zoals de glazen wanden van een k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atuurlijke broeikasgassen helpen de warmte vasthouden; zonder deze gassen zou de temperatuur 30 °C lage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oordat de broeikasgasemissies als gevolg van de menselijke activiteit sinds 1970 met 70 % zijn toegenomen, wordt meer warmte vastgehou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greenhouse_effects_nl"/>
          <p:cNvPicPr/>
          <p:nvPr/>
        </p:nvPicPr>
        <p:blipFill>
          <a:blip r:embed="rId1"/>
          <a:stretch/>
        </p:blipFill>
        <p:spPr>
          <a:xfrm>
            <a:off x="2050920" y="0"/>
            <a:ext cx="49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4:34Z</dcterms:modified>
  <cp:revision>17</cp:revision>
  <dc:subject/>
  <dc:title>Slide 1</dc:title>
</cp:coreProperties>
</file>