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BA7-0D0E-4614-B061-C5A16CEA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211-0130-4CA2-8DDC-8A4238B6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798-56A7-43B0-AB8F-77591926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8D7-5797-4FED-B9A0-527BB563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600-21EB-4E66-AA18-3E883537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FA3-AA0C-434C-BAFA-025A09DA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C3B-E0F0-4CB9-A3CA-5DF7F152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BF6-8C96-495C-B1EE-970A3742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6C0-69B6-4886-A3FD-E7C94866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21C-D369-4AAA-8C63-C67EB26A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DB5-14EF-4ED9-8796-16A95E8E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798-C5A9-4E43-8AEC-101C2A6B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627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8F7D-C3ED-4F92-9A4C-06B16C5D33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gif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 flipH="1">
            <a:off x="-36720" y="4437000"/>
            <a:ext cx="9180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H="1">
            <a:off x="-36720" y="3716280"/>
            <a:ext cx="918036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0" y="515772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-36360" y="51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36360" y="37162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Op la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506920" y="43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tropisch regen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490920" y="39988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924360" y="45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06728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276720" y="378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05928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995640" y="50785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-36720" y="3357720"/>
            <a:ext cx="918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2195640" y="32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ubtropische pl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-36360" y="33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4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H="1">
            <a:off x="-36360" y="4437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06864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-34920" y="573408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-36360" y="57340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-36360" y="306864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rebuchet MS"/>
              </a:rPr>
              <a:t>Op ho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227640" y="22701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rebuchet MS"/>
              </a:rPr>
              <a:t>toe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987640" y="21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rebuchet MS"/>
              </a:rPr>
              <a:t>land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722920" y="2637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dcf3d"/>
                </a:solidFill>
                <a:latin typeface="Trebuchet MS"/>
              </a:rPr>
              <a:t>t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211640" y="270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loof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0" y="256536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-71280" y="256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-36360" y="62499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africa-image"/>
          <p:cNvPicPr/>
          <p:nvPr/>
        </p:nvPicPr>
        <p:blipFill>
          <a:blip r:embed="rId1"/>
          <a:stretch/>
        </p:blipFill>
        <p:spPr>
          <a:xfrm>
            <a:off x="1203480" y="0"/>
            <a:ext cx="6753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>
            <a:off x="1189080" y="3716280"/>
            <a:ext cx="6767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3573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1187280" y="126828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1187280" y="623736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76360" y="112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11280" y="6093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4" descr="africa-image"/>
          <p:cNvPicPr/>
          <p:nvPr/>
        </p:nvPicPr>
        <p:blipFill>
          <a:blip r:embed="rId1"/>
          <a:stretch/>
        </p:blipFill>
        <p:spPr>
          <a:xfrm>
            <a:off x="-36360" y="4678200"/>
            <a:ext cx="9180360" cy="2179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2349360"/>
            <a:ext cx="9144000" cy="2374920"/>
          </a:xfrm>
          <a:prstGeom prst="rect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08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244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3851280" y="2060640"/>
            <a:ext cx="2305080" cy="576360"/>
          </a:xfrm>
          <a:prstGeom prst="ellipse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zon007"/>
          <p:cNvPicPr/>
          <p:nvPr/>
        </p:nvPicPr>
        <p:blipFill>
          <a:blip r:embed="rId2"/>
          <a:stretch/>
        </p:blipFill>
        <p:spPr>
          <a:xfrm>
            <a:off x="4356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2"/>
          <p:cNvSpPr/>
          <p:nvPr/>
        </p:nvSpPr>
        <p:spPr>
          <a:xfrm>
            <a:off x="4716360" y="3068640"/>
            <a:ext cx="505080" cy="1297080"/>
          </a:xfrm>
          <a:prstGeom prst="upArrow">
            <a:avLst>
              <a:gd name="adj1" fmla="val 50000"/>
              <a:gd name="adj2" fmla="val 64202"/>
            </a:avLst>
          </a:pr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weer004"/>
          <p:cNvPicPr/>
          <p:nvPr/>
        </p:nvPicPr>
        <p:blipFill>
          <a:blip r:embed="rId3"/>
          <a:stretch/>
        </p:blipFill>
        <p:spPr>
          <a:xfrm>
            <a:off x="4211640" y="2349360"/>
            <a:ext cx="1512720" cy="1160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4"/>
          <p:cNvSpPr/>
          <p:nvPr/>
        </p:nvSpPr>
        <p:spPr>
          <a:xfrm flipH="1" rot="16167000">
            <a:off x="1295280" y="216900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161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 flipH="1" flipV="1" rot="16166400">
            <a:off x="7560000" y="216864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 flipH="1" rot="10733400">
            <a:off x="1617840" y="378936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 rot="10800000">
            <a:off x="7308360" y="3716280"/>
            <a:ext cx="1008360" cy="720720"/>
          </a:xfrm>
          <a:custGeom>
            <a:avLst/>
            <a:gdLst>
              <a:gd name="textAreaLeft" fmla="*/ 580320 w 1008360"/>
              <a:gd name="textAreaRight" fmla="*/ 895320 w 100836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weer004"/>
          <p:cNvPicPr/>
          <p:nvPr/>
        </p:nvPicPr>
        <p:blipFill>
          <a:blip r:embed="rId4"/>
          <a:stretch/>
        </p:blipFill>
        <p:spPr>
          <a:xfrm>
            <a:off x="4932360" y="256536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weer004"/>
          <p:cNvPicPr/>
          <p:nvPr/>
        </p:nvPicPr>
        <p:blipFill>
          <a:blip r:embed="rId5"/>
          <a:stretch/>
        </p:blipFill>
        <p:spPr>
          <a:xfrm>
            <a:off x="3708360" y="2637000"/>
            <a:ext cx="1513080" cy="11602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/>
          <p:cNvSpPr/>
          <p:nvPr/>
        </p:nvSpPr>
        <p:spPr>
          <a:xfrm flipH="1" flipV="1" rot="10800000">
            <a:off x="5076720" y="1910160"/>
            <a:ext cx="2232000" cy="576360"/>
          </a:xfrm>
          <a:custGeom>
            <a:avLst/>
            <a:gdLst>
              <a:gd name="textAreaLeft" fmla="*/ 1284120 w 2232000"/>
              <a:gd name="textAreaRight" fmla="*/ 2011320 w 2232000"/>
              <a:gd name="textAreaTop" fmla="*/ 118800 h 576360"/>
              <a:gd name="textAreaBottom" fmla="*/ 2055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 flipV="1" rot="10800000">
            <a:off x="2771640" y="1916280"/>
            <a:ext cx="2160720" cy="576000"/>
          </a:xfrm>
          <a:custGeom>
            <a:avLst/>
            <a:gdLst>
              <a:gd name="textAreaLeft" fmla="*/ 1243080 w 2160720"/>
              <a:gd name="textAreaRight" fmla="*/ 1947240 w 2160720"/>
              <a:gd name="textAreaTop" fmla="*/ 118800 h 576000"/>
              <a:gd name="textAreaBottom" fmla="*/ 2052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zon007"/>
          <p:cNvPicPr/>
          <p:nvPr/>
        </p:nvPicPr>
        <p:blipFill>
          <a:blip r:embed="rId6"/>
          <a:stretch/>
        </p:blipFill>
        <p:spPr>
          <a:xfrm>
            <a:off x="788508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zon007"/>
          <p:cNvPicPr/>
          <p:nvPr/>
        </p:nvPicPr>
        <p:blipFill>
          <a:blip r:embed="rId7"/>
          <a:stretch/>
        </p:blipFill>
        <p:spPr>
          <a:xfrm>
            <a:off x="1332000" y="306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4"/>
          <p:cNvSpPr/>
          <p:nvPr/>
        </p:nvSpPr>
        <p:spPr>
          <a:xfrm>
            <a:off x="5724360" y="31417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ijgingsre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2400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395280" y="404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B  Waardoor veraschilt de plantengroei op aar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427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regenw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203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86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694836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195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118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74072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356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6" descr="savannah"/>
          <p:cNvPicPr/>
          <p:nvPr/>
        </p:nvPicPr>
        <p:blipFill>
          <a:blip r:embed="rId8"/>
          <a:stretch/>
        </p:blipFill>
        <p:spPr>
          <a:xfrm>
            <a:off x="3348000" y="4724280"/>
            <a:ext cx="1109880" cy="86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7" descr="savannah"/>
          <p:cNvPicPr/>
          <p:nvPr/>
        </p:nvPicPr>
        <p:blipFill>
          <a:blip r:embed="rId9"/>
          <a:stretch/>
        </p:blipFill>
        <p:spPr>
          <a:xfrm>
            <a:off x="5508720" y="4724280"/>
            <a:ext cx="1109520" cy="8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jungle"/>
          <p:cNvPicPr/>
          <p:nvPr/>
        </p:nvPicPr>
        <p:blipFill>
          <a:blip r:embed="rId10"/>
          <a:stretch/>
        </p:blipFill>
        <p:spPr>
          <a:xfrm>
            <a:off x="4356000" y="4724280"/>
            <a:ext cx="1297080" cy="85428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 flipV="1">
            <a:off x="5003640" y="4752720"/>
            <a:ext cx="0" cy="22050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tj8"/>
          <p:cNvPicPr/>
          <p:nvPr/>
        </p:nvPicPr>
        <p:blipFill>
          <a:blip r:embed="rId11"/>
          <a:stretch/>
        </p:blipFill>
        <p:spPr>
          <a:xfrm>
            <a:off x="4572000" y="4724280"/>
            <a:ext cx="1143000" cy="14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nature_795"/>
          <p:cNvPicPr/>
          <p:nvPr/>
        </p:nvPicPr>
        <p:blipFill>
          <a:blip r:embed="rId12"/>
          <a:stretch/>
        </p:blipFill>
        <p:spPr>
          <a:xfrm>
            <a:off x="1116000" y="4724280"/>
            <a:ext cx="1176480" cy="865440"/>
          </a:xfrm>
          <a:prstGeom prst="rect">
            <a:avLst/>
          </a:prstGeom>
          <a:ln w="0">
            <a:noFill/>
          </a:ln>
        </p:spPr>
      </p:pic>
      <p:sp>
        <p:nvSpPr>
          <p:cNvPr id="121" name="Line 9"/>
          <p:cNvSpPr/>
          <p:nvPr/>
        </p:nvSpPr>
        <p:spPr>
          <a:xfrm flipV="1">
            <a:off x="1692360" y="475272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1" descr="nature_795"/>
          <p:cNvPicPr/>
          <p:nvPr/>
        </p:nvPicPr>
        <p:blipFill>
          <a:blip r:embed="rId13"/>
          <a:stretch/>
        </p:blipFill>
        <p:spPr>
          <a:xfrm>
            <a:off x="7643880" y="4724280"/>
            <a:ext cx="117612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8244000" y="465264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2" descr="steppe"/>
          <p:cNvPicPr/>
          <p:nvPr/>
        </p:nvPicPr>
        <p:blipFill>
          <a:blip r:embed="rId14"/>
          <a:stretch/>
        </p:blipFill>
        <p:spPr>
          <a:xfrm>
            <a:off x="658800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steppe"/>
          <p:cNvPicPr/>
          <p:nvPr/>
        </p:nvPicPr>
        <p:blipFill>
          <a:blip r:embed="rId15"/>
          <a:stretch/>
        </p:blipFill>
        <p:spPr>
          <a:xfrm>
            <a:off x="226836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6" name="MSj02567.wav" descr=""/>
          <p:cNvPicPr/>
          <p:nvPr/>
        </p:nvPicPr>
        <p:blipFill>
          <a:blip r:embed="rId16"/>
          <a:stretch/>
        </p:blipFill>
        <p:spPr>
          <a:xfrm>
            <a:off x="5076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2"/>
          <p:cNvSpPr/>
          <p:nvPr/>
        </p:nvSpPr>
        <p:spPr>
          <a:xfrm>
            <a:off x="3564000" y="342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9:43:43Z</dcterms:created>
  <dc:creator>Rene Anjewierden</dc:creator>
  <dc:description/>
  <dc:language>en-US</dc:language>
  <cp:lastModifiedBy>Heuvelejvanden</cp:lastModifiedBy>
  <dcterms:modified xsi:type="dcterms:W3CDTF">2012-10-28T17:16:43Z</dcterms:modified>
  <cp:revision>8</cp:revision>
  <dc:subject/>
  <dc:title>Dia 1</dc:title>
</cp:coreProperties>
</file>