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DF9-7498-4E2C-BB19-EDAF6533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8B6-D3C6-45D6-ADDA-496D95479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B21-CA9C-472D-B525-86A8FCC8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414E-5C7F-4788-BC83-BA3C4594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137-1AC4-4D73-B5D3-108648B3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28F1-719D-4180-B182-923AE5B6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6309-6E12-486A-9A77-F93B4B45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BF46-07D5-44C9-A16A-83B5A84B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B34E-81AC-43CA-BB22-77D261BE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9C81-A7C8-48F0-A667-1545091F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1134-8C9D-4366-99F5-96B2273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F33-1304-4D60-B0FF-A202E4B3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19C3-5FAF-4C63-9516-176C16FA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774-F8EE-4516-ABE2-158B9FFA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A891-A8BB-4295-A954-526D0F24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F3D2-B761-4653-977D-33297E40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7874-A7DC-4260-9875-844B2B41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208-0D62-4E1F-B3D4-9E06E16B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6F2-0170-4609-8DC4-AB482365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1D21-B80E-41E3-A692-00015EA0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9B1-25BA-455F-B198-E252DE9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0EA-6E56-4C83-B052-8AFCEE74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33F-79B3-4288-96CD-E560C404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1E3-D7C5-464A-B01B-CD319110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2D74-811A-4FEC-84BB-81486AB8302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088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05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0880" cy="1105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0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0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08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088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0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AE6C-07B2-45ED-93CA-7DE754B6C44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nderpleinen.nl/plaatjes%20klok/klok12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332000" y="3213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sign M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begeleid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859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a goedkeuring ga je aan het we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ssendoor zijn er ingebouwde controle moment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rect ga je aan de slag met deze profilering. Voor de derde klassen loopt dit door in het 4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ja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eerste 4 weken heb je nodig om je plan te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 totaal moet je minimaal 40 uur of meer verantwoorden in je uren verantwoord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klok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89000"/>
            <a:ext cx="1656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Tijdsp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afsluiting vindt plaats in week 13 voor de examenkandidaten. Voor de S43 zal dit volgend schooljaar rond die tijd zijn. Zij hebben een tussenbeoordeling in week 1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r zijn vaste overleg momenten met de docent/c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ijdag 5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en 6</a:t>
            </a:r>
            <a:r>
              <a:rPr b="0" lang="nl-NL" sz="3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uur zijn begeleidingsuren. Op vaste momenten moet iedereen aanwezig zijn op school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Les 1-4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ersoonlijkheid en netwe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tfolio opb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rief en c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Beeldvorming van beroe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vaardigheden en kennis horen daarbij (+ werkprocessen en competenti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(+ adres en foto) alle bedrijven binnen een straal van 30-50km die passen bij jou beroepsbe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 interessante person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terview twee personen uit bero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et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lke mensen zijn er nu om je heen die belangrijk kunnen zijn bij je werk of het vinden van een ba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deze personen (kennissen, familie, bpv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een lijst van belangrijke personen die je volgt via facebook, twitter of and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bouw Portfol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gelijk verschillende portfolio’s en beschrijf wat jij belangrijk v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: welke tekst en beeldmateri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rmgeving: hoe ga je jou portfolio vormgeven? Op papier en digita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licitatiebrief en cv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een persoonlijke sollicitatiebrief (algemeen of n.a.v. een vacatu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je eigen cv (opleiding en werkervar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ventueel: Video-presentatie van 2-3 minut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“</a:t>
            </a:r>
            <a:r>
              <a:rPr b="1" i="1" lang="nl-NL" sz="2000" spc="-1" strike="noStrike">
                <a:solidFill>
                  <a:srgbClr val="606060"/>
                </a:solidFill>
                <a:latin typeface="Arial"/>
              </a:rPr>
              <a:t>Ik ben op aarde om een omgeving vol liefde te creëren, met passie te leven en mijn meest opwindende dromen waar te maken”</a:t>
            </a:r>
            <a:br>
              <a:rPr sz="2000"/>
            </a:b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2684520" y="1719360"/>
            <a:ext cx="3774960" cy="44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4608720" cy="3164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3"/>
          <a:stretch/>
        </p:blipFill>
        <p:spPr>
          <a:xfrm>
            <a:off x="4067280" y="3586320"/>
            <a:ext cx="4433760" cy="2976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"/>
          <p:cNvPicPr/>
          <p:nvPr/>
        </p:nvPicPr>
        <p:blipFill>
          <a:blip r:embed="rId4"/>
          <a:stretch/>
        </p:blipFill>
        <p:spPr>
          <a:xfrm>
            <a:off x="5364000" y="1844640"/>
            <a:ext cx="158436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Profil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675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rofileren = benadrukken, karakteriseren, kernschets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andacht vestigen op jezelf, door je talenten en interesses te ontwikkelen en te laten zi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00"/>
                </a:solidFill>
                <a:latin typeface="Arial"/>
              </a:rPr>
              <a:t>Dit ben ik en hier ben ik goed i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sturen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ies je eigen onderwerp dat bij je p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verantwoordel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eigen plan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denk je eigen eindresultaat/to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opdra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bent klaar om een passende baan te vin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ga je te we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uit van jouw toekomstige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gaat bedenken wat je nog allemaal moet leren voordat je dat beroep uit kunt oef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stelt je eigen leerdoe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bedenkt hoe je jezelf gaat toet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werkt zelf aan je ontwikke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pdracht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chrijf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wil jij graag gaan werk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oet je allemaal kennen en kunnen om dat goed beroep goed te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preek je ideeën met je buurman/vrou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waliteiten/Reflectie sp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elkaar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goed ken je jezelf?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reflecteren op jezelf en op ander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 je goed tegen feedbac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ie ben jij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tappenpl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eldvorming van het bero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lfreflec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werking plan/maken voor persoonlijk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n zelfstandi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voere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ogboek en urenverantwoording bij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oetsing en afro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13:44:51Z</dcterms:created>
  <dc:creator>Henrike Gussinklo</dc:creator>
  <dc:description/>
  <dc:language>en-US</dc:language>
  <cp:lastModifiedBy>Henrike Gussinklo - Veldkamp</cp:lastModifiedBy>
  <cp:lastPrinted>2015-01-16T09:22:56Z</cp:lastPrinted>
  <dcterms:modified xsi:type="dcterms:W3CDTF">2015-11-13T11:35:51Z</dcterms:modified>
  <cp:revision>34</cp:revision>
  <dc:subject/>
  <dc:title>Profilering</dc:title>
</cp:coreProperties>
</file>