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875B-3915-46C6-B3D6-82BF5FD0F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784A-B86B-45B7-B8B2-B1B20E52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1BA6-5BFA-4B9F-8769-F6EED28B2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8749-9E6F-4C72-B717-A3257CA78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E90E-5F7F-4FD1-B447-CCC38E78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1EC6-ED86-4726-A2E3-0DEFAE14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87FD-B723-43C9-B680-498CBCF6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36CD-4F2E-408F-A3A6-16AABDB8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164E-920A-439B-97D9-F351CF43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E066-DC8A-437C-B9A4-F46EF59F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5F65-DB8E-45DB-BD9C-EC8F2F31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1623-4566-4F9D-9287-483170EE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26E2-BE1E-4FA7-A161-71BF85CB6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6800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s 2 m en herhaling voor klas 3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195800" y="2206800"/>
          <a:ext cx="419580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5800" y="2206800"/>
                    <a:ext cx="4195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13360" y="1746360"/>
            <a:ext cx="3753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e ziet hier een diagram waa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en constante snelheid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gebeel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t voorwerp beweegt de ee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s met een snelheid van 2,5 m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erna staat het 1 s st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 t=3s begint het voorw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hteruit te gaan met 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nelheid van 5 m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- is hier achteru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03640" y="2997360"/>
            <a:ext cx="1584360" cy="144360"/>
          </a:xfrm>
          <a:prstGeom prst="rightArrow">
            <a:avLst>
              <a:gd name="adj1" fmla="val 50000"/>
              <a:gd name="adj2" fmla="val 2743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97640" y="3078000"/>
            <a:ext cx="142920" cy="648000"/>
          </a:xfrm>
          <a:prstGeom prst="downArrow">
            <a:avLst>
              <a:gd name="adj1" fmla="val 50000"/>
              <a:gd name="adj2" fmla="val 1133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88000" y="364500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08720" y="3726000"/>
            <a:ext cx="144720" cy="1368360"/>
          </a:xfrm>
          <a:prstGeom prst="downArrow">
            <a:avLst>
              <a:gd name="adj1" fmla="val 50000"/>
              <a:gd name="adj2" fmla="val 2363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80360" y="4989600"/>
            <a:ext cx="792000" cy="144360"/>
          </a:xfrm>
          <a:prstGeom prst="rightArrow">
            <a:avLst>
              <a:gd name="adj1" fmla="val 50000"/>
              <a:gd name="adj2" fmla="val 137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bereken je de afgelegde we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940200" y="2009880"/>
          <a:ext cx="419580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40200" y="2009880"/>
                    <a:ext cx="4195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427640" y="3500280"/>
            <a:ext cx="1117440" cy="2071800"/>
          </a:xfrm>
          <a:custGeom>
            <a:avLst/>
            <a:gdLst>
              <a:gd name="textAreaLeft" fmla="*/ 320760 w 1117440"/>
              <a:gd name="textAreaRight" fmla="*/ 957240 w 1117440"/>
              <a:gd name="textAreaTop" fmla="*/ 1497960 h 2071800"/>
              <a:gd name="textAreaBottom" fmla="*/ 1774440 h 2071800"/>
            </a:gdLst>
            <a:ahLst/>
            <a:rect l="textAreaLeft" t="textAreaTop" r="textAreaRight" b="textAreaBottom"/>
            <a:pathLst>
              <a:path w="21600" h="21600">
                <a:moveTo>
                  <a:pt x="0" y="17059"/>
                </a:moveTo>
                <a:lnTo>
                  <a:pt x="6200" y="12517"/>
                </a:lnTo>
                <a:lnTo>
                  <a:pt x="6200" y="15617"/>
                </a:lnTo>
                <a:lnTo>
                  <a:pt x="15617" y="15617"/>
                </a:lnTo>
                <a:lnTo>
                  <a:pt x="15617" y="6200"/>
                </a:lnTo>
                <a:lnTo>
                  <a:pt x="12517" y="6200"/>
                </a:lnTo>
                <a:lnTo>
                  <a:pt x="17059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oppervlak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3232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 afgelegde weg kun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 twee manieren u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ke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Bereken het oppervl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Met de formule s=v 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raag: Hoeveel legt h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oorwerp af in de ee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pervlak is 2 x 2,5= 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=2,5 m/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v 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=2 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2,5 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 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45160" y="2852640"/>
            <a:ext cx="1584360" cy="68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 rot="232800">
            <a:off x="539280" y="1628640"/>
            <a:ext cx="2633760" cy="2254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03640" y="1557360"/>
            <a:ext cx="5545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konijntje dat je hier ziet lopen he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proble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t konijn is incontin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laat om de 0,02 s een druppel urine va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dat het konijn met dezelfde snelheid huppelt, vallen de druppels ook om zelfde afst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thoud: zijn de stippen op dezelfde afstand van elkaar dan is de snelheid constant (hetzelfd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bereken je een constante snelhe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 rot="232800">
            <a:off x="539280" y="1557360"/>
            <a:ext cx="2633760" cy="2254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65960" y="1865160"/>
            <a:ext cx="480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it de afbeelding kun je lezen dat de drupp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 de 0.02 s va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zegt dus: t=0,02 s tussen twee drupp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 moet je nog de afstand tussen de tw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ppels we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364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35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3573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357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4437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3080" y="465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59080" y="4097160"/>
            <a:ext cx="234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 wil je wet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(de snelheid in m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 is gegev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1,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0,02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716360" y="5734080"/>
                <a:ext cx="30481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,6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 de snelheid van een pu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24360" y="1700280"/>
            <a:ext cx="4524480" cy="1574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4000" y="1557360"/>
            <a:ext cx="34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puck glijdt over superglad ijs. Van de puck maakt men in het donker een stroboscoopfoto. De stroboscoop geeft om de 0,5 s een lichtfl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76720" y="249228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2492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720" y="37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73640" y="37368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2880" y="3592440"/>
            <a:ext cx="385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 de snelheid van deze pu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vraagd: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gev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0,5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050920" y="5516640"/>
                <a:ext cx="20894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0,5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573800" y="551664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 is 0,06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4T15:25:23Z</dcterms:created>
  <dc:creator>J.G. Hensen</dc:creator>
  <dc:description/>
  <dc:language>en-US</dc:language>
  <cp:lastModifiedBy>rslvhm</cp:lastModifiedBy>
  <dcterms:modified xsi:type="dcterms:W3CDTF">2008-11-13T11:09:48Z</dcterms:modified>
  <cp:revision>13</cp:revision>
  <dc:subject/>
  <dc:title>Constante snelheid</dc:title>
</cp:coreProperties>
</file>