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E05-2E20-472C-BD03-106FC8DA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8475-B405-4754-85E8-A97FDAB6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664-A891-4F85-8801-299B300C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134A-A443-479B-9D58-C5CA165C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878-F427-4822-8D86-BC0F29E2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F15C-8C71-4A6A-B7A2-4818AA1B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604-EB92-435F-91B9-D3377AA8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F157-C642-42CE-A0A0-63F1CDF0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9C6-B950-4AC4-BFDD-9366968E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3DF-961B-48E7-AF6B-BF12B7BF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5E66-A9C7-45E7-A499-FDF0CAD9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45BA-632A-403D-AED3-C861BAFD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4932-49F2-442E-8BE5-5F25808F6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 2 m en herhaling voor klas 3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5800" y="220680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220680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3360" y="1746360"/>
            <a:ext cx="375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 ziet hier een diagram wa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n constante snelhei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ge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t voorwerp beweegt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 met een snelheid van 2,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na staat het 1 s s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=3s begint het voo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hteruit te gaan m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elheid van 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- is hier achte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997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97640" y="3078000"/>
            <a:ext cx="142920" cy="648000"/>
          </a:xfrm>
          <a:prstGeom prst="downArrow">
            <a:avLst>
              <a:gd name="adj1" fmla="val 50000"/>
              <a:gd name="adj2" fmla="val 1133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364500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3726000"/>
            <a:ext cx="144720" cy="1368360"/>
          </a:xfrm>
          <a:prstGeom prst="downArrow">
            <a:avLst>
              <a:gd name="adj1" fmla="val 50000"/>
              <a:gd name="adj2" fmla="val 236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498960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reken je de afgelegde w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40200" y="200988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0200" y="200988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427640" y="3500280"/>
            <a:ext cx="1117440" cy="2071800"/>
          </a:xfrm>
          <a:custGeom>
            <a:avLst/>
            <a:gdLst>
              <a:gd name="textAreaLeft" fmla="*/ 320760 w 1117440"/>
              <a:gd name="textAreaRight" fmla="*/ 957240 w 1117440"/>
              <a:gd name="textAreaTop" fmla="*/ 1497960 h 2071800"/>
              <a:gd name="textAreaBottom" fmla="*/ 17744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17059"/>
                </a:moveTo>
                <a:lnTo>
                  <a:pt x="6200" y="12517"/>
                </a:lnTo>
                <a:lnTo>
                  <a:pt x="6200" y="15617"/>
                </a:lnTo>
                <a:lnTo>
                  <a:pt x="15617" y="15617"/>
                </a:lnTo>
                <a:lnTo>
                  <a:pt x="15617" y="6200"/>
                </a:lnTo>
                <a:lnTo>
                  <a:pt x="12517" y="6200"/>
                </a:lnTo>
                <a:lnTo>
                  <a:pt x="17059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oppervlak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3232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afgelegde weg kun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wee manieren 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k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Bereken het 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Met de formule 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raag: Hoeveel legt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orwerp af in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pervlak is 2 x 2,5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2,5 m/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=2 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2,5 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5160" y="2852640"/>
            <a:ext cx="1584360" cy="6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232800">
            <a:off x="539280" y="162864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3640" y="1557360"/>
            <a:ext cx="55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konijntje dat je hier ziet lopen he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roble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konijn is inconti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laat om de 0,02 s een druppel urine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dat het konijn met dezelfde snelheid huppelt, vallen de druppels ook om zelfde af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houd: zijn de stippen op dezelfde afstand van elkaar dan is de snelheid constant (hetzelf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bereken je een constante snelhe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32800">
            <a:off x="539280" y="155736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65960" y="1865160"/>
            <a:ext cx="480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t de afbeelding kun je lezen dat de drupp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de 0.02 s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egt dus: t=0,02 s tussen twee drupp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moet je nog de afstand tussen de tw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ppels w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3080" y="465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9080" y="4097160"/>
            <a:ext cx="234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wil je we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de snelheid in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gegev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02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716360" y="5734080"/>
                <a:ext cx="3048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snelheid van een p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524480" cy="1574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557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uck glijdt over superglad ijs. Van de puck maakt men in het donker een stroboscoopfoto. De stroboscoop geeft om de 0,5 s een lichtfl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2492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37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3640" y="3736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880" y="3592440"/>
            <a:ext cx="38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 de snelheid van deze p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raagd: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gev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0920" y="5516640"/>
                <a:ext cx="2089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573800" y="55166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 is 0,06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5:25:23Z</dcterms:created>
  <dc:creator>J.G. Hensen</dc:creator>
  <dc:description/>
  <dc:language>en-US</dc:language>
  <cp:lastModifiedBy>rslvhm</cp:lastModifiedBy>
  <dcterms:modified xsi:type="dcterms:W3CDTF">2008-11-13T11:09:48Z</dcterms:modified>
  <cp:revision>13</cp:revision>
  <dc:subject/>
  <dc:title>Constante snelheid</dc:title>
</cp:coreProperties>
</file>