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351F2-9ABC-46BB-8FF6-CD49CD3B1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F16A1-6643-42B8-854D-17294700D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59DBBC-608D-4F0C-A417-2C1D1C2C12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DCB3B4-A78D-483B-803E-D02A32DE8F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4B582B-BD6B-431D-BC66-46D1A10D12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940F27-B227-4B8E-A059-7A3D3A224B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D476A-7CDC-488A-8A3E-B2122DFA1E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6CD2C4-34BC-4C22-8CED-40CFC26900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6"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F94842-83E0-4D82-8159-142875CED7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ABE766-A16F-426D-A769-FC8F74559A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4"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A83FB3-4160-4BE4-A5F5-A02B508293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2AC338-D064-494E-8338-E10751F434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01B9C-87AC-4283-BDBE-4C9B8A212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6"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89AD63-129B-4036-AF27-AE6746F9E2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8"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BFC89E-D405-4C25-97E8-634DA745D9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6510E9-8713-4543-844D-E0A1F04414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27A6C2-D3E0-4D28-8D30-E747B61149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A6FE93-394F-4854-9F12-7855FB5839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B06D5E-D96E-4CC0-BFAB-19AAD3B5A8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35C9A7-8AC0-4982-A2FB-6B29E04A72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D1DCC8-3CBB-4A2A-91A1-18634D6FE5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7"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671BE0-18BB-4AA6-B5AD-16CE1B5A59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C78047-9CDB-4EA6-A304-866A1A7DC20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A8382-AAC4-4773-AEA7-D494861DF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5"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D58AAE-E4C1-43CA-8DCA-B80C3EAED4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AAF2C1-E56D-4983-B387-9F26167362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4B0DC9-6079-4594-A77F-D981A2E707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312B96-3122-45D5-ACD5-D087286FD5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0EE6F2-3B84-4C72-B940-61C201D33B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E444E0-D16E-4750-B7B2-79AA6D7A39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372F74-B2DA-40DC-90B5-A763E4D678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A8EBD0-3B84-4424-B136-BD65E8C557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812264-90CE-4D3A-8FA9-38B592A697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294E33-3C7B-4A0A-82A9-61275565C5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8B59B-DC58-4F08-80DB-79851EA62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1A26A5-EA51-4492-9278-D4F2FE9026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529936-88B5-4D98-9225-DBBDC753FF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72D25E-76E5-4647-B032-B3213FD5271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095218-C653-43AC-8E22-76881654580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5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D60CBA-1FFA-48EA-BAB2-BF9E79BFE8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EBC8FE-F447-4791-AC2B-F55AAEA683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91A2B6-385B-467B-B87D-5E37B53EAA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E42D86-484C-4B67-A9A9-9935B20156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561E6C-FE09-4AC3-861A-D618D636C1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D78A1F-0C4E-4B5B-94EA-1B91ACAA1A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953F9-CAD4-46C2-948E-73A2464E6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95B150-DFFE-48E2-A273-EC8BCE961F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E3556A-7FC1-4E94-A8D3-0CB11D010A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6FA329-75D1-4E75-ABC0-FE9C2D3A57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DEF4AEB-B048-4E7F-BB10-F970327B7DE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04D8D1-4DA0-4BF8-9AF4-AA41676A920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D404CFE-CCD0-4F06-93E5-3C8EF2AC880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9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F853E7-5844-47F0-BF77-452315283A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89D0E5-2D73-4DB2-B046-5F1B36AE2D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F97DB2-7890-4067-A35C-134EDB104C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B24B9E-CC03-475F-AD02-376FA1386B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1A76E-2463-42C2-917B-034561CC3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F497C5-CC47-4175-8D1D-128E2C33BD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B6966C-A926-4BFD-A131-CC3F7F3634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CC4DBE-10AD-4928-8CEC-E696E67F5A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DEA45D-4B1C-46B1-8D50-21C93000F1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5875E3-07C5-4242-BF1A-F52DB6C4B1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57F6D79-37D1-4053-BC7E-00F08A020F5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EA76ECE-4784-4DDB-BA24-69E670BFCAB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18923-544B-4053-A14B-B3C152037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C07FF-4515-479C-97F7-520120947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05D0F-6E50-44BB-8866-F7E379F10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4EC0F-BE40-4E8B-9CB7-ABFE8AE40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B65AC-0340-44AE-886E-DDE9616F3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4FF6E-CC26-4E0D-A77C-1FDCF3B45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B640C-0B98-4AA2-B2D1-32431329D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05D98-6B44-4679-86D1-57904B5F1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4FAB2B-2AEF-45CA-A4F6-9F5504ECB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31C96-D424-4735-96C2-0607628E2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0D501E-9CF8-4B93-B70D-F54AE4DF03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B618FF-19B4-49BC-B68D-8DFB9A76DF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8E87EB-E12D-4581-A633-A16AC856E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029ED-7C50-4FEF-AAC9-27D77B7C7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C611D3-76DD-4BBE-BF33-0494CA7A1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ECEFC-4641-4306-B09C-AF25E0B16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125F5B-D4B4-420E-A875-5083FA74A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105CFF-6A69-485D-A384-D8E677A8F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3F68F-0726-454F-8724-ED5443F71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2F237-9033-488D-8DED-FE7148FED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B667E7-C232-4AB2-B84A-2A59B21D50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810A0A-5A68-4A59-A21F-A5D6ED2C67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2DC39F-7167-4818-8F3B-0F25D238CD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415FEE-B476-4D9B-9C45-25592C185B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0"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14576B-A7BE-48C4-859B-C5547FCFC0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2"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A341B-8A19-4A42-BB13-72948829E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9FF6E-B9C2-4338-B24E-7F0D845FD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936DE4-B97D-492F-BEAA-7C2D41DFE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D039E-4BC8-4CE6-AAA2-2C744A153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8D0DE7-3F34-46C4-8723-9238D8984F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3B8558-D1F2-4377-84F5-B65D5248F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B1FAE-28B1-48E1-A84F-902497CE5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17B26-3C38-40A1-A084-DEBE60CEE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1"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D12F3-2983-45AE-9F42-4515949D2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FC9ED0-71AF-441B-AE07-26F89DC641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9"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5D30D2-35BF-4AC5-8B2E-90F8D05F52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40C936-EDAC-490D-9CAB-ACEA99F0A1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3B3BF-2750-467E-A74D-5D178B65B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1"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A95309-9136-4712-9425-668F5320C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3"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BC2D37-59F2-40AC-967A-74257CB4D4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67D02B-1DED-445D-BDC5-6E5B1A0D07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DE7D71-CD7C-4AC0-9FB2-C0263E804E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D318E-C810-4B0E-9F72-73D8B234EE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2C3AD-27CB-4956-BF0D-A0F569A68B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9314D5-649D-41EF-A66C-45B31100D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8807EA-2EEF-470B-B5B0-C17245B21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2"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28A4C2-65AB-4E4D-99A6-A084AE460F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84AC5E-3538-4792-8D72-78D653F008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29715-F0F1-43F9-A044-4376ADA1B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0"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541CDC-C611-4FE1-9783-21961F673E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7783D4-60B5-4162-A962-1B5751892D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2"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EF8ED6-F985-4CB7-BFC5-D3F5CEB51B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4"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8F3898-3C19-466A-9C48-B73DE057F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335722-9B0C-4B5B-A76C-281C4D25EF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0AB4EB-BB00-4014-9DD2-0F7A28FE28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234E3E-0CE3-4CF8-8641-01F408BA65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2E30A7-67F8-4276-B328-7BEA541002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9A9EE1-C85C-410F-84BA-E509A1EDD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BFA895-5D50-4D52-87D9-0121502B4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6B0F6-FDFE-4DB2-B8E2-CE506586A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3"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47C1DC-7943-435E-A073-FD9F97687E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C7BBB6-C310-4B0C-9ACE-0727115C61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1"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D263FF-93B3-4BE2-951B-489F1ADC8C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E028F0-B89C-4A42-B9D5-D30314F36C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3"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B82F0-CBE4-4C7A-9C42-4BD447935C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5"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76F5A4-CA73-4FA7-9D72-44B28AE632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39FE57-C0D0-44A2-838B-708FF23A1F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E57D5C-7ADE-4525-B902-AFFE217C6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E82C81-A83D-49AB-8431-B044DBDD5B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91F835-E1AE-4716-A411-8E21F4706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88101-2B1C-4AA2-A2E8-E1F43F51C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1CA01C-D1DB-4E91-A00A-2CFC87543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478062-B9B0-45E7-BFD4-F6F91F991D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4"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5101C5-7B08-4753-A312-CCA5B6977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4F62D5-8B1F-4319-80D7-21684585DB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2"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D2EFBF-988A-424E-88A8-C258697033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43EA6F-73DF-459E-A678-A32CC7595A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4"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037AB7-418F-4116-8861-87505ECB99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6"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867837-9143-4E74-87EE-7CEF67BE0F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4B906E-3DA5-45E1-B674-DE87D76E19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F0F8E3-6CAD-450C-B4A9-EC984E0DFC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C3B43-17B8-4456-A136-0B667A9C4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83C00E-A2F1-4B62-86C5-C26C825D72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ACB9C5-31C1-4A08-B9E4-FE40596A86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64670A-2558-473B-AB9A-CA09210B0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63B8E2-28B1-48E1-A134-1CAD5F3960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5"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9BAB33-7AD1-49BB-84CD-453D093F01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D13EF3-5BBF-444F-A7CF-3F3CE74064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23"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AF26A3-CC92-4631-AE60-146B6C542D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8C1E5B-DC9D-43DA-849B-F361BA9546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5"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93E2CF-8745-4A11-8A3B-90A5B66896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7"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55D84A-F67A-458C-881B-19D19860D23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68763F2-6113-4D9D-9B20-64E267A77F35}"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G:\NOL\logo IPC.jpg"/>
          <p:cNvPicPr/>
          <p:nvPr/>
        </p:nvPicPr>
        <p:blipFill>
          <a:blip r:embed="rId2"/>
          <a:stretch/>
        </p:blipFill>
        <p:spPr>
          <a:xfrm>
            <a:off x="3149640" y="6343560"/>
            <a:ext cx="24382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7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F755BE3-88A8-4448-ACCD-DAAA51EEE384}"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12"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791C5A3-3780-4634-9DAB-A762E426A633}"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5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134164D-D2EA-40D6-AAF7-56982AA83745}"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9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0E6827C-9292-4B2D-A00C-4917B91657BE}"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A354B95-529D-4D01-A114-EEF635175E5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8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22910D4-9275-4F9C-8288-9B6CED59E3C9}"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25"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3C28FCA-31F7-4643-BCA8-FF5317DD24D3}"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66"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1E2CE6F-5E89-4A83-BEAA-9B07F20897B7}"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07"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19AE772-01BE-4E3E-B072-A6889E96992F}"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48"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5F08A79-B015-48BC-9293-068CC786626A}"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89"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E99A37C-54D3-4099-A386-DB6CE5D714F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30"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DD1C109-B0ED-443C-A9E5-7E9142461744}"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IqKQnGdgvA" TargetMode="External"/><Relationship Id="rId2" Type="http://schemas.openxmlformats.org/officeDocument/2006/relationships/hyperlink" Target="http://www.zideo.nl/playzideo/6b3471526d316870"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7" descr="http://www.lipakeda.nl/images/vragen/1277443162.jpg"/>
          <p:cNvPicPr/>
          <p:nvPr/>
        </p:nvPicPr>
        <p:blipFill>
          <a:blip r:embed="rId1"/>
          <a:stretch/>
        </p:blipFill>
        <p:spPr>
          <a:xfrm>
            <a:off x="1042920" y="1484280"/>
            <a:ext cx="6972480" cy="5749920"/>
          </a:xfrm>
          <a:prstGeom prst="rect">
            <a:avLst/>
          </a:prstGeom>
          <a:ln w="0">
            <a:noFill/>
          </a:ln>
        </p:spPr>
      </p:pic>
      <p:sp>
        <p:nvSpPr>
          <p:cNvPr id="53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29D13EEE-2EA7-4AC8-81AF-22238F6187FB}"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6" name="PlaceHolder 1"/>
          <p:cNvSpPr>
            <a:spLocks noGrp="1"/>
          </p:cNvSpPr>
          <p:nvPr>
            <p:ph type="title"/>
          </p:nvPr>
        </p:nvSpPr>
        <p:spPr>
          <a:xfrm>
            <a:off x="755280" y="685440"/>
            <a:ext cx="7677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8000"/>
                </a:solidFill>
                <a:latin typeface="Times New Roman"/>
              </a:rPr>
              <a:t>H 4. Brand en explosie</a:t>
            </a:r>
            <a:endParaRPr b="0" lang="en-US" sz="5400" spc="-1" strike="noStrike">
              <a:solidFill>
                <a:srgbClr val="008000"/>
              </a:solidFill>
              <a:latin typeface="Times New Roman"/>
            </a:endParaRPr>
          </a:p>
        </p:txBody>
      </p:sp>
      <p:pic>
        <p:nvPicPr>
          <p:cNvPr id="537" name="Picture 7" descr="G:\VCA\afbeelding\enschede ramp.jpg"/>
          <p:cNvPicPr/>
          <p:nvPr/>
        </p:nvPicPr>
        <p:blipFill>
          <a:blip r:embed="rId2"/>
          <a:stretch/>
        </p:blipFill>
        <p:spPr>
          <a:xfrm>
            <a:off x="0" y="4508640"/>
            <a:ext cx="9326520" cy="1944720"/>
          </a:xfrm>
          <a:prstGeom prst="rect">
            <a:avLst/>
          </a:prstGeom>
          <a:ln w="0">
            <a:noFill/>
          </a:ln>
        </p:spPr>
      </p:pic>
    </p:spTree>
  </p:cSld>
  <p:transition spd="med">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5000" fill="hold"/>
                                        <p:tgtEl>
                                          <p:spTgt spid="5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7"/>
                                        </p:tgtEl>
                                        <p:attrNameLst>
                                          <p:attrName>style.visibility</p:attrName>
                                        </p:attrNameLst>
                                      </p:cBhvr>
                                      <p:to>
                                        <p:strVal val="visible"/>
                                      </p:to>
                                    </p:set>
                                    <p:anim calcmode="lin" valueType="num">
                                      <p:cBhvr additive="base">
                                        <p:cTn id="13" dur="500" fill="hold"/>
                                        <p:tgtEl>
                                          <p:spTgt spid="537"/>
                                        </p:tgtEl>
                                        <p:attrNameLst>
                                          <p:attrName>ppt_x</p:attrName>
                                        </p:attrNameLst>
                                      </p:cBhvr>
                                      <p:tavLst>
                                        <p:tav tm="0">
                                          <p:val>
                                            <p:strVal val="0-#ppt_w/2"/>
                                          </p:val>
                                        </p:tav>
                                        <p:tav tm="100000">
                                          <p:val>
                                            <p:strVal val="#ppt_x"/>
                                          </p:val>
                                        </p:tav>
                                      </p:tavLst>
                                    </p:anim>
                                    <p:anim calcmode="lin" valueType="num">
                                      <p:cBhvr additive="base">
                                        <p:cTn id="1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Zelfontbrandingstemperatuur</a:t>
            </a:r>
            <a:endParaRPr b="0" lang="en-US" sz="4400" spc="-1" strike="noStrike">
              <a:solidFill>
                <a:srgbClr val="008000"/>
              </a:solidFill>
              <a:latin typeface="Times New Roman"/>
            </a:endParaRPr>
          </a:p>
        </p:txBody>
      </p:sp>
      <p:sp>
        <p:nvSpPr>
          <p:cNvPr id="567"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zelfontbrandingstemperatuur van diesel is 270°C.</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is lager dan van benzine (420°C). </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verbrandingsmotor op benzine heeft bougies nodig.</a:t>
            </a:r>
            <a:endParaRPr b="0" lang="en-US" sz="3200" spc="-1" strike="noStrike">
              <a:solidFill>
                <a:srgbClr val="000000"/>
              </a:solidFill>
              <a:latin typeface="Times New Roman"/>
            </a:endParaRPr>
          </a:p>
        </p:txBody>
      </p:sp>
      <p:sp>
        <p:nvSpPr>
          <p:cNvPr id="5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7ECFD69-89EA-48D3-AC61-159399EC7A67}"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1A509FF0-FF3C-4AC0-BF36-24F7AE80E51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787320" y="457200"/>
            <a:ext cx="777240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klassen</a:t>
            </a:r>
            <a:endParaRPr b="0" lang="en-US" sz="4400" spc="-1" strike="noStrike">
              <a:solidFill>
                <a:srgbClr val="008000"/>
              </a:solidFill>
              <a:latin typeface="Times New Roman"/>
            </a:endParaRPr>
          </a:p>
        </p:txBody>
      </p:sp>
      <p:sp>
        <p:nvSpPr>
          <p:cNvPr id="571" name="PlaceHolder 2"/>
          <p:cNvSpPr>
            <a:spLocks noGrp="1"/>
          </p:cNvSpPr>
          <p:nvPr>
            <p:ph/>
          </p:nvPr>
        </p:nvSpPr>
        <p:spPr>
          <a:xfrm>
            <a:off x="685800" y="1257480"/>
            <a:ext cx="7772400" cy="5086080"/>
          </a:xfrm>
          <a:prstGeom prst="rect">
            <a:avLst/>
          </a:prstGeom>
          <a:noFill/>
          <a:ln w="0">
            <a:noFill/>
          </a:ln>
        </p:spPr>
        <p:txBody>
          <a:bodyPr anchor="t">
            <a:normAutofit/>
          </a:bodyPr>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A = vaste stoff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 papier, hout, stoffen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bij voorkeur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B = vloeistoffen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lie, benzine etc.)</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C = gass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butaan, propaan, aardgas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D = metalen</a:t>
            </a:r>
            <a:r>
              <a:rPr b="0" i="1"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a. magnesium, natrium, kalium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Elektriciteitsbranden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endParaRPr b="0" lang="en-US" sz="20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C6C721FD-2DFC-409E-871B-CDD093791000}"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787320" y="514080"/>
            <a:ext cx="77724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a:t>
            </a:r>
            <a:endParaRPr b="0" lang="en-US" sz="4400" spc="-1" strike="noStrike">
              <a:solidFill>
                <a:srgbClr val="008000"/>
              </a:solidFill>
              <a:latin typeface="Times New Roman"/>
            </a:endParaRPr>
          </a:p>
        </p:txBody>
      </p:sp>
      <p:sp>
        <p:nvSpPr>
          <p:cNvPr id="574" name="Rectangle 6"/>
          <p:cNvSpPr/>
          <p:nvPr/>
        </p:nvSpPr>
        <p:spPr>
          <a:xfrm>
            <a:off x="609480" y="1486080"/>
            <a:ext cx="8128080" cy="39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 onderscheiden drie soorten blusstoffen</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tte blusstoffen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water, stoom en schuim)</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Droge blusstoffen</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i="1" lang="nl-NL" sz="2800" spc="-1" strike="noStrike">
                <a:solidFill>
                  <a:srgbClr val="000000"/>
                </a:solidFill>
                <a:latin typeface="Times New Roman"/>
              </a:rPr>
              <a:t>(</a:t>
            </a:r>
            <a:r>
              <a:rPr b="0" i="1" lang="nl-NL" sz="2400" spc="-1" strike="noStrike">
                <a:solidFill>
                  <a:srgbClr val="000000"/>
                </a:solidFill>
                <a:latin typeface="Times New Roman"/>
              </a:rPr>
              <a:t>zand, poeder en bijv. een blusdeken)</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Koolstofdioxide</a:t>
            </a:r>
            <a:r>
              <a:rPr b="1" lang="nl-NL"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gasvormige blusstof)</a:t>
            </a:r>
            <a:endParaRPr b="0" lang="en-US" sz="2400" spc="-1" strike="noStrike">
              <a:solidFill>
                <a:srgbClr val="000000"/>
              </a:solidFill>
              <a:latin typeface="Arial"/>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Picture 7" descr="E:\VCA-IPC\Hoofdstuk 05\VCA5-5.tif"/>
          <p:cNvPicPr/>
          <p:nvPr/>
        </p:nvPicPr>
        <p:blipFill>
          <a:blip r:embed="rId1"/>
          <a:stretch/>
        </p:blipFill>
        <p:spPr>
          <a:xfrm>
            <a:off x="6892920" y="923760"/>
            <a:ext cx="2251080" cy="1792440"/>
          </a:xfrm>
          <a:prstGeom prst="rect">
            <a:avLst/>
          </a:prstGeom>
          <a:ln w="0">
            <a:noFill/>
          </a:ln>
        </p:spPr>
      </p:pic>
      <p:sp>
        <p:nvSpPr>
          <p:cNvPr id="5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3D42C1CA-F8CB-4256-B831-436A81989D50}"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7" name="Rectangle 3"/>
          <p:cNvSpPr/>
          <p:nvPr/>
        </p:nvSpPr>
        <p:spPr>
          <a:xfrm>
            <a:off x="507960" y="1125360"/>
            <a:ext cx="8229600" cy="55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oor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800" spc="-1" strike="noStrike">
                <a:solidFill>
                  <a:srgbClr val="000000"/>
                </a:solidFill>
                <a:latin typeface="Times New Roman"/>
              </a:rPr>
              <a:t>groot koelend vermog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meestal in grote hoeveelheden aanwezig </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oedkoop</a:t>
            </a:r>
            <a:endParaRPr b="0" lang="en-US" sz="2800" spc="-1" strike="noStrike">
              <a:solidFill>
                <a:srgbClr val="000000"/>
              </a:solidFill>
              <a:latin typeface="Arial"/>
            </a:endParaRPr>
          </a:p>
          <a:p>
            <a:pPr lvl="1" marL="45720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lektrisch geleidend</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metaal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vloeistof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evoelig voor bevriezing</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oorzaakt een hoop waterschade</a:t>
            </a:r>
            <a:endParaRPr b="0" lang="en-US" sz="2800" spc="-1" strike="noStrike">
              <a:solidFill>
                <a:srgbClr val="000000"/>
              </a:solidFill>
              <a:latin typeface="Arial"/>
            </a:endParaRPr>
          </a:p>
        </p:txBody>
      </p:sp>
      <p:sp>
        <p:nvSpPr>
          <p:cNvPr id="578" name="Rectangle 6"/>
          <p:cNvSpPr/>
          <p:nvPr/>
        </p:nvSpPr>
        <p:spPr>
          <a:xfrm>
            <a:off x="507960" y="5716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 water</a:t>
            </a:r>
            <a:endParaRPr b="0" lang="en-US" sz="4400" spc="-1" strike="noStrike">
              <a:solidFill>
                <a:srgbClr val="000000"/>
              </a:solidFill>
              <a:latin typeface="Arial"/>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7A75AC27-5037-4045-BBD4-8BA53E4AB33E}"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0" name="Text Box 4"/>
          <p:cNvSpPr/>
          <p:nvPr/>
        </p:nvSpPr>
        <p:spPr>
          <a:xfrm>
            <a:off x="609480" y="1771560"/>
            <a:ext cx="7925040" cy="2872080"/>
          </a:xfrm>
          <a:prstGeom prst="rect">
            <a:avLst/>
          </a:prstGeom>
          <a:noFill/>
          <a:ln w="0">
            <a:noFill/>
          </a:ln>
        </p:spPr>
        <p:style>
          <a:lnRef idx="0"/>
          <a:fillRef idx="0"/>
          <a:effectRef idx="0"/>
          <a:fontRef idx="minor"/>
        </p:style>
        <p:txBody>
          <a:bodyPr lIns="90000" rIns="90000" tIns="46800" bIns="46800" anchor="t">
            <a:spAutoFit/>
          </a:bodyPr>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Poeder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proeischuim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CO</a:t>
            </a:r>
            <a:r>
              <a:rPr b="0" lang="nl-NL" sz="3200" spc="-1" strike="noStrike" baseline="-25000">
                <a:solidFill>
                  <a:srgbClr val="000000"/>
                </a:solidFill>
                <a:latin typeface="Times New Roman"/>
              </a:rPr>
              <a:t>2</a:t>
            </a:r>
            <a:r>
              <a:rPr b="0" lang="nl-NL" sz="3200" spc="-1" strike="noStrike">
                <a:solidFill>
                  <a:srgbClr val="000000"/>
                </a:solidFill>
                <a:latin typeface="Times New Roman"/>
              </a:rPr>
              <a:t>-blussers</a:t>
            </a:r>
            <a:endParaRPr b="0" lang="en-US" sz="3200" spc="-1" strike="noStrike">
              <a:solidFill>
                <a:srgbClr val="000000"/>
              </a:solidFill>
              <a:latin typeface="Arial"/>
            </a:endParaRPr>
          </a:p>
          <a:p>
            <a:pPr marL="476280" indent="-3808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imes New Roman"/>
              </a:rPr>
              <a:t>	</a:t>
            </a:r>
            <a:r>
              <a:rPr b="0" i="1" lang="nl-NL" sz="2400" spc="-1" strike="noStrike">
                <a:solidFill>
                  <a:srgbClr val="000000"/>
                </a:solidFill>
                <a:latin typeface="Times New Roman"/>
              </a:rPr>
              <a:t>(nooit een persoon of dier hiermee</a:t>
            </a:r>
            <a:endParaRPr b="0" lang="en-US" sz="2400" spc="-1" strike="noStrike">
              <a:solidFill>
                <a:srgbClr val="000000"/>
              </a:solidFill>
              <a:latin typeface="Arial"/>
            </a:endParaRPr>
          </a:p>
          <a:p>
            <a:pPr marL="476280" indent="-38088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 </a:t>
            </a:r>
            <a:r>
              <a:rPr b="0" i="1" lang="nl-NL" sz="2400" spc="-1" strike="noStrike">
                <a:solidFill>
                  <a:srgbClr val="000000"/>
                </a:solidFill>
                <a:latin typeface="Times New Roman"/>
              </a:rPr>
              <a:t>blussen, grote afkoeling)</a:t>
            </a:r>
            <a:endParaRPr b="0" lang="en-US" sz="2400" spc="-1" strike="noStrike">
              <a:solidFill>
                <a:srgbClr val="000000"/>
              </a:solidFill>
              <a:latin typeface="Arial"/>
            </a:endParaRPr>
          </a:p>
        </p:txBody>
      </p:sp>
      <p:pic>
        <p:nvPicPr>
          <p:cNvPr id="581" name="Picture 5" descr="G:\NOL\brandblusser.jpg"/>
          <p:cNvPicPr/>
          <p:nvPr/>
        </p:nvPicPr>
        <p:blipFill>
          <a:blip r:embed="rId1"/>
          <a:stretch/>
        </p:blipFill>
        <p:spPr>
          <a:xfrm>
            <a:off x="1219320" y="4915080"/>
            <a:ext cx="2539800" cy="1571400"/>
          </a:xfrm>
          <a:prstGeom prst="rect">
            <a:avLst/>
          </a:prstGeom>
          <a:ln w="0">
            <a:noFill/>
          </a:ln>
        </p:spPr>
      </p:pic>
      <p:sp>
        <p:nvSpPr>
          <p:cNvPr id="582" name="Oval 8"/>
          <p:cNvSpPr/>
          <p:nvPr/>
        </p:nvSpPr>
        <p:spPr>
          <a:xfrm>
            <a:off x="3962520" y="4514760"/>
            <a:ext cx="4470120" cy="1600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altij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op de stikker.</a:t>
            </a:r>
            <a:endParaRPr b="0" lang="en-US" sz="3200" spc="-1" strike="noStrike">
              <a:solidFill>
                <a:srgbClr val="000000"/>
              </a:solidFill>
              <a:latin typeface="Arial"/>
            </a:endParaRPr>
          </a:p>
        </p:txBody>
      </p:sp>
      <p:sp>
        <p:nvSpPr>
          <p:cNvPr id="583" name="Rectangle 9"/>
          <p:cNvSpPr/>
          <p:nvPr/>
        </p:nvSpPr>
        <p:spPr>
          <a:xfrm>
            <a:off x="660240" y="571680"/>
            <a:ext cx="8026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toestellen</a:t>
            </a:r>
            <a:endParaRPr b="0" lang="en-US" sz="4400" spc="-1" strike="noStrike">
              <a:solidFill>
                <a:srgbClr val="000000"/>
              </a:solidFill>
              <a:latin typeface="Arial"/>
            </a:endParaRPr>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768BDE4-1F83-4305-B9EE-D34FE55B314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5" name="Picture 2" descr="\\FS02\UserData$\dvdneut\My Documents\Backoffice\VCA\4 Brand en explosie\PA250235 (Small).JPG"/>
          <p:cNvPicPr/>
          <p:nvPr/>
        </p:nvPicPr>
        <p:blipFill>
          <a:blip r:embed="rId1"/>
          <a:stretch/>
        </p:blipFill>
        <p:spPr>
          <a:xfrm>
            <a:off x="1908000" y="-117360"/>
            <a:ext cx="5256360" cy="6997680"/>
          </a:xfrm>
          <a:prstGeom prst="rect">
            <a:avLst/>
          </a:prstGeom>
          <a:ln w="0">
            <a:noFill/>
          </a:ln>
        </p:spPr>
      </p:pic>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D46577B-DE7E-4684-8A64-EFF812A238C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7" name="Picture 2" descr="\\FS02\UserData$\dvdneut\My Documents\Backoffice\VCA\4 Brand en explosie\PA250236 (Small).JPG"/>
          <p:cNvPicPr/>
          <p:nvPr/>
        </p:nvPicPr>
        <p:blipFill>
          <a:blip r:embed="rId1"/>
          <a:stretch/>
        </p:blipFill>
        <p:spPr>
          <a:xfrm>
            <a:off x="179280" y="-1324080"/>
            <a:ext cx="8353440" cy="11120400"/>
          </a:xfrm>
          <a:prstGeom prst="rect">
            <a:avLst/>
          </a:prstGeom>
          <a:ln w="0">
            <a:noFill/>
          </a:ln>
        </p:spPr>
      </p:pic>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552AEC5-978B-4EBC-BFB3-646C15036A5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9" name="Picture 2" descr="\\FS02\UserData$\dvdneut\My Documents\Backoffice\VCA\4 Brand en explosie\PA250237 (Small).JPG"/>
          <p:cNvPicPr/>
          <p:nvPr/>
        </p:nvPicPr>
        <p:blipFill>
          <a:blip r:embed="rId1"/>
          <a:stretch/>
        </p:blipFill>
        <p:spPr>
          <a:xfrm>
            <a:off x="324000" y="-2227320"/>
            <a:ext cx="7343640" cy="9779040"/>
          </a:xfrm>
          <a:prstGeom prst="rect">
            <a:avLst/>
          </a:prstGeom>
          <a:ln w="0">
            <a:noFill/>
          </a:ln>
        </p:spPr>
      </p:pic>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AD0CCD1D-490A-41DB-B3EE-69E90C51A71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1" name="PlaceHolder 1"/>
          <p:cNvSpPr>
            <a:spLocks noGrp="1"/>
          </p:cNvSpPr>
          <p:nvPr>
            <p:ph type="title"/>
          </p:nvPr>
        </p:nvSpPr>
        <p:spPr>
          <a:xfrm>
            <a:off x="71136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Optreden bij brand</a:t>
            </a:r>
            <a:endParaRPr b="0" lang="en-US" sz="4400" spc="-1" strike="noStrike">
              <a:solidFill>
                <a:srgbClr val="008000"/>
              </a:solidFill>
              <a:latin typeface="Times New Roman"/>
            </a:endParaRPr>
          </a:p>
        </p:txBody>
      </p:sp>
      <p:sp>
        <p:nvSpPr>
          <p:cNvPr id="592" name="AutoShape 5"/>
          <p:cNvSpPr/>
          <p:nvPr/>
        </p:nvSpPr>
        <p:spPr>
          <a:xfrm>
            <a:off x="914400" y="1257480"/>
            <a:ext cx="7518240" cy="3921120"/>
          </a:xfrm>
          <a:prstGeom prst="wedgeRoundRectCallout">
            <a:avLst>
              <a:gd name="adj1" fmla="val 24347"/>
              <a:gd name="adj2" fmla="val 63240"/>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voor je eigen veilighei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l 112.</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arschuw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p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elektriciteit af.</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openstaande deu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us of vertraag de bran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in veiligheid?</a:t>
            </a:r>
            <a:endParaRPr b="0" lang="en-US" sz="28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Laat het ook anderen weten.</a:t>
            </a:r>
            <a:endParaRPr b="0" lang="en-US" sz="2800" spc="-1" strike="noStrike">
              <a:solidFill>
                <a:srgbClr val="000000"/>
              </a:solidFill>
              <a:latin typeface="Arial"/>
            </a:endParaRPr>
          </a:p>
        </p:txBody>
      </p:sp>
      <p:pic>
        <p:nvPicPr>
          <p:cNvPr id="593" name="Picture 8" descr="A:\brandweer2.jpg"/>
          <p:cNvPicPr/>
          <p:nvPr/>
        </p:nvPicPr>
        <p:blipFill>
          <a:blip r:embed="rId1"/>
          <a:stretch/>
        </p:blipFill>
        <p:spPr>
          <a:xfrm>
            <a:off x="5675400" y="3573360"/>
            <a:ext cx="3143160" cy="3208320"/>
          </a:xfrm>
          <a:prstGeom prst="rect">
            <a:avLst/>
          </a:prstGeom>
          <a:ln w="0">
            <a:noFill/>
          </a:ln>
        </p:spPr>
      </p:pic>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Blusmiddel om gasbrand te blussen?</a:t>
            </a:r>
            <a:endParaRPr b="0" lang="en-US" sz="7200" spc="-1" strike="noStrike">
              <a:solidFill>
                <a:srgbClr val="008000"/>
              </a:solidFill>
              <a:latin typeface="Times New Roman"/>
            </a:endParaRPr>
          </a:p>
        </p:txBody>
      </p:sp>
      <p:sp>
        <p:nvSpPr>
          <p:cNvPr id="59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DB6267D-1099-4B75-9F63-5B4142A815E2}"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6" name="Tekstvak 3"/>
          <p:cNvSpPr/>
          <p:nvPr/>
        </p:nvSpPr>
        <p:spPr>
          <a:xfrm>
            <a:off x="2124000" y="4076640"/>
            <a:ext cx="237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oeder</a:t>
            </a:r>
            <a:endParaRPr b="0" lang="en-US" sz="800" spc="-1" strike="noStrike">
              <a:solidFill>
                <a:srgbClr val="000000"/>
              </a:solidFill>
              <a:latin typeface="Arial"/>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Films</a:t>
            </a:r>
            <a:endParaRPr b="0" lang="en-US" sz="4400" spc="-1" strike="noStrike">
              <a:solidFill>
                <a:srgbClr val="008000"/>
              </a:solidFill>
              <a:latin typeface="Times New Roman"/>
            </a:endParaRPr>
          </a:p>
        </p:txBody>
      </p:sp>
      <p:sp>
        <p:nvSpPr>
          <p:cNvPr id="539"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1"/>
              </a:rPr>
              <a:t>Forse uitslaande brand verwoest woning Bildtsestraat Leeuwar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2"/>
              </a:rPr>
              <a:t>http://www.zideo.nl/playzideo/6b3471526d316870</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FAEECD9-264F-4459-9BD6-4C13362B4BB1}"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Wat is het belangrijkste bij het behandelen van uitwendige brandwonden?</a:t>
            </a:r>
            <a:endParaRPr b="0" lang="en-US" sz="6600" spc="-1" strike="noStrike">
              <a:solidFill>
                <a:srgbClr val="008000"/>
              </a:solidFill>
              <a:latin typeface="Times New Roman"/>
            </a:endParaRPr>
          </a:p>
        </p:txBody>
      </p:sp>
      <p:sp>
        <p:nvSpPr>
          <p:cNvPr id="59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C2F8748-7542-4CBC-8C4D-D53A44CFBE9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9" name="Tekstvak 3"/>
          <p:cNvSpPr/>
          <p:nvPr/>
        </p:nvSpPr>
        <p:spPr>
          <a:xfrm>
            <a:off x="4427640" y="645336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irect minstens 15 minuten koelen met water</a:t>
            </a:r>
            <a:endParaRPr b="0" lang="en-US" sz="800" spc="-1" strike="noStrike">
              <a:solidFill>
                <a:srgbClr val="000000"/>
              </a:solidFill>
              <a:latin typeface="Arial"/>
            </a:endParaRPr>
          </a:p>
        </p:txBody>
      </p:sp>
    </p:spTree>
  </p:cSld>
  <p:transition spd="med">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8000" y="609120"/>
            <a:ext cx="8928000" cy="21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Welke drie elementen zijn nodig voor het ontstaan van brand?</a:t>
            </a:r>
            <a:endParaRPr b="0" lang="en-US" sz="7200" spc="-1" strike="noStrike">
              <a:solidFill>
                <a:srgbClr val="008000"/>
              </a:solidFill>
              <a:latin typeface="Times New Roman"/>
            </a:endParaRPr>
          </a:p>
        </p:txBody>
      </p:sp>
      <p:sp>
        <p:nvSpPr>
          <p:cNvPr id="60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304B7E5-A06D-4CFE-A900-6CE38E28549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2" name="Tekstvak 3"/>
          <p:cNvSpPr/>
          <p:nvPr/>
        </p:nvSpPr>
        <p:spPr>
          <a:xfrm>
            <a:off x="1619280" y="4365720"/>
            <a:ext cx="1873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 s, zs, ontstekingsenergie</a:t>
            </a:r>
            <a:endParaRPr b="0" lang="en-US" sz="5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Brandklasse C betekent:</a:t>
            </a:r>
            <a:endParaRPr b="0" lang="en-US" sz="6600" spc="-1" strike="noStrike">
              <a:solidFill>
                <a:srgbClr val="008000"/>
              </a:solidFill>
              <a:latin typeface="Times New Roman"/>
            </a:endParaRPr>
          </a:p>
        </p:txBody>
      </p:sp>
      <p:sp>
        <p:nvSpPr>
          <p:cNvPr id="60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F5565D5-8583-48AD-8F05-EF5D8C91E993}"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5" name="Tekstvak 3"/>
          <p:cNvSpPr/>
          <p:nvPr/>
        </p:nvSpPr>
        <p:spPr>
          <a:xfrm>
            <a:off x="4427640" y="6453360"/>
            <a:ext cx="15127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rand van vaste stof vloeistof gas</a:t>
            </a:r>
            <a:endParaRPr b="0" lang="en-US" sz="500" spc="-1" strike="noStrike">
              <a:solidFill>
                <a:srgbClr val="000000"/>
              </a:solidFill>
              <a:latin typeface="Arial"/>
            </a:endParaRPr>
          </a:p>
        </p:txBody>
      </p:sp>
    </p:spTree>
  </p:cSld>
  <p:transition spd="med">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Een vlampunt is de temperatuur waarbij:</a:t>
            </a:r>
            <a:endParaRPr b="0" lang="en-US" sz="6600" spc="-1" strike="noStrike">
              <a:solidFill>
                <a:srgbClr val="008000"/>
              </a:solidFill>
              <a:latin typeface="Times New Roman"/>
            </a:endParaRPr>
          </a:p>
        </p:txBody>
      </p:sp>
      <p:sp>
        <p:nvSpPr>
          <p:cNvPr id="60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6AF4AB2-C6DF-4819-B8C9-0B896E098BC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8" name="Tekstvak 3"/>
          <p:cNvSpPr/>
          <p:nvPr/>
        </p:nvSpPr>
        <p:spPr>
          <a:xfrm>
            <a:off x="4427640" y="6453360"/>
            <a:ext cx="151272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De damp boven de vloeistof juist aangestoken kan worden</a:t>
            </a:r>
            <a:endParaRPr b="0" lang="en-US" sz="500" spc="-1" strike="noStrike">
              <a:solidFill>
                <a:srgbClr val="000000"/>
              </a:solidFill>
              <a:latin typeface="Arial"/>
            </a:endParaRPr>
          </a:p>
        </p:txBody>
      </p:sp>
    </p:spTree>
  </p:cSld>
  <p:transition spd="med">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068BA596-A7FA-4213-B61D-69CB49356E44}"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8A025506-93E8-461C-8E05-F86946D12708}"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driehoek</a:t>
            </a:r>
            <a:endParaRPr b="0" lang="en-US" sz="4400" spc="-1" strike="noStrike">
              <a:solidFill>
                <a:srgbClr val="008000"/>
              </a:solidFill>
              <a:latin typeface="Times New Roman"/>
            </a:endParaRPr>
          </a:p>
        </p:txBody>
      </p:sp>
      <p:sp>
        <p:nvSpPr>
          <p:cNvPr id="543" name="PlaceHolder 2"/>
          <p:cNvSpPr>
            <a:spLocks noGrp="1"/>
          </p:cNvSpPr>
          <p:nvPr>
            <p:ph/>
          </p:nvPr>
        </p:nvSpPr>
        <p:spPr>
          <a:xfrm>
            <a:off x="507960" y="2228400"/>
            <a:ext cx="7772400" cy="4513320"/>
          </a:xfrm>
          <a:prstGeom prst="rect">
            <a:avLst/>
          </a:prstGeom>
          <a:noFill/>
          <a:ln w="0">
            <a:noFill/>
          </a:ln>
        </p:spPr>
        <p:txBody>
          <a:bodyPr anchor="t">
            <a:normAutofit/>
          </a:bodyPr>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ie zaken die nodig zijn voor brand:</a:t>
            </a:r>
            <a:endParaRPr b="0" lang="en-US" sz="32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andbare stof</a:t>
            </a:r>
            <a:endParaRPr b="0" lang="en-US" sz="2800" spc="-1" strike="noStrike">
              <a:solidFill>
                <a:srgbClr val="000000"/>
              </a:solidFill>
              <a:latin typeface="Times New Roman"/>
            </a:endParaRPr>
          </a:p>
          <a:p>
            <a:pPr marL="476280" indent="-3808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uurstof </a:t>
            </a:r>
            <a:r>
              <a:rPr b="0" i="1" lang="nl-NL" sz="2400" spc="-1" strike="noStrike">
                <a:solidFill>
                  <a:srgbClr val="000000"/>
                </a:solidFill>
                <a:latin typeface="Times New Roman"/>
              </a:rPr>
              <a:t>	</a:t>
            </a:r>
            <a:r>
              <a:rPr b="0" i="1" lang="nl-NL" sz="2400" spc="-1" strike="noStrike">
                <a:solidFill>
                  <a:srgbClr val="000000"/>
                </a:solidFill>
                <a:latin typeface="Times New Roman"/>
              </a:rPr>
              <a:t>(jaagt vuur aan)</a:t>
            </a:r>
            <a:endParaRPr b="0" lang="en-US" sz="24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mperatuur of ontstekingsbron</a:t>
            </a:r>
            <a:endParaRPr b="0" lang="en-US" sz="2800" spc="-1" strike="noStrike">
              <a:solidFill>
                <a:srgbClr val="000000"/>
              </a:solidFill>
              <a:latin typeface="Times New Roman"/>
            </a:endParaRPr>
          </a:p>
        </p:txBody>
      </p:sp>
      <p:pic>
        <p:nvPicPr>
          <p:cNvPr id="544" name="Picture 6" descr=""/>
          <p:cNvPicPr/>
          <p:nvPr/>
        </p:nvPicPr>
        <p:blipFill>
          <a:blip r:embed="rId1"/>
          <a:stretch/>
        </p:blipFill>
        <p:spPr>
          <a:xfrm>
            <a:off x="2987640" y="1773360"/>
            <a:ext cx="2840040" cy="264636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pic>
        <p:nvPicPr>
          <p:cNvPr id="546" name="" descr=""/>
          <p:cNvPicPr/>
          <p:nvPr/>
        </p:nvPicPr>
        <p:blipFill>
          <a:blip r:embed="rId1"/>
          <a:stretch/>
        </p:blipFill>
        <p:spPr>
          <a:xfrm>
            <a:off x="711360" y="2000160"/>
            <a:ext cx="7772400" cy="4114800"/>
          </a:xfrm>
          <a:prstGeom prst="rect">
            <a:avLst/>
          </a:prstGeom>
          <a:ln w="0">
            <a:noFill/>
          </a:ln>
        </p:spPr>
      </p:pic>
      <p:sp>
        <p:nvSpPr>
          <p:cNvPr id="54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E678881-D54E-4307-916F-7797D5396E33}"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48" name="Picture 2" descr="http://mediaprovider.kennisnet.nl/MediaProvider/img/12603003.jpg"/>
          <p:cNvPicPr/>
          <p:nvPr/>
        </p:nvPicPr>
        <p:blipFill>
          <a:blip r:embed="rId2"/>
          <a:stretch/>
        </p:blipFill>
        <p:spPr>
          <a:xfrm>
            <a:off x="611280" y="0"/>
            <a:ext cx="7416720" cy="6910560"/>
          </a:xfrm>
          <a:prstGeom prst="rect">
            <a:avLst/>
          </a:prstGeom>
          <a:ln w="0">
            <a:noFill/>
          </a:ln>
        </p:spPr>
      </p:pic>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14272232-6607-4D6F-A824-73A2C905A475}"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787320" y="5140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xplosies</a:t>
            </a:r>
            <a:endParaRPr b="0" lang="en-US" sz="4400" spc="-1" strike="noStrike">
              <a:solidFill>
                <a:srgbClr val="008000"/>
              </a:solidFill>
              <a:latin typeface="Times New Roman"/>
            </a:endParaRPr>
          </a:p>
        </p:txBody>
      </p:sp>
      <p:sp>
        <p:nvSpPr>
          <p:cNvPr id="551" name="PlaceHolder 2"/>
          <p:cNvSpPr>
            <a:spLocks noGrp="1"/>
          </p:cNvSpPr>
          <p:nvPr>
            <p:ph/>
          </p:nvPr>
        </p:nvSpPr>
        <p:spPr>
          <a:xfrm>
            <a:off x="685800" y="1371240"/>
            <a:ext cx="7772400" cy="4915080"/>
          </a:xfrm>
          <a:prstGeom prst="rect">
            <a:avLst/>
          </a:prstGeom>
          <a:noFill/>
          <a:ln w="0">
            <a:noFill/>
          </a:ln>
        </p:spPr>
        <p:txBody>
          <a:bodyPr anchor="t">
            <a:normAutofit fontScale="96000"/>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randing erg snel? </a:t>
            </a:r>
            <a:r>
              <a:rPr b="1" lang="nl-NL" sz="3200" spc="-1" strike="noStrike">
                <a:solidFill>
                  <a:srgbClr val="000000"/>
                </a:solidFill>
                <a:latin typeface="Times New Roman"/>
              </a:rPr>
              <a:t>Explosie</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leen tussen LEL en HEL is explosie of brand mogelijk.</a:t>
            </a:r>
            <a:endParaRPr b="0" lang="en-US" sz="3200" spc="-1" strike="noStrike">
              <a:solidFill>
                <a:srgbClr val="000000"/>
              </a:solidFill>
              <a:latin typeface="Times New Roman"/>
            </a:endParaRPr>
          </a:p>
          <a:p>
            <a:pPr marL="4572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xplosiegrens:</a:t>
            </a:r>
            <a:endParaRPr b="0" lang="en-US" sz="32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L-niveau</a:t>
            </a:r>
            <a:r>
              <a:rPr b="0" lang="nl-NL" sz="2400" spc="-1" strike="noStrike">
                <a:solidFill>
                  <a:srgbClr val="000000"/>
                </a:solidFill>
                <a:latin typeface="Times New Roman"/>
              </a:rPr>
              <a:t> </a:t>
            </a:r>
            <a:r>
              <a:rPr b="0" i="1" lang="nl-NL" sz="2400" spc="-1" strike="noStrike">
                <a:solidFill>
                  <a:srgbClr val="000000"/>
                </a:solidFill>
                <a:latin typeface="Times New Roman"/>
              </a:rPr>
              <a:t>(Lowest Explosion Limit)</a:t>
            </a:r>
            <a:endParaRPr b="0" lang="en-US" sz="24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niveau </a:t>
            </a:r>
            <a:r>
              <a:rPr b="0" i="1" lang="nl-NL" sz="2400" spc="-1" strike="noStrike">
                <a:solidFill>
                  <a:srgbClr val="000000"/>
                </a:solidFill>
                <a:latin typeface="Times New Roman"/>
              </a:rPr>
              <a:t>(Highest Explosion Limit)</a:t>
            </a:r>
            <a:endParaRPr b="0" lang="en-US" sz="2400" spc="-1" strike="noStrike">
              <a:solidFill>
                <a:srgbClr val="000000"/>
              </a:solidFill>
              <a:latin typeface="Times New Roman"/>
            </a:endParaRPr>
          </a:p>
        </p:txBody>
      </p:sp>
      <p:pic>
        <p:nvPicPr>
          <p:cNvPr id="552" name="Picture 5" descr="D:\IPC\VCA\LELHEL24.jpg"/>
          <p:cNvPicPr/>
          <p:nvPr/>
        </p:nvPicPr>
        <p:blipFill>
          <a:blip r:embed="rId1"/>
          <a:srcRect l="0" t="0" r="0" b="19685"/>
          <a:stretch/>
        </p:blipFill>
        <p:spPr>
          <a:xfrm>
            <a:off x="755640" y="1828800"/>
            <a:ext cx="7677000" cy="1538280"/>
          </a:xfrm>
          <a:prstGeom prst="rect">
            <a:avLst/>
          </a:prstGeom>
          <a:ln w="0">
            <a:noFill/>
          </a:ln>
        </p:spPr>
      </p:pic>
      <p:sp>
        <p:nvSpPr>
          <p:cNvPr id="553" name="Text Box 6"/>
          <p:cNvSpPr/>
          <p:nvPr/>
        </p:nvSpPr>
        <p:spPr>
          <a:xfrm>
            <a:off x="2641680" y="22860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plosie mogelijk</a:t>
            </a:r>
            <a:endParaRPr b="0" lang="en-US" sz="2000" spc="-1" strike="noStrike">
              <a:solidFill>
                <a:srgbClr val="000000"/>
              </a:solidFill>
              <a:latin typeface="Arial"/>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nderste explosiegrens (LEL)</a:t>
            </a:r>
            <a:endParaRPr b="0" lang="en-US" sz="4400" spc="-1" strike="noStrike">
              <a:solidFill>
                <a:srgbClr val="008000"/>
              </a:solidFill>
              <a:latin typeface="Times New Roman"/>
            </a:endParaRPr>
          </a:p>
        </p:txBody>
      </p:sp>
      <p:sp>
        <p:nvSpPr>
          <p:cNvPr id="555"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concentratie brandbaar gas of damp die  minimaal aanwezig moet zijn </a:t>
            </a:r>
            <a:r>
              <a:rPr b="1" lang="nl-NL" sz="3200" spc="-1" strike="noStrike">
                <a:solidFill>
                  <a:srgbClr val="000000"/>
                </a:solidFill>
                <a:latin typeface="Times New Roman"/>
              </a:rPr>
              <a:t>om een explosie te veroorzaken</a:t>
            </a:r>
            <a:endParaRPr b="0" lang="en-US" sz="3200" spc="-1" strike="noStrike">
              <a:solidFill>
                <a:srgbClr val="000000"/>
              </a:solidFill>
              <a:latin typeface="Times New Roman"/>
            </a:endParaRPr>
          </a:p>
        </p:txBody>
      </p:sp>
      <p:sp>
        <p:nvSpPr>
          <p:cNvPr id="55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2A3181A-30CA-41BD-A325-D9DD843FA95E}"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58"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laagste temperatuur waarbij een vloeistof zoveel ontvlambare damp ontwikkelt, dat deze in de aanwezige lucht met een vlam aangestoken kan worden.</a:t>
            </a:r>
            <a:endParaRPr b="0" lang="en-US" sz="3200" spc="-1" strike="noStrike">
              <a:solidFill>
                <a:srgbClr val="000000"/>
              </a:solidFill>
              <a:latin typeface="Times New Roman"/>
            </a:endParaRPr>
          </a:p>
        </p:txBody>
      </p:sp>
      <p:sp>
        <p:nvSpPr>
          <p:cNvPr id="5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153B8F7-8868-4B52-B489-09C59FFCE58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61"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nzine: -20 gra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esel: +60 Graden Celsius</a:t>
            </a:r>
            <a:br>
              <a:rPr sz="3200"/>
            </a:br>
            <a:br>
              <a:rPr sz="3200"/>
            </a:br>
            <a:r>
              <a:rPr b="0" lang="nl-NL" sz="3200" spc="-1" strike="noStrike">
                <a:solidFill>
                  <a:srgbClr val="000000"/>
                </a:solidFill>
                <a:latin typeface="Times New Roman"/>
              </a:rPr>
              <a:t>De diesel zelf moet dus opgewarmd zijn tot 60C wil hij dus brandbare DAMPEN gaan afgev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47DB201-965D-43EE-8077-546C004A3D7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ther</a:t>
            </a:r>
            <a:endParaRPr b="0" lang="en-US" sz="4400" spc="-1" strike="noStrike">
              <a:solidFill>
                <a:srgbClr val="008000"/>
              </a:solidFill>
              <a:latin typeface="Times New Roman"/>
            </a:endParaRPr>
          </a:p>
        </p:txBody>
      </p:sp>
      <p:sp>
        <p:nvSpPr>
          <p:cNvPr id="564" name=""/>
          <p:cNvSpPr txBox="1"/>
          <p:nvPr/>
        </p:nvSpPr>
        <p:spPr>
          <a:xfrm>
            <a:off x="711360" y="2000160"/>
            <a:ext cx="7772400" cy="4114800"/>
          </a:xfrm>
          <a:prstGeom prst="rect">
            <a:avLst/>
          </a:prstGeom>
          <a:noFill/>
          <a:ln w="0">
            <a:noFill/>
          </a:ln>
        </p:spPr>
        <p:txBody>
          <a:bodyPr anchor="t">
            <a:normAutofit fontScale="95000"/>
          </a:bodyPr>
          <a:p>
            <a:pPr marL="9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mpunt van -45 °C. Zelfs als het in een koelkast wordt bewaard, kan er voldoende damp vrijkomen om een explosie te veroorzaken. De damp kan tot explosieve verbranding komen door een vonk van de schakelaar die het lampje aan- en uitschakelt. Ether wordt daarom in een explosieveilige koelkast bewaard, waarin alle elektrische onderdelen afgeschermd zijn.</a:t>
            </a:r>
            <a:endParaRPr b="0" lang="en-US" sz="3200" spc="-1" strike="noStrike">
              <a:solidFill>
                <a:srgbClr val="000000"/>
              </a:solidFill>
              <a:latin typeface="Times New Roman"/>
            </a:endParaRPr>
          </a:p>
        </p:txBody>
      </p:sp>
      <p:sp>
        <p:nvSpPr>
          <p:cNvPr id="5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DDAF51C-71CB-4F58-929D-D73C0E1A19BE}"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8:16:30Z</dcterms:created>
  <dc:creator>A.Bakker</dc:creator>
  <dc:description/>
  <dc:language>en-US</dc:language>
  <cp:lastModifiedBy>Dick van der Neut</cp:lastModifiedBy>
  <cp:lastPrinted>2000-10-11T12:57:01Z</cp:lastPrinted>
  <dcterms:modified xsi:type="dcterms:W3CDTF">2012-11-02T13:24:07Z</dcterms:modified>
  <cp:revision>179</cp:revision>
  <dc:subject>Basisveiligheid sheets</dc:subject>
  <dc:title>Geen diatitel</dc:title>
</cp:coreProperties>
</file>