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58C2E-6D5A-4AF1-A72A-84D8E95D4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D660B-9D33-4B4A-B353-FA8341EFD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AECC3E-9B44-4213-81B0-17264C86D1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015A7D-380D-4227-B977-FD8E60A3EA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7C7E98-3880-4E0D-A198-BD3A7E4429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F42522-E707-4EE4-BA7E-03567C5FD8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E384B1-37CB-4815-924D-1A99B7D3B4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159F12-C0C5-4FDD-82AE-6529D5F06A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6"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D719C9-A7D1-43CD-8AD9-5E1BAF1293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D1CC0D-780C-4AB9-8246-097D6C2C71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4"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3D0BC6-9FD9-481A-AA3F-41CD68F686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9802AF-B909-4AFB-93DE-467DF485CB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873E5-B8C1-46F2-A330-FEBF032DC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6"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3C4653-ECE6-4336-B5FB-32C8F8F456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8"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049E37-6B06-4897-84D9-962C3A030D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38BFE3-898B-4D51-BDD8-A5EF6A23A1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89010A-4BF0-40CA-B7B7-913F403BF8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F90F8F-65FC-427F-A1D5-8BE972DAC3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10F7E7-78B4-4C9B-8E7C-A2EB7F6E72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073618-91B5-41C3-8861-7F50B32A9D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C3B31A-530F-4B31-A631-272E7C4DFA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7"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137F54-58E0-4E67-822C-7554BC47C6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643CC9-F891-4FB3-B6C9-636F5C89AD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A303C-3B75-4EE0-84F9-A7AD47E83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5"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DFBB804-136F-46D3-8BFD-F228598CF5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F22D75-0095-48A3-A0D8-2FB63D96E1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06E708-EB62-4E6A-AF0C-70F34835AF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F6317C-CABA-4799-8346-9DAEDAECC4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C06C4E-EF9F-439E-921A-0F4DF55B8E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FCC6B7-591A-40FA-95A1-D05F6EAD00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798ABE-3535-45F7-A934-1FA658DC92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A75C07-08CA-4BF8-A1C4-2397AEEB07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277CED-5826-4B0C-8627-5020178BE8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07CCC0-CDA7-4443-AD6D-3878A60E04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66C74-9E3B-42D2-9299-4EC9C2F1E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11F70C-875F-45E5-8AC1-A7A496B991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EA0025-D0ED-46EA-902C-F58AB60B6A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DDDD7B7-151E-4FA3-8B83-CF719ACE6D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BDAE73-2CC4-4D1E-A789-A6734326E2B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5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DC1B4E-1475-474D-9CA2-065D058FFE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4C1CF4-77EC-4195-B3D8-B3DD4EC777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3651F6-EDD0-45B6-B0FC-394495711A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136296-550B-4AAE-BC22-F57530CDE4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D62E18-F8AF-4BD1-83B8-594A701181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BBA99E-E113-4E98-BF94-808DEB2216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85DE8-1B56-4742-9B25-308957C51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0F3289-BBA7-4D01-81C7-D569B440F3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E8CCE4-148A-4BF0-B2FC-3C6942CD5E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A1D5AC-E813-439C-A325-B34995D8D5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8F99F8D-90FE-45F1-8757-545CC5C495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B202D1-FD4A-464D-95C7-283F0B72665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EE48D8-DC75-480D-8D68-CCF6A1277E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9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1F5EB0-E394-40A7-A4B7-F6CF073560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CB3242-E0DD-4BE8-B44E-51B7D6A962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E21D43-99AB-4753-A9BA-F75097603E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F39107-3F8C-47E3-942F-8D94E271CC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F2C2B-560F-450C-A15B-679B05991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244DD3-07BF-49BA-9855-789B708989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5E10F3-6CD0-414D-AB68-BE7D44840D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67484F-EACE-42EF-B992-C695635089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6DCBDB-A761-4BC8-AF12-E90EBC4D19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75DD0E-5456-422F-AD54-432F9EB214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0991322-1597-4167-89BF-ADC4C4AF0EF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6872FF4-3726-4AB4-AE8A-E30AFE8FEFD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324AB-9D58-4ABD-9DFD-9312F8943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34A96-8ED2-43D7-ABB9-804160210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73D4C-4572-43B6-A008-8077D500C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874B0-BD5B-468E-882F-3230D08DD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21111-B4E3-4B6A-81BC-941EA50E0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56CD7-8DC1-497B-95FB-4DB7D307F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22788-85A8-463B-ACE1-0667A5CBA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CEF86-930A-4FD7-9A2F-B0BAAF7C1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07D6D-E9AE-40EB-92A6-4DE03A2F7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12317-3785-45A6-901F-F441981AC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979089-D824-46AA-93DB-13F5F29B9C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BA4C33-BF48-431F-AA93-14D5C63B0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D1412-08AA-405C-AD2A-3A04ACF86F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3457ED-5172-4713-A0AB-960BD6F60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56C95C-E1BD-4672-A08B-2FB0F9CCA1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50551-F1D7-4002-9CBB-36FA9EECC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EA00DD-76BD-451E-8246-5A218DDABF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4348E-89E1-45DA-A771-9D7706663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B4D54-79C8-4F0E-92E7-2809AC4C4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49533-0E9C-406E-BEB1-A02E0163C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CB5D9D-E431-4E8C-8D18-DA4E4DE4DF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F6CE08-6403-4EF4-B063-1CF6CB6A0F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BE9F8A-1A01-42B4-9B56-A693D80289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A6FD3B-4132-4CA9-B05C-8448EEAC0B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0"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BD2CA-CB2C-45F9-8DF2-860C01D760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2"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7519A0-34B6-49FE-9C54-214B7F7296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CDAB6-3BD4-4237-B391-7078C376A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83EF84-58FC-4151-A1C8-49344A3A11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C80C45-8A97-4BF1-B63A-5499B740B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D215A-FBC4-4042-88AA-D8A9436A9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AC31D-95BF-4B92-BFAA-9001143D5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F939C-04F5-4EEA-A139-80FE10ADE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D1210-E523-4D7B-8F45-383744D67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1"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725415-6A60-4913-87C1-173FDC43D3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9E25DE-201F-4980-9A4D-6A3D6C4F46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9"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BF8A64-A444-4CFD-8F75-6269BA532A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0E77D5-3E0E-4C01-AF35-B85F6088BA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C6D8E-A374-4540-93CE-5D602FA5F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1"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5A51C9-C7C0-473A-93CA-C14044634A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3"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15D9C-040A-4649-A589-42292C38C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11B8B3-9838-4EF6-B94C-A542BBC23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9E662-9A36-4DEC-926E-D1A21CB180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59F5DC-412A-4C63-B5F7-944075D6C4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A44676-B3ED-4AD5-B06D-7F8C0F5E2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C7F5C-D949-46F2-ADAF-548FE7E20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E9241-04B6-45F0-AFF6-9BD6C40295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2"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FC07FD-99F5-4F7E-B82A-F577FDC9FD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99C548-7A89-471B-A8E2-891E2F0DA4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7ADC0-4545-4E70-8945-2EFAC99AC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0"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201ACC-B6F8-46D3-8213-706E6F8F83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97652E-18E0-4A9B-A02E-2782D08645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2"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00C65-C548-4474-BD88-3BE16555A4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4"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A00C32-548F-4786-AA5E-BDA1044FAB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09D91E-5C00-485A-993B-F7A598FCDD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89E6BA-2134-4B6C-A6EA-2779B501D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1DDCBB-35AC-4FBC-9EBC-49D3DE78FA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C9CF73-0566-458E-85D8-0A854958B1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318C3B-B71C-414A-9AA0-D91E35B4FC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5D5D4-56D9-4F6E-9A96-4DC34BF3F7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2774-6C6D-46F6-9E9C-57568EAAD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3"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0B0D07-2AD1-4A6D-8E79-78E529D2A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6CFD9C-5C9C-4FB2-AA4F-6BADF6049C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1"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595F83-F5F4-4D40-8FD5-20C55CC050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E71ABD-3917-4B05-BD4A-84E9D4E69B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3"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15D29F-7410-4705-AC56-FC9A4EAA1F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5"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7AA86C-A651-4992-8CCA-E356A55B1F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F2BB9C-3DC5-40E6-A9A7-316639423B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8DB8FB-031A-473E-91D8-92B5025FB7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381EFA-B562-4FEE-9F29-6E20D3681F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6FC906-1AD9-4B1F-BE28-60746403D5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21062-7B96-48DA-B154-46DE25363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E658BE-C326-43B0-88C3-D099A7CBA4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90EF5E-0AD3-4B61-B5CB-181443D3A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4"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E77B0-45A6-493C-BF6D-DB21AFF09D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835814-23E7-4CCE-8FBB-859C49AEC9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2"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8A9A6E-7D44-489E-8CB9-5ADA269FAA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B4D578-5834-40E7-B8F9-A24C0DF6F7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4"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7D51BF-BD9C-4867-8ADE-F63665A697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6"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16C74F-1A45-40E5-91D2-BB0FD46568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CCDC30-4CDD-40EE-BB9B-F2E4B8C83C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90F9A5-D557-4601-A7BA-A610B8DD3F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FC59A-44FA-4FC7-95DE-EEC17CA3C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8B25DA-8621-4024-8300-88EA9512A2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FEC2D-61FA-4A74-881A-BB221F7736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70A9C6-681E-420F-B925-03C863CCB9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B2CC50-9B88-4F22-8184-E77F82D167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5"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57F251-372E-4608-BD2C-439E168261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76AF5A-7F04-40FD-87D6-3EB5752FB3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3"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6BC856-BE99-4F10-8009-F6E2C6370B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A23611-AE5D-4D64-86E6-DB4D5C36AC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5"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C6043C-D056-426E-8291-37DF942502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7"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2ACED8-0441-46BD-AEC4-9B679DD520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8D3924B-64C8-4DCA-AA94-FD9A60D341D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G:\NOL\logo IPC.jpg"/>
          <p:cNvPicPr/>
          <p:nvPr/>
        </p:nvPicPr>
        <p:blipFill>
          <a:blip r:embed="rId2"/>
          <a:stretch/>
        </p:blipFill>
        <p:spPr>
          <a:xfrm>
            <a:off x="3149640" y="6343560"/>
            <a:ext cx="24382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7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E273054-3C49-4467-B459-61D8413DB39E}"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12"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27A745A-6C9C-43ED-B210-A4C3E25C811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5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D7BD75F-658B-4869-801A-9F30F0B61267}"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9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4F174D1-1674-405A-A9EB-09EF76DA1716}"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CA0B32E-7E17-4ADC-9475-0B1BB7698346}"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8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616C716-6F05-47CD-8E98-9BA20C3CCAE5}"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25"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218A7C3-237B-4CD8-8C8C-1E8431F2C04E}"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66"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262283E-688E-4DD0-93CA-A0EA2F10742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07"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DA0C99C-4D27-436E-8FB1-2747FF10997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48"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0302FE4-4466-46EA-B378-1A288864CFD7}"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89"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8F0C3FF-CB67-4445-A3EA-F2277435440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30"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56CB1D7-80A5-418E-B079-0A649F36CFB6}"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IqKQnGdgvA" TargetMode="External"/><Relationship Id="rId2" Type="http://schemas.openxmlformats.org/officeDocument/2006/relationships/hyperlink" Target="http://www.zideo.nl/playzideo/6b3471526d316870"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7" descr="http://www.lipakeda.nl/images/vragen/1277443162.jpg"/>
          <p:cNvPicPr/>
          <p:nvPr/>
        </p:nvPicPr>
        <p:blipFill>
          <a:blip r:embed="rId1"/>
          <a:stretch/>
        </p:blipFill>
        <p:spPr>
          <a:xfrm>
            <a:off x="1042920" y="1484280"/>
            <a:ext cx="6972480" cy="5749920"/>
          </a:xfrm>
          <a:prstGeom prst="rect">
            <a:avLst/>
          </a:prstGeom>
          <a:ln w="0">
            <a:noFill/>
          </a:ln>
        </p:spPr>
      </p:pic>
      <p:sp>
        <p:nvSpPr>
          <p:cNvPr id="53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E98F70BB-8ED2-4A0B-8409-E6F8DB110945}"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6" name="PlaceHolder 1"/>
          <p:cNvSpPr>
            <a:spLocks noGrp="1"/>
          </p:cNvSpPr>
          <p:nvPr>
            <p:ph type="title"/>
          </p:nvPr>
        </p:nvSpPr>
        <p:spPr>
          <a:xfrm>
            <a:off x="755280" y="685440"/>
            <a:ext cx="7677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8000"/>
                </a:solidFill>
                <a:latin typeface="Times New Roman"/>
              </a:rPr>
              <a:t>H 4. Brand en explosie</a:t>
            </a:r>
            <a:endParaRPr b="0" lang="en-US" sz="5400" spc="-1" strike="noStrike">
              <a:solidFill>
                <a:srgbClr val="008000"/>
              </a:solidFill>
              <a:latin typeface="Times New Roman"/>
            </a:endParaRPr>
          </a:p>
        </p:txBody>
      </p:sp>
      <p:pic>
        <p:nvPicPr>
          <p:cNvPr id="537" name="Picture 7" descr="G:\VCA\afbeelding\enschede ramp.jpg"/>
          <p:cNvPicPr/>
          <p:nvPr/>
        </p:nvPicPr>
        <p:blipFill>
          <a:blip r:embed="rId2"/>
          <a:stretch/>
        </p:blipFill>
        <p:spPr>
          <a:xfrm>
            <a:off x="0" y="4508640"/>
            <a:ext cx="9326520" cy="1944720"/>
          </a:xfrm>
          <a:prstGeom prst="rect">
            <a:avLst/>
          </a:prstGeom>
          <a:ln w="0">
            <a:noFill/>
          </a:ln>
        </p:spPr>
      </p:pic>
    </p:spTree>
  </p:cSld>
  <p:transition spd="med">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5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7"/>
                                        </p:tgtEl>
                                        <p:attrNameLst>
                                          <p:attrName>style.visibility</p:attrName>
                                        </p:attrNameLst>
                                      </p:cBhvr>
                                      <p:to>
                                        <p:strVal val="visible"/>
                                      </p:to>
                                    </p:set>
                                    <p:anim calcmode="lin" valueType="num">
                                      <p:cBhvr additive="base">
                                        <p:cTn id="13" dur="500" fill="hold"/>
                                        <p:tgtEl>
                                          <p:spTgt spid="537"/>
                                        </p:tgtEl>
                                        <p:attrNameLst>
                                          <p:attrName>ppt_x</p:attrName>
                                        </p:attrNameLst>
                                      </p:cBhvr>
                                      <p:tavLst>
                                        <p:tav tm="0">
                                          <p:val>
                                            <p:strVal val="0-#ppt_w/2"/>
                                          </p:val>
                                        </p:tav>
                                        <p:tav tm="100000">
                                          <p:val>
                                            <p:strVal val="#ppt_x"/>
                                          </p:val>
                                        </p:tav>
                                      </p:tavLst>
                                    </p:anim>
                                    <p:anim calcmode="lin" valueType="num">
                                      <p:cBhvr additive="base">
                                        <p:cTn id="1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Zelfontbrandingstemperatuur</a:t>
            </a:r>
            <a:endParaRPr b="0" lang="en-US" sz="4400" spc="-1" strike="noStrike">
              <a:solidFill>
                <a:srgbClr val="008000"/>
              </a:solidFill>
              <a:latin typeface="Times New Roman"/>
            </a:endParaRPr>
          </a:p>
        </p:txBody>
      </p:sp>
      <p:sp>
        <p:nvSpPr>
          <p:cNvPr id="567"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zelfontbrandingstemperatuur van diesel is 270°C.</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is lager dan van benzine (420°C). </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verbrandingsmotor op benzine heeft bougies nodig.</a:t>
            </a:r>
            <a:endParaRPr b="0" lang="en-US" sz="3200" spc="-1" strike="noStrike">
              <a:solidFill>
                <a:srgbClr val="000000"/>
              </a:solidFill>
              <a:latin typeface="Times New Roman"/>
            </a:endParaRPr>
          </a:p>
        </p:txBody>
      </p:sp>
      <p:sp>
        <p:nvSpPr>
          <p:cNvPr id="5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7CB5DD4-0F6A-4EE4-B590-13C0A9DFB0A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E0CECEB7-D688-46C7-9D07-9A2C63BF69B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787320" y="457200"/>
            <a:ext cx="777240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klassen</a:t>
            </a:r>
            <a:endParaRPr b="0" lang="en-US" sz="4400" spc="-1" strike="noStrike">
              <a:solidFill>
                <a:srgbClr val="008000"/>
              </a:solidFill>
              <a:latin typeface="Times New Roman"/>
            </a:endParaRPr>
          </a:p>
        </p:txBody>
      </p:sp>
      <p:sp>
        <p:nvSpPr>
          <p:cNvPr id="571" name="PlaceHolder 2"/>
          <p:cNvSpPr>
            <a:spLocks noGrp="1"/>
          </p:cNvSpPr>
          <p:nvPr>
            <p:ph/>
          </p:nvPr>
        </p:nvSpPr>
        <p:spPr>
          <a:xfrm>
            <a:off x="685800" y="1257480"/>
            <a:ext cx="7772400" cy="5086080"/>
          </a:xfrm>
          <a:prstGeom prst="rect">
            <a:avLst/>
          </a:prstGeom>
          <a:noFill/>
          <a:ln w="0">
            <a:noFill/>
          </a:ln>
        </p:spPr>
        <p:txBody>
          <a:bodyPr anchor="t">
            <a:normAutofit/>
          </a:bodyPr>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A = vaste stoff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 papier, hout, stoffen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bij voorkeur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B = vloeistoffen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lie, benzine etc.)</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C = gass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butaan, propaan, aardgas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D = metalen</a:t>
            </a:r>
            <a:r>
              <a:rPr b="0" i="1"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a. magnesium, natrium, kalium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Elektriciteitsbranden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endParaRPr b="0" lang="en-US" sz="20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63C96EC8-A70E-4C02-BEAD-7ED5D468479D}"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787320" y="514080"/>
            <a:ext cx="77724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a:t>
            </a:r>
            <a:endParaRPr b="0" lang="en-US" sz="4400" spc="-1" strike="noStrike">
              <a:solidFill>
                <a:srgbClr val="008000"/>
              </a:solidFill>
              <a:latin typeface="Times New Roman"/>
            </a:endParaRPr>
          </a:p>
        </p:txBody>
      </p:sp>
      <p:sp>
        <p:nvSpPr>
          <p:cNvPr id="574" name="Rectangle 6"/>
          <p:cNvSpPr/>
          <p:nvPr/>
        </p:nvSpPr>
        <p:spPr>
          <a:xfrm>
            <a:off x="609480" y="1486080"/>
            <a:ext cx="8128080" cy="39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 onderscheiden drie soorten blusstoffen</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tte blusstoffen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water, stoom en schuim)</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oge blusstoffen</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i="1" lang="nl-NL" sz="2800" spc="-1" strike="noStrike">
                <a:solidFill>
                  <a:srgbClr val="000000"/>
                </a:solidFill>
                <a:latin typeface="Times New Roman"/>
              </a:rPr>
              <a:t>(</a:t>
            </a:r>
            <a:r>
              <a:rPr b="0" i="1" lang="nl-NL" sz="2400" spc="-1" strike="noStrike">
                <a:solidFill>
                  <a:srgbClr val="000000"/>
                </a:solidFill>
                <a:latin typeface="Times New Roman"/>
              </a:rPr>
              <a:t>zand, poeder en bijv. een blusdeke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Koolstofdioxide</a:t>
            </a:r>
            <a:r>
              <a:rPr b="1" lang="nl-NL"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gasvormige blusstof)</a:t>
            </a:r>
            <a:endParaRPr b="0" lang="en-US" sz="2400" spc="-1" strike="noStrike">
              <a:solidFill>
                <a:srgbClr val="000000"/>
              </a:solidFill>
              <a:latin typeface="Arial"/>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7" descr="E:\VCA-IPC\Hoofdstuk 05\VCA5-5.tif"/>
          <p:cNvPicPr/>
          <p:nvPr/>
        </p:nvPicPr>
        <p:blipFill>
          <a:blip r:embed="rId1"/>
          <a:stretch/>
        </p:blipFill>
        <p:spPr>
          <a:xfrm>
            <a:off x="6892920" y="923760"/>
            <a:ext cx="2251080" cy="1792440"/>
          </a:xfrm>
          <a:prstGeom prst="rect">
            <a:avLst/>
          </a:prstGeom>
          <a:ln w="0">
            <a:noFill/>
          </a:ln>
        </p:spPr>
      </p:pic>
      <p:sp>
        <p:nvSpPr>
          <p:cNvPr id="5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B3EC02D5-4CB4-4D74-B418-20F63A7106A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Rectangle 3"/>
          <p:cNvSpPr/>
          <p:nvPr/>
        </p:nvSpPr>
        <p:spPr>
          <a:xfrm>
            <a:off x="507960" y="1125360"/>
            <a:ext cx="822960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oor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800" spc="-1" strike="noStrike">
                <a:solidFill>
                  <a:srgbClr val="000000"/>
                </a:solidFill>
                <a:latin typeface="Times New Roman"/>
              </a:rPr>
              <a:t>groot koelend vermog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estal in grote hoeveelheden aanwezig </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oedkoop</a:t>
            </a:r>
            <a:endParaRPr b="0" lang="en-US" sz="2800" spc="-1" strike="noStrike">
              <a:solidFill>
                <a:srgbClr val="000000"/>
              </a:solidFill>
              <a:latin typeface="Arial"/>
            </a:endParaRPr>
          </a:p>
          <a:p>
            <a:pPr lvl="1" marL="45720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lektrisch geleidend</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metaal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vloeistof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evoelig voor bevriezing</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oorzaakt een hoop waterschade</a:t>
            </a:r>
            <a:endParaRPr b="0" lang="en-US" sz="2800" spc="-1" strike="noStrike">
              <a:solidFill>
                <a:srgbClr val="000000"/>
              </a:solidFill>
              <a:latin typeface="Arial"/>
            </a:endParaRPr>
          </a:p>
        </p:txBody>
      </p:sp>
      <p:sp>
        <p:nvSpPr>
          <p:cNvPr id="578" name="Rectangle 6"/>
          <p:cNvSpPr/>
          <p:nvPr/>
        </p:nvSpPr>
        <p:spPr>
          <a:xfrm>
            <a:off x="507960" y="5716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 water</a:t>
            </a:r>
            <a:endParaRPr b="0" lang="en-US" sz="4400" spc="-1" strike="noStrike">
              <a:solidFill>
                <a:srgbClr val="000000"/>
              </a:solidFill>
              <a:latin typeface="Arial"/>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6E7C7F0F-DDCE-4668-AA72-FFDB9BC79FA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Text Box 4"/>
          <p:cNvSpPr/>
          <p:nvPr/>
        </p:nvSpPr>
        <p:spPr>
          <a:xfrm>
            <a:off x="609480" y="1771560"/>
            <a:ext cx="7925040" cy="287208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Poeder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proeischuim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CO</a:t>
            </a:r>
            <a:r>
              <a:rPr b="0" lang="nl-NL" sz="3200" spc="-1" strike="noStrike" baseline="-25000">
                <a:solidFill>
                  <a:srgbClr val="000000"/>
                </a:solidFill>
                <a:latin typeface="Times New Roman"/>
              </a:rPr>
              <a:t>2</a:t>
            </a:r>
            <a:r>
              <a:rPr b="0" lang="nl-NL" sz="3200" spc="-1" strike="noStrike">
                <a:solidFill>
                  <a:srgbClr val="000000"/>
                </a:solidFill>
                <a:latin typeface="Times New Roman"/>
              </a:rPr>
              <a:t>-blussers</a:t>
            </a:r>
            <a:endParaRPr b="0" lang="en-US" sz="3200" spc="-1" strike="noStrike">
              <a:solidFill>
                <a:srgbClr val="000000"/>
              </a:solidFill>
              <a:latin typeface="Arial"/>
            </a:endParaRPr>
          </a:p>
          <a:p>
            <a:pPr marL="476280" indent="-3808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imes New Roman"/>
              </a:rPr>
              <a:t>	</a:t>
            </a:r>
            <a:r>
              <a:rPr b="0" i="1" lang="nl-NL" sz="2400" spc="-1" strike="noStrike">
                <a:solidFill>
                  <a:srgbClr val="000000"/>
                </a:solidFill>
                <a:latin typeface="Times New Roman"/>
              </a:rPr>
              <a:t>(nooit een persoon of dier hiermee</a:t>
            </a:r>
            <a:endParaRPr b="0" lang="en-US" sz="2400" spc="-1" strike="noStrike">
              <a:solidFill>
                <a:srgbClr val="000000"/>
              </a:solidFill>
              <a:latin typeface="Arial"/>
            </a:endParaRPr>
          </a:p>
          <a:p>
            <a:pPr marL="476280" indent="-38088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 </a:t>
            </a:r>
            <a:r>
              <a:rPr b="0" i="1" lang="nl-NL" sz="2400" spc="-1" strike="noStrike">
                <a:solidFill>
                  <a:srgbClr val="000000"/>
                </a:solidFill>
                <a:latin typeface="Times New Roman"/>
              </a:rPr>
              <a:t>blussen, grote afkoeling)</a:t>
            </a:r>
            <a:endParaRPr b="0" lang="en-US" sz="2400" spc="-1" strike="noStrike">
              <a:solidFill>
                <a:srgbClr val="000000"/>
              </a:solidFill>
              <a:latin typeface="Arial"/>
            </a:endParaRPr>
          </a:p>
        </p:txBody>
      </p:sp>
      <p:pic>
        <p:nvPicPr>
          <p:cNvPr id="581" name="Picture 5" descr="G:\NOL\brandblusser.jpg"/>
          <p:cNvPicPr/>
          <p:nvPr/>
        </p:nvPicPr>
        <p:blipFill>
          <a:blip r:embed="rId1"/>
          <a:stretch/>
        </p:blipFill>
        <p:spPr>
          <a:xfrm>
            <a:off x="1219320" y="4915080"/>
            <a:ext cx="2539800" cy="1571400"/>
          </a:xfrm>
          <a:prstGeom prst="rect">
            <a:avLst/>
          </a:prstGeom>
          <a:ln w="0">
            <a:noFill/>
          </a:ln>
        </p:spPr>
      </p:pic>
      <p:sp>
        <p:nvSpPr>
          <p:cNvPr id="582" name="Oval 8"/>
          <p:cNvSpPr/>
          <p:nvPr/>
        </p:nvSpPr>
        <p:spPr>
          <a:xfrm>
            <a:off x="3962520" y="4514760"/>
            <a:ext cx="4470120" cy="1600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altij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op de stikker.</a:t>
            </a:r>
            <a:endParaRPr b="0" lang="en-US" sz="3200" spc="-1" strike="noStrike">
              <a:solidFill>
                <a:srgbClr val="000000"/>
              </a:solidFill>
              <a:latin typeface="Arial"/>
            </a:endParaRPr>
          </a:p>
        </p:txBody>
      </p:sp>
      <p:sp>
        <p:nvSpPr>
          <p:cNvPr id="583" name="Rectangle 9"/>
          <p:cNvSpPr/>
          <p:nvPr/>
        </p:nvSpPr>
        <p:spPr>
          <a:xfrm>
            <a:off x="660240" y="571680"/>
            <a:ext cx="8026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toestellen</a:t>
            </a:r>
            <a:endParaRPr b="0" lang="en-US" sz="4400" spc="-1" strike="noStrike">
              <a:solidFill>
                <a:srgbClr val="000000"/>
              </a:solidFill>
              <a:latin typeface="Arial"/>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163CE1A-1200-4BBF-B93E-BD96F45C3CC0}"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5" name="Picture 2" descr="\\FS02\UserData$\dvdneut\My Documents\Backoffice\VCA\4 Brand en explosie\PA250235 (Small).JPG"/>
          <p:cNvPicPr/>
          <p:nvPr/>
        </p:nvPicPr>
        <p:blipFill>
          <a:blip r:embed="rId1"/>
          <a:stretch/>
        </p:blipFill>
        <p:spPr>
          <a:xfrm>
            <a:off x="1908000" y="-117360"/>
            <a:ext cx="5256360" cy="6997680"/>
          </a:xfrm>
          <a:prstGeom prst="rect">
            <a:avLst/>
          </a:prstGeom>
          <a:ln w="0">
            <a:noFill/>
          </a:ln>
        </p:spPr>
      </p:pic>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0D9D834A-B2DA-46F8-911B-580CAC266AE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7" name="Picture 2" descr="\\FS02\UserData$\dvdneut\My Documents\Backoffice\VCA\4 Brand en explosie\PA250236 (Small).JPG"/>
          <p:cNvPicPr/>
          <p:nvPr/>
        </p:nvPicPr>
        <p:blipFill>
          <a:blip r:embed="rId1"/>
          <a:stretch/>
        </p:blipFill>
        <p:spPr>
          <a:xfrm>
            <a:off x="179280" y="-1324080"/>
            <a:ext cx="8353440" cy="11120400"/>
          </a:xfrm>
          <a:prstGeom prst="rect">
            <a:avLst/>
          </a:prstGeom>
          <a:ln w="0">
            <a:noFill/>
          </a:ln>
        </p:spPr>
      </p:pic>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E37965D-832F-4A96-8505-B1BFEF6EE86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9" name="Picture 2" descr="\\FS02\UserData$\dvdneut\My Documents\Backoffice\VCA\4 Brand en explosie\PA250237 (Small).JPG"/>
          <p:cNvPicPr/>
          <p:nvPr/>
        </p:nvPicPr>
        <p:blipFill>
          <a:blip r:embed="rId1"/>
          <a:stretch/>
        </p:blipFill>
        <p:spPr>
          <a:xfrm>
            <a:off x="324000" y="-2227320"/>
            <a:ext cx="7343640" cy="9779040"/>
          </a:xfrm>
          <a:prstGeom prst="rect">
            <a:avLst/>
          </a:prstGeom>
          <a:ln w="0">
            <a:noFill/>
          </a:ln>
        </p:spPr>
      </p:pic>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52A15D54-B2B0-4502-B803-F2C7007F32E6}"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71136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Optreden bij brand</a:t>
            </a:r>
            <a:endParaRPr b="0" lang="en-US" sz="4400" spc="-1" strike="noStrike">
              <a:solidFill>
                <a:srgbClr val="008000"/>
              </a:solidFill>
              <a:latin typeface="Times New Roman"/>
            </a:endParaRPr>
          </a:p>
        </p:txBody>
      </p:sp>
      <p:sp>
        <p:nvSpPr>
          <p:cNvPr id="592" name="AutoShape 5"/>
          <p:cNvSpPr/>
          <p:nvPr/>
        </p:nvSpPr>
        <p:spPr>
          <a:xfrm>
            <a:off x="914400" y="1257480"/>
            <a:ext cx="7518240" cy="3921120"/>
          </a:xfrm>
          <a:prstGeom prst="wedgeRoundRectCallout">
            <a:avLst>
              <a:gd name="adj1" fmla="val 24347"/>
              <a:gd name="adj2" fmla="val 63240"/>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voor je eigen veilighei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l 112.</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arschuw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p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elektriciteit af.</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openstaande deu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us of vertraag de bran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in veiligheid?</a:t>
            </a:r>
            <a:endParaRPr b="0" lang="en-US" sz="28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Laat het ook anderen weten.</a:t>
            </a:r>
            <a:endParaRPr b="0" lang="en-US" sz="2800" spc="-1" strike="noStrike">
              <a:solidFill>
                <a:srgbClr val="000000"/>
              </a:solidFill>
              <a:latin typeface="Arial"/>
            </a:endParaRPr>
          </a:p>
        </p:txBody>
      </p:sp>
      <p:pic>
        <p:nvPicPr>
          <p:cNvPr id="593" name="Picture 8" descr="A:\brandweer2.jpg"/>
          <p:cNvPicPr/>
          <p:nvPr/>
        </p:nvPicPr>
        <p:blipFill>
          <a:blip r:embed="rId1"/>
          <a:stretch/>
        </p:blipFill>
        <p:spPr>
          <a:xfrm>
            <a:off x="5675400" y="3573360"/>
            <a:ext cx="3143160" cy="3208320"/>
          </a:xfrm>
          <a:prstGeom prst="rect">
            <a:avLst/>
          </a:prstGeom>
          <a:ln w="0">
            <a:noFill/>
          </a:ln>
        </p:spPr>
      </p:pic>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Blusmiddel om gasbrand te blussen?</a:t>
            </a:r>
            <a:endParaRPr b="0" lang="en-US" sz="7200" spc="-1" strike="noStrike">
              <a:solidFill>
                <a:srgbClr val="008000"/>
              </a:solidFill>
              <a:latin typeface="Times New Roman"/>
            </a:endParaRPr>
          </a:p>
        </p:txBody>
      </p:sp>
      <p:sp>
        <p:nvSpPr>
          <p:cNvPr id="59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E4815A3-6734-43DD-B2B7-25094A5167C8}"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Tekstvak 3"/>
          <p:cNvSpPr/>
          <p:nvPr/>
        </p:nvSpPr>
        <p:spPr>
          <a:xfrm>
            <a:off x="2124000" y="4076640"/>
            <a:ext cx="237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oeder</a:t>
            </a:r>
            <a:endParaRPr b="0" lang="en-US" sz="800" spc="-1" strike="noStrike">
              <a:solidFill>
                <a:srgbClr val="000000"/>
              </a:solidFill>
              <a:latin typeface="Arial"/>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Films</a:t>
            </a:r>
            <a:endParaRPr b="0" lang="en-US" sz="4400" spc="-1" strike="noStrike">
              <a:solidFill>
                <a:srgbClr val="008000"/>
              </a:solidFill>
              <a:latin typeface="Times New Roman"/>
            </a:endParaRPr>
          </a:p>
        </p:txBody>
      </p:sp>
      <p:sp>
        <p:nvSpPr>
          <p:cNvPr id="539"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1"/>
              </a:rPr>
              <a:t>Forse uitslaande brand verwoest woning Bildtsestraat Leeuwar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2"/>
              </a:rPr>
              <a:t>http://www.zideo.nl/playzideo/6b3471526d316870</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DB6BDC9-E1CC-4FD7-8FC0-98ED38C9D317}"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Wat is het belangrijkste bij het behandelen van uitwendige brandwonden?</a:t>
            </a:r>
            <a:endParaRPr b="0" lang="en-US" sz="6600" spc="-1" strike="noStrike">
              <a:solidFill>
                <a:srgbClr val="008000"/>
              </a:solidFill>
              <a:latin typeface="Times New Roman"/>
            </a:endParaRPr>
          </a:p>
        </p:txBody>
      </p:sp>
      <p:sp>
        <p:nvSpPr>
          <p:cNvPr id="59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37B2283-D133-47EA-91AF-C1252B7EB9B4}"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Tekstvak 3"/>
          <p:cNvSpPr/>
          <p:nvPr/>
        </p:nvSpPr>
        <p:spPr>
          <a:xfrm>
            <a:off x="4427640" y="645336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irect minstens 15 minuten koelen met water</a:t>
            </a:r>
            <a:endParaRPr b="0" lang="en-US" sz="800" spc="-1" strike="noStrike">
              <a:solidFill>
                <a:srgbClr val="000000"/>
              </a:solidFill>
              <a:latin typeface="Arial"/>
            </a:endParaRPr>
          </a:p>
        </p:txBody>
      </p:sp>
    </p:spTree>
  </p:cSld>
  <p:transition spd="med">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8000" y="609120"/>
            <a:ext cx="8928000" cy="21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Welke drie elementen zijn nodig voor het ontstaan van brand?</a:t>
            </a:r>
            <a:endParaRPr b="0" lang="en-US" sz="7200" spc="-1" strike="noStrike">
              <a:solidFill>
                <a:srgbClr val="008000"/>
              </a:solidFill>
              <a:latin typeface="Times New Roman"/>
            </a:endParaRPr>
          </a:p>
        </p:txBody>
      </p:sp>
      <p:sp>
        <p:nvSpPr>
          <p:cNvPr id="60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8C7EA7F-7F3B-4066-950D-4D3EFDE7B454}"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Tekstvak 3"/>
          <p:cNvSpPr/>
          <p:nvPr/>
        </p:nvSpPr>
        <p:spPr>
          <a:xfrm>
            <a:off x="1619280" y="4365720"/>
            <a:ext cx="18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 s, zs, ontstekingsenergie</a:t>
            </a:r>
            <a:endParaRPr b="0" lang="en-US" sz="5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Brandklasse C betekent:</a:t>
            </a:r>
            <a:endParaRPr b="0" lang="en-US" sz="6600" spc="-1" strike="noStrike">
              <a:solidFill>
                <a:srgbClr val="008000"/>
              </a:solidFill>
              <a:latin typeface="Times New Roman"/>
            </a:endParaRPr>
          </a:p>
        </p:txBody>
      </p:sp>
      <p:sp>
        <p:nvSpPr>
          <p:cNvPr id="60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688D56A-A874-40AB-A839-D88EF014D34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Tekstvak 3"/>
          <p:cNvSpPr/>
          <p:nvPr/>
        </p:nvSpPr>
        <p:spPr>
          <a:xfrm>
            <a:off x="4427640" y="6453360"/>
            <a:ext cx="15127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rand van vaste stof vloeistof gas</a:t>
            </a:r>
            <a:endParaRPr b="0" lang="en-US" sz="500" spc="-1" strike="noStrike">
              <a:solidFill>
                <a:srgbClr val="000000"/>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Een vlampunt is de temperatuur waarbij:</a:t>
            </a:r>
            <a:endParaRPr b="0" lang="en-US" sz="6600" spc="-1" strike="noStrike">
              <a:solidFill>
                <a:srgbClr val="008000"/>
              </a:solidFill>
              <a:latin typeface="Times New Roman"/>
            </a:endParaRPr>
          </a:p>
        </p:txBody>
      </p:sp>
      <p:sp>
        <p:nvSpPr>
          <p:cNvPr id="60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3731C9B-F741-49FC-8653-8B4A70433B04}"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Tekstvak 3"/>
          <p:cNvSpPr/>
          <p:nvPr/>
        </p:nvSpPr>
        <p:spPr>
          <a:xfrm>
            <a:off x="4427640" y="6453360"/>
            <a:ext cx="15127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De damp boven de vloeistof juist aangestoken kan worden</a:t>
            </a:r>
            <a:endParaRPr b="0" lang="en-US" sz="500" spc="-1" strike="noStrike">
              <a:solidFill>
                <a:srgbClr val="000000"/>
              </a:solidFill>
              <a:latin typeface="Arial"/>
            </a:endParaRPr>
          </a:p>
        </p:txBody>
      </p:sp>
    </p:spTree>
  </p:cSld>
  <p:transition spd="med">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E0075EB-B34B-4129-BF42-5C68A196DF2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2124EDE4-0DD9-4D6D-B94D-0C4E8FED78BD}"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driehoek</a:t>
            </a:r>
            <a:endParaRPr b="0" lang="en-US" sz="4400" spc="-1" strike="noStrike">
              <a:solidFill>
                <a:srgbClr val="008000"/>
              </a:solidFill>
              <a:latin typeface="Times New Roman"/>
            </a:endParaRPr>
          </a:p>
        </p:txBody>
      </p:sp>
      <p:sp>
        <p:nvSpPr>
          <p:cNvPr id="543" name="PlaceHolder 2"/>
          <p:cNvSpPr>
            <a:spLocks noGrp="1"/>
          </p:cNvSpPr>
          <p:nvPr>
            <p:ph/>
          </p:nvPr>
        </p:nvSpPr>
        <p:spPr>
          <a:xfrm>
            <a:off x="507960" y="2228400"/>
            <a:ext cx="7772400" cy="4513320"/>
          </a:xfrm>
          <a:prstGeom prst="rect">
            <a:avLst/>
          </a:prstGeom>
          <a:noFill/>
          <a:ln w="0">
            <a:noFill/>
          </a:ln>
        </p:spPr>
        <p:txBody>
          <a:bodyPr anchor="t">
            <a:normAutofit/>
          </a:bodyPr>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ie zaken die nodig zijn voor brand:</a:t>
            </a:r>
            <a:endParaRPr b="0" lang="en-US" sz="32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andbare stof</a:t>
            </a:r>
            <a:endParaRPr b="0" lang="en-US" sz="2800" spc="-1" strike="noStrike">
              <a:solidFill>
                <a:srgbClr val="000000"/>
              </a:solidFill>
              <a:latin typeface="Times New Roman"/>
            </a:endParaRPr>
          </a:p>
          <a:p>
            <a:pPr marL="476280" indent="-3808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uurstof </a:t>
            </a:r>
            <a:r>
              <a:rPr b="0" i="1" lang="nl-NL" sz="2400" spc="-1" strike="noStrike">
                <a:solidFill>
                  <a:srgbClr val="000000"/>
                </a:solidFill>
                <a:latin typeface="Times New Roman"/>
              </a:rPr>
              <a:t>	</a:t>
            </a:r>
            <a:r>
              <a:rPr b="0" i="1" lang="nl-NL" sz="2400" spc="-1" strike="noStrike">
                <a:solidFill>
                  <a:srgbClr val="000000"/>
                </a:solidFill>
                <a:latin typeface="Times New Roman"/>
              </a:rPr>
              <a:t>(jaagt vuur aan)</a:t>
            </a:r>
            <a:endParaRPr b="0" lang="en-US" sz="24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mperatuur of ontstekingsbron</a:t>
            </a:r>
            <a:endParaRPr b="0" lang="en-US" sz="2800" spc="-1" strike="noStrike">
              <a:solidFill>
                <a:srgbClr val="000000"/>
              </a:solidFill>
              <a:latin typeface="Times New Roman"/>
            </a:endParaRPr>
          </a:p>
        </p:txBody>
      </p:sp>
      <p:pic>
        <p:nvPicPr>
          <p:cNvPr id="544" name="Picture 6" descr=""/>
          <p:cNvPicPr/>
          <p:nvPr/>
        </p:nvPicPr>
        <p:blipFill>
          <a:blip r:embed="rId1"/>
          <a:stretch/>
        </p:blipFill>
        <p:spPr>
          <a:xfrm>
            <a:off x="2987640" y="1773360"/>
            <a:ext cx="2840040" cy="264636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pic>
        <p:nvPicPr>
          <p:cNvPr id="546" name="" descr=""/>
          <p:cNvPicPr/>
          <p:nvPr/>
        </p:nvPicPr>
        <p:blipFill>
          <a:blip r:embed="rId1"/>
          <a:stretch/>
        </p:blipFill>
        <p:spPr>
          <a:xfrm>
            <a:off x="711360" y="2000160"/>
            <a:ext cx="7772400" cy="4114800"/>
          </a:xfrm>
          <a:prstGeom prst="rect">
            <a:avLst/>
          </a:prstGeom>
          <a:ln w="0">
            <a:noFill/>
          </a:ln>
        </p:spPr>
      </p:pic>
      <p:sp>
        <p:nvSpPr>
          <p:cNvPr id="54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C799EDB-2EE0-4090-B7E0-7B1E509FCA1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48" name="Picture 2" descr="http://mediaprovider.kennisnet.nl/MediaProvider/img/12603003.jpg"/>
          <p:cNvPicPr/>
          <p:nvPr/>
        </p:nvPicPr>
        <p:blipFill>
          <a:blip r:embed="rId2"/>
          <a:stretch/>
        </p:blipFill>
        <p:spPr>
          <a:xfrm>
            <a:off x="611280" y="0"/>
            <a:ext cx="7416720" cy="6910560"/>
          </a:xfrm>
          <a:prstGeom prst="rect">
            <a:avLst/>
          </a:prstGeom>
          <a:ln w="0">
            <a:noFill/>
          </a:ln>
        </p:spPr>
      </p:pic>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17ACCE9C-0AEF-4006-9448-893C6F912F7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787320" y="5140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xplosies</a:t>
            </a:r>
            <a:endParaRPr b="0" lang="en-US" sz="4400" spc="-1" strike="noStrike">
              <a:solidFill>
                <a:srgbClr val="008000"/>
              </a:solidFill>
              <a:latin typeface="Times New Roman"/>
            </a:endParaRPr>
          </a:p>
        </p:txBody>
      </p:sp>
      <p:sp>
        <p:nvSpPr>
          <p:cNvPr id="551" name="PlaceHolder 2"/>
          <p:cNvSpPr>
            <a:spLocks noGrp="1"/>
          </p:cNvSpPr>
          <p:nvPr>
            <p:ph/>
          </p:nvPr>
        </p:nvSpPr>
        <p:spPr>
          <a:xfrm>
            <a:off x="685800" y="1371240"/>
            <a:ext cx="7772400" cy="4915080"/>
          </a:xfrm>
          <a:prstGeom prst="rect">
            <a:avLst/>
          </a:prstGeom>
          <a:noFill/>
          <a:ln w="0">
            <a:noFill/>
          </a:ln>
        </p:spPr>
        <p:txBody>
          <a:bodyPr anchor="t">
            <a:normAutofit fontScale="96000"/>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randing erg snel? </a:t>
            </a:r>
            <a:r>
              <a:rPr b="1" lang="nl-NL" sz="3200" spc="-1" strike="noStrike">
                <a:solidFill>
                  <a:srgbClr val="000000"/>
                </a:solidFill>
                <a:latin typeface="Times New Roman"/>
              </a:rPr>
              <a:t>Explosie</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leen tussen LEL en HEL is explosie of brand mogelijk.</a:t>
            </a:r>
            <a:endParaRPr b="0" lang="en-US" sz="3200" spc="-1" strike="noStrike">
              <a:solidFill>
                <a:srgbClr val="000000"/>
              </a:solidFill>
              <a:latin typeface="Times New Roman"/>
            </a:endParaRPr>
          </a:p>
          <a:p>
            <a:pPr marL="4572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xplosiegrens:</a:t>
            </a:r>
            <a:endParaRPr b="0" lang="en-US" sz="32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L-niveau</a:t>
            </a:r>
            <a:r>
              <a:rPr b="0" lang="nl-NL" sz="2400" spc="-1" strike="noStrike">
                <a:solidFill>
                  <a:srgbClr val="000000"/>
                </a:solidFill>
                <a:latin typeface="Times New Roman"/>
              </a:rPr>
              <a:t> </a:t>
            </a:r>
            <a:r>
              <a:rPr b="0" i="1" lang="nl-NL" sz="2400" spc="-1" strike="noStrike">
                <a:solidFill>
                  <a:srgbClr val="000000"/>
                </a:solidFill>
                <a:latin typeface="Times New Roman"/>
              </a:rPr>
              <a:t>(Lowest Explosion Limit)</a:t>
            </a:r>
            <a:endParaRPr b="0" lang="en-US" sz="24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niveau </a:t>
            </a:r>
            <a:r>
              <a:rPr b="0" i="1" lang="nl-NL" sz="2400" spc="-1" strike="noStrike">
                <a:solidFill>
                  <a:srgbClr val="000000"/>
                </a:solidFill>
                <a:latin typeface="Times New Roman"/>
              </a:rPr>
              <a:t>(Highest Explosion Limit)</a:t>
            </a:r>
            <a:endParaRPr b="0" lang="en-US" sz="2400" spc="-1" strike="noStrike">
              <a:solidFill>
                <a:srgbClr val="000000"/>
              </a:solidFill>
              <a:latin typeface="Times New Roman"/>
            </a:endParaRPr>
          </a:p>
        </p:txBody>
      </p:sp>
      <p:pic>
        <p:nvPicPr>
          <p:cNvPr id="552" name="Picture 5" descr="D:\IPC\VCA\LELHEL24.jpg"/>
          <p:cNvPicPr/>
          <p:nvPr/>
        </p:nvPicPr>
        <p:blipFill>
          <a:blip r:embed="rId1"/>
          <a:srcRect l="0" t="0" r="0" b="19685"/>
          <a:stretch/>
        </p:blipFill>
        <p:spPr>
          <a:xfrm>
            <a:off x="755640" y="1828800"/>
            <a:ext cx="7677000" cy="1538280"/>
          </a:xfrm>
          <a:prstGeom prst="rect">
            <a:avLst/>
          </a:prstGeom>
          <a:ln w="0">
            <a:noFill/>
          </a:ln>
        </p:spPr>
      </p:pic>
      <p:sp>
        <p:nvSpPr>
          <p:cNvPr id="553" name="Text Box 6"/>
          <p:cNvSpPr/>
          <p:nvPr/>
        </p:nvSpPr>
        <p:spPr>
          <a:xfrm>
            <a:off x="2641680" y="22860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losie mogelijk</a:t>
            </a:r>
            <a:endParaRPr b="0" lang="en-US" sz="2000" spc="-1" strike="noStrike">
              <a:solidFill>
                <a:srgbClr val="000000"/>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derste explosiegrens (LEL)</a:t>
            </a:r>
            <a:endParaRPr b="0" lang="en-US" sz="4400" spc="-1" strike="noStrike">
              <a:solidFill>
                <a:srgbClr val="008000"/>
              </a:solidFill>
              <a:latin typeface="Times New Roman"/>
            </a:endParaRPr>
          </a:p>
        </p:txBody>
      </p:sp>
      <p:sp>
        <p:nvSpPr>
          <p:cNvPr id="555"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concentratie brandbaar gas of damp die  minimaal aanwezig moet zijn </a:t>
            </a:r>
            <a:r>
              <a:rPr b="1" lang="nl-NL" sz="3200" spc="-1" strike="noStrike">
                <a:solidFill>
                  <a:srgbClr val="000000"/>
                </a:solidFill>
                <a:latin typeface="Times New Roman"/>
              </a:rPr>
              <a:t>om een explosie te veroorzaken</a:t>
            </a:r>
            <a:endParaRPr b="0" lang="en-US" sz="3200" spc="-1" strike="noStrike">
              <a:solidFill>
                <a:srgbClr val="000000"/>
              </a:solidFill>
              <a:latin typeface="Times New Roman"/>
            </a:endParaRPr>
          </a:p>
        </p:txBody>
      </p:sp>
      <p:sp>
        <p:nvSpPr>
          <p:cNvPr id="5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A6DAAB9-D7A1-4931-99C4-34034765251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58"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laagste temperatuur waarbij een vloeistof zoveel ontvlambare damp ontwikkelt, dat deze in de aanwezige lucht met een vlam aangestoken kan worden.</a:t>
            </a:r>
            <a:endParaRPr b="0" lang="en-US" sz="3200" spc="-1" strike="noStrike">
              <a:solidFill>
                <a:srgbClr val="000000"/>
              </a:solidFill>
              <a:latin typeface="Times New Roman"/>
            </a:endParaRPr>
          </a:p>
        </p:txBody>
      </p:sp>
      <p:sp>
        <p:nvSpPr>
          <p:cNvPr id="5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BB6237E-E069-44AB-9CE3-D23884D8957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61"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nzine: -20 gra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sel: +60 Graden Celsius</a:t>
            </a:r>
            <a:br>
              <a:rPr sz="3200"/>
            </a:br>
            <a:br>
              <a:rPr sz="3200"/>
            </a:br>
            <a:r>
              <a:rPr b="0" lang="nl-NL" sz="3200" spc="-1" strike="noStrike">
                <a:solidFill>
                  <a:srgbClr val="000000"/>
                </a:solidFill>
                <a:latin typeface="Times New Roman"/>
              </a:rPr>
              <a:t>De diesel zelf moet dus opgewarmd zijn tot 60C wil hij dus brandbare DAMPEN gaan afgev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9A906DA-09E9-4B25-AC74-5E2139B4BE2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ther</a:t>
            </a:r>
            <a:endParaRPr b="0" lang="en-US" sz="4400" spc="-1" strike="noStrike">
              <a:solidFill>
                <a:srgbClr val="008000"/>
              </a:solidFill>
              <a:latin typeface="Times New Roman"/>
            </a:endParaRPr>
          </a:p>
        </p:txBody>
      </p:sp>
      <p:sp>
        <p:nvSpPr>
          <p:cNvPr id="564" name=""/>
          <p:cNvSpPr txBox="1"/>
          <p:nvPr/>
        </p:nvSpPr>
        <p:spPr>
          <a:xfrm>
            <a:off x="711360" y="2000160"/>
            <a:ext cx="7772400" cy="4114800"/>
          </a:xfrm>
          <a:prstGeom prst="rect">
            <a:avLst/>
          </a:prstGeom>
          <a:noFill/>
          <a:ln w="0">
            <a:noFill/>
          </a:ln>
        </p:spPr>
        <p:txBody>
          <a:bodyPr anchor="t">
            <a:normAutofit fontScale="95000"/>
          </a:bodyPr>
          <a:p>
            <a:pPr marL="9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mpunt van -45 °C. Zelfs als het in een koelkast wordt bewaard, kan er voldoende damp vrijkomen om een explosie te veroorzaken. De damp kan tot explosieve verbranding komen door een vonk van de schakelaar die het lampje aan- en uitschakelt. Ether wordt daarom in een explosieveilige koelkast bewaard, waarin alle elektrische onderdelen afgeschermd zijn.</a:t>
            </a:r>
            <a:endParaRPr b="0" lang="en-US" sz="3200" spc="-1" strike="noStrike">
              <a:solidFill>
                <a:srgbClr val="000000"/>
              </a:solidFill>
              <a:latin typeface="Times New Roman"/>
            </a:endParaRPr>
          </a:p>
        </p:txBody>
      </p:sp>
      <p:sp>
        <p:nvSpPr>
          <p:cNvPr id="5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03C17F7-EE33-4E39-8470-826181E8B7C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8:16:30Z</dcterms:created>
  <dc:creator>A.Bakker</dc:creator>
  <dc:description/>
  <dc:language>en-US</dc:language>
  <cp:lastModifiedBy>Dick van der Neut</cp:lastModifiedBy>
  <cp:lastPrinted>2000-10-11T12:57:01Z</cp:lastPrinted>
  <dcterms:modified xsi:type="dcterms:W3CDTF">2012-11-02T13:24:07Z</dcterms:modified>
  <cp:revision>179</cp:revision>
  <dc:subject>Basisveiligheid sheets</dc:subject>
  <dc:title>Geen diatitel</dc:title>
</cp:coreProperties>
</file>