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media/image1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00850" cy="9936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F5260-97EE-4CD4-8876-5457DD490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98E02-995C-4053-85BD-1F3840B1A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5C97A8-7771-46B7-9ADD-AC879925FC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2C9EAB-3B65-4772-8665-51CD4D90EE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7EE760-F770-4BD1-B824-A5C8BF5E5E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B1BE91-6D37-4E18-BA13-B66F6E750D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801F44-DE55-43EC-B506-6FCAE85532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009E36-435A-4AC9-A871-8AD77FAC6C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6"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AF070E-C335-49B9-B037-225836AA6C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3F99D8-1897-446B-8768-9BC74EBA36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4"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64135C-70C7-47EA-B347-5367774F2F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A474912-5105-413A-B33A-1A677CC4FB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4A51D-F930-4158-9AC6-AB44484DA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6"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608067-5C84-4C30-8C14-7495B416E8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8"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466B78-F2EA-424A-8341-704971F221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CF0829-D73D-4DAC-9399-A6F12CEB61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D7BADE-DD13-4FD6-B046-2D666D1161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6E9362-238C-4D19-B818-C5091437F8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44E89B-B73F-44E4-A202-F15D7CFB86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31524C-C8F3-4C36-ACA6-D14E8378B7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84CEBC-24D7-4182-B25C-B034B2A2A7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7"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0C6D1C-C629-41BD-B2DF-1A4A95E40A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3132B4D-2838-4261-908C-B7692EE7CB6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01D2A-DE3E-4791-B809-FFF27C66E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5"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F46D48F-78DD-4FCF-85B6-3432A3A84D4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43D7FD-5438-41DA-B27B-32265B8F804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6815C1-2067-4A26-9956-3E616D164B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EAA090-AB85-4F5B-BB58-4BEC84C72A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108866-D0D4-4BFA-AC83-3CEA83052F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E2CAE4-AF0D-41ED-A9BD-F14983F67E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71086F-EA34-499F-BFFA-DCCB63973B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45C8FA-4B9B-45B4-A379-E0CEF68AE6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57F5E0-8215-454E-93BE-C99CBE74DE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080167-60AC-4143-931A-5C41BCC04D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8DE35A-F1D3-4E65-BEE4-B2EA803503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D5D640-FA0C-4039-9DB1-7F4FC51259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D92FC5D-AD63-4B29-9733-87A8788898C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980569-E14F-4E9A-8927-B2215FF6373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E4773CB-AE3C-4741-8237-3441A59EA69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5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ADF368-794E-48AC-B1D1-17942B1890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D24BC7-EDC8-40DC-9F60-162933FD4E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FD45DE-C6AC-4756-AE4D-38AE35C2DB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B388D2-27FC-48AD-AA33-E71BF93844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0CF401-013A-4D6B-BC88-3E8A5C8F8C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39B084-8E7B-4DC5-AF1E-7E81ED52AD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0C809-E4E3-4DFE-A18B-DC94E3C57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3BE3E2-0A82-4B52-A95F-468C18DB3D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B0761F-026B-4596-AADF-6C598C4122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8A86A4-19CC-4569-86AA-4D482229FB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B2CAC68-6498-4D0C-8000-E7A894C6E73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7601C7F-59E7-481C-88CD-721702C469C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D36D262-024D-4EF8-A703-C7D76C644C6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9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8C5EFD0-8461-45AE-B146-D72A3829EB5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EDE9D8-3F74-41BC-81ED-AFCE856EA6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7DFD110-40F2-4BEF-BE1E-F74C0A617D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FAD54B-BCCB-4A16-92B8-D9DF0014FB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BC2A9-D306-4F7F-9318-54989A5E9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57552FB-A981-4598-A17E-A3EC18C43DE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D29F8D-6FA1-4739-BE37-BFCEDF30A77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71402D-B800-45C6-A6CE-5779AE8CA2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63DC16-4B63-40E9-8916-F5AA6048D6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671143-3870-4762-BB19-CE74D2257A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E3B2F92-1391-469C-921B-3A5ED3BFA19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4E8DAAC-9056-4EDE-898D-89AACEFC8AA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9B9D4-342D-4A9B-8837-611D5D429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1711F-2F6F-40F2-BA56-AB29F5BCB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79206-1EE1-40B0-A6F0-85ECE1EDF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82364-58F7-4312-B41F-1E8D26945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D755A-67F0-4FC9-A464-0D58BF38C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EA768-3646-45CC-BD70-ECE1926A2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0594A-44C6-4FE9-9F41-CF2ACDE1B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F575A-B0F3-45AE-9BE4-70E389EF6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2DCF32-2997-4470-B1BF-D7D8B7B278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A04EEB-AC57-4F2F-9293-B8F3699ABF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750907-7A14-49AA-9C1D-BDB8967975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8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17001F-6A6F-42E9-9DEE-B2744E3FB9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977BAF-6CAF-4D18-9AC2-3A22C1D782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F4E7B8-150B-4EA0-AA99-3C4B51C619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246EA3-5DF0-49F5-90A1-3FADC4B5BA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A0422-8248-4F70-8266-468AFD7CF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1CD628-BC3C-42D9-8A61-274C85DE82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7CD058-6D74-421D-85DB-5160A6092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D59A4A-AC7A-4B64-BA8F-8C939E271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513BF8-386B-4E77-9D73-09D73FCDF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465604-8DCA-4956-B4FB-16A71E1103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FF1E86-CB8D-42C6-B3E0-71288F4C91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5C8F69-C7D4-4C89-80B6-F4EA3B7BA9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CEA450-9530-441C-9367-883E055F3B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0"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FBDE8A-3B57-4478-AAE4-F15E5DC4F6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2"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98BB4E-DAFF-4030-945C-59E9CE0586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FDC93-AD4C-4D1D-8707-3CFA4061F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0E5FAF-2B36-4F5E-8FB1-E167955A4C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E4AD0F-1E38-4229-8573-073EB6C69E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C6B41D-7A8C-42AD-BF7A-962561F55C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0E3209-4DE5-4FDE-BB9B-0F8381AC40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AD4845-B487-44E1-8AE8-6C3435E99F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1466EB-F8F2-4ADB-8214-FE651CA97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1"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CC0FE8-1F0B-4066-A5A3-CB6CC11291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33FC8E-BE45-416E-9614-1862DEF11E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9"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C988A8-3987-4B84-94F6-6844590738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8264EA-DF74-4689-AA2B-3294C01AAA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3DAD7-F19D-403B-B22E-EE30D5494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1"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093476-CCA8-4C80-B314-2878F12E38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3"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755A65-D21A-4443-A711-EEEB3511B0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5D26C1-BB21-4635-851D-F7ACEB48CE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6E05E8-B1D2-41FB-846C-34A3AD4E6F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E2F395-B164-4DEC-ADFA-55DA642582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6A8EFB-0277-4E32-B4C8-28C0E65497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FB4738-238D-485D-AF0F-CBD2386E91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0F2CC0-6750-40D4-BDF2-9F0E3651E8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2"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1829C8-848D-4521-8206-FD9A2C82C7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73DF73-8347-4D60-A2C2-277BF1155A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270E6-5C31-49F3-8140-4E2430E7E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0"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DFADA3-20AB-4C0C-86AB-337975409F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8BCC8C-0CA3-411B-9975-1D2C0692A0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2"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3ACA4A-41FA-42A7-9FF0-061C0467C7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4"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F90821-A9DF-45A7-9028-1BCD1F23C9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0BBB93-056C-457F-9082-49D2F94F01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7B6684-0B59-4DDB-BEB1-A834931CD2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2C808D-48D2-4B87-AC6C-CBAD6AE725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176394-9CB7-46C0-BFDE-6F7F49D34B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08F2BB-2443-4A49-AB5F-4865390324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C4FA0D-359E-4011-A4A3-E2684E8A40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D21F4-7E24-4F82-A34B-FBC20074C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3"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8155E8-F068-480B-85C0-FF1D32D3E5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275B92-109A-4042-B4BA-31BCD814E5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1"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090E3A-9AF2-4734-AA46-AC2045D9B2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B64B76-5FB2-41BB-B419-C78B6B0CD8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3"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72D2A5-C622-4C47-9758-6233A9A56E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5"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01D0AE-191D-4B28-9F50-10E46FEFAE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1DA927-2429-4FDB-A404-215181344B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7D8107-CDE8-4F86-98E3-374DFCEA75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925E66-033C-497B-8C9B-55209C9908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184580-B8C9-410E-9B53-180AA90117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237C1-19AF-421C-9A35-B0C5E848C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EA0283-AB1E-46D9-A289-DD139D24D5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A6A52F-6352-40C1-939E-FD628EB077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4"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54BE88-565A-4368-B0F8-28B8B2577B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5E026D-F5FA-4C4D-9421-7938F5F200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2"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343F64-37FC-4D1C-BB87-581DA4B24B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D5D9DE-A079-42F8-9ED5-A5A71D52E5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4"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43FA6A-AD7B-4A72-B3CB-EBAEE5A2A2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6"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84E15A-7983-456E-BC15-49E1B753C3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5FECDE-EE5F-4B15-933A-AAECF3C8A2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3D4BF6-8F73-40B9-B30C-FB22700C6C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B4726-2839-4C2A-9F67-916E7FF2F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3BDA25-17AF-453A-ABBC-02F248450C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8C26AF-6F92-4BAD-9932-D755F26CC6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B0924F-5A62-47A9-9832-3909D21EAF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6D5D27-D810-42A9-A9B8-4A3965B19A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5"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E0E58B-336C-4878-9089-528733E9C6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9D33C1-8A43-4782-B0EC-F50051C5B9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23"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A32B79-EAA8-4BD2-8EC7-7B72544A3B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4B60E0-C56A-4A6F-9B6D-565600CB1E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5"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AFB41E-0BFC-4C75-B1DD-0FAC40BE33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7"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EB4EF2-7919-4150-9574-C4ECE64D4ED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DFC8264-9C76-4C82-9F99-B76B92BE4C87}"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8" descr="G:\NOL\logo IPC.jpg"/>
          <p:cNvPicPr/>
          <p:nvPr/>
        </p:nvPicPr>
        <p:blipFill>
          <a:blip r:embed="rId2"/>
          <a:stretch/>
        </p:blipFill>
        <p:spPr>
          <a:xfrm>
            <a:off x="3149640" y="6343560"/>
            <a:ext cx="243828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7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E337BF4-6041-47F9-848F-A0A5EF460126}"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12"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164D933-FB2D-41C2-8F1D-4937F127C27F}"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5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4581627-D0E6-47AB-BC1B-3559378FD64B}"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9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97B8482-5DD0-4ECC-8DDE-E2243005FA23}"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E3D16BA9-806B-4D5E-B362-C35C32D7F977}"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8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31BEB93-F665-4DEC-A1E9-7CFA25DAFF19}"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25"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026B116-6E4C-40D5-86A6-449F44F1FC6D}"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66"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0F9EEB3-F977-4035-A2AB-88C47B7A4718}"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07"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F3473926-B471-4A39-820A-8229465417E7}"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48"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7B972C27-B843-4F5B-A6F9-B2D90FA18B80}"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89"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9971170-C2C4-4CA2-8C39-305B71BA85CD}"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30"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CD108859-5260-407D-9B6E-F8C75013EBA9}"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IqKQnGdgvA" TargetMode="External"/><Relationship Id="rId2" Type="http://schemas.openxmlformats.org/officeDocument/2006/relationships/hyperlink" Target="http://www.zideo.nl/playzideo/6b3471526d316870" TargetMode="External"/><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4" name="Picture 7" descr="http://www.lipakeda.nl/images/vragen/1277443162.jpg"/>
          <p:cNvPicPr/>
          <p:nvPr/>
        </p:nvPicPr>
        <p:blipFill>
          <a:blip r:embed="rId1"/>
          <a:stretch/>
        </p:blipFill>
        <p:spPr>
          <a:xfrm>
            <a:off x="1042920" y="1484280"/>
            <a:ext cx="6972480" cy="5749920"/>
          </a:xfrm>
          <a:prstGeom prst="rect">
            <a:avLst/>
          </a:prstGeom>
          <a:ln w="0">
            <a:noFill/>
          </a:ln>
        </p:spPr>
      </p:pic>
      <p:sp>
        <p:nvSpPr>
          <p:cNvPr id="535"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5B0C55BD-D8DF-4318-BABC-D52FDA82C67E}"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36" name="PlaceHolder 1"/>
          <p:cNvSpPr>
            <a:spLocks noGrp="1"/>
          </p:cNvSpPr>
          <p:nvPr>
            <p:ph type="title"/>
          </p:nvPr>
        </p:nvSpPr>
        <p:spPr>
          <a:xfrm>
            <a:off x="755280" y="685440"/>
            <a:ext cx="7677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8000"/>
                </a:solidFill>
                <a:latin typeface="Times New Roman"/>
              </a:rPr>
              <a:t>H 4. Brand en explosie</a:t>
            </a:r>
            <a:endParaRPr b="0" lang="en-US" sz="5400" spc="-1" strike="noStrike">
              <a:solidFill>
                <a:srgbClr val="008000"/>
              </a:solidFill>
              <a:latin typeface="Times New Roman"/>
            </a:endParaRPr>
          </a:p>
        </p:txBody>
      </p:sp>
      <p:pic>
        <p:nvPicPr>
          <p:cNvPr id="537" name="Picture 7" descr="G:\VCA\afbeelding\enschede ramp.jpg"/>
          <p:cNvPicPr/>
          <p:nvPr/>
        </p:nvPicPr>
        <p:blipFill>
          <a:blip r:embed="rId2"/>
          <a:stretch/>
        </p:blipFill>
        <p:spPr>
          <a:xfrm>
            <a:off x="0" y="4508640"/>
            <a:ext cx="9326520" cy="1944720"/>
          </a:xfrm>
          <a:prstGeom prst="rect">
            <a:avLst/>
          </a:prstGeom>
          <a:ln w="0">
            <a:noFill/>
          </a:ln>
        </p:spPr>
      </p:pic>
    </p:spTree>
  </p:cSld>
  <p:transition spd="med">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536"/>
                                        </p:tgtEl>
                                        <p:attrNameLst>
                                          <p:attrName>style.visibility</p:attrName>
                                        </p:attrNameLst>
                                      </p:cBhvr>
                                      <p:to>
                                        <p:strVal val="visible"/>
                                      </p:to>
                                    </p:set>
                                    <p:anim calcmode="lin" valueType="num">
                                      <p:cBhvr additive="repl">
                                        <p:cTn id="7" dur="5000" fill="hold"/>
                                        <p:tgtEl>
                                          <p:spTgt spid="53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36"/>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7"/>
                                        </p:tgtEl>
                                        <p:attrNameLst>
                                          <p:attrName>style.visibility</p:attrName>
                                        </p:attrNameLst>
                                      </p:cBhvr>
                                      <p:to>
                                        <p:strVal val="visible"/>
                                      </p:to>
                                    </p:set>
                                    <p:anim calcmode="lin" valueType="num">
                                      <p:cBhvr additive="base">
                                        <p:cTn id="13" dur="500" fill="hold"/>
                                        <p:tgtEl>
                                          <p:spTgt spid="537"/>
                                        </p:tgtEl>
                                        <p:attrNameLst>
                                          <p:attrName>ppt_x</p:attrName>
                                        </p:attrNameLst>
                                      </p:cBhvr>
                                      <p:tavLst>
                                        <p:tav tm="0">
                                          <p:val>
                                            <p:strVal val="0-#ppt_w/2"/>
                                          </p:val>
                                        </p:tav>
                                        <p:tav tm="100000">
                                          <p:val>
                                            <p:strVal val="#ppt_x"/>
                                          </p:val>
                                        </p:tav>
                                      </p:tavLst>
                                    </p:anim>
                                    <p:anim calcmode="lin" valueType="num">
                                      <p:cBhvr additive="base">
                                        <p:cTn id="14" dur="500" fill="hold"/>
                                        <p:tgtEl>
                                          <p:spTgt spid="5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Zelfontbrandingstemperatuur</a:t>
            </a:r>
            <a:endParaRPr b="0" lang="en-US" sz="4400" spc="-1" strike="noStrike">
              <a:solidFill>
                <a:srgbClr val="008000"/>
              </a:solidFill>
              <a:latin typeface="Times New Roman"/>
            </a:endParaRPr>
          </a:p>
        </p:txBody>
      </p:sp>
      <p:sp>
        <p:nvSpPr>
          <p:cNvPr id="567"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zelfontbrandingstemperatuur van diesel is 270°C.</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t is lager dan van benzine (420°C). </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verbrandingsmotor op benzine heeft bougies nodig.</a:t>
            </a:r>
            <a:endParaRPr b="0" lang="en-US" sz="3200" spc="-1" strike="noStrike">
              <a:solidFill>
                <a:srgbClr val="000000"/>
              </a:solidFill>
              <a:latin typeface="Times New Roman"/>
            </a:endParaRPr>
          </a:p>
        </p:txBody>
      </p:sp>
      <p:sp>
        <p:nvSpPr>
          <p:cNvPr id="56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5F0CE49-0528-46F5-9579-13EFD8C2D5DD}"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8001235F-8E45-4B36-9B24-2281E98C3E64}"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0" name="PlaceHolder 1"/>
          <p:cNvSpPr>
            <a:spLocks noGrp="1"/>
          </p:cNvSpPr>
          <p:nvPr>
            <p:ph type="title"/>
          </p:nvPr>
        </p:nvSpPr>
        <p:spPr>
          <a:xfrm>
            <a:off x="787320" y="457200"/>
            <a:ext cx="7772400" cy="7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klassen</a:t>
            </a:r>
            <a:endParaRPr b="0" lang="en-US" sz="4400" spc="-1" strike="noStrike">
              <a:solidFill>
                <a:srgbClr val="008000"/>
              </a:solidFill>
              <a:latin typeface="Times New Roman"/>
            </a:endParaRPr>
          </a:p>
        </p:txBody>
      </p:sp>
      <p:sp>
        <p:nvSpPr>
          <p:cNvPr id="571" name="PlaceHolder 2"/>
          <p:cNvSpPr>
            <a:spLocks noGrp="1"/>
          </p:cNvSpPr>
          <p:nvPr>
            <p:ph/>
          </p:nvPr>
        </p:nvSpPr>
        <p:spPr>
          <a:xfrm>
            <a:off x="685800" y="1257480"/>
            <a:ext cx="7772400" cy="5086080"/>
          </a:xfrm>
          <a:prstGeom prst="rect">
            <a:avLst/>
          </a:prstGeom>
          <a:noFill/>
          <a:ln w="0">
            <a:noFill/>
          </a:ln>
        </p:spPr>
        <p:txBody>
          <a:bodyPr anchor="t">
            <a:normAutofit/>
          </a:bodyPr>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A = vaste stoff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 papier, hout, stoffen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bij voorkeur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B = vloeistoffen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lie, benzine etc.)</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C = gass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butaan, propaan, aardgas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D = metalen</a:t>
            </a:r>
            <a:r>
              <a:rPr b="0" i="1"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a. magnesium, natrium, kalium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Elektriciteitsbranden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endParaRPr b="0" lang="en-US" sz="2000" spc="-1" strike="noStrike">
              <a:solidFill>
                <a:srgbClr val="000000"/>
              </a:solidFill>
              <a:latin typeface="Times New Roman"/>
            </a:endParaRPr>
          </a:p>
        </p:txBody>
      </p:sp>
    </p:spTree>
  </p:cSld>
  <p:transition spd="med">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985C5819-9A59-44A2-9CAB-FC1ACB5C8B56}"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787320" y="514080"/>
            <a:ext cx="77724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a:t>
            </a:r>
            <a:endParaRPr b="0" lang="en-US" sz="4400" spc="-1" strike="noStrike">
              <a:solidFill>
                <a:srgbClr val="008000"/>
              </a:solidFill>
              <a:latin typeface="Times New Roman"/>
            </a:endParaRPr>
          </a:p>
        </p:txBody>
      </p:sp>
      <p:sp>
        <p:nvSpPr>
          <p:cNvPr id="574" name="Rectangle 6"/>
          <p:cNvSpPr/>
          <p:nvPr/>
        </p:nvSpPr>
        <p:spPr>
          <a:xfrm>
            <a:off x="609480" y="1486080"/>
            <a:ext cx="8128080" cy="396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 onderscheiden drie soorten blusstoffen</a:t>
            </a:r>
            <a:r>
              <a:rPr b="0" lang="nl-N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tte blusstoffen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water, stoom en schuim)</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Droge blusstoffen</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i="1" lang="nl-NL" sz="2800" spc="-1" strike="noStrike">
                <a:solidFill>
                  <a:srgbClr val="000000"/>
                </a:solidFill>
                <a:latin typeface="Times New Roman"/>
              </a:rPr>
              <a:t>(</a:t>
            </a:r>
            <a:r>
              <a:rPr b="0" i="1" lang="nl-NL" sz="2400" spc="-1" strike="noStrike">
                <a:solidFill>
                  <a:srgbClr val="000000"/>
                </a:solidFill>
                <a:latin typeface="Times New Roman"/>
              </a:rPr>
              <a:t>zand, poeder en bijv. een blusdeken)</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Koolstofdioxide</a:t>
            </a:r>
            <a:r>
              <a:rPr b="1" lang="nl-NL"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gasvormige blusstof)</a:t>
            </a:r>
            <a:endParaRPr b="0" lang="en-US" sz="2400" spc="-1" strike="noStrike">
              <a:solidFill>
                <a:srgbClr val="000000"/>
              </a:solidFill>
              <a:latin typeface="Arial"/>
            </a:endParaRPr>
          </a:p>
        </p:txBody>
      </p:sp>
    </p:spTree>
  </p:cSld>
  <p:transition spd="med">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5" name="Picture 7" descr="E:\VCA-IPC\Hoofdstuk 05\VCA5-5.tif"/>
          <p:cNvPicPr/>
          <p:nvPr/>
        </p:nvPicPr>
        <p:blipFill>
          <a:blip r:embed="rId1"/>
          <a:stretch/>
        </p:blipFill>
        <p:spPr>
          <a:xfrm>
            <a:off x="6892920" y="923760"/>
            <a:ext cx="2251080" cy="1792440"/>
          </a:xfrm>
          <a:prstGeom prst="rect">
            <a:avLst/>
          </a:prstGeom>
          <a:ln w="0">
            <a:noFill/>
          </a:ln>
        </p:spPr>
      </p:pic>
      <p:sp>
        <p:nvSpPr>
          <p:cNvPr id="57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AAF7E02E-B21D-47C6-A933-0A4EBEB0C663}"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7" name="Rectangle 3"/>
          <p:cNvSpPr/>
          <p:nvPr/>
        </p:nvSpPr>
        <p:spPr>
          <a:xfrm>
            <a:off x="507960" y="1125360"/>
            <a:ext cx="8229600" cy="55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Voor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800" spc="-1" strike="noStrike">
                <a:solidFill>
                  <a:srgbClr val="000000"/>
                </a:solidFill>
                <a:latin typeface="Times New Roman"/>
              </a:rPr>
              <a:t>groot koelend vermog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meestal in grote hoeveelheden aanwezig </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oedkoop</a:t>
            </a:r>
            <a:endParaRPr b="0" lang="en-US" sz="2800" spc="-1" strike="noStrike">
              <a:solidFill>
                <a:srgbClr val="000000"/>
              </a:solidFill>
              <a:latin typeface="Arial"/>
            </a:endParaRPr>
          </a:p>
          <a:p>
            <a:pPr lvl="1" marL="45720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6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elektrisch geleidend</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metaal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vloeistof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evoelig voor bevriezing</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veroorzaakt een hoop waterschade</a:t>
            </a:r>
            <a:endParaRPr b="0" lang="en-US" sz="2800" spc="-1" strike="noStrike">
              <a:solidFill>
                <a:srgbClr val="000000"/>
              </a:solidFill>
              <a:latin typeface="Arial"/>
            </a:endParaRPr>
          </a:p>
        </p:txBody>
      </p:sp>
      <p:sp>
        <p:nvSpPr>
          <p:cNvPr id="578" name="Rectangle 6"/>
          <p:cNvSpPr/>
          <p:nvPr/>
        </p:nvSpPr>
        <p:spPr>
          <a:xfrm>
            <a:off x="507960" y="5716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 water</a:t>
            </a:r>
            <a:endParaRPr b="0" lang="en-US" sz="4400" spc="-1" strike="noStrike">
              <a:solidFill>
                <a:srgbClr val="000000"/>
              </a:solidFill>
              <a:latin typeface="Arial"/>
            </a:endParaRPr>
          </a:p>
        </p:txBody>
      </p:sp>
    </p:spTree>
  </p:cSld>
  <p:transition spd="med">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9DC37D06-59EC-4A8C-92E8-B32E2E2ECC5F}"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80" name="Text Box 4"/>
          <p:cNvSpPr/>
          <p:nvPr/>
        </p:nvSpPr>
        <p:spPr>
          <a:xfrm>
            <a:off x="609480" y="1771560"/>
            <a:ext cx="7925040" cy="2872080"/>
          </a:xfrm>
          <a:prstGeom prst="rect">
            <a:avLst/>
          </a:prstGeom>
          <a:noFill/>
          <a:ln w="0">
            <a:noFill/>
          </a:ln>
        </p:spPr>
        <p:style>
          <a:lnRef idx="0"/>
          <a:fillRef idx="0"/>
          <a:effectRef idx="0"/>
          <a:fontRef idx="minor"/>
        </p:style>
        <p:txBody>
          <a:bodyPr lIns="90000" rIns="90000" tIns="46800" bIns="46800" anchor="t">
            <a:spAutoFit/>
          </a:bodyPr>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Poeder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Sproeischuim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CO</a:t>
            </a:r>
            <a:r>
              <a:rPr b="0" lang="nl-NL" sz="3200" spc="-1" strike="noStrike" baseline="-25000">
                <a:solidFill>
                  <a:srgbClr val="000000"/>
                </a:solidFill>
                <a:latin typeface="Times New Roman"/>
              </a:rPr>
              <a:t>2</a:t>
            </a:r>
            <a:r>
              <a:rPr b="0" lang="nl-NL" sz="3200" spc="-1" strike="noStrike">
                <a:solidFill>
                  <a:srgbClr val="000000"/>
                </a:solidFill>
                <a:latin typeface="Times New Roman"/>
              </a:rPr>
              <a:t>-blussers</a:t>
            </a:r>
            <a:endParaRPr b="0" lang="en-US" sz="3200" spc="-1" strike="noStrike">
              <a:solidFill>
                <a:srgbClr val="000000"/>
              </a:solidFill>
              <a:latin typeface="Arial"/>
            </a:endParaRPr>
          </a:p>
          <a:p>
            <a:pPr marL="476280" indent="-3808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000000"/>
                </a:solidFill>
                <a:latin typeface="Times New Roman"/>
              </a:rPr>
              <a:t>	</a:t>
            </a:r>
            <a:r>
              <a:rPr b="0" i="1" lang="nl-NL" sz="2400" spc="-1" strike="noStrike">
                <a:solidFill>
                  <a:srgbClr val="000000"/>
                </a:solidFill>
                <a:latin typeface="Times New Roman"/>
              </a:rPr>
              <a:t>(nooit een persoon of dier hiermee</a:t>
            </a:r>
            <a:endParaRPr b="0" lang="en-US" sz="2400" spc="-1" strike="noStrike">
              <a:solidFill>
                <a:srgbClr val="000000"/>
              </a:solidFill>
              <a:latin typeface="Arial"/>
            </a:endParaRPr>
          </a:p>
          <a:p>
            <a:pPr marL="476280" indent="-380880">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 </a:t>
            </a:r>
            <a:r>
              <a:rPr b="0" i="1" lang="nl-NL" sz="2400" spc="-1" strike="noStrike">
                <a:solidFill>
                  <a:srgbClr val="000000"/>
                </a:solidFill>
                <a:latin typeface="Times New Roman"/>
              </a:rPr>
              <a:t>blussen, grote afkoeling)</a:t>
            </a:r>
            <a:endParaRPr b="0" lang="en-US" sz="2400" spc="-1" strike="noStrike">
              <a:solidFill>
                <a:srgbClr val="000000"/>
              </a:solidFill>
              <a:latin typeface="Arial"/>
            </a:endParaRPr>
          </a:p>
        </p:txBody>
      </p:sp>
      <p:pic>
        <p:nvPicPr>
          <p:cNvPr id="581" name="Picture 5" descr="G:\NOL\brandblusser.jpg"/>
          <p:cNvPicPr/>
          <p:nvPr/>
        </p:nvPicPr>
        <p:blipFill>
          <a:blip r:embed="rId1"/>
          <a:stretch/>
        </p:blipFill>
        <p:spPr>
          <a:xfrm>
            <a:off x="1219320" y="4915080"/>
            <a:ext cx="2539800" cy="1571400"/>
          </a:xfrm>
          <a:prstGeom prst="rect">
            <a:avLst/>
          </a:prstGeom>
          <a:ln w="0">
            <a:noFill/>
          </a:ln>
        </p:spPr>
      </p:pic>
      <p:sp>
        <p:nvSpPr>
          <p:cNvPr id="582" name="Oval 8"/>
          <p:cNvSpPr/>
          <p:nvPr/>
        </p:nvSpPr>
        <p:spPr>
          <a:xfrm>
            <a:off x="3962520" y="4514760"/>
            <a:ext cx="4470120" cy="1600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ijk altij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op de stikker.</a:t>
            </a:r>
            <a:endParaRPr b="0" lang="en-US" sz="3200" spc="-1" strike="noStrike">
              <a:solidFill>
                <a:srgbClr val="000000"/>
              </a:solidFill>
              <a:latin typeface="Arial"/>
            </a:endParaRPr>
          </a:p>
        </p:txBody>
      </p:sp>
      <p:sp>
        <p:nvSpPr>
          <p:cNvPr id="583" name="Rectangle 9"/>
          <p:cNvSpPr/>
          <p:nvPr/>
        </p:nvSpPr>
        <p:spPr>
          <a:xfrm>
            <a:off x="660240" y="571680"/>
            <a:ext cx="8026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toestellen</a:t>
            </a:r>
            <a:endParaRPr b="0" lang="en-US" sz="4400" spc="-1" strike="noStrike">
              <a:solidFill>
                <a:srgbClr val="000000"/>
              </a:solidFill>
              <a:latin typeface="Arial"/>
            </a:endParaRPr>
          </a:p>
        </p:txBody>
      </p:sp>
    </p:spTree>
  </p:cSld>
  <p:transition spd="med">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C19EA97-8FC0-4452-AC72-3C36B7B8319F}"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5" name="Picture 2" descr="\\FS02\UserData$\dvdneut\My Documents\Backoffice\VCA\4 Brand en explosie\PA250235 (Small).JPG"/>
          <p:cNvPicPr/>
          <p:nvPr/>
        </p:nvPicPr>
        <p:blipFill>
          <a:blip r:embed="rId1"/>
          <a:stretch/>
        </p:blipFill>
        <p:spPr>
          <a:xfrm>
            <a:off x="1908000" y="-117360"/>
            <a:ext cx="5256360" cy="6997680"/>
          </a:xfrm>
          <a:prstGeom prst="rect">
            <a:avLst/>
          </a:prstGeom>
          <a:ln w="0">
            <a:noFill/>
          </a:ln>
        </p:spPr>
      </p:pic>
    </p:spTree>
  </p:cSld>
  <p:transition spd="med">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2A5C0FA-EA8D-4245-8A83-DB3FD1826F50}"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7" name="Picture 2" descr="\\FS02\UserData$\dvdneut\My Documents\Backoffice\VCA\4 Brand en explosie\PA250236 (Small).JPG"/>
          <p:cNvPicPr/>
          <p:nvPr/>
        </p:nvPicPr>
        <p:blipFill>
          <a:blip r:embed="rId1"/>
          <a:stretch/>
        </p:blipFill>
        <p:spPr>
          <a:xfrm>
            <a:off x="179280" y="-1324080"/>
            <a:ext cx="8353440" cy="11120400"/>
          </a:xfrm>
          <a:prstGeom prst="rect">
            <a:avLst/>
          </a:prstGeom>
          <a:ln w="0">
            <a:noFill/>
          </a:ln>
        </p:spPr>
      </p:pic>
    </p:spTree>
  </p:cSld>
  <p:transition spd="med">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24968E4-43E7-4041-A4D8-91B5F2667331}"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9" name="Picture 2" descr="\\FS02\UserData$\dvdneut\My Documents\Backoffice\VCA\4 Brand en explosie\PA250237 (Small).JPG"/>
          <p:cNvPicPr/>
          <p:nvPr/>
        </p:nvPicPr>
        <p:blipFill>
          <a:blip r:embed="rId1"/>
          <a:stretch/>
        </p:blipFill>
        <p:spPr>
          <a:xfrm>
            <a:off x="324000" y="-2227320"/>
            <a:ext cx="7343640" cy="9779040"/>
          </a:xfrm>
          <a:prstGeom prst="rect">
            <a:avLst/>
          </a:prstGeom>
          <a:ln w="0">
            <a:noFill/>
          </a:ln>
        </p:spPr>
      </p:pic>
    </p:spTree>
  </p:cSld>
  <p:transition spd="med">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CC55D1B3-0D71-4838-92AB-67DCC5246342}"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91" name="PlaceHolder 1"/>
          <p:cNvSpPr>
            <a:spLocks noGrp="1"/>
          </p:cNvSpPr>
          <p:nvPr>
            <p:ph type="title"/>
          </p:nvPr>
        </p:nvSpPr>
        <p:spPr>
          <a:xfrm>
            <a:off x="71136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Optreden bij brand</a:t>
            </a:r>
            <a:endParaRPr b="0" lang="en-US" sz="4400" spc="-1" strike="noStrike">
              <a:solidFill>
                <a:srgbClr val="008000"/>
              </a:solidFill>
              <a:latin typeface="Times New Roman"/>
            </a:endParaRPr>
          </a:p>
        </p:txBody>
      </p:sp>
      <p:sp>
        <p:nvSpPr>
          <p:cNvPr id="592" name="AutoShape 5"/>
          <p:cNvSpPr/>
          <p:nvPr/>
        </p:nvSpPr>
        <p:spPr>
          <a:xfrm>
            <a:off x="914400" y="1257480"/>
            <a:ext cx="7518240" cy="3921120"/>
          </a:xfrm>
          <a:prstGeom prst="wedgeRoundRectCallout">
            <a:avLst>
              <a:gd name="adj1" fmla="val 24347"/>
              <a:gd name="adj2" fmla="val 63240"/>
              <a:gd name="adj3"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rg voor je eigen veilighei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l 112.</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arschuw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p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elektriciteit af.</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openstaande deu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us of vertraag de bran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edereen in veiligheid?</a:t>
            </a:r>
            <a:endParaRPr b="0" lang="en-US" sz="2800" spc="-1" strike="noStrike">
              <a:solidFill>
                <a:srgbClr val="000000"/>
              </a:solidFill>
              <a:latin typeface="Arial"/>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Laat het ook anderen weten.</a:t>
            </a:r>
            <a:endParaRPr b="0" lang="en-US" sz="2800" spc="-1" strike="noStrike">
              <a:solidFill>
                <a:srgbClr val="000000"/>
              </a:solidFill>
              <a:latin typeface="Arial"/>
            </a:endParaRPr>
          </a:p>
        </p:txBody>
      </p:sp>
      <p:pic>
        <p:nvPicPr>
          <p:cNvPr id="593" name="Picture 8" descr="A:\brandweer2.jpg"/>
          <p:cNvPicPr/>
          <p:nvPr/>
        </p:nvPicPr>
        <p:blipFill>
          <a:blip r:embed="rId1"/>
          <a:stretch/>
        </p:blipFill>
        <p:spPr>
          <a:xfrm>
            <a:off x="5675400" y="3573360"/>
            <a:ext cx="3143160" cy="3208320"/>
          </a:xfrm>
          <a:prstGeom prst="rect">
            <a:avLst/>
          </a:prstGeom>
          <a:ln w="0">
            <a:noFill/>
          </a:ln>
        </p:spPr>
      </p:pic>
    </p:spTree>
  </p:cSld>
  <p:transition spd="med">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Blusmiddel om gasbrand te blussen?</a:t>
            </a:r>
            <a:endParaRPr b="0" lang="en-US" sz="7200" spc="-1" strike="noStrike">
              <a:solidFill>
                <a:srgbClr val="008000"/>
              </a:solidFill>
              <a:latin typeface="Times New Roman"/>
            </a:endParaRPr>
          </a:p>
        </p:txBody>
      </p:sp>
      <p:sp>
        <p:nvSpPr>
          <p:cNvPr id="595"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D6EAFDF5-1A2B-4C04-8FB6-99E33693007A}"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6" name="Tekstvak 3"/>
          <p:cNvSpPr/>
          <p:nvPr/>
        </p:nvSpPr>
        <p:spPr>
          <a:xfrm>
            <a:off x="2124000" y="4076640"/>
            <a:ext cx="2376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poeder</a:t>
            </a:r>
            <a:endParaRPr b="0" lang="en-US" sz="800" spc="-1" strike="noStrike">
              <a:solidFill>
                <a:srgbClr val="000000"/>
              </a:solidFill>
              <a:latin typeface="Arial"/>
            </a:endParaRPr>
          </a:p>
        </p:txBody>
      </p:sp>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Films</a:t>
            </a:r>
            <a:endParaRPr b="0" lang="en-US" sz="4400" spc="-1" strike="noStrike">
              <a:solidFill>
                <a:srgbClr val="008000"/>
              </a:solidFill>
              <a:latin typeface="Times New Roman"/>
            </a:endParaRPr>
          </a:p>
        </p:txBody>
      </p:sp>
      <p:sp>
        <p:nvSpPr>
          <p:cNvPr id="539"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1"/>
              </a:rPr>
              <a:t>Forse uitslaande brand verwoest woning Bildtsestraat Leeuwar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2"/>
              </a:rPr>
              <a:t>http://www.zideo.nl/playzideo/6b3471526d316870</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E14A209-B8E5-4CE1-99FD-E8EF78444EEA}"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Wat is het belangrijkste bij het behandelen van uitwendige brandwonden?</a:t>
            </a:r>
            <a:endParaRPr b="0" lang="en-US" sz="6600" spc="-1" strike="noStrike">
              <a:solidFill>
                <a:srgbClr val="008000"/>
              </a:solidFill>
              <a:latin typeface="Times New Roman"/>
            </a:endParaRPr>
          </a:p>
        </p:txBody>
      </p:sp>
      <p:sp>
        <p:nvSpPr>
          <p:cNvPr id="598"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CA4FF4D-1332-41D7-8027-EF6CB3EF47D9}"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9" name="Tekstvak 3"/>
          <p:cNvSpPr/>
          <p:nvPr/>
        </p:nvSpPr>
        <p:spPr>
          <a:xfrm>
            <a:off x="4427640" y="6453360"/>
            <a:ext cx="151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irect minstens 15 minuten koelen met water</a:t>
            </a:r>
            <a:endParaRPr b="0" lang="en-US" sz="800" spc="-1" strike="noStrike">
              <a:solidFill>
                <a:srgbClr val="000000"/>
              </a:solidFill>
              <a:latin typeface="Arial"/>
            </a:endParaRPr>
          </a:p>
        </p:txBody>
      </p:sp>
    </p:spTree>
  </p:cSld>
  <p:transition spd="med">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8000" y="609120"/>
            <a:ext cx="8928000" cy="217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Welke drie elementen zijn nodig voor het ontstaan van brand?</a:t>
            </a:r>
            <a:endParaRPr b="0" lang="en-US" sz="7200" spc="-1" strike="noStrike">
              <a:solidFill>
                <a:srgbClr val="008000"/>
              </a:solidFill>
              <a:latin typeface="Times New Roman"/>
            </a:endParaRPr>
          </a:p>
        </p:txBody>
      </p:sp>
      <p:sp>
        <p:nvSpPr>
          <p:cNvPr id="601"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EABB3A7-A9CD-483C-83F2-4B90CA16ED10}"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2" name="Tekstvak 3"/>
          <p:cNvSpPr/>
          <p:nvPr/>
        </p:nvSpPr>
        <p:spPr>
          <a:xfrm>
            <a:off x="1619280" y="4365720"/>
            <a:ext cx="18730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 s, zs, ontstekingsenergie</a:t>
            </a:r>
            <a:endParaRPr b="0" lang="en-US" sz="500" spc="-1" strike="noStrike">
              <a:solidFill>
                <a:srgbClr val="000000"/>
              </a:solidFill>
              <a:latin typeface="Arial"/>
            </a:endParaRPr>
          </a:p>
        </p:txBody>
      </p:sp>
    </p:spTree>
  </p:cSld>
  <p:transition spd="med">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Brandklasse C betekent:</a:t>
            </a:r>
            <a:endParaRPr b="0" lang="en-US" sz="6600" spc="-1" strike="noStrike">
              <a:solidFill>
                <a:srgbClr val="008000"/>
              </a:solidFill>
              <a:latin typeface="Times New Roman"/>
            </a:endParaRPr>
          </a:p>
        </p:txBody>
      </p:sp>
      <p:sp>
        <p:nvSpPr>
          <p:cNvPr id="604"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11E78CD5-0031-4809-AEAF-74AA45A0210E}"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5" name="Tekstvak 3"/>
          <p:cNvSpPr/>
          <p:nvPr/>
        </p:nvSpPr>
        <p:spPr>
          <a:xfrm>
            <a:off x="4427640" y="6453360"/>
            <a:ext cx="15127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rand van vaste stof vloeistof gas</a:t>
            </a:r>
            <a:endParaRPr b="0" lang="en-US" sz="500" spc="-1" strike="noStrike">
              <a:solidFill>
                <a:srgbClr val="000000"/>
              </a:solidFill>
              <a:latin typeface="Arial"/>
            </a:endParaRPr>
          </a:p>
        </p:txBody>
      </p:sp>
    </p:spTree>
  </p:cSld>
  <p:transition spd="med">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Een vlampunt is de temperatuur waarbij:</a:t>
            </a:r>
            <a:endParaRPr b="0" lang="en-US" sz="6600" spc="-1" strike="noStrike">
              <a:solidFill>
                <a:srgbClr val="008000"/>
              </a:solidFill>
              <a:latin typeface="Times New Roman"/>
            </a:endParaRPr>
          </a:p>
        </p:txBody>
      </p:sp>
      <p:sp>
        <p:nvSpPr>
          <p:cNvPr id="607"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7FB75AA3-FC71-44A4-98E4-93D6ADE91923}"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8" name="Tekstvak 3"/>
          <p:cNvSpPr/>
          <p:nvPr/>
        </p:nvSpPr>
        <p:spPr>
          <a:xfrm>
            <a:off x="4427640" y="6453360"/>
            <a:ext cx="151272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De damp boven de vloeistof juist aangestoken kan worden</a:t>
            </a:r>
            <a:endParaRPr b="0" lang="en-US" sz="500" spc="-1" strike="noStrike">
              <a:solidFill>
                <a:srgbClr val="000000"/>
              </a:solidFill>
              <a:latin typeface="Arial"/>
            </a:endParaRPr>
          </a:p>
        </p:txBody>
      </p:sp>
    </p:spTree>
  </p:cSld>
  <p:transition spd="med">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0"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F24877BD-D906-41DA-B479-C3C22DEEFA16}"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DA5FA17E-C3CE-40E3-B74E-E7DD9789C131}"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driehoek</a:t>
            </a:r>
            <a:endParaRPr b="0" lang="en-US" sz="4400" spc="-1" strike="noStrike">
              <a:solidFill>
                <a:srgbClr val="008000"/>
              </a:solidFill>
              <a:latin typeface="Times New Roman"/>
            </a:endParaRPr>
          </a:p>
        </p:txBody>
      </p:sp>
      <p:sp>
        <p:nvSpPr>
          <p:cNvPr id="543" name="PlaceHolder 2"/>
          <p:cNvSpPr>
            <a:spLocks noGrp="1"/>
          </p:cNvSpPr>
          <p:nvPr>
            <p:ph/>
          </p:nvPr>
        </p:nvSpPr>
        <p:spPr>
          <a:xfrm>
            <a:off x="507960" y="2228400"/>
            <a:ext cx="7772400" cy="4513320"/>
          </a:xfrm>
          <a:prstGeom prst="rect">
            <a:avLst/>
          </a:prstGeom>
          <a:noFill/>
          <a:ln w="0">
            <a:noFill/>
          </a:ln>
        </p:spPr>
        <p:txBody>
          <a:bodyPr anchor="t">
            <a:normAutofit/>
          </a:bodyPr>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rie zaken die nodig zijn voor brand:</a:t>
            </a:r>
            <a:endParaRPr b="0" lang="en-US" sz="32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randbare stof</a:t>
            </a:r>
            <a:endParaRPr b="0" lang="en-US" sz="2800" spc="-1" strike="noStrike">
              <a:solidFill>
                <a:srgbClr val="000000"/>
              </a:solidFill>
              <a:latin typeface="Times New Roman"/>
            </a:endParaRPr>
          </a:p>
          <a:p>
            <a:pPr marL="476280" indent="-38088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uurstof </a:t>
            </a:r>
            <a:r>
              <a:rPr b="0" i="1" lang="nl-NL" sz="2400" spc="-1" strike="noStrike">
                <a:solidFill>
                  <a:srgbClr val="000000"/>
                </a:solidFill>
                <a:latin typeface="Times New Roman"/>
              </a:rPr>
              <a:t>	</a:t>
            </a:r>
            <a:r>
              <a:rPr b="0" i="1" lang="nl-NL" sz="2400" spc="-1" strike="noStrike">
                <a:solidFill>
                  <a:srgbClr val="000000"/>
                </a:solidFill>
                <a:latin typeface="Times New Roman"/>
              </a:rPr>
              <a:t>(jaagt vuur aan)</a:t>
            </a:r>
            <a:endParaRPr b="0" lang="en-US" sz="24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emperatuur of ontstekingsbron</a:t>
            </a:r>
            <a:endParaRPr b="0" lang="en-US" sz="2800" spc="-1" strike="noStrike">
              <a:solidFill>
                <a:srgbClr val="000000"/>
              </a:solidFill>
              <a:latin typeface="Times New Roman"/>
            </a:endParaRPr>
          </a:p>
        </p:txBody>
      </p:sp>
      <p:pic>
        <p:nvPicPr>
          <p:cNvPr id="544" name="Picture 6" descr=""/>
          <p:cNvPicPr/>
          <p:nvPr/>
        </p:nvPicPr>
        <p:blipFill>
          <a:blip r:embed="rId1"/>
          <a:stretch/>
        </p:blipFill>
        <p:spPr>
          <a:xfrm>
            <a:off x="2987640" y="1773360"/>
            <a:ext cx="2840040" cy="2646360"/>
          </a:xfrm>
          <a:prstGeom prst="rect">
            <a:avLst/>
          </a:prstGeom>
          <a:ln w="0">
            <a:noFill/>
          </a:ln>
        </p:spPr>
      </p:pic>
    </p:spTree>
  </p:cSld>
  <p:transition spd="med">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pic>
        <p:nvPicPr>
          <p:cNvPr id="546" name="" descr=""/>
          <p:cNvPicPr/>
          <p:nvPr/>
        </p:nvPicPr>
        <p:blipFill>
          <a:blip r:embed="rId1"/>
          <a:stretch/>
        </p:blipFill>
        <p:spPr>
          <a:xfrm>
            <a:off x="711360" y="2000160"/>
            <a:ext cx="7772400" cy="4114800"/>
          </a:xfrm>
          <a:prstGeom prst="rect">
            <a:avLst/>
          </a:prstGeom>
          <a:ln w="0">
            <a:noFill/>
          </a:ln>
        </p:spPr>
      </p:pic>
      <p:sp>
        <p:nvSpPr>
          <p:cNvPr id="54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47F677F-6F6C-40F6-A0AF-CE00924C51CF}"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48" name="Picture 2" descr="http://mediaprovider.kennisnet.nl/MediaProvider/img/12603003.jpg"/>
          <p:cNvPicPr/>
          <p:nvPr/>
        </p:nvPicPr>
        <p:blipFill>
          <a:blip r:embed="rId2"/>
          <a:stretch/>
        </p:blipFill>
        <p:spPr>
          <a:xfrm>
            <a:off x="611280" y="0"/>
            <a:ext cx="7416720" cy="6910560"/>
          </a:xfrm>
          <a:prstGeom prst="rect">
            <a:avLst/>
          </a:prstGeom>
          <a:ln w="0">
            <a:noFill/>
          </a:ln>
        </p:spPr>
      </p:pic>
    </p:spTree>
  </p:cSld>
  <p:transition spd="med">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D2CF746F-08E3-4D9A-9E95-5F1B5019AF59}"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50" name="PlaceHolder 1"/>
          <p:cNvSpPr>
            <a:spLocks noGrp="1"/>
          </p:cNvSpPr>
          <p:nvPr>
            <p:ph type="title"/>
          </p:nvPr>
        </p:nvSpPr>
        <p:spPr>
          <a:xfrm>
            <a:off x="787320" y="5140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xplosies</a:t>
            </a:r>
            <a:endParaRPr b="0" lang="en-US" sz="4400" spc="-1" strike="noStrike">
              <a:solidFill>
                <a:srgbClr val="008000"/>
              </a:solidFill>
              <a:latin typeface="Times New Roman"/>
            </a:endParaRPr>
          </a:p>
        </p:txBody>
      </p:sp>
      <p:sp>
        <p:nvSpPr>
          <p:cNvPr id="551" name="PlaceHolder 2"/>
          <p:cNvSpPr>
            <a:spLocks noGrp="1"/>
          </p:cNvSpPr>
          <p:nvPr>
            <p:ph/>
          </p:nvPr>
        </p:nvSpPr>
        <p:spPr>
          <a:xfrm>
            <a:off x="685800" y="1371240"/>
            <a:ext cx="7772400" cy="4915080"/>
          </a:xfrm>
          <a:prstGeom prst="rect">
            <a:avLst/>
          </a:prstGeom>
          <a:noFill/>
          <a:ln w="0">
            <a:noFill/>
          </a:ln>
        </p:spPr>
        <p:txBody>
          <a:bodyPr anchor="t">
            <a:normAutofit fontScale="96000"/>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randing erg snel? </a:t>
            </a:r>
            <a:r>
              <a:rPr b="1" lang="nl-NL" sz="3200" spc="-1" strike="noStrike">
                <a:solidFill>
                  <a:srgbClr val="000000"/>
                </a:solidFill>
                <a:latin typeface="Times New Roman"/>
              </a:rPr>
              <a:t>Explosie</a:t>
            </a:r>
            <a:endParaRPr b="0" lang="en-US" sz="32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leen tussen LEL en HEL is explosie of brand mogelijk.</a:t>
            </a:r>
            <a:endParaRPr b="0" lang="en-US" sz="3200" spc="-1" strike="noStrike">
              <a:solidFill>
                <a:srgbClr val="000000"/>
              </a:solidFill>
              <a:latin typeface="Times New Roman"/>
            </a:endParaRPr>
          </a:p>
          <a:p>
            <a:pPr marL="4572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xplosiegrens:</a:t>
            </a:r>
            <a:endParaRPr b="0" lang="en-US" sz="32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L-niveau</a:t>
            </a:r>
            <a:r>
              <a:rPr b="0" lang="nl-NL" sz="2400" spc="-1" strike="noStrike">
                <a:solidFill>
                  <a:srgbClr val="000000"/>
                </a:solidFill>
                <a:latin typeface="Times New Roman"/>
              </a:rPr>
              <a:t> </a:t>
            </a:r>
            <a:r>
              <a:rPr b="0" i="1" lang="nl-NL" sz="2400" spc="-1" strike="noStrike">
                <a:solidFill>
                  <a:srgbClr val="000000"/>
                </a:solidFill>
                <a:latin typeface="Times New Roman"/>
              </a:rPr>
              <a:t>(Lowest Explosion Limit)</a:t>
            </a:r>
            <a:endParaRPr b="0" lang="en-US" sz="24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niveau </a:t>
            </a:r>
            <a:r>
              <a:rPr b="0" i="1" lang="nl-NL" sz="2400" spc="-1" strike="noStrike">
                <a:solidFill>
                  <a:srgbClr val="000000"/>
                </a:solidFill>
                <a:latin typeface="Times New Roman"/>
              </a:rPr>
              <a:t>(Highest Explosion Limit)</a:t>
            </a:r>
            <a:endParaRPr b="0" lang="en-US" sz="2400" spc="-1" strike="noStrike">
              <a:solidFill>
                <a:srgbClr val="000000"/>
              </a:solidFill>
              <a:latin typeface="Times New Roman"/>
            </a:endParaRPr>
          </a:p>
        </p:txBody>
      </p:sp>
      <p:pic>
        <p:nvPicPr>
          <p:cNvPr id="552" name="Picture 5" descr="D:\IPC\VCA\LELHEL24.jpg"/>
          <p:cNvPicPr/>
          <p:nvPr/>
        </p:nvPicPr>
        <p:blipFill>
          <a:blip r:embed="rId1"/>
          <a:srcRect l="0" t="0" r="0" b="19685"/>
          <a:stretch/>
        </p:blipFill>
        <p:spPr>
          <a:xfrm>
            <a:off x="755640" y="1828800"/>
            <a:ext cx="7677000" cy="1538280"/>
          </a:xfrm>
          <a:prstGeom prst="rect">
            <a:avLst/>
          </a:prstGeom>
          <a:ln w="0">
            <a:noFill/>
          </a:ln>
        </p:spPr>
      </p:pic>
      <p:sp>
        <p:nvSpPr>
          <p:cNvPr id="553" name="Text Box 6"/>
          <p:cNvSpPr/>
          <p:nvPr/>
        </p:nvSpPr>
        <p:spPr>
          <a:xfrm>
            <a:off x="2641680" y="22860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xplosie mogelijk</a:t>
            </a:r>
            <a:endParaRPr b="0" lang="en-US" sz="2000" spc="-1" strike="noStrike">
              <a:solidFill>
                <a:srgbClr val="000000"/>
              </a:solidFill>
              <a:latin typeface="Arial"/>
            </a:endParaRPr>
          </a:p>
        </p:txBody>
      </p:sp>
    </p:spTree>
  </p:cSld>
  <p:transition spd="med">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nderste explosiegrens (LEL)</a:t>
            </a:r>
            <a:endParaRPr b="0" lang="en-US" sz="4400" spc="-1" strike="noStrike">
              <a:solidFill>
                <a:srgbClr val="008000"/>
              </a:solidFill>
              <a:latin typeface="Times New Roman"/>
            </a:endParaRPr>
          </a:p>
        </p:txBody>
      </p:sp>
      <p:sp>
        <p:nvSpPr>
          <p:cNvPr id="555"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concentratie brandbaar gas of damp die  minimaal aanwezig moet zijn </a:t>
            </a:r>
            <a:r>
              <a:rPr b="1" lang="nl-NL" sz="3200" spc="-1" strike="noStrike">
                <a:solidFill>
                  <a:srgbClr val="000000"/>
                </a:solidFill>
                <a:latin typeface="Times New Roman"/>
              </a:rPr>
              <a:t>om een explosie te veroorzaken</a:t>
            </a:r>
            <a:endParaRPr b="0" lang="en-US" sz="3200" spc="-1" strike="noStrike">
              <a:solidFill>
                <a:srgbClr val="000000"/>
              </a:solidFill>
              <a:latin typeface="Times New Roman"/>
            </a:endParaRPr>
          </a:p>
        </p:txBody>
      </p:sp>
      <p:sp>
        <p:nvSpPr>
          <p:cNvPr id="55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5AF73F7-2C64-428D-BC5A-03539FF147CA}"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58"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laagste temperatuur waarbij een vloeistof zoveel ontvlambare damp ontwikkelt, dat deze in de aanwezige lucht met een vlam aangestoken kan worden.</a:t>
            </a:r>
            <a:endParaRPr b="0" lang="en-US" sz="3200" spc="-1" strike="noStrike">
              <a:solidFill>
                <a:srgbClr val="000000"/>
              </a:solidFill>
              <a:latin typeface="Times New Roman"/>
            </a:endParaRPr>
          </a:p>
        </p:txBody>
      </p:sp>
      <p:sp>
        <p:nvSpPr>
          <p:cNvPr id="55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03DF47E-24A1-498A-8B5A-02EB7D5BC826}"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61"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nzine: -20 gra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esel: +60 Graden Celsius</a:t>
            </a:r>
            <a:br>
              <a:rPr sz="3200"/>
            </a:br>
            <a:br>
              <a:rPr sz="3200"/>
            </a:br>
            <a:r>
              <a:rPr b="0" lang="nl-NL" sz="3200" spc="-1" strike="noStrike">
                <a:solidFill>
                  <a:srgbClr val="000000"/>
                </a:solidFill>
                <a:latin typeface="Times New Roman"/>
              </a:rPr>
              <a:t>De diesel zelf moet dus opgewarmd zijn tot 60C wil hij dus brandbare DAMPEN gaan afgev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A9C01E1-A420-4940-9C09-1B330C04A560}"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ther</a:t>
            </a:r>
            <a:endParaRPr b="0" lang="en-US" sz="4400" spc="-1" strike="noStrike">
              <a:solidFill>
                <a:srgbClr val="008000"/>
              </a:solidFill>
              <a:latin typeface="Times New Roman"/>
            </a:endParaRPr>
          </a:p>
        </p:txBody>
      </p:sp>
      <p:sp>
        <p:nvSpPr>
          <p:cNvPr id="564" name=""/>
          <p:cNvSpPr txBox="1"/>
          <p:nvPr/>
        </p:nvSpPr>
        <p:spPr>
          <a:xfrm>
            <a:off x="711360" y="2000160"/>
            <a:ext cx="7772400" cy="4114800"/>
          </a:xfrm>
          <a:prstGeom prst="rect">
            <a:avLst/>
          </a:prstGeom>
          <a:noFill/>
          <a:ln w="0">
            <a:noFill/>
          </a:ln>
        </p:spPr>
        <p:txBody>
          <a:bodyPr anchor="t">
            <a:normAutofit fontScale="95000"/>
          </a:bodyPr>
          <a:p>
            <a:pPr marL="9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mpunt van -45 °C. Zelfs als het in een koelkast wordt bewaard, kan er voldoende damp vrijkomen om een explosie te veroorzaken. De damp kan tot explosieve verbranding komen door een vonk van de schakelaar die het lampje aan- en uitschakelt. Ether wordt daarom in een explosieveilige koelkast bewaard, waarin alle elektrische onderdelen afgeschermd zijn.</a:t>
            </a:r>
            <a:endParaRPr b="0" lang="en-US" sz="3200" spc="-1" strike="noStrike">
              <a:solidFill>
                <a:srgbClr val="000000"/>
              </a:solidFill>
              <a:latin typeface="Times New Roman"/>
            </a:endParaRPr>
          </a:p>
        </p:txBody>
      </p:sp>
      <p:sp>
        <p:nvSpPr>
          <p:cNvPr id="5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D1944F70-5652-4C03-866E-7A2FBEEE2533}"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08:16:30Z</dcterms:created>
  <dc:creator>A.Bakker</dc:creator>
  <dc:description/>
  <dc:language>en-US</dc:language>
  <cp:lastModifiedBy>Dick van der Neut</cp:lastModifiedBy>
  <cp:lastPrinted>2000-10-11T12:57:01Z</cp:lastPrinted>
  <dcterms:modified xsi:type="dcterms:W3CDTF">2012-11-02T13:24:07Z</dcterms:modified>
  <cp:revision>179</cp:revision>
  <dc:subject>Basisveiligheid sheets</dc:subject>
  <dc:title>Geen diatitel</dc:title>
</cp:coreProperties>
</file>