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8.png" ContentType="image/png"/>
  <Override PartName="/ppt/media/image14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9.jpeg" ContentType="image/jpe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F1C301-92FD-466D-B889-A805DB922521}" type="datetime">
              <a:rPr b="0" lang="nl-NL" sz="1200" spc="-1" strike="noStrike">
                <a:solidFill>
                  <a:srgbClr val="000000"/>
                </a:solidFill>
                <a:latin typeface="Calibri"/>
              </a:rPr>
              <a:t>29-07-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1607C23-B611-4EDF-8D97-6D15FBD11F8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E4849F1-00A0-4D2F-93C1-77B82F55F6A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3C3CD-7762-4019-8513-DA142778E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3546E-6217-4C44-9714-FEFFA841E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22B64-9251-4F36-A9DB-DB6DB35A7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3AAA5-CB96-4BB7-831B-0CBC9D78C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17128-926B-40C8-A4EC-FB2A58C25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81375-A24D-4454-9812-0982163DB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990D7-042A-44AB-B094-A7C4B81C3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25F93-65B6-458A-AC35-B71C70536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3BFAA-DAAA-47CC-9DC1-4D8CC6D4B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2B83D-416E-449C-9D0E-291BB9233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48D9F-7A5E-4E93-BDE1-DD319FCC9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96C39-A6A9-43B1-8DF8-5F639E8A9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4290BB2-48A7-4001-B984-3D678302BB94}" type="datetime">
              <a:rPr b="0" lang="nl-NL" sz="1200" spc="-1" strike="noStrike">
                <a:solidFill>
                  <a:srgbClr val="898989"/>
                </a:solidFill>
                <a:latin typeface="Calibri"/>
              </a:rPr>
              <a:t>29-07-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2929B83-A4BD-416C-87D5-485DFB5C7816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google.nl/url?sa=i&amp;rct=j&amp;q=foto+vliegveld+faro&amp;source=images&amp;cd=&amp;cad=rja&amp;docid=EMeTGB2Jw1tcDM&amp;tbnid=53LNAPCSM4noaM:&amp;ved=0CAUQjRw&amp;url=http%3A%2F%2Fvakantie.sunplugged.nl%2Fportugal%2Falbufeira-portugal-vliegveld.html&amp;ei=AiUKUbb2GeHV0QWRkoGICA&amp;bvm=bv.41642243,d.d2k&amp;psig=AFQjCNE-HBVo67g2CjM_yEi2b8pCHupx1w&amp;ust=1359705551933405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"/>
          <p:cNvPicPr/>
          <p:nvPr/>
        </p:nvPicPr>
        <p:blipFill>
          <a:blip r:embed="rId1"/>
          <a:stretch/>
        </p:blipFill>
        <p:spPr>
          <a:xfrm>
            <a:off x="76320" y="344520"/>
            <a:ext cx="9009000" cy="63532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5400" spc="-1" strike="noStrike">
                <a:solidFill>
                  <a:srgbClr val="000000"/>
                </a:solidFill>
                <a:latin typeface="Calibri"/>
              </a:rPr>
              <a:t>Franse les (basic)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6" descr=""/>
          <p:cNvPicPr/>
          <p:nvPr/>
        </p:nvPicPr>
        <p:blipFill>
          <a:blip r:embed="rId2"/>
          <a:stretch/>
        </p:blipFill>
        <p:spPr>
          <a:xfrm>
            <a:off x="2705040" y="1787400"/>
            <a:ext cx="3751200" cy="438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hartjes"/>
          <p:cNvPicPr/>
          <p:nvPr/>
        </p:nvPicPr>
        <p:blipFill>
          <a:blip r:embed="rId2"/>
          <a:stretch/>
        </p:blipFill>
        <p:spPr>
          <a:xfrm>
            <a:off x="3247920" y="915840"/>
            <a:ext cx="2084400" cy="174492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nl-NL" sz="3600" spc="-1" strike="noStrike">
                <a:solidFill>
                  <a:srgbClr val="000000"/>
                </a:solidFill>
                <a:latin typeface="Calibri"/>
              </a:rPr>
              <a:t>Iemand versieren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125280" y="1600200"/>
            <a:ext cx="8909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Je lacht zo lief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Vous sourire si doux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Je hebt zulke mooie ogen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Vous avez ce jolis yeux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Zullen we dansen?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Nous danserons?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Je danst heel goed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Tu danses très bie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Ik vind het fijn om bij je te zijn 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Je pense que c’est très agréable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d’être avec vou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Ik heb van je gedroomd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J’ai rêvè de vou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Ik moet de hele dag aan je denken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J’ai besoin tous les jour à penser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de vou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Dat zeggen ze allemaal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Qu’ils disent tou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Laten we geen risico nemen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Ne prenons pa de risque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Wanneer zie ik je weer?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Quand je vous reverrai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?</a:t>
            </a: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hthoek 1"/>
          <p:cNvSpPr/>
          <p:nvPr/>
        </p:nvSpPr>
        <p:spPr>
          <a:xfrm>
            <a:off x="996840" y="636480"/>
            <a:ext cx="7759800" cy="58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5400" spc="-1" strike="noStrike">
                <a:solidFill>
                  <a:srgbClr val="660066"/>
                </a:solidFill>
                <a:latin typeface="Matura MT Script Capitals"/>
              </a:rPr>
              <a:t>Natuurlijk duurt het even eer je de taal goed beheerst…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5400" spc="-1" strike="noStrike">
                <a:solidFill>
                  <a:srgbClr val="660066"/>
                </a:solidFill>
                <a:latin typeface="Matura MT Script Capitals"/>
              </a:rPr>
              <a:t>Mocht je meer willen weten. Vraag het aan je docent Frans op schoo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5" descr="http://www.paradise-in-portugal.com/blog/wp-content/uploads/2008/12/faro-airport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39760" y="31896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52" name="Tekstvak 5"/>
          <p:cNvSpPr/>
          <p:nvPr/>
        </p:nvSpPr>
        <p:spPr>
          <a:xfrm>
            <a:off x="2936880" y="318960"/>
            <a:ext cx="5622840" cy="4421880"/>
          </a:xfrm>
          <a:prstGeom prst="rect">
            <a:avLst/>
          </a:prstGeom>
          <a:solidFill>
            <a:srgbClr val="c6d9f1">
              <a:alpha val="4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200" spc="-1" strike="noStrike">
                <a:solidFill>
                  <a:srgbClr val="9f0000"/>
                </a:solidFill>
                <a:latin typeface="Calibri"/>
              </a:rPr>
              <a:t>Op de luchtha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Arrivée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Aankom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Départ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Vertr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Douane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Doua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Bagage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Bag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Passaport s’il vous plaît.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Paspoort a.u.b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Où irez-vous?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Waar gaat u naar to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À Paris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Naar Parij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Dit is niet mijn tas/koffer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Ce n’est pas ma sac/vali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Er ontbreekt nog een tas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Il manque toujours un sa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Ik kom uit Holland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Je suis originaire de Hollan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groeten  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270080"/>
            <a:ext cx="8229600" cy="509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Hallo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Salu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Dag mevrouw 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Au revoir mad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Goedenavond mijnheer 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Bonsoir monsieu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Ik heet.. 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Je nomme…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Ik ben …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Je suis…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Aangenaam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Agréab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Hoe gaat het ermee?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Comment avez-vous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Prima, en met u?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Très bien et avec vous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Niet zo goed.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Pas si bon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Tot ziens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Au revoir, salu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Tot snel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À bientô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Goede nacht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Bonne nui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Ja, natuurlijk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Oui, bien sû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Nee, het spijt me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Non, je suis désolé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Ik weet het niet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Je ne sais pa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Bedankt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Merc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Geen dank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de rie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Pardon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Pardo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Alstublieft (als je iets aangeeft) 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bon sa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Alstublieft (als je iets vraagt) 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S’il te plaî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Afbeelding 3" descr=""/>
          <p:cNvPicPr/>
          <p:nvPr/>
        </p:nvPicPr>
        <p:blipFill>
          <a:blip r:embed="rId1"/>
          <a:stretch/>
        </p:blipFill>
        <p:spPr>
          <a:xfrm>
            <a:off x="1936800" y="274680"/>
            <a:ext cx="1214280" cy="1130400"/>
          </a:xfrm>
          <a:prstGeom prst="rect">
            <a:avLst/>
          </a:prstGeom>
          <a:ln w="0">
            <a:noFill/>
          </a:ln>
        </p:spPr>
      </p:pic>
      <p:sp>
        <p:nvSpPr>
          <p:cNvPr id="56" name="AutoShape 15"/>
          <p:cNvSpPr/>
          <p:nvPr/>
        </p:nvSpPr>
        <p:spPr>
          <a:xfrm>
            <a:off x="63360" y="-154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17"/>
          <p:cNvSpPr/>
          <p:nvPr/>
        </p:nvSpPr>
        <p:spPr>
          <a:xfrm>
            <a:off x="216000" y="-144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19"/>
          <p:cNvSpPr/>
          <p:nvPr/>
        </p:nvSpPr>
        <p:spPr>
          <a:xfrm>
            <a:off x="368280" y="15084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21"/>
          <p:cNvSpPr/>
          <p:nvPr/>
        </p:nvSpPr>
        <p:spPr>
          <a:xfrm>
            <a:off x="520560" y="3031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" descr=""/>
          <p:cNvPicPr/>
          <p:nvPr/>
        </p:nvPicPr>
        <p:blipFill>
          <a:blip r:embed="rId2"/>
          <a:stretch/>
        </p:blipFill>
        <p:spPr>
          <a:xfrm>
            <a:off x="6119640" y="839880"/>
            <a:ext cx="1987560" cy="15764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4" descr=""/>
          <p:cNvPicPr/>
          <p:nvPr/>
        </p:nvPicPr>
        <p:blipFill>
          <a:blip r:embed="rId3"/>
          <a:stretch/>
        </p:blipFill>
        <p:spPr>
          <a:xfrm>
            <a:off x="7283520" y="2725560"/>
            <a:ext cx="1646280" cy="11448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5" descr=""/>
          <p:cNvPicPr/>
          <p:nvPr/>
        </p:nvPicPr>
        <p:blipFill>
          <a:blip r:embed="rId4"/>
          <a:stretch/>
        </p:blipFill>
        <p:spPr>
          <a:xfrm>
            <a:off x="5611680" y="4302000"/>
            <a:ext cx="249552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5" descr=""/>
          <p:cNvPicPr/>
          <p:nvPr/>
        </p:nvPicPr>
        <p:blipFill>
          <a:blip r:embed="rId1"/>
          <a:stretch/>
        </p:blipFill>
        <p:spPr>
          <a:xfrm>
            <a:off x="142920" y="1417680"/>
            <a:ext cx="8858160" cy="504972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2920" y="274320"/>
            <a:ext cx="8858160" cy="1143000"/>
          </a:xfrm>
          <a:prstGeom prst="rect">
            <a:avLst/>
          </a:prstGeom>
          <a:solidFill>
            <a:srgbClr val="000000">
              <a:alpha val="54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Calibri"/>
              </a:rPr>
              <a:t>Openbaar vervoer</a:t>
            </a:r>
            <a:r>
              <a:rPr b="1" lang="nl-NL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nl-NL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nl-NL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nl-NL" sz="3200" spc="-1" strike="noStrike">
                <a:solidFill>
                  <a:srgbClr val="ffffff"/>
                </a:solidFill>
                <a:latin typeface="Calibri"/>
              </a:rPr>
              <a:t>Transport en commun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599840"/>
            <a:ext cx="7445520" cy="4172040"/>
          </a:xfrm>
          <a:prstGeom prst="rect">
            <a:avLst/>
          </a:prstGeom>
          <a:solidFill>
            <a:srgbClr val="000000">
              <a:alpha val="39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TREINE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 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Rapide/express 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= sneltrei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Train intercity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= intercit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TGV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= Hoge snelheidslij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Thalys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= Trein die rijdt vanaf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Amsterdam via Brussel naar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Parijs!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0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nl-NL" sz="3000" spc="-1" strike="noStrike">
                <a:solidFill>
                  <a:srgbClr val="000000"/>
                </a:solidFill>
                <a:latin typeface="Calibri"/>
              </a:rPr>
              <a:t>_x0016_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ee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Waar?                   Où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209520" y="1600200"/>
            <a:ext cx="8732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deze trein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Ce tra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deze bus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Ce bu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Où irez-vous?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Waar gaat u naar toe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Waar gaat deze trein naar toe?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Où aller ce train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Stopt deze bus in Faro?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Ce bus s’arrête à Paris?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Wilt u me zeggen waar ik moet uitstappen?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Pourriez-vous me dire où je dois descendre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Voici le.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Hier is het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Où se trouve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Waar is …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le bus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de bu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la toilette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de w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la rue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de straa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le Bureau de poste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het postkanto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la boîte aux lettres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de brievenbu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une banque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een ba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man_3pijlen_3622913"/>
          <p:cNvPicPr/>
          <p:nvPr/>
        </p:nvPicPr>
        <p:blipFill>
          <a:blip r:embed="rId1"/>
          <a:stretch/>
        </p:blipFill>
        <p:spPr>
          <a:xfrm>
            <a:off x="1832040" y="1495440"/>
            <a:ext cx="5060880" cy="50418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 txBox="1"/>
          <p:nvPr/>
        </p:nvSpPr>
        <p:spPr>
          <a:xfrm>
            <a:off x="0" y="777960"/>
            <a:ext cx="9144000" cy="53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Bank Gothic Light"/>
              </a:rPr>
              <a:t>            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rechtdoor = tout droit          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links = gauche 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               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rechts =        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droi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900" spc="-1" strike="noStrike">
                <a:solidFill>
                  <a:srgbClr val="000000"/>
                </a:solidFill>
                <a:latin typeface="Calibri"/>
              </a:rPr>
              <a:t>Ce qui coûte…</a:t>
            </a:r>
            <a:r>
              <a:rPr b="1" lang="nl-NL" sz="2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2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2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2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2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2900" spc="-1" strike="noStrike">
                <a:solidFill>
                  <a:srgbClr val="000000"/>
                </a:solidFill>
                <a:latin typeface="Calibri"/>
              </a:rPr>
              <a:t>Wat kost …</a:t>
            </a:r>
            <a:br>
              <a:rPr sz="36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un seul voyage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… een enkele rei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un billet de retour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… een retou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un ticket/ un billet d’aller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… een kaartj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Un voyage aller simple à Paris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Een enkele reis naar Parij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Un aller-retour pour l’aéroport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Een retourtje naar de luchthaven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Nous sommes à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We zijn met … person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Votre billet s’il vous plaît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Uw kaartje, alstublief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La prochaine station es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….  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et volgende station is…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3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Tekstvak 6"/>
          <p:cNvSpPr/>
          <p:nvPr/>
        </p:nvSpPr>
        <p:spPr>
          <a:xfrm>
            <a:off x="457200" y="546876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1 un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2 deux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3 trois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4 quatre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5 cinq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6 six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7 sept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8 huit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9 neuf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10 di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7" descr=""/>
          <p:cNvPicPr/>
          <p:nvPr/>
        </p:nvPicPr>
        <p:blipFill>
          <a:blip r:embed="rId1"/>
          <a:stretch/>
        </p:blipFill>
        <p:spPr>
          <a:xfrm>
            <a:off x="6591240" y="878040"/>
            <a:ext cx="2327400" cy="10792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8" descr=""/>
          <p:cNvPicPr/>
          <p:nvPr/>
        </p:nvPicPr>
        <p:blipFill>
          <a:blip r:embed="rId2"/>
          <a:stretch/>
        </p:blipFill>
        <p:spPr>
          <a:xfrm>
            <a:off x="2763720" y="990720"/>
            <a:ext cx="1808280" cy="135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Afbeelding 5" descr=""/>
          <p:cNvPicPr/>
          <p:nvPr/>
        </p:nvPicPr>
        <p:blipFill>
          <a:blip r:embed="rId1"/>
          <a:stretch/>
        </p:blipFill>
        <p:spPr>
          <a:xfrm>
            <a:off x="0" y="0"/>
            <a:ext cx="2004840" cy="229068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talen 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   Pay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0" y="1244520"/>
            <a:ext cx="9144000" cy="472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Waar is de kassa?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Où est la caiss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De rekening a.u.b.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Le compte s’il vous plaît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Alles bij elkaar.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Dans l’ensembl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Ieder betaalt afzonderlijk.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Chargés chacun séparément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Wat kost het?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Combien cela coûte-t-il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Kan ik met een creditkaart betalen?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Puis-je payer par carte de crédi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Houdt u het wisselgeld maar.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S’il vous plaît changer mai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Kunt u me een bonnetje geven?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Pourez-vous me donner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l’ingénieur de bon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Dat vind ik te duur.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Ce que je trouve trop cher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Dit klopt niet.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Ce n’est pas vrai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kstvak 3"/>
          <p:cNvSpPr/>
          <p:nvPr/>
        </p:nvSpPr>
        <p:spPr>
          <a:xfrm>
            <a:off x="0" y="0"/>
            <a:ext cx="9144000" cy="64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La carte de menu</a:t>
            </a: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de menuka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Le démarreur à chaud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het warme voorgerec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En entrée, je prends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Als voorgerecht neem ik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Les lasagnes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de lasag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Le plat de riz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het rijstgerec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Riz avec poisson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rijst met v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600" spc="-1" strike="noStrike">
                <a:solidFill>
                  <a:srgbClr val="0066ff"/>
                </a:solidFill>
                <a:latin typeface="Lucida Handwriting"/>
              </a:rPr>
              <a:t>Le plat principal</a:t>
            </a:r>
            <a:r>
              <a:rPr b="1" lang="nl-NL" sz="1600" spc="-1" strike="noStrike">
                <a:solidFill>
                  <a:srgbClr val="0066ff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66ff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66ff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66ff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66ff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66ff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66ff"/>
                </a:solidFill>
                <a:latin typeface="Lucida Handwriting"/>
              </a:rPr>
              <a:t>het hoofdgerec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En plat principal, je prends…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als hoofdgerecht neem ik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La côtelette de porc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de karbona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Le champignon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de paddensto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Côtelette de porc avec champignons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karbonade met paddenstoel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L’augbergine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de auberg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Augbergine au fromage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aubergines met ka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Lucida Handwriting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Le plat d’accompagnement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het bijgerec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Et comme plat d’accompagnement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En als bijgerech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La salade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de sala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La pomme de terre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de aardapp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Cuit au four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gebakk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Les frites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de frietj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Le pain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het broo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600" spc="-1" strike="noStrike">
                <a:solidFill>
                  <a:srgbClr val="0066ff"/>
                </a:solidFill>
                <a:latin typeface="Lucida Handwriting"/>
              </a:rPr>
              <a:t>Dessert sucré</a:t>
            </a:r>
            <a:r>
              <a:rPr b="1" lang="nl-NL" sz="1600" spc="-1" strike="noStrike">
                <a:solidFill>
                  <a:srgbClr val="0066ff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66ff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66ff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66ff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66ff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66ff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66ff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66ff"/>
                </a:solidFill>
                <a:latin typeface="Lucida Handwriting"/>
              </a:rPr>
              <a:t>Zoete nagerech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18:24:43Z</dcterms:created>
  <dc:creator>Govert en Yvonne Visser-Koorengevel</dc:creator>
  <dc:description/>
  <dc:language>en-US</dc:language>
  <cp:lastModifiedBy>reedijkr</cp:lastModifiedBy>
  <dcterms:modified xsi:type="dcterms:W3CDTF">2013-01-31T14:54:45Z</dcterms:modified>
  <cp:revision>52</cp:revision>
  <dc:subject/>
  <dc:title>Dia 1</dc:title>
</cp:coreProperties>
</file>