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32263-3790-44BC-8AFB-757C4201A11E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884CF-4228-499D-BA11-8F0489A811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C9F39-4F08-484B-B812-C130EB5459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E55-4240-4016-9E38-95815458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6C5E-574C-4640-A295-CF86F367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8AA1-1555-45A0-A36D-D86BC72F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CE7-F65D-4BBA-98F4-F4616812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1E4-B24F-4D7E-B9D8-920672F5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500-190A-4C6A-9013-BF199C6C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671-30BF-4E80-91CB-AE4A8DE9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2DD2-8377-409B-ACD2-94745E33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057-64A7-46DE-BDDA-91AAC985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27E-0A42-4BE6-9BFC-2C79B900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F3E-6AD3-402A-B24F-94FFA292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B31-71FB-4F55-93D5-404D719B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3A1FF-5419-4386-8204-9EB5A20034C6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F8028-84EC-43B6-A880-BF374063572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1:04Z</dcterms:modified>
  <cp:revision>30</cp:revision>
  <dc:subject/>
  <dc:title>Dia 1</dc:title>
</cp:coreProperties>
</file>