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DAA4D-E978-425D-BA47-E6D469272F14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1F03E-4769-4E02-B21E-2E1F4089E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F36A4-C102-4AE3-8179-08448612E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7AC-2B3B-4EFA-8540-56F38139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1C9-717D-48B5-BB1C-4D54FFC3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E74-727F-4B67-B9C1-BA092C13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045-8391-4472-92A3-BDE47AC4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9F4-4454-43A5-AC78-4C1ABE9C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6DA-CCF3-4744-950E-C32854A6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479-9CAE-4D36-852E-D787483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837-2C8D-4162-8D99-EED4C446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289-BAD3-43F8-8B2C-86E2024A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D04-3498-4BAF-965B-54D049BC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22A-958D-4609-8A8A-DE608F0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880-6554-4C78-826B-4AB2D781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6A90E-4640-4251-844A-18C2194AE51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B0011-E5A1-4AB0-A111-BD2ED7B5892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spreekbeurten.info/portu6.gif"/>
          <p:cNvPicPr/>
          <p:nvPr/>
        </p:nvPicPr>
        <p:blipFill>
          <a:blip r:embed="rId1"/>
          <a:stretch/>
        </p:blipFill>
        <p:spPr>
          <a:xfrm>
            <a:off x="208080" y="485640"/>
            <a:ext cx="8772480" cy="6042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Portuge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Lighthouse, Cabo Da Roca, Portugal"/>
          <p:cNvPicPr/>
          <p:nvPr/>
        </p:nvPicPr>
        <p:blipFill>
          <a:blip r:embed="rId2"/>
          <a:stretch/>
        </p:blipFill>
        <p:spPr>
          <a:xfrm>
            <a:off x="5459400" y="3708360"/>
            <a:ext cx="32241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ri tão do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tem esses olhos lind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ós vai dançar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dança muito b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acho que é bom estar com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já sonhei com voc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u preciso o dia inteiro para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cê pensa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 dezim tu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amos não correr nenhum risc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verei você novam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hebben Bassie en Adriaan er een liedje van gemaakt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mbria"/>
              </a:rPr>
              <a:t>http://www.youtube.com/watch?v=kb4SW-au0L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/>
          <p:cNvPicPr/>
          <p:nvPr/>
        </p:nvPicPr>
        <p:blipFill>
          <a:blip r:embed="rId1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2560" y="318960"/>
            <a:ext cx="599940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ega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id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du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m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or favor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idade de fa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Fa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ão se trate de minha saco/m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inda está faltando um s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u venho da H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lá/ Al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a de Senho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 Senh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ngratulo-me com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sou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adá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o você está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uito bem, e com você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 é tão bo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té ma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 vejo dep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a no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m, é cla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me descul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Eu não se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ão, obrigad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d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dê-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or fav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3.gstatic.com/images?q=tbn:ANd9GcRgJPadEt3z4ypCiYD5pQkY60eBz6ZbB1-_OAjlnJ-7BQajF5YO"/>
          <p:cNvPicPr/>
          <p:nvPr/>
        </p:nvPicPr>
        <p:blipFill>
          <a:blip r:embed="rId2"/>
          <a:stretch/>
        </p:blipFill>
        <p:spPr>
          <a:xfrm>
            <a:off x="6046920" y="1001880"/>
            <a:ext cx="1549440" cy="134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RBCPKsqCYnK4EJ7lr7hImArUdQWfy5lWGi6zH-e6y8egt9jlyqtw"/>
          <p:cNvPicPr/>
          <p:nvPr/>
        </p:nvPicPr>
        <p:blipFill>
          <a:blip r:embed="rId3"/>
          <a:stretch/>
        </p:blipFill>
        <p:spPr>
          <a:xfrm>
            <a:off x="5818320" y="3811680"/>
            <a:ext cx="1474560" cy="14745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7526160" y="4444920"/>
            <a:ext cx="1160640" cy="1355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"/>
          <p:cNvPicPr/>
          <p:nvPr/>
        </p:nvPicPr>
        <p:blipFill>
          <a:blip r:embed="rId5"/>
          <a:stretch/>
        </p:blipFill>
        <p:spPr>
          <a:xfrm>
            <a:off x="7526160" y="2490840"/>
            <a:ext cx="12369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49006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es público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dade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Sud-express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nationale 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lfa Pendular (AP) = confortabele trei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Lissabon - Porto en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richting Algar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n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tr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Este autocar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você vai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 este trem vai par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te autocarro pára em Far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cê poderia me dizer onde eu deveria desc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qui é 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nde é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autocarr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wc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s correio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aixa de correi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 banc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irec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esquerd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ire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O que custa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única viage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lhete de regress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het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a única viagem a Far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Fa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m bilhete de regresso ao 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stamos com….pessoa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rtão por favo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 estação mais próxima é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m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é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c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i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78000" y="878040"/>
            <a:ext cx="1368720" cy="1244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6719760" y="662040"/>
            <a:ext cx="209556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nde é o caix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 conta, por fav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do em tud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ada cobrado separadamen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u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sso pagar com meu cartão 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ré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ntenha pressionado o dinheiro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 troca 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cê pode me dar o menino 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u acho que é muit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sso não é verda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O mapa de menus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aperitivo quente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o um fermento que devo tomar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lasanha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rato de arro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rroz com peix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O prato principal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Tomo como prato principal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Uma costeleta de porc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cogumel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steleta com cogumelo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com queij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O prato de lad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como um prato lateral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slalad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 b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zid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s batatas frita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O pão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Sobremesas doces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2:54:02Z</dcterms:modified>
  <cp:revision>43</cp:revision>
  <dc:subject/>
  <dc:title>Dia 1</dc:title>
</cp:coreProperties>
</file>