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1DA39-1047-4DBD-8CF5-2BF83AA3DAC6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CB469B-33C5-479A-BE43-2EFFADF9F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5A3F1-101B-4EA2-B04D-2A25AE9E5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746-3AFD-400B-B5FB-E9D670FE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9BB-5624-441A-B04C-C9D1040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7DF-B7EF-4299-B8EF-412A7813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693-0464-4DEF-80DB-70D613AD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D247-2B04-4587-9B1B-79727428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FB9-795D-4CCC-B30A-1032C2B8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F9A-28BE-4980-8C69-6F9FFBA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756-4170-4CAB-BC99-3C4951E0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784-DC6F-4D87-8CEE-71D8101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C8D-B682-44AF-BC8C-05F82A87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4F6-3E91-4D33-B07D-4D2775B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DA6F-E905-486D-9CDE-6B32F419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92E8F-74FC-4DD4-B259-9D285E7E0F56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39DFF-8652-4809-9347-0FD77D9BCB5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6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1:04Z</dcterms:modified>
  <cp:revision>30</cp:revision>
  <dc:subject/>
  <dc:title>Dia 1</dc:title>
</cp:coreProperties>
</file>