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0D543-C793-4E26-9D1B-855D0C471C22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C047C-CF75-4B97-95FF-C1F37456E7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A9ABF-02D5-4D11-A713-B9BE634910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EB8-938E-4BD9-AD4E-22038BB8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AB91-4B9E-47AF-8111-6AC8DA0E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F86-E536-477E-9994-F8AE2F24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7A3-CD05-46D8-B384-EC08951C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F19-FB48-46E1-8739-F2F188C7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0D7B-13F7-49D6-B93C-DF0660AC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D1D-CED5-4A05-A8A9-2FC79BCD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2BC-CCD7-40B6-9EDD-7E412B3C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0B33-27A2-4530-B375-2535D0F4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C24-2317-486B-AD1B-9C06B414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10C-327B-4A6F-8312-94D7C2D1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767-25AE-433A-9579-8790A6C4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81BAB-0F5C-4395-BBA3-BB1002113467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C8557-EE5B-4985-B9D3-F4FD7B1E6E6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oto+vliegveld+faro&amp;source=images&amp;cd=&amp;cad=rja&amp;docid=EMeTGB2Jw1tcDM&amp;tbnid=53LNAPCSM4noaM:&amp;ved=0CAUQjRw&amp;url=http%3A%2F%2Fvakantie.sunplugged.nl%2Fportugal%2Falbufeira-portugal-vliegveld.html&amp;ei=AiUKUbb2GeHV0QWRkoGICA&amp;bvm=bv.41642243,d.d2k&amp;psig=AFQjCNE-HBVo67g2CjM_yEi2b8pCHupx1w&amp;ust=135970555193340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76320" y="344520"/>
            <a:ext cx="9009000" cy="635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Fr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2705040" y="1787400"/>
            <a:ext cx="375120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artjes"/>
          <p:cNvPicPr/>
          <p:nvPr/>
        </p:nvPicPr>
        <p:blipFill>
          <a:blip r:embed="rId2"/>
          <a:stretch/>
        </p:blipFill>
        <p:spPr>
          <a:xfrm>
            <a:off x="324792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280" y="1600200"/>
            <a:ext cx="890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sourire si do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us avez ce jolis yeu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us danserons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 danses très bi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pense que c’est très agréable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’être avec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rêvè 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’ai besoin tous les jour à penser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e v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’ils disent to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e prenons pa de risqu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 je vous reverrai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hthoek 1"/>
          <p:cNvSpPr/>
          <p:nvPr/>
        </p:nvSpPr>
        <p:spPr>
          <a:xfrm>
            <a:off x="996840" y="636480"/>
            <a:ext cx="7759800" cy="58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Mocht je meer willen weten. Vraag het aan je docent Frans op scho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://www.paradise-in-portugal.com/blog/wp-content/uploads/2008/12/faro-airpor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60" y="3189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2936880" y="318960"/>
            <a:ext cx="562284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é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épart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 s’il vous plaît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À Pari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Parij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n’est pas ma sac/val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manque toujours un s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suis originaire de Holl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 mad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soir monsieu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omme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suis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gré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ment avez-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rès bien et avec vou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s si b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u revoir, sal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À bientô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ne nu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ui, bien sû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n, je suis désol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e ne sais p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ri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on s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’il te plaî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15"/>
          <p:cNvSpPr/>
          <p:nvPr/>
        </p:nvSpPr>
        <p:spPr>
          <a:xfrm>
            <a:off x="63360" y="-154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216000" y="-1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368280" y="150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1"/>
          <p:cNvSpPr/>
          <p:nvPr/>
        </p:nvSpPr>
        <p:spPr>
          <a:xfrm>
            <a:off x="520560" y="303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6119640" y="839880"/>
            <a:ext cx="1987560" cy="157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"/>
          <p:cNvPicPr/>
          <p:nvPr/>
        </p:nvPicPr>
        <p:blipFill>
          <a:blip r:embed="rId3"/>
          <a:stretch/>
        </p:blipFill>
        <p:spPr>
          <a:xfrm>
            <a:off x="7283520" y="2725560"/>
            <a:ext cx="1646280" cy="1144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4"/>
          <a:stretch/>
        </p:blipFill>
        <p:spPr>
          <a:xfrm>
            <a:off x="5611680" y="4302000"/>
            <a:ext cx="249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42920" y="1417680"/>
            <a:ext cx="8858160" cy="5049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 en commun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7445520" cy="417204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e/express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ain 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GV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Hoge snelheidslij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Thalys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= Trein die rijdt vanaf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Amsterdam via Brussel naar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Parijs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O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9520" y="160020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tr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C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irez-vous?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ù aller ce trai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Far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e bus s’arrête à Pari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ourriez-vous me dire où je dois descend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ici le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Où se trouv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toilet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r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e Bureau de post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oîte aux lettre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e banqu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tout droit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gauche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ro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Ce qui coûte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seul voyage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llet de retou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ticket/ un billet d’aller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voyage aller simple à Paris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Par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aller-retour pour l’aéropor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ous sommes 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tre billet s’il vous plaît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chaine station e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eu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ois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ix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p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huit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euf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6591240" y="878040"/>
            <a:ext cx="2327400" cy="107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2763720" y="990720"/>
            <a:ext cx="180828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2004840" cy="2290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244520"/>
            <a:ext cx="9144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ù est la caiss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 compte s’il vous plaî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ns l’ensem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hargés chacun séparé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mbien cela coûte-t-il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uis-je payer par carte de cré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’il vous plaît changer ma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urez-vous me donne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’ingénieur de bon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que je trouve trop ch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e n’est pas vra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La carte de menu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démarreur à chaud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entrée, je prend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lasagn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lat de riz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z avec poiss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Le plat principal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plat principal, je prends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côtelette de porc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champigno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ôtelette de porc avec champignon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’augbergin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gbergine au fromag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Le plat d’accompagnement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t comme plat d’accompagnement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salad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omme de terre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uit au four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s frites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in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Dessert sucré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66ff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reedijkr</cp:lastModifiedBy>
  <dcterms:modified xsi:type="dcterms:W3CDTF">2013-01-31T14:54:45Z</dcterms:modified>
  <cp:revision>52</cp:revision>
  <dc:subject/>
  <dc:title>Dia 1</dc:title>
</cp:coreProperties>
</file>