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92A270-CF0B-4391-9B62-7724B432DB89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E6D487-A003-4019-896B-9B0BCE8088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A0A52-E89C-4B2C-A7A7-0107763B35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5B9E-223D-4F3B-B6F2-B7BFF643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2597-F967-4092-9A47-907C3B7A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4D3D-33C4-4C42-8E26-8B36BDD8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976A-179C-4256-A9E8-E8F7F347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FB1B-747B-4AC3-832C-3D675822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4CEC-B4A9-47EC-957C-CE3A70EA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CEEA-23E2-48F8-A4AB-FD07759C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8D74-1D93-4F90-B0C4-011B45B8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9176-EE25-410D-BADE-C130BED5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E7A5-B6CE-4D24-AE26-E5AF86FF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47FE-D368-4415-ABD6-3EE8C16C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48C1-6099-4AC8-A7FF-9CA4105E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63C9B3-FB6E-4078-9F30-669FEE2F4F73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835908-39EF-473F-AE37-F33423301FF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0n4Vw6twK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l_fi" descr="http://www.interieurinspiratie.nl/blog/wp-content/uploads/italiaanse_vlag.jpg"/>
          <p:cNvPicPr/>
          <p:nvPr/>
        </p:nvPicPr>
        <p:blipFill>
          <a:blip r:embed="rId1"/>
          <a:stretch/>
        </p:blipFill>
        <p:spPr>
          <a:xfrm>
            <a:off x="320760" y="331920"/>
            <a:ext cx="8413560" cy="6238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Italia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l_fi" descr="http://www.agritoerisme-toscane.nl/images/uploads/Italian_food.jpg"/>
          <p:cNvPicPr/>
          <p:nvPr/>
        </p:nvPicPr>
        <p:blipFill>
          <a:blip r:embed="rId2"/>
          <a:stretch/>
        </p:blipFill>
        <p:spPr>
          <a:xfrm>
            <a:off x="1397160" y="1747800"/>
            <a:ext cx="6349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4480" y="610920"/>
            <a:ext cx="85122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BlairMdITC TT Medium"/>
              </a:rPr>
              <a:t>We vinden er niet veel aan…</a:t>
            </a:r>
            <a:br>
              <a:rPr sz="32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1609560" y="2347920"/>
            <a:ext cx="5924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50820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ei dolce quando rid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tuoi occhi sono bellisim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iamo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a molto be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i piache stare con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o sognato di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tti il giorno non faccio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ltro che pensar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sto lo dicono tut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n rischiamo nie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ti rived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ò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kom je ook ver met gebaren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http://www.youtube.com/watch?v=M0n4Vw6tw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64960" y="318960"/>
            <a:ext cx="5153040" cy="386568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3415320" y="318960"/>
            <a:ext cx="549648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enz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g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li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reg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omo (Cernobbio)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Como (Cernob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è la mia borsa/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nca un borsa/una 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ono di 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ve/ Cia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Sann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 giorno signora S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Marco Sal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sera signor Marco Sa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i chiamo 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ono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iac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e sta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nissimo, e le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si cos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iao,  arriverderci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 pres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no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, cer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, me dispi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 lo  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raz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 ni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cu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 fav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Afbeelding 5" descr=""/>
          <p:cNvPicPr/>
          <p:nvPr/>
        </p:nvPicPr>
        <p:blipFill>
          <a:blip r:embed="rId2"/>
          <a:stretch/>
        </p:blipFill>
        <p:spPr>
          <a:xfrm>
            <a:off x="5979960" y="2755800"/>
            <a:ext cx="990720" cy="1279800"/>
          </a:xfrm>
          <a:prstGeom prst="rect">
            <a:avLst/>
          </a:prstGeom>
          <a:ln w="0">
            <a:noFill/>
          </a:ln>
        </p:spPr>
      </p:pic>
      <p:pic>
        <p:nvPicPr>
          <p:cNvPr id="57" name="Afbeelding 8" descr=""/>
          <p:cNvPicPr/>
          <p:nvPr/>
        </p:nvPicPr>
        <p:blipFill>
          <a:blip r:embed="rId3"/>
          <a:stretch/>
        </p:blipFill>
        <p:spPr>
          <a:xfrm>
            <a:off x="5418000" y="4316400"/>
            <a:ext cx="1397160" cy="16128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9" descr=""/>
          <p:cNvPicPr/>
          <p:nvPr/>
        </p:nvPicPr>
        <p:blipFill>
          <a:blip r:embed="rId4"/>
          <a:stretch/>
        </p:blipFill>
        <p:spPr>
          <a:xfrm>
            <a:off x="7377120" y="4811760"/>
            <a:ext cx="1266840" cy="111744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10" descr=""/>
          <p:cNvPicPr/>
          <p:nvPr/>
        </p:nvPicPr>
        <p:blipFill>
          <a:blip r:embed="rId5"/>
          <a:stretch/>
        </p:blipFill>
        <p:spPr>
          <a:xfrm>
            <a:off x="7377120" y="3365640"/>
            <a:ext cx="1266840" cy="95076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11" descr=""/>
          <p:cNvPicPr/>
          <p:nvPr/>
        </p:nvPicPr>
        <p:blipFill>
          <a:blip r:embed="rId6"/>
          <a:stretch/>
        </p:blipFill>
        <p:spPr>
          <a:xfrm>
            <a:off x="7159680" y="1393920"/>
            <a:ext cx="13572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o public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329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, soms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, in Itali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ë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Espress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lange afstands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Dirett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  Do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tr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auto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 questo tren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Cernobbi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Questo autobus si ferma a Cernobbi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 potrebbe indicare la fermat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iamo arrivati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o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è 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auto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bagn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via Regina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Reg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fficio postale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uca delle letter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a banc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_x0016_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rit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sinistr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e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Quanto costa 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glietto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per Com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Co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 all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amo in …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glietti preg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ssima stazio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è 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Calibri"/>
              </a:rPr>
              <a:t> 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u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rt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t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Afbeelding 8" descr=""/>
          <p:cNvPicPr/>
          <p:nvPr/>
        </p:nvPicPr>
        <p:blipFill>
          <a:blip r:embed="rId1"/>
          <a:stretch/>
        </p:blipFill>
        <p:spPr>
          <a:xfrm>
            <a:off x="2346480" y="941400"/>
            <a:ext cx="2033280" cy="1089000"/>
          </a:xfrm>
          <a:prstGeom prst="rect">
            <a:avLst/>
          </a:prstGeom>
          <a:ln w="0">
            <a:noFill/>
          </a:ln>
        </p:spPr>
      </p:pic>
      <p:pic>
        <p:nvPicPr>
          <p:cNvPr id="72" name="Afbeelding 10" descr=""/>
          <p:cNvPicPr/>
          <p:nvPr/>
        </p:nvPicPr>
        <p:blipFill>
          <a:blip r:embed="rId2"/>
          <a:stretch/>
        </p:blipFill>
        <p:spPr>
          <a:xfrm>
            <a:off x="6815160" y="71280"/>
            <a:ext cx="1658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1978200" cy="2259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92320" y="1244160"/>
            <a:ext cx="74944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ov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la cass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i porte il conto, per fav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tto insie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l conto all aroma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o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trei pagare con una c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 cre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nga il res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 pottrebbe dare una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icevu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 tropp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une err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kstvak 3"/>
          <p:cNvSpPr/>
          <p:nvPr/>
        </p:nvSpPr>
        <p:spPr>
          <a:xfrm>
            <a:off x="328680" y="5883120"/>
            <a:ext cx="860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café moet je vaak eerst betalen en met het bonnetje kan je de consumptie halen aan de 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restaurant rekenen ze soms ook het gebruik van het bestek, servetten enzovoorts m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il menù 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prim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antipasto prende ...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lasagne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riso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sotto alla marinar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il secondo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second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prende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bistecc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fung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bistecca ai funghi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melanz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melanzane alla parmigi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contorno 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 come contorno?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'insal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fri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tatine fritt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pan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Dolce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heuvelejvanden</cp:lastModifiedBy>
  <dcterms:modified xsi:type="dcterms:W3CDTF">2012-11-29T15:31:04Z</dcterms:modified>
  <cp:revision>30</cp:revision>
  <dc:subject/>
  <dc:title>Dia 1</dc:title>
</cp:coreProperties>
</file>