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D00B9-5BE3-464F-A437-DE66817A65E4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41826-AF17-4E19-B856-4695151C2F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C2FD6D-5F3B-45D0-A736-F69AC34E37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C7DB-EAE9-4A47-86B1-BB34CA5D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5A0-E0C9-47CF-BD52-9F76A45F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67EE-D966-49DE-8F3D-3AE9985F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B8FD-8D56-4034-8B60-9634A115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966-28B3-4F9C-90B7-3C15F8BC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EB0B-57EF-4126-B532-099E7E4D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0AC7-2267-49C3-91AA-3A4F3F02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F755-4FF6-4575-801F-423D5059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45A0-3A40-4C51-938B-060E4CDF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1192-761F-44F5-B9C2-6371BA29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DDA-B3D0-466F-AF3C-A338F382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AF54-1BD5-4DE7-882A-DB25E121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CE009-541D-4AA1-A206-9033035D7A38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2AA0B-7B65-4C18-B5FC-272503F000A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oto+vliegveld+faro&amp;source=images&amp;cd=&amp;cad=rja&amp;docid=EMeTGB2Jw1tcDM&amp;tbnid=53LNAPCSM4noaM:&amp;ved=0CAUQjRw&amp;url=http%3A%2F%2Fvakantie.sunplugged.nl%2Fportugal%2Falbufeira-portugal-vliegveld.html&amp;ei=AiUKUbb2GeHV0QWRkoGICA&amp;bvm=bv.41642243,d.d2k&amp;psig=AFQjCNE-HBVo67g2CjM_yEi2b8pCHupx1w&amp;ust=135970555193340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76320" y="344520"/>
            <a:ext cx="9009000" cy="635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Fr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2705040" y="1787400"/>
            <a:ext cx="37512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sourire si do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avez ce jolis ye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us danseron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 danses très bi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pense que c’est très agréab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’être avec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rêvè 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besoin tous les jour à penser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’ils disent t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e prenons pa de risqu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 je vous reverra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hthoek 1"/>
          <p:cNvSpPr/>
          <p:nvPr/>
        </p:nvSpPr>
        <p:spPr>
          <a:xfrm>
            <a:off x="996840" y="636480"/>
            <a:ext cx="7759800" cy="58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Mocht je meer willen weten. Vraag het aan je docent Frans op scho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6880" y="318960"/>
            <a:ext cx="562284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é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épart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 s’il vous plaît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À Pari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Parij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n’est pas ma sac/val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manque toujours un 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suis originaire de Holl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 mad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soir monsie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omme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suis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é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ment avez-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rès bien et avec 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s si b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, 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À bientô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ne nu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ui, bien sû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n, je suis désol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e sais p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ri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 s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’il te plaî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>
            <a:off x="6119640" y="839880"/>
            <a:ext cx="1987560" cy="157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3"/>
          <a:stretch/>
        </p:blipFill>
        <p:spPr>
          <a:xfrm>
            <a:off x="7283520" y="2725560"/>
            <a:ext cx="1646280" cy="114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4"/>
          <a:stretch/>
        </p:blipFill>
        <p:spPr>
          <a:xfrm>
            <a:off x="5611680" y="4302000"/>
            <a:ext cx="2495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5049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 en commun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e/express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ain 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GV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Hoge snelheidslij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Thalys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= Trein die rijdt vanaf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msterdam via Brussel naar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Parijs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tr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aller ce trai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bus s’arrête à Pari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ourriez-vous me dire où je dois descend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ici le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ù se trouv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toilet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reau de pos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oîte aux lettre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 banq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tout droit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gauche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ro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Ce qui coûte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seul voyag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let de retou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ticket/ un billet d’alle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voyage aller simple à Pari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Par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aller-retour pour l’aéropor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ous sommes 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tre billet s’il vous plaî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chaine station e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eu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i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p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hui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euf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6591240" y="878040"/>
            <a:ext cx="2327400" cy="1079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2763720" y="990720"/>
            <a:ext cx="180828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ù est la caiss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 compte s’il vous plaî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ns l’ensem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hargés chacun séparé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mbien cela coûte-t-il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uis-je payer par carte de créd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’il vous plaît changer ma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urez-vous me donne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’ingénieur de bon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que je trouve trop c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n’est pas vra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La carte de menu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démarreur à chaud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entrée, je prend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lasagn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lat de ri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z avec poiss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Le plat principal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plat principal, je prends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côtelette de porc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champign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ôtelette de porc avec champignon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’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au fromag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plat d’accompagnement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t comme plat d’accompagnement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salad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omme de terr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uit au four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frit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i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Dessert sucré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4:54:45Z</dcterms:modified>
  <cp:revision>52</cp:revision>
  <dc:subject/>
  <dc:title>Dia 1</dc:title>
</cp:coreProperties>
</file>