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16A29-223C-476C-846A-13E88E7A801B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AB6CC-BA3A-4460-8576-AB6B0DB151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BF321-ED21-4AE3-9A24-5C5A4A7E4E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17F4-5D49-470C-8F22-3AD287B4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6C28-A84E-4019-B72A-DB87C0A6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A345-FEBC-4141-833C-D0EF35F4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F911-1D43-43E7-AE87-25B917FC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276B-9F4E-4724-B39B-0831011D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3CE-83B3-4538-A0F4-2E0CF34A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7926-5CDF-44A1-9F52-A8AE4A96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99F-336D-4B3E-B063-4C136C92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164D-37A6-4581-93D3-2B47E6F9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0BF0-FF91-4AA7-9362-64C6698F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4F7A-A9B4-4613-8781-D24DCD52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C9AA-4C47-42F0-A216-5568A935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9294E-3FB5-41CE-A749-2C6356787C9D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E7359-EE50-4988-AD7D-B8D096C6F06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2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1:04Z</dcterms:modified>
  <cp:revision>30</cp:revision>
  <dc:subject/>
  <dc:title>Dia 1</dc:title>
</cp:coreProperties>
</file>