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879FDC-3924-4D4E-AF1E-E0C6A2E3A1F0}" type="datetime">
              <a:rPr b="0" lang="nl-NL" sz="1200" spc="-1" strike="noStrike">
                <a:solidFill>
                  <a:srgbClr val="000000"/>
                </a:solidFill>
                <a:latin typeface="Calibri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7B187E-462B-498B-8297-352600DACC5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7A5341-DCBF-43ED-BEE6-B6EF4ABB267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486E-13C5-4464-92CA-36ED308F0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43FA-20AC-45F9-94C2-657265116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ED56-25CE-41E8-8AA6-D1A5F142F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66A3-DB3B-42AD-A394-345C3B116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C780-0576-46AD-9DF2-B176CA6A3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BEA0-F991-4A6D-9AE0-FF5F3A1A8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D5E0-EF12-4587-9026-C0C4C0E28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2D2B-EEB1-436A-9E88-F57913667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3543-F717-4D91-99E9-8000734F4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B435-19AE-4F8E-A80A-BEBADD2D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934C-8388-4E2A-B9E7-D58FBF49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5051-BF2E-4B68-90FB-FA350C96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8A8831-5F42-447E-8E49-AF79E0814E0F}" type="datetime">
              <a:rPr b="0" lang="nl-NL" sz="1200" spc="-1" strike="noStrike">
                <a:solidFill>
                  <a:srgbClr val="898989"/>
                </a:solidFill>
                <a:latin typeface="Calibri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E39481-0893-4594-918D-8A45FF334E2F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M0n4Vw6twKo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l_fi" descr="http://www.interieurinspiratie.nl/blog/wp-content/uploads/italiaanse_vlag.jpg"/>
          <p:cNvPicPr/>
          <p:nvPr/>
        </p:nvPicPr>
        <p:blipFill>
          <a:blip r:embed="rId1"/>
          <a:stretch/>
        </p:blipFill>
        <p:spPr>
          <a:xfrm>
            <a:off x="320760" y="331920"/>
            <a:ext cx="8413560" cy="6238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Calibri"/>
              </a:rPr>
              <a:t>Italiaanse les (basic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il_fi" descr="http://www.agritoerisme-toscane.nl/images/uploads/Italian_food.jpg"/>
          <p:cNvPicPr/>
          <p:nvPr/>
        </p:nvPicPr>
        <p:blipFill>
          <a:blip r:embed="rId2"/>
          <a:stretch/>
        </p:blipFill>
        <p:spPr>
          <a:xfrm>
            <a:off x="1397160" y="1747800"/>
            <a:ext cx="634968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4480" y="610920"/>
            <a:ext cx="8512200" cy="53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BlairMdITC TT Medium"/>
              </a:rPr>
              <a:t>We vinden er niet veel aan…</a:t>
            </a:r>
            <a:br>
              <a:rPr sz="3200"/>
            </a:b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7" descr=""/>
          <p:cNvPicPr/>
          <p:nvPr/>
        </p:nvPicPr>
        <p:blipFill>
          <a:blip r:embed="rId1"/>
          <a:stretch/>
        </p:blipFill>
        <p:spPr>
          <a:xfrm>
            <a:off x="1609560" y="2347920"/>
            <a:ext cx="592488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artjes"/>
          <p:cNvPicPr/>
          <p:nvPr/>
        </p:nvPicPr>
        <p:blipFill>
          <a:blip r:embed="rId2"/>
          <a:stretch/>
        </p:blipFill>
        <p:spPr>
          <a:xfrm>
            <a:off x="3508200" y="915840"/>
            <a:ext cx="2084400" cy="17449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Iemand versiere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lacht zo lief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Sei dolce quando rid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hebt zulke mooie og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 tuoi occhi sono bellisim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Zullen we dansen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Balliamo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danst heel goe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Balla molto ben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vind het fijn om bij je te zijn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Mi piache stare con 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heb van je gedroom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Ho sognato di 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moet de hele dag aan je denk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Tutti il giorno non faccio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altro che pensart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Dat zeggen ze allemaal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esto lo dicono tutt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Laten we geen risico nem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Non rischiamo nien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Wanneer zie ik je weer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ando ti rivedr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ò?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hthoek 1"/>
          <p:cNvSpPr/>
          <p:nvPr/>
        </p:nvSpPr>
        <p:spPr>
          <a:xfrm>
            <a:off x="996840" y="636480"/>
            <a:ext cx="7759800" cy="47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Natuurlijk duurt het even eer je de taal goed beheerst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Gelukkig kom je ook ver met gebaren</a:t>
            </a:r>
            <a:r>
              <a:rPr b="0" lang="nl-NL" sz="5400" spc="-1" strike="noStrike">
                <a:solidFill>
                  <a:srgbClr val="660066"/>
                </a:solidFill>
                <a:latin typeface="Cambria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0000ff"/>
                </a:solidFill>
                <a:uFillTx/>
                <a:latin typeface="Cambria"/>
                <a:hlinkClick r:id="rId1"/>
              </a:rPr>
              <a:t>http://www.youtube.com/watch?v=M0n4Vw6tw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264960" y="318960"/>
            <a:ext cx="5153040" cy="3865680"/>
          </a:xfrm>
          <a:prstGeom prst="rect">
            <a:avLst/>
          </a:prstGeom>
          <a:ln w="0">
            <a:noFill/>
          </a:ln>
        </p:spPr>
      </p:pic>
      <p:sp>
        <p:nvSpPr>
          <p:cNvPr id="52" name="Tekstvak 5"/>
          <p:cNvSpPr/>
          <p:nvPr/>
        </p:nvSpPr>
        <p:spPr>
          <a:xfrm>
            <a:off x="3415320" y="318960"/>
            <a:ext cx="5496480" cy="4421880"/>
          </a:xfrm>
          <a:prstGeom prst="rect">
            <a:avLst/>
          </a:prstGeom>
          <a:solidFill>
            <a:srgbClr val="c6d9f1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9f0000"/>
                </a:solidFill>
                <a:latin typeface="Calibri"/>
              </a:rPr>
              <a:t>Op de luchth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rriv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ankom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rtenz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ertr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gan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u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li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saporte prego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poort a.u.b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ve va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 Como (Cernobbio)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aar Como (Cernobb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it is niet mijn tas/koffer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on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è la mia borsa/vali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r ontbreekt nog een tas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Manca un borsa/una vali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k kom uit Holland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ono di Ol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groeten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2700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allo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alve/ Cia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ag mevrouw Sanna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uon giorno signora San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navond mijnheer Marco Sala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uona sera signor Marco Sal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heet..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Mi chiamo …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ben …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ono …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angenaam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iac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oe gaat het ermee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me stai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rima, en met u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enissimo, e lei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iet zo goed.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si cosi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ziens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iao,  arriverderci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snel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 prest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 nach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uona not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a, natuurlij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i, cert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ee, het spijt me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o, me dispia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weet het nie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o lo  s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edank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raz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een dan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i nien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ardon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cu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aangeef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reg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vraag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er favo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Afbeelding 3" descr=""/>
          <p:cNvPicPr/>
          <p:nvPr/>
        </p:nvPicPr>
        <p:blipFill>
          <a:blip r:embed="rId1"/>
          <a:stretch/>
        </p:blipFill>
        <p:spPr>
          <a:xfrm>
            <a:off x="1936800" y="274680"/>
            <a:ext cx="1214280" cy="1130400"/>
          </a:xfrm>
          <a:prstGeom prst="rect">
            <a:avLst/>
          </a:prstGeom>
          <a:ln w="0">
            <a:noFill/>
          </a:ln>
        </p:spPr>
      </p:pic>
      <p:pic>
        <p:nvPicPr>
          <p:cNvPr id="56" name="Afbeelding 5" descr=""/>
          <p:cNvPicPr/>
          <p:nvPr/>
        </p:nvPicPr>
        <p:blipFill>
          <a:blip r:embed="rId2"/>
          <a:stretch/>
        </p:blipFill>
        <p:spPr>
          <a:xfrm>
            <a:off x="5979960" y="2755800"/>
            <a:ext cx="990720" cy="1279800"/>
          </a:xfrm>
          <a:prstGeom prst="rect">
            <a:avLst/>
          </a:prstGeom>
          <a:ln w="0">
            <a:noFill/>
          </a:ln>
        </p:spPr>
      </p:pic>
      <p:pic>
        <p:nvPicPr>
          <p:cNvPr id="57" name="Afbeelding 8" descr=""/>
          <p:cNvPicPr/>
          <p:nvPr/>
        </p:nvPicPr>
        <p:blipFill>
          <a:blip r:embed="rId3"/>
          <a:stretch/>
        </p:blipFill>
        <p:spPr>
          <a:xfrm>
            <a:off x="5418000" y="4316400"/>
            <a:ext cx="1397160" cy="1612800"/>
          </a:xfrm>
          <a:prstGeom prst="rect">
            <a:avLst/>
          </a:prstGeom>
          <a:ln w="0">
            <a:noFill/>
          </a:ln>
        </p:spPr>
      </p:pic>
      <p:pic>
        <p:nvPicPr>
          <p:cNvPr id="58" name="Afbeelding 9" descr=""/>
          <p:cNvPicPr/>
          <p:nvPr/>
        </p:nvPicPr>
        <p:blipFill>
          <a:blip r:embed="rId4"/>
          <a:stretch/>
        </p:blipFill>
        <p:spPr>
          <a:xfrm>
            <a:off x="7377120" y="4811760"/>
            <a:ext cx="1266840" cy="1117440"/>
          </a:xfrm>
          <a:prstGeom prst="rect">
            <a:avLst/>
          </a:prstGeom>
          <a:ln w="0">
            <a:noFill/>
          </a:ln>
        </p:spPr>
      </p:pic>
      <p:pic>
        <p:nvPicPr>
          <p:cNvPr id="59" name="Afbeelding 10" descr=""/>
          <p:cNvPicPr/>
          <p:nvPr/>
        </p:nvPicPr>
        <p:blipFill>
          <a:blip r:embed="rId5"/>
          <a:stretch/>
        </p:blipFill>
        <p:spPr>
          <a:xfrm>
            <a:off x="7377120" y="3365640"/>
            <a:ext cx="1266840" cy="950760"/>
          </a:xfrm>
          <a:prstGeom prst="rect">
            <a:avLst/>
          </a:prstGeom>
          <a:ln w="0">
            <a:noFill/>
          </a:ln>
        </p:spPr>
      </p:pic>
      <p:pic>
        <p:nvPicPr>
          <p:cNvPr id="60" name="Afbeelding 11" descr=""/>
          <p:cNvPicPr/>
          <p:nvPr/>
        </p:nvPicPr>
        <p:blipFill>
          <a:blip r:embed="rId6"/>
          <a:stretch/>
        </p:blipFill>
        <p:spPr>
          <a:xfrm>
            <a:off x="7159680" y="1393920"/>
            <a:ext cx="135720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Openbaar vervoer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Transporto publico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_x0016_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329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0000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TREIN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Rapido 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sneltrein, soms met toesla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Intercity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intercity, in Itali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ë met toesla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Espresso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= lange afstands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Diretto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= snel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Locale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= stoptrei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_x0016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aar?                     Dov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trein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questo tre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bus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questo auto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ve va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deze trein naar toe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ve va questo treno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topt deze bus in Cernobbio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Questo autobus si ferma a Cernobbio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ilt u me zeggen waar ik moet uitstappen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Mi potrebbe indicare la fermata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iamo arrivati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ier is he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ov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è …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aar is …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l autobus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l bagn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w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via Regina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straat Regi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fficio postale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het postkanto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buca delle letter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rieven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na banc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een ba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man_3pijlen_3622913"/>
          <p:cNvPicPr/>
          <p:nvPr/>
        </p:nvPicPr>
        <p:blipFill>
          <a:blip r:embed="rId1"/>
          <a:stretch/>
        </p:blipFill>
        <p:spPr>
          <a:xfrm>
            <a:off x="1832040" y="1495440"/>
            <a:ext cx="5060880" cy="50418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0" y="777960"/>
            <a:ext cx="9144000" cy="53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_x0016_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Bank Gothic Light"/>
              </a:rPr>
              <a:t>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door = dritto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links = sinistra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s =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dest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Quanto costa …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Wat kost …</a:t>
            </a:r>
            <a:br>
              <a:rPr sz="36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enkele re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 e retorn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ret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biglietto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kaart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 per Com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enkele reis naar Com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 e retorno all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eroport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retourtje naar de luchthave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iamo in ….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e zijn met … person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glietti preg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w kaartje, alstublief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La prossima stazion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è ….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t volgende station is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kstvak 6"/>
          <p:cNvSpPr/>
          <p:nvPr/>
        </p:nvSpPr>
        <p:spPr>
          <a:xfrm>
            <a:off x="457200" y="546876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Calibri"/>
              </a:rPr>
              <a:t> 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 un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2 du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3 tr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4 quarttr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5 cinqu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6 sei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7 sett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8 ott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9 nov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0 die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Afbeelding 8" descr=""/>
          <p:cNvPicPr/>
          <p:nvPr/>
        </p:nvPicPr>
        <p:blipFill>
          <a:blip r:embed="rId1"/>
          <a:stretch/>
        </p:blipFill>
        <p:spPr>
          <a:xfrm>
            <a:off x="2346480" y="941400"/>
            <a:ext cx="2033280" cy="1089000"/>
          </a:xfrm>
          <a:prstGeom prst="rect">
            <a:avLst/>
          </a:prstGeom>
          <a:ln w="0">
            <a:noFill/>
          </a:ln>
        </p:spPr>
      </p:pic>
      <p:pic>
        <p:nvPicPr>
          <p:cNvPr id="72" name="Afbeelding 10" descr=""/>
          <p:cNvPicPr/>
          <p:nvPr/>
        </p:nvPicPr>
        <p:blipFill>
          <a:blip r:embed="rId2"/>
          <a:stretch/>
        </p:blipFill>
        <p:spPr>
          <a:xfrm>
            <a:off x="6815160" y="71280"/>
            <a:ext cx="1658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Afbeelding 5" descr=""/>
          <p:cNvPicPr/>
          <p:nvPr/>
        </p:nvPicPr>
        <p:blipFill>
          <a:blip r:embed="rId1"/>
          <a:stretch/>
        </p:blipFill>
        <p:spPr>
          <a:xfrm>
            <a:off x="0" y="0"/>
            <a:ext cx="1978200" cy="2259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talen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Pag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192320" y="1244160"/>
            <a:ext cx="749448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ar is de kassa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ove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è la cassa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e rekening a.u.b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i porte il conto, per favo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lles bij elk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utto insiem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eder betaalt afzonderlijk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l conto all aroman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t kost het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Quanto costa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an ik met een creditkaart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Potrei pagare con una car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betal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i credito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Houdt u het wisselgeld m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enga il rest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unt u me een bonnetje gev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Mi pottrebbe dare una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ricevut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at vind ik te duu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E troppo car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it klopt niet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2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è une erro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kstvak 3"/>
          <p:cNvSpPr/>
          <p:nvPr/>
        </p:nvSpPr>
        <p:spPr>
          <a:xfrm>
            <a:off x="328680" y="5883120"/>
            <a:ext cx="8604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Bank Gothic Light"/>
              </a:rPr>
              <a:t>In een café moet je vaak eerst betalen en met het bonnetje kan je de consumptie halen aan de b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Bank Gothic Light"/>
              </a:rPr>
              <a:t>In een restaurant rekenen ze soms ook het gebruik van het bestek, servetten enzovoorts m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kstvak 3"/>
          <p:cNvSpPr/>
          <p:nvPr/>
        </p:nvSpPr>
        <p:spPr>
          <a:xfrm>
            <a:off x="0" y="0"/>
            <a:ext cx="9144000" cy="64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il menù 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de menuka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il primo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warme voor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me antipasto prende ...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voorgerecht neem ik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lasagne 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lasag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il risott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rijst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sotto alla marinar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jst met 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il secondo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het hoofd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me second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prende…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hoofdgerecht neem ik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bistecc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karbon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il fung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paddensto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bistecca ai funghi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karbonade met paddenstoe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melanzan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uberg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melanzane alla parmigian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ubergines met ka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il contorno 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bij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 come contorno?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n als bijgere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'insalat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sal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patat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ardapp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fritt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gebak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patatine fritte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frietj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il pane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bro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Dolce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Zoete nagere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8:24:43Z</dcterms:created>
  <dc:creator>Govert en Yvonne Visser-Koorengevel</dc:creator>
  <dc:description/>
  <dc:language>en-US</dc:language>
  <cp:lastModifiedBy>heuvelejvanden</cp:lastModifiedBy>
  <dcterms:modified xsi:type="dcterms:W3CDTF">2012-11-29T15:31:04Z</dcterms:modified>
  <cp:revision>30</cp:revision>
  <dc:subject/>
  <dc:title>Dia 1</dc:title>
</cp:coreProperties>
</file>