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0.png" ContentType="image/png"/>
  <Override PartName="/ppt/media/image6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95.jpeg" ContentType="image/jpeg"/>
  <Override PartName="/ppt/media/image94.jpeg" ContentType="image/jpeg"/>
  <Override PartName="/ppt/media/image20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75.jpeg" ContentType="image/jpeg"/>
  <Override PartName="/ppt/media/image77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  <p:custShowLst>
    <p:custShow name="Aangepaste voorstelling 1" id="0">
      <p:sldLst>
        <p:sld r:id="rId5"/>
        <p:sld r:id="rId8"/>
        <p:sld r:id="rId11"/>
        <p:sld r:id="rId14"/>
        <p:sld r:id="rId17"/>
        <p:sld r:id="rId19"/>
        <p:sld r:id="rId21"/>
        <p:sld r:id="rId23"/>
        <p:sld r:id="rId26"/>
        <p:sld r:id="rId29"/>
      </p:sldLst>
    </p:custShow>
    <p:custShow name="Aangepaste voorstelling 2" id="1">
      <p:sldLst>
        <p:sld r:id="rId4"/>
        <p:sld r:id="rId7"/>
        <p:sld r:id="rId10"/>
        <p:sld r:id="rId13"/>
        <p:sld r:id="rId16"/>
        <p:sld r:id="rId18"/>
        <p:sld r:id="rId20"/>
        <p:sld r:id="rId22"/>
        <p:sld r:id="rId25"/>
        <p:sld r:id="rId2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5126-2507-4D36-AF24-56065D2B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71B2-1E0E-40C2-8653-CDAC5055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8883-1373-4386-8088-51547E53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73DF-440B-40E7-855D-4E4A683B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891F-DA82-4258-892F-BCC2C183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62D7-AF04-4EA5-9BA1-91D77924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16AF-EF0F-47D1-93FD-9FDBFD81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6EE-9687-4AF7-817E-374BC762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B4DE-FEB0-4A0E-B916-A746E307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15BD-B59E-4260-B4F7-1783B896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D439-5671-43A7-85E0-54E29B4E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BDE3-94FE-468C-922D-9FD95C3F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50BD-5BF8-42BD-9DD7-86C6635A06D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image" Target="../media/image86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image" Target="../media/image91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if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obtusa ‘Nana Gracili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noki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ANd9GcTPCVlWIk24HTdVtXkLSQjxuxWuphNSi3vqJKr0nC66zzZzhT3N"/>
          <p:cNvPicPr/>
          <p:nvPr/>
        </p:nvPicPr>
        <p:blipFill>
          <a:blip r:embed="rId1"/>
          <a:stretch/>
        </p:blipFill>
        <p:spPr>
          <a:xfrm>
            <a:off x="5715000" y="1676520"/>
            <a:ext cx="2133720" cy="2438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Nd9GcStCgi-dMKlE5QXh4cJU4We_Tu5hy1sXIB3BJRHqX08wyMDPOY3"/>
          <p:cNvPicPr/>
          <p:nvPr/>
        </p:nvPicPr>
        <p:blipFill>
          <a:blip r:embed="rId2"/>
          <a:stretch/>
        </p:blipFill>
        <p:spPr>
          <a:xfrm>
            <a:off x="5715000" y="4267080"/>
            <a:ext cx="2104920" cy="2171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ANd9GcQ6mOQ6EBX1F06WU6bNAb8tKfQS2T0B-q-f1VKZGrXUkvHuw8_ujA"/>
          <p:cNvPicPr/>
          <p:nvPr/>
        </p:nvPicPr>
        <p:blipFill>
          <a:blip r:embed="rId3"/>
          <a:stretch/>
        </p:blipFill>
        <p:spPr>
          <a:xfrm>
            <a:off x="914400" y="17524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pisifera ‘Plumosa Aure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ANd9GcQYEsToT2sRRzsKVqdI27z77M3vv6-tts80oWIuyAHSG6WOYgoV"/>
          <p:cNvPicPr/>
          <p:nvPr/>
        </p:nvPicPr>
        <p:blipFill>
          <a:blip r:embed="rId1"/>
          <a:stretch/>
        </p:blipFill>
        <p:spPr>
          <a:xfrm>
            <a:off x="541008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ANd9GcRV7t0xtHgLmD7Ev1dkdEvCjhb53J4YV5BGbiQVJzhaltG9JXKa"/>
          <p:cNvPicPr/>
          <p:nvPr/>
        </p:nvPicPr>
        <p:blipFill>
          <a:blip r:embed="rId2"/>
          <a:stretch/>
        </p:blipFill>
        <p:spPr>
          <a:xfrm>
            <a:off x="6095880" y="152388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ANd9GcRxBbqDCGWciyIzz7S7-34TU9e22fDXK6oZfPWFRy4xmbENe24i"/>
          <p:cNvPicPr/>
          <p:nvPr/>
        </p:nvPicPr>
        <p:blipFill>
          <a:blip r:embed="rId3"/>
          <a:stretch/>
        </p:blipFill>
        <p:spPr>
          <a:xfrm>
            <a:off x="990720" y="2209680"/>
            <a:ext cx="3962160" cy="336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niperus x pfitzeriana ‘Wilhelm Pfitzer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nev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d9GcQD19YVhmHSurG1vfapFMYFmiPenSeLIqaWa6xAnvkcZqbCdsXoTQ"/>
          <p:cNvPicPr/>
          <p:nvPr/>
        </p:nvPicPr>
        <p:blipFill>
          <a:blip r:embed="rId1"/>
          <a:stretch/>
        </p:blipFill>
        <p:spPr>
          <a:xfrm>
            <a:off x="6248520" y="1447920"/>
            <a:ext cx="1990440" cy="22953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6" descr="1392522525_b67988e803"/>
          <p:cNvPicPr/>
          <p:nvPr/>
        </p:nvPicPr>
        <p:blipFill>
          <a:blip r:embed="rId2"/>
          <a:stretch/>
        </p:blipFill>
        <p:spPr>
          <a:xfrm>
            <a:off x="5029200" y="3886200"/>
            <a:ext cx="3219480" cy="24145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2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2" descr="img_7037"/>
          <p:cNvPicPr/>
          <p:nvPr/>
        </p:nvPicPr>
        <p:blipFill>
          <a:blip r:embed="rId3"/>
          <a:stretch/>
        </p:blipFill>
        <p:spPr>
          <a:xfrm>
            <a:off x="380880" y="2057400"/>
            <a:ext cx="4496040" cy="299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niperus commun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jenev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ANd9GcSJnhLL7JcaCLspoEC6iXlT1bFufgd4FDRqodpAeiW6UHH8gee7"/>
          <p:cNvPicPr/>
          <p:nvPr/>
        </p:nvPicPr>
        <p:blipFill>
          <a:blip r:embed="rId1"/>
          <a:stretch/>
        </p:blipFill>
        <p:spPr>
          <a:xfrm>
            <a:off x="1676520" y="2362320"/>
            <a:ext cx="2568600" cy="3429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ANd9GcSd48hoijHOmDywmjPVIJh2nvkaP_C1h2dfN6_y1bM3g78XbjMUpw"/>
          <p:cNvPicPr/>
          <p:nvPr/>
        </p:nvPicPr>
        <p:blipFill>
          <a:blip r:embed="rId2"/>
          <a:stretch/>
        </p:blipFill>
        <p:spPr>
          <a:xfrm>
            <a:off x="5638680" y="1676520"/>
            <a:ext cx="2438640" cy="2041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ANd9GcSTERDGB4xu29HylGHi988B4JXCyiELIjrdwoj6nyCux4XkSQpiMg"/>
          <p:cNvPicPr/>
          <p:nvPr/>
        </p:nvPicPr>
        <p:blipFill>
          <a:blip r:embed="rId3"/>
          <a:stretch/>
        </p:blipFill>
        <p:spPr>
          <a:xfrm>
            <a:off x="5638680" y="3890880"/>
            <a:ext cx="2457720" cy="242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niperus squamata ‘Blue Star’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ev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ANd9GcSPAuOUvhOs-2Urmtqvga1l5rctfQacxeCFu_mAVN2-WMTixfR_"/>
          <p:cNvPicPr/>
          <p:nvPr/>
        </p:nvPicPr>
        <p:blipFill>
          <a:blip r:embed="rId1"/>
          <a:stretch/>
        </p:blipFill>
        <p:spPr>
          <a:xfrm>
            <a:off x="571500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ANd9GcQbXbkSaHd4ivW6IHPs2tY3zQuQpFE4v0c2jAKeawCeiK5XS6pffQ"/>
          <p:cNvPicPr/>
          <p:nvPr/>
        </p:nvPicPr>
        <p:blipFill>
          <a:blip r:embed="rId2"/>
          <a:stretch/>
        </p:blipFill>
        <p:spPr>
          <a:xfrm>
            <a:off x="838080" y="2438280"/>
            <a:ext cx="4419720" cy="290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ANd9GcQ-c0KBJ1b-EjuwQd6WLLRHz45jgidb46t1xrZmtEcZLZ5PCqil"/>
          <p:cNvPicPr/>
          <p:nvPr/>
        </p:nvPicPr>
        <p:blipFill>
          <a:blip r:embed="rId3"/>
          <a:stretch/>
        </p:blipFill>
        <p:spPr>
          <a:xfrm>
            <a:off x="5715000" y="4114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rix decidu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ropese l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ANd9GcQUIHpD2fShKm2HutQ7Yv9OX2E2cnX0d_erbhfNzDEoh4ScgRZI"/>
          <p:cNvPicPr/>
          <p:nvPr/>
        </p:nvPicPr>
        <p:blipFill>
          <a:blip r:embed="rId1"/>
          <a:stretch/>
        </p:blipFill>
        <p:spPr>
          <a:xfrm>
            <a:off x="5181480" y="1905120"/>
            <a:ext cx="2619360" cy="196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Nd9GcTWPmjkSkju8ZggB9WgF89p-q9-zeMzRIVpvyOjvGfgyOTduKvbWw"/>
          <p:cNvPicPr/>
          <p:nvPr/>
        </p:nvPicPr>
        <p:blipFill>
          <a:blip r:embed="rId2"/>
          <a:stretch/>
        </p:blipFill>
        <p:spPr>
          <a:xfrm>
            <a:off x="5181480" y="4038480"/>
            <a:ext cx="2590920" cy="1762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ANd9GcQwjTxQ62cI7R7MFMztwGv1vPBnUxS3JW_eU5hnThwxO9xtXI68"/>
          <p:cNvPicPr/>
          <p:nvPr/>
        </p:nvPicPr>
        <p:blipFill>
          <a:blip r:embed="rId3"/>
          <a:stretch/>
        </p:blipFill>
        <p:spPr>
          <a:xfrm>
            <a:off x="914400" y="2057400"/>
            <a:ext cx="2174760" cy="3352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ANd9GcSmWqSSMUmmqJfACogYeOyFsvvyXeau0alBSC6Tv5MfC-LHEUkf"/>
          <p:cNvPicPr/>
          <p:nvPr/>
        </p:nvPicPr>
        <p:blipFill>
          <a:blip r:embed="rId4"/>
          <a:stretch/>
        </p:blipFill>
        <p:spPr>
          <a:xfrm>
            <a:off x="3200400" y="2438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etasequoia glyptostrob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inese moeras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ANd9GcS-XCeIIGQhJWOvmTKVqckJ9nlfgbNIDptb1sbowUaTeW7rtM7f"/>
          <p:cNvPicPr/>
          <p:nvPr/>
        </p:nvPicPr>
        <p:blipFill>
          <a:blip r:embed="rId1"/>
          <a:stretch/>
        </p:blipFill>
        <p:spPr>
          <a:xfrm>
            <a:off x="60958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ANd9GcTEwiGVvjRAFtaXDO4QbiO_nY0nOG7LCSKzbYdpaeneC7pQuZAX"/>
          <p:cNvPicPr/>
          <p:nvPr/>
        </p:nvPicPr>
        <p:blipFill>
          <a:blip r:embed="rId2"/>
          <a:stretch/>
        </p:blipFill>
        <p:spPr>
          <a:xfrm>
            <a:off x="6095880" y="3809880"/>
            <a:ext cx="2467080" cy="1974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ANd9GcSaLiRGquEgLClOUNuR7KLKPlMkaP0gFbClGMbEhN0uR3A8ZznKMw"/>
          <p:cNvPicPr/>
          <p:nvPr/>
        </p:nvPicPr>
        <p:blipFill>
          <a:blip r:embed="rId3"/>
          <a:stretch/>
        </p:blipFill>
        <p:spPr>
          <a:xfrm>
            <a:off x="3886200" y="3886200"/>
            <a:ext cx="1971720" cy="1971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ANd9GcQERHqNrgy7rD0EC0iGCIv1rdQ9yCQbz7RVHG9DPXUz_y8HiwZ-AQ"/>
          <p:cNvPicPr/>
          <p:nvPr/>
        </p:nvPicPr>
        <p:blipFill>
          <a:blip r:embed="rId4"/>
          <a:stretch/>
        </p:blipFill>
        <p:spPr>
          <a:xfrm>
            <a:off x="285840" y="1752480"/>
            <a:ext cx="3103560" cy="4143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ANd9GcRRFq2FDsfwHkuyROS4yMCFgwQ9uZ7NM3nYMA8Mt9vc0EQ_ez3B"/>
          <p:cNvPicPr/>
          <p:nvPr/>
        </p:nvPicPr>
        <p:blipFill>
          <a:blip r:embed="rId5"/>
          <a:stretch/>
        </p:blipFill>
        <p:spPr>
          <a:xfrm>
            <a:off x="3733920" y="1752480"/>
            <a:ext cx="2133360" cy="142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cea abi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spar, fijn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d9GcQTjyCdCjvM3pfYlbiNtEp-cpmtY5zn-L85kIdm-PvLvX_ZCQz5"/>
          <p:cNvPicPr/>
          <p:nvPr/>
        </p:nvPicPr>
        <p:blipFill>
          <a:blip r:embed="rId1"/>
          <a:stretch/>
        </p:blipFill>
        <p:spPr>
          <a:xfrm>
            <a:off x="6019920" y="17524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fijnspar"/>
          <p:cNvPicPr/>
          <p:nvPr/>
        </p:nvPicPr>
        <p:blipFill>
          <a:blip r:embed="rId2"/>
          <a:stretch/>
        </p:blipFill>
        <p:spPr>
          <a:xfrm>
            <a:off x="4419720" y="3962520"/>
            <a:ext cx="3733560" cy="2485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ANd9GcR6mpIm7HdCRRjfGSD7HEDO2JliChHMUipmUJC5Dui8Vb3uMZz3tg"/>
          <p:cNvPicPr/>
          <p:nvPr/>
        </p:nvPicPr>
        <p:blipFill>
          <a:blip r:embed="rId3"/>
          <a:stretch/>
        </p:blipFill>
        <p:spPr>
          <a:xfrm>
            <a:off x="533520" y="1828800"/>
            <a:ext cx="361764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cea pungens ‘Glauc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Nd9GcTBMm0RAdEXg2CXo0brMvzWAzr7oUxSey7N3V71sHGcmIdqmOD7"/>
          <p:cNvPicPr/>
          <p:nvPr/>
        </p:nvPicPr>
        <p:blipFill>
          <a:blip r:embed="rId1"/>
          <a:stretch/>
        </p:blipFill>
        <p:spPr>
          <a:xfrm>
            <a:off x="5486400" y="1752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ANd9GcR4DjEBLfNu84-XzEJTYhoS164SgJ_g78mKS1pOviJ_1VCF78RAmQ"/>
          <p:cNvPicPr/>
          <p:nvPr/>
        </p:nvPicPr>
        <p:blipFill>
          <a:blip r:embed="rId2"/>
          <a:stretch/>
        </p:blipFill>
        <p:spPr>
          <a:xfrm>
            <a:off x="5867280" y="373392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ANd9GcRxKbBxr7Qc69iQY5w9Z0UCki_jgEAcyXHPfkwPTUwsFLFu-13TXg"/>
          <p:cNvPicPr/>
          <p:nvPr/>
        </p:nvPicPr>
        <p:blipFill>
          <a:blip r:embed="rId3"/>
          <a:stretch/>
        </p:blipFill>
        <p:spPr>
          <a:xfrm>
            <a:off x="990720" y="2286000"/>
            <a:ext cx="4343400" cy="3252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nus mugo var. mugh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g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ANd9GcSjqC2CT1Y7cL8-DG6QOuO9iB1hcb_wqx8i7pQu5Gh6nYi0fYCL0g"/>
          <p:cNvPicPr/>
          <p:nvPr/>
        </p:nvPicPr>
        <p:blipFill>
          <a:blip r:embed="rId1"/>
          <a:stretch/>
        </p:blipFill>
        <p:spPr>
          <a:xfrm>
            <a:off x="1143000" y="2438280"/>
            <a:ext cx="3124080" cy="23400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6"/>
          <p:cNvSpPr/>
          <p:nvPr/>
        </p:nvSpPr>
        <p:spPr>
          <a:xfrm>
            <a:off x="3924360" y="2857680"/>
            <a:ext cx="129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ThPinusMugoMughus1"/>
          <p:cNvPicPr/>
          <p:nvPr/>
        </p:nvPicPr>
        <p:blipFill>
          <a:blip r:embed="rId2"/>
          <a:stretch/>
        </p:blipFill>
        <p:spPr>
          <a:xfrm>
            <a:off x="6095880" y="1371600"/>
            <a:ext cx="2286000" cy="2017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ANd9GcQb5eoo8IUDoQJPRvLuB7REn0RzkVnR12w9sVF4ycZ4n_1RJA_2"/>
          <p:cNvPicPr/>
          <p:nvPr/>
        </p:nvPicPr>
        <p:blipFill>
          <a:blip r:embed="rId3"/>
          <a:stretch/>
        </p:blipFill>
        <p:spPr>
          <a:xfrm>
            <a:off x="5181480" y="3695760"/>
            <a:ext cx="3229200" cy="2419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x Cupressicyparis leyland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yland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ANd9GcSmX4x3XwlTJj750FmqlUg4CwV_2rkcrBpc-aYaARK2_4gPDpggiw"/>
          <p:cNvPicPr/>
          <p:nvPr/>
        </p:nvPicPr>
        <p:blipFill>
          <a:blip r:embed="rId1"/>
          <a:stretch/>
        </p:blipFill>
        <p:spPr>
          <a:xfrm>
            <a:off x="6019920" y="152388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Nd9GcSoLnhtLJgQZaoVnq4BJUpmIFjqy6cLcjtCGuAkqADl01l1qLbaCA"/>
          <p:cNvPicPr/>
          <p:nvPr/>
        </p:nvPicPr>
        <p:blipFill>
          <a:blip r:embed="rId2"/>
          <a:stretch/>
        </p:blipFill>
        <p:spPr>
          <a:xfrm>
            <a:off x="5791320" y="38862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ANd9GcRJkpCWDmAS9JZXQ4Dvhyh0KFXVnBxm4RlsoXFJ0iA_lMNmXz61"/>
          <p:cNvPicPr/>
          <p:nvPr/>
        </p:nvPicPr>
        <p:blipFill>
          <a:blip r:embed="rId3"/>
          <a:stretch/>
        </p:blipFill>
        <p:spPr>
          <a:xfrm>
            <a:off x="3048120" y="3886200"/>
            <a:ext cx="2647800" cy="1724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ANd9GcQOhePxrCkXKhC08HaKCcKghMzeVKyfInq-ZMqlDvRxYbjJNOUYig"/>
          <p:cNvPicPr/>
          <p:nvPr/>
        </p:nvPicPr>
        <p:blipFill>
          <a:blip r:embed="rId4"/>
          <a:stretch/>
        </p:blipFill>
        <p:spPr>
          <a:xfrm>
            <a:off x="533520" y="1143000"/>
            <a:ext cx="24415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nus nigra subsp. nig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stenrijkse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030480" cy="42670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7"/>
          <p:cNvSpPr/>
          <p:nvPr/>
        </p:nvSpPr>
        <p:spPr>
          <a:xfrm>
            <a:off x="3838680" y="2938320"/>
            <a:ext cx="146664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ANd9GcSpPu8d6WEDYyI8YOr22g6U1FOLaVgfdcnhoOXxpmBLYcOCz4T-"/>
          <p:cNvPicPr/>
          <p:nvPr/>
        </p:nvPicPr>
        <p:blipFill>
          <a:blip r:embed="rId2"/>
          <a:stretch/>
        </p:blipFill>
        <p:spPr>
          <a:xfrm>
            <a:off x="4495680" y="1828800"/>
            <a:ext cx="4067280" cy="21733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1"/>
          <p:cNvSpPr/>
          <p:nvPr/>
        </p:nvSpPr>
        <p:spPr>
          <a:xfrm>
            <a:off x="3838680" y="2938320"/>
            <a:ext cx="146664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3" descr="1480710"/>
          <p:cNvPicPr/>
          <p:nvPr/>
        </p:nvPicPr>
        <p:blipFill>
          <a:blip r:embed="rId3"/>
          <a:stretch/>
        </p:blipFill>
        <p:spPr>
          <a:xfrm>
            <a:off x="4114800" y="4952880"/>
            <a:ext cx="1838160" cy="1228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ANd9GcSTE4Eby6wHCdRMojJMaqEX_ydkKBn2MU6PznB_H4Z5Se7v8zBq"/>
          <p:cNvPicPr/>
          <p:nvPr/>
        </p:nvPicPr>
        <p:blipFill>
          <a:blip r:embed="rId4"/>
          <a:stretch/>
        </p:blipFill>
        <p:spPr>
          <a:xfrm>
            <a:off x="6172200" y="426708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nus sylve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ve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3257640" y="2562120"/>
            <a:ext cx="262872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2719"/>
          <p:cNvPicPr/>
          <p:nvPr/>
        </p:nvPicPr>
        <p:blipFill>
          <a:blip r:embed="rId1"/>
          <a:stretch/>
        </p:blipFill>
        <p:spPr>
          <a:xfrm>
            <a:off x="533520" y="3581280"/>
            <a:ext cx="4343400" cy="287208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8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Pinus_sylvestris"/>
          <p:cNvPicPr/>
          <p:nvPr/>
        </p:nvPicPr>
        <p:blipFill>
          <a:blip r:embed="rId2"/>
          <a:stretch/>
        </p:blipFill>
        <p:spPr>
          <a:xfrm>
            <a:off x="5638680" y="1295280"/>
            <a:ext cx="3162600" cy="209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ANd9GcSxYjbEoBEFUTvDXGqM1LxugkI5XuWmnflpWQL3z9hbwwhGWR9Z"/>
          <p:cNvPicPr/>
          <p:nvPr/>
        </p:nvPicPr>
        <p:blipFill>
          <a:blip r:embed="rId3"/>
          <a:stretch/>
        </p:blipFill>
        <p:spPr>
          <a:xfrm>
            <a:off x="533520" y="1447920"/>
            <a:ext cx="2247840" cy="2038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ANd9GcQ-SKIZ-GIoW0s4QtINDpIc6hzTPV0LBwNQtGh8xZmd1ZbZCnD8"/>
          <p:cNvPicPr/>
          <p:nvPr/>
        </p:nvPicPr>
        <p:blipFill>
          <a:blip r:embed="rId4"/>
          <a:stretch/>
        </p:blipFill>
        <p:spPr>
          <a:xfrm>
            <a:off x="5638680" y="3981600"/>
            <a:ext cx="3152880" cy="2361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0" descr="ANd9GcTmLfRNFm4AAFv-JseVqthXM5RgCOICfWjT5TiOhjIlL0gEuz5Y"/>
          <p:cNvPicPr/>
          <p:nvPr/>
        </p:nvPicPr>
        <p:blipFill>
          <a:blip r:embed="rId5"/>
          <a:stretch/>
        </p:blipFill>
        <p:spPr>
          <a:xfrm>
            <a:off x="2971800" y="1600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seudotsuga menzies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uglas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ANd9GcRvbi4w1uB8VdHKAQq7fnf0KikvKv0qxSVP5AWoLkVAPwLXw4kcuQ"/>
          <p:cNvPicPr/>
          <p:nvPr/>
        </p:nvPicPr>
        <p:blipFill>
          <a:blip r:embed="rId1"/>
          <a:stretch/>
        </p:blipFill>
        <p:spPr>
          <a:xfrm>
            <a:off x="2666880" y="1905120"/>
            <a:ext cx="308160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6"/>
          <p:cNvSpPr/>
          <p:nvPr/>
        </p:nvSpPr>
        <p:spPr>
          <a:xfrm>
            <a:off x="3581280" y="2271600"/>
            <a:ext cx="198144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me7"/>
          <p:cNvPicPr/>
          <p:nvPr/>
        </p:nvPicPr>
        <p:blipFill>
          <a:blip r:embed="rId2"/>
          <a:stretch/>
        </p:blipFill>
        <p:spPr>
          <a:xfrm>
            <a:off x="5867280" y="1219320"/>
            <a:ext cx="2506680" cy="292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ANd9GcR5o5ItSQze9GECZFRtwDQX8zaZlD4Yv2Kv56Vpp_OxUh-05kLf"/>
          <p:cNvPicPr/>
          <p:nvPr/>
        </p:nvPicPr>
        <p:blipFill>
          <a:blip r:embed="rId3"/>
          <a:stretch/>
        </p:blipFill>
        <p:spPr>
          <a:xfrm>
            <a:off x="533520" y="3809880"/>
            <a:ext cx="1542960" cy="2476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Nd9GcQohRtB-rYBlurl3AOJXDYVAXt1WRG2TRn8U03kWUGRaGfQy0vq"/>
          <p:cNvPicPr/>
          <p:nvPr/>
        </p:nvPicPr>
        <p:blipFill>
          <a:blip r:embed="rId4"/>
          <a:stretch/>
        </p:blipFill>
        <p:spPr>
          <a:xfrm>
            <a:off x="5867280" y="4267080"/>
            <a:ext cx="2514600" cy="1960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ANd9GcTDpsg52UMlQPexbx5ztJA1NgV2aCy7cSR1nw44ru5FpQcibLmrcw"/>
          <p:cNvPicPr/>
          <p:nvPr/>
        </p:nvPicPr>
        <p:blipFill>
          <a:blip r:embed="rId5"/>
          <a:stretch/>
        </p:blipFill>
        <p:spPr>
          <a:xfrm>
            <a:off x="152280" y="13716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xodium distich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as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ANd9GcTeZRbU8CsGbPVn52wFRG1PdaVRNBJw_66SX1l1cmqXuZUNiiDm"/>
          <p:cNvPicPr/>
          <p:nvPr/>
        </p:nvPicPr>
        <p:blipFill>
          <a:blip r:embed="rId1"/>
          <a:stretch/>
        </p:blipFill>
        <p:spPr>
          <a:xfrm>
            <a:off x="609480" y="4403880"/>
            <a:ext cx="2590920" cy="1939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Nd9GcT6AjQhEK5IBKxbzrDvWQ-vCxK--nQNbMJjV08a6VImfBkiSYpl"/>
          <p:cNvPicPr/>
          <p:nvPr/>
        </p:nvPicPr>
        <p:blipFill>
          <a:blip r:embed="rId2"/>
          <a:stretch/>
        </p:blipFill>
        <p:spPr>
          <a:xfrm>
            <a:off x="60958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ANd9GcRSEdYvedK9fslksIzMlRTSSS8fandYsqxyMOwN4XKqRQiILIhk"/>
          <p:cNvPicPr/>
          <p:nvPr/>
        </p:nvPicPr>
        <p:blipFill>
          <a:blip r:embed="rId3"/>
          <a:stretch/>
        </p:blipFill>
        <p:spPr>
          <a:xfrm>
            <a:off x="3352680" y="1752480"/>
            <a:ext cx="2570400" cy="4648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ANd9GcT4ECgGfWeUsAiFvP1DR6UwvOWLNfesx2QvD4ZGpb0ZbHrAeTO6JA"/>
          <p:cNvPicPr/>
          <p:nvPr/>
        </p:nvPicPr>
        <p:blipFill>
          <a:blip r:embed="rId4"/>
          <a:stretch/>
        </p:blipFill>
        <p:spPr>
          <a:xfrm>
            <a:off x="68580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ANd9GcTl_Q28YyqN-ETYHj3JA4Ccrsex-W_v9wCps7T-qjPUBU9q_MOzXw"/>
          <p:cNvPicPr/>
          <p:nvPr/>
        </p:nvPicPr>
        <p:blipFill>
          <a:blip r:embed="rId5"/>
          <a:stretch/>
        </p:blipFill>
        <p:spPr>
          <a:xfrm>
            <a:off x="6705720" y="38862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xodium x media ‘Hicks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nijn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ANd9GcQHeR2Pp4BNPTkkf26fbky_Feh6SLiuF6z6Uwe4ekDX4Q4Cv-1Isg"/>
          <p:cNvPicPr/>
          <p:nvPr/>
        </p:nvPicPr>
        <p:blipFill>
          <a:blip r:embed="rId1"/>
          <a:stretch/>
        </p:blipFill>
        <p:spPr>
          <a:xfrm>
            <a:off x="5715000" y="3886200"/>
            <a:ext cx="1886040" cy="242892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0"/>
          <p:cNvSpPr/>
          <p:nvPr/>
        </p:nvSpPr>
        <p:spPr>
          <a:xfrm>
            <a:off x="4067280" y="3048120"/>
            <a:ext cx="100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4181400" y="3038400"/>
            <a:ext cx="781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6" descr="ANd9GcRv5iFmWY0dlNC2nZ9lZOJSZFDTZv54W8E1aGFDwpl0zhn6Xpsjhw"/>
          <p:cNvPicPr/>
          <p:nvPr/>
        </p:nvPicPr>
        <p:blipFill>
          <a:blip r:embed="rId2"/>
          <a:stretch/>
        </p:blipFill>
        <p:spPr>
          <a:xfrm>
            <a:off x="1600200" y="2133720"/>
            <a:ext cx="2435400" cy="3581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8" descr="ANd9GcTHhipyMs70uiALGAHhjw-zdn6gfNRo1TTAocc69Ca06TSFM1l2"/>
          <p:cNvPicPr/>
          <p:nvPr/>
        </p:nvPicPr>
        <p:blipFill>
          <a:blip r:embed="rId3"/>
          <a:stretch/>
        </p:blipFill>
        <p:spPr>
          <a:xfrm>
            <a:off x="4952880" y="19810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xus bacc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taxus, venijn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ANd9GcQle7PLCBzYSF1oGffpONPTW0-fQ2gQtJ4bQ23zIr6_IebfarXH"/>
          <p:cNvPicPr/>
          <p:nvPr/>
        </p:nvPicPr>
        <p:blipFill>
          <a:blip r:embed="rId1"/>
          <a:stretch/>
        </p:blipFill>
        <p:spPr>
          <a:xfrm>
            <a:off x="6400800" y="4419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ANd9GcSHZUvx9etisM2kxMmmYh4grb2TrYrc2BlXkinAuY8ZcKdI9_XPwA"/>
          <p:cNvPicPr/>
          <p:nvPr/>
        </p:nvPicPr>
        <p:blipFill>
          <a:blip r:embed="rId2"/>
          <a:stretch/>
        </p:blipFill>
        <p:spPr>
          <a:xfrm>
            <a:off x="6172200" y="1600200"/>
            <a:ext cx="2427120" cy="2438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ANd9GcSeD1GWf3yb8RTYAnZ2MWpiVyc9wLmbJvncAQS1sHihLBAsCbIPNQ"/>
          <p:cNvPicPr/>
          <p:nvPr/>
        </p:nvPicPr>
        <p:blipFill>
          <a:blip r:embed="rId3"/>
          <a:stretch/>
        </p:blipFill>
        <p:spPr>
          <a:xfrm>
            <a:off x="38088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ANd9GcQB1U3aqEGjjHrPjS54jmc3Jqw3-Mo4vZDb4e5rOPs97FIej-Ll"/>
          <p:cNvPicPr/>
          <p:nvPr/>
        </p:nvPicPr>
        <p:blipFill>
          <a:blip r:embed="rId4"/>
          <a:stretch/>
        </p:blipFill>
        <p:spPr>
          <a:xfrm>
            <a:off x="2666880" y="2743200"/>
            <a:ext cx="3353040" cy="255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ANd9GcRdWKPXjlxc-OqDlFP5cfuR88QNkrWNbszTRsA0922PFQ_HB8IBMA"/>
          <p:cNvPicPr/>
          <p:nvPr/>
        </p:nvPicPr>
        <p:blipFill>
          <a:blip r:embed="rId5"/>
          <a:stretch/>
        </p:blipFill>
        <p:spPr>
          <a:xfrm>
            <a:off x="380880" y="1219320"/>
            <a:ext cx="1600200" cy="2400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uja occident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sterse levens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ANd9GcQ31pEJyfaCF7q6YDLOQIf2YZ_LElhPQ2gayJoPdQ0m3dECPdkP"/>
          <p:cNvPicPr/>
          <p:nvPr/>
        </p:nvPicPr>
        <p:blipFill>
          <a:blip r:embed="rId1"/>
          <a:stretch/>
        </p:blipFill>
        <p:spPr>
          <a:xfrm>
            <a:off x="838080" y="1828800"/>
            <a:ext cx="3267360" cy="1400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ANd9GcR9Ie6S9MxUsNj7vb3p8uhAB8QKixp0HM1BMYTylTbIr6mNJ5OD-Q"/>
          <p:cNvPicPr/>
          <p:nvPr/>
        </p:nvPicPr>
        <p:blipFill>
          <a:blip r:embed="rId2"/>
          <a:stretch/>
        </p:blipFill>
        <p:spPr>
          <a:xfrm>
            <a:off x="838080" y="4419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ANd9GcQ3f4GngwTmmBPuVZp_x6Cgmn5I7WU94k9DZUzGvqdv_lQ492Dt3w"/>
          <p:cNvPicPr/>
          <p:nvPr/>
        </p:nvPicPr>
        <p:blipFill>
          <a:blip r:embed="rId3"/>
          <a:stretch/>
        </p:blipFill>
        <p:spPr>
          <a:xfrm>
            <a:off x="58672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ANd9GcQRUL-03qACfmlnhbnNTwebRXOI9P3azr7d2zliGf5prF__cs-Atw"/>
          <p:cNvPicPr/>
          <p:nvPr/>
        </p:nvPicPr>
        <p:blipFill>
          <a:blip r:embed="rId4"/>
          <a:stretch/>
        </p:blipFill>
        <p:spPr>
          <a:xfrm>
            <a:off x="6553080" y="373392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ANd9GcT-x5lPhRqWR5hyTLVKRSzYuacspgwtpjnDEvlITuAsZv8Eyx-9"/>
          <p:cNvPicPr/>
          <p:nvPr/>
        </p:nvPicPr>
        <p:blipFill>
          <a:blip r:embed="rId5"/>
          <a:stretch/>
        </p:blipFill>
        <p:spPr>
          <a:xfrm>
            <a:off x="3581280" y="3429000"/>
            <a:ext cx="216864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uja Plic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uzenlevens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ANd9GcRhq_5n60HBRjLE9YTWatXuBQLsejRVnW9-37ZR-CSC71tkc-aVKg"/>
          <p:cNvPicPr/>
          <p:nvPr/>
        </p:nvPicPr>
        <p:blipFill>
          <a:blip r:embed="rId1"/>
          <a:stretch/>
        </p:blipFill>
        <p:spPr>
          <a:xfrm>
            <a:off x="380880" y="1752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ANd9GcR54qh8dzTq-roMiY6UZUX8O0SbldQgTfR5ZJoxh95uQtbkYS33"/>
          <p:cNvPicPr/>
          <p:nvPr/>
        </p:nvPicPr>
        <p:blipFill>
          <a:blip r:embed="rId2"/>
          <a:stretch/>
        </p:blipFill>
        <p:spPr>
          <a:xfrm>
            <a:off x="457200" y="3962520"/>
            <a:ext cx="2666880" cy="1895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ANd9GcR51OW43yGGXaLg3-c4q-Z-WKJl_wOG8Ucvfgu_d_mIIHUE-gIr2A"/>
          <p:cNvPicPr/>
          <p:nvPr/>
        </p:nvPicPr>
        <p:blipFill>
          <a:blip r:embed="rId3"/>
          <a:stretch/>
        </p:blipFill>
        <p:spPr>
          <a:xfrm>
            <a:off x="3429000" y="2133720"/>
            <a:ext cx="2513160" cy="3429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ANd9GcQeVhDK23GeMSS_T1AShh1SU5WyDDuL5CciSATU3LMK1sJCWYii"/>
          <p:cNvPicPr/>
          <p:nvPr/>
        </p:nvPicPr>
        <p:blipFill>
          <a:blip r:embed="rId4"/>
          <a:stretch/>
        </p:blipFill>
        <p:spPr>
          <a:xfrm>
            <a:off x="6324480" y="175248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ANd9GcSLjfV7BeNMH_ZXSgRqP-bLMSSLRk5HgURK2AI1ep2qP22zAfRSbg"/>
          <p:cNvPicPr/>
          <p:nvPr/>
        </p:nvPicPr>
        <p:blipFill>
          <a:blip r:embed="rId5"/>
          <a:stretch/>
        </p:blipFill>
        <p:spPr>
          <a:xfrm>
            <a:off x="6324480" y="3886200"/>
            <a:ext cx="2619360" cy="196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bies kore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reaanse zilver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ANd9GcTBUgZvYJ-6u26OdSOvcEFytLNW7fDO12wMKHyyTNVBK9HlVt4XmA"/>
          <p:cNvPicPr/>
          <p:nvPr/>
        </p:nvPicPr>
        <p:blipFill>
          <a:blip r:embed="rId1"/>
          <a:stretch/>
        </p:blipFill>
        <p:spPr>
          <a:xfrm>
            <a:off x="52578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ANd9GcS5N1bGr4FETF31jD5Oax-jnaxgqxBXh4ikoX7TjqhJZwd3YmokLA"/>
          <p:cNvPicPr/>
          <p:nvPr/>
        </p:nvPicPr>
        <p:blipFill>
          <a:blip r:embed="rId2"/>
          <a:stretch/>
        </p:blipFill>
        <p:spPr>
          <a:xfrm>
            <a:off x="5257800" y="3809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ANd9GcTtRZjaMzELKWSoX6NbIRVblnpx24qRQaAF-ixIg3shjp6vMtX1pQ"/>
          <p:cNvPicPr/>
          <p:nvPr/>
        </p:nvPicPr>
        <p:blipFill>
          <a:blip r:embed="rId3"/>
          <a:stretch/>
        </p:blipFill>
        <p:spPr>
          <a:xfrm>
            <a:off x="1447920" y="1600200"/>
            <a:ext cx="28414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bies nordmanni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dman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ANd9GcQAps6rtKWhCAweeZ7Ixc03ktpxYClvFB707e3HG5AMFXefTtUc"/>
          <p:cNvPicPr/>
          <p:nvPr/>
        </p:nvPicPr>
        <p:blipFill>
          <a:blip r:embed="rId1"/>
          <a:stretch/>
        </p:blipFill>
        <p:spPr>
          <a:xfrm>
            <a:off x="762120" y="2209680"/>
            <a:ext cx="3039840" cy="403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ANd9GcS0Hd-hnW2bVBsxxBVygTQ8YmaFEOME7gIi_KLsmd4BbHyWiL7J"/>
          <p:cNvPicPr/>
          <p:nvPr/>
        </p:nvPicPr>
        <p:blipFill>
          <a:blip r:embed="rId2"/>
          <a:stretch/>
        </p:blipFill>
        <p:spPr>
          <a:xfrm>
            <a:off x="61722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ANd9GcSbyYJ-wnATR5QdfeZJNY8c0Begc2TI1_oQclMa2rmqR7KBfCal-w"/>
          <p:cNvPicPr/>
          <p:nvPr/>
        </p:nvPicPr>
        <p:blipFill>
          <a:blip r:embed="rId3"/>
          <a:stretch/>
        </p:blipFill>
        <p:spPr>
          <a:xfrm>
            <a:off x="6172200" y="4419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ANd9GcT-SuCiVxGapvUoPgEHTrF6c9ONMhsY8xlqAHFFuhpImwkm8NoU"/>
          <p:cNvPicPr/>
          <p:nvPr/>
        </p:nvPicPr>
        <p:blipFill>
          <a:blip r:embed="rId4"/>
          <a:stretch/>
        </p:blipFill>
        <p:spPr>
          <a:xfrm>
            <a:off x="3276720" y="16002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bies procera ‘Glauc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del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ANd9GcRiOl2UsYoRrgLI1yScfSRS4nrswL7hWIjxszuLQzA4hp1ltFK4AA"/>
          <p:cNvPicPr/>
          <p:nvPr/>
        </p:nvPicPr>
        <p:blipFill>
          <a:blip r:embed="rId1"/>
          <a:stretch/>
        </p:blipFill>
        <p:spPr>
          <a:xfrm>
            <a:off x="5867280" y="3581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ANd9GcSU76Zr45iIk3A8yTXiqb1xkbUKhXTU3R4oSuWRB-RmgHAFfPP7"/>
          <p:cNvPicPr/>
          <p:nvPr/>
        </p:nvPicPr>
        <p:blipFill>
          <a:blip r:embed="rId2"/>
          <a:stretch/>
        </p:blipFill>
        <p:spPr>
          <a:xfrm>
            <a:off x="5105520" y="1523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ANd9GcRIzCJFI6t7ILxFpGViyJpklErqiAmaFO4p1CEKFJl5wNUXB5BLGQ"/>
          <p:cNvPicPr/>
          <p:nvPr/>
        </p:nvPicPr>
        <p:blipFill>
          <a:blip r:embed="rId3"/>
          <a:stretch/>
        </p:blipFill>
        <p:spPr>
          <a:xfrm>
            <a:off x="1066680" y="1523880"/>
            <a:ext cx="335592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drus deoda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malayace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ANd9GcRBabHSChxtmGbW-yaexc7stDSfhA0Noyqf1FePikY_iwT7bKCMFA"/>
          <p:cNvPicPr/>
          <p:nvPr/>
        </p:nvPicPr>
        <p:blipFill>
          <a:blip r:embed="rId1"/>
          <a:stretch/>
        </p:blipFill>
        <p:spPr>
          <a:xfrm>
            <a:off x="1600200" y="1676520"/>
            <a:ext cx="2400480" cy="378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ANd9GcTbhWAaz4jyJKoKccWg1wYICD09L3oUVwiA9wzTU2PEgyhP_GiuEg"/>
          <p:cNvPicPr/>
          <p:nvPr/>
        </p:nvPicPr>
        <p:blipFill>
          <a:blip r:embed="rId2"/>
          <a:stretch/>
        </p:blipFill>
        <p:spPr>
          <a:xfrm>
            <a:off x="4800600" y="1676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ANd9GcS5rw3AeBY9Z9XTsSQ4quCxjYbcgP5nOVZYpTwz7U6c3ibIfolGmg"/>
          <p:cNvPicPr/>
          <p:nvPr/>
        </p:nvPicPr>
        <p:blipFill>
          <a:blip r:embed="rId3"/>
          <a:stretch/>
        </p:blipFill>
        <p:spPr>
          <a:xfrm>
            <a:off x="4876920" y="37339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drus libani Glauca groep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lasce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ANd9GcRYqsDBbcv1jts7MpSq7A1kt58YtQsINuBftjCBCwiWlkEWj1vF4w"/>
          <p:cNvPicPr/>
          <p:nvPr/>
        </p:nvPicPr>
        <p:blipFill>
          <a:blip r:embed="rId1"/>
          <a:stretch/>
        </p:blipFill>
        <p:spPr>
          <a:xfrm>
            <a:off x="1066680" y="1752480"/>
            <a:ext cx="2652840" cy="373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ANd9GcScyHjLiTgZjymLIadCdpfSNd0dr1lLr9dcTnl0J56Grrn_WIRlNg"/>
          <p:cNvPicPr/>
          <p:nvPr/>
        </p:nvPicPr>
        <p:blipFill>
          <a:blip r:embed="rId2"/>
          <a:stretch/>
        </p:blipFill>
        <p:spPr>
          <a:xfrm>
            <a:off x="6172200" y="3429000"/>
            <a:ext cx="1676520" cy="2019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ANd9GcQZJk2dWLRoQNRPztGG9_QENJgK3b8FqDSQTruvX4bj632UCx2F"/>
          <p:cNvPicPr/>
          <p:nvPr/>
        </p:nvPicPr>
        <p:blipFill>
          <a:blip r:embed="rId3"/>
          <a:stretch/>
        </p:blipFill>
        <p:spPr>
          <a:xfrm>
            <a:off x="5486400" y="160020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lawsoniana ‘Columnari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lifornische 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Nd9GcTBxGJe1hApexGx7OZeojQXm6oTogQ7DekgM21Efi289X-2hlAuqw"/>
          <p:cNvPicPr/>
          <p:nvPr/>
        </p:nvPicPr>
        <p:blipFill>
          <a:blip r:embed="rId1"/>
          <a:stretch/>
        </p:blipFill>
        <p:spPr>
          <a:xfrm>
            <a:off x="1600200" y="2209680"/>
            <a:ext cx="2798640" cy="411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d9GcR5DgAdGk00tNMOLc6AKilLR9okTGqmDSxeeDuNDPsisiXwZrn2SQ"/>
          <p:cNvPicPr/>
          <p:nvPr/>
        </p:nvPicPr>
        <p:blipFill>
          <a:blip r:embed="rId2"/>
          <a:stretch/>
        </p:blipFill>
        <p:spPr>
          <a:xfrm>
            <a:off x="5105520" y="2133720"/>
            <a:ext cx="2690640" cy="178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ANd9GcQj2yeijJrpnn_XPY48BwV4bXQe8TF_VMm8UAD93f9iZ4qC_RASQg"/>
          <p:cNvPicPr/>
          <p:nvPr/>
        </p:nvPicPr>
        <p:blipFill>
          <a:blip r:embed="rId3"/>
          <a:stretch/>
        </p:blipFill>
        <p:spPr>
          <a:xfrm>
            <a:off x="5943600" y="40384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nootkatensis ‘Pendu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tka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ANd9GcTi-kbc3tx0D1PFG99Zal7cYxrW7NqqUKMveiHEJ-dZUHN9NYjZ_g"/>
          <p:cNvPicPr/>
          <p:nvPr/>
        </p:nvPicPr>
        <p:blipFill>
          <a:blip r:embed="rId1"/>
          <a:stretch/>
        </p:blipFill>
        <p:spPr>
          <a:xfrm>
            <a:off x="6553080" y="1371600"/>
            <a:ext cx="1809720" cy="2523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ANd9GcTLYHyKoDjZzeGqfzbLoipxlJox5_KAqdHOAX11KyBpz1thEVv4"/>
          <p:cNvPicPr/>
          <p:nvPr/>
        </p:nvPicPr>
        <p:blipFill>
          <a:blip r:embed="rId2"/>
          <a:stretch/>
        </p:blipFill>
        <p:spPr>
          <a:xfrm>
            <a:off x="914400" y="1676520"/>
            <a:ext cx="347328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ANd9GcQw9nYclTxRDii7FUG92whi2PVK1ztDJ4Tu6yWDJalnPNC6sLHeCw"/>
          <p:cNvPicPr/>
          <p:nvPr/>
        </p:nvPicPr>
        <p:blipFill>
          <a:blip r:embed="rId3"/>
          <a:stretch/>
        </p:blipFill>
        <p:spPr>
          <a:xfrm>
            <a:off x="5562720" y="4013280"/>
            <a:ext cx="2762280" cy="185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2T12:10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