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5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  <p:custShowLst>
    <p:custShow name="Aangepaste voorstelling 1" id="0">
      <p:sldLst>
        <p:sld r:id="rId5"/>
        <p:sld r:id="rId8"/>
        <p:sld r:id="rId11"/>
        <p:sld r:id="rId14"/>
        <p:sld r:id="rId17"/>
        <p:sld r:id="rId20"/>
        <p:sld r:id="rId23"/>
        <p:sld r:id="rId26"/>
        <p:sld r:id="rId30"/>
        <p:sld r:id="rId36"/>
      </p:sldLst>
    </p:custShow>
    <p:custShow name="Aangepaste voorstelling 2" id="1">
      <p:sldLst>
        <p:sld r:id="rId6"/>
        <p:sld r:id="rId9"/>
        <p:sld r:id="rId12"/>
        <p:sld r:id="rId15"/>
        <p:sld r:id="rId19"/>
        <p:sld r:id="rId21"/>
        <p:sld r:id="rId25"/>
        <p:sld r:id="rId31"/>
        <p:sld r:id="rId35"/>
        <p:sld r:id="rId3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069B-8C04-45F9-9A96-37AEA56F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2A68-6045-4EAF-AB05-C2194A81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20F7-3073-491E-85A7-F5E236E3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EFF1-C708-4E17-BCF4-04EF31BB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6BA3-59FB-4B91-BD14-65DBEA85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30D4-AB9E-4B88-A25D-8975883E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1EB3-480B-4AA2-9729-A92E4709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F7AF-7FE9-4EC7-AEC3-655AE6DA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6DEA-FC5C-449A-BBB9-5BF44745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3F83-69C3-4256-9C0A-8356AB69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F68F-AEDE-4713-966C-07FB6B95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DB45-8EB3-4FDE-BD62-F0F47E24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2CC5-8ADA-4E88-BB6B-E0CFEB9A73D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image" Target="../media/image84.jpeg"/><Relationship Id="rId5" Type="http://schemas.openxmlformats.org/officeDocument/2006/relationships/image" Target="../media/image85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133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- &amp; tweejaring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elicia amell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 madelie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ANd9GcQHqUF8gaKoZXC6wtAc3lTkIw5Cs39ZvHJfhhw4Ku9pXD0O0f1I"/>
          <p:cNvPicPr/>
          <p:nvPr/>
        </p:nvPicPr>
        <p:blipFill>
          <a:blip r:embed="rId1"/>
          <a:stretch/>
        </p:blipFill>
        <p:spPr>
          <a:xfrm>
            <a:off x="6172200" y="1600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ANd9GcQzmVBYwh2_XzlvOSv-BN7Sr9bgjaEp8NS15laE1aXS875bP1RH"/>
          <p:cNvPicPr/>
          <p:nvPr/>
        </p:nvPicPr>
        <p:blipFill>
          <a:blip r:embed="rId2"/>
          <a:stretch/>
        </p:blipFill>
        <p:spPr>
          <a:xfrm>
            <a:off x="1143000" y="2133720"/>
            <a:ext cx="4876920" cy="3244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ANd9GcQ1gWXWZjUaR01MuZVsWO5-1o8KjfGoWzMwIq3QpjETfnMtZ6-_"/>
          <p:cNvPicPr/>
          <p:nvPr/>
        </p:nvPicPr>
        <p:blipFill>
          <a:blip r:embed="rId3"/>
          <a:stretch/>
        </p:blipFill>
        <p:spPr>
          <a:xfrm>
            <a:off x="6172200" y="39625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azan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zania; middagg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ANd9GcQ0shnKd301N5vw_1PlyrFWsQYMIUuVVRcHoIGp4cBzeewGROGw"/>
          <p:cNvPicPr/>
          <p:nvPr/>
        </p:nvPicPr>
        <p:blipFill>
          <a:blip r:embed="rId1"/>
          <a:stretch/>
        </p:blipFill>
        <p:spPr>
          <a:xfrm>
            <a:off x="762120" y="2209680"/>
            <a:ext cx="4038480" cy="3629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ANd9GcQaLzMxBTk4u8kwD03WGlKUQBezXT-egbOluc-WFwWYkgMxenzxUA"/>
          <p:cNvPicPr/>
          <p:nvPr/>
        </p:nvPicPr>
        <p:blipFill>
          <a:blip r:embed="rId2"/>
          <a:stretch/>
        </p:blipFill>
        <p:spPr>
          <a:xfrm>
            <a:off x="5105520" y="2666880"/>
            <a:ext cx="3657600" cy="275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ianthus annu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ANd9GcTBlR66A9g4JccCLJ48SJLOcx9qjoVhcYXIHrsqqW5jHZrI6D3H"/>
          <p:cNvPicPr/>
          <p:nvPr/>
        </p:nvPicPr>
        <p:blipFill>
          <a:blip r:embed="rId1"/>
          <a:stretch/>
        </p:blipFill>
        <p:spPr>
          <a:xfrm>
            <a:off x="2971800" y="1752480"/>
            <a:ext cx="3338640" cy="443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iotropium arboresc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liotr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Nd9GcTqapNGFow4avzOQtC8EHSxlBubYmFrii3M2avXGl2JHNeYNm3E"/>
          <p:cNvPicPr/>
          <p:nvPr/>
        </p:nvPicPr>
        <p:blipFill>
          <a:blip r:embed="rId1"/>
          <a:stretch/>
        </p:blipFill>
        <p:spPr>
          <a:xfrm>
            <a:off x="838080" y="1676520"/>
            <a:ext cx="3394080" cy="3809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ANd9GcTabN7uqFRWujGooC381VWMfoBhVg2z-WGVAH9c-Vst-Nn9wzqjnQ"/>
          <p:cNvPicPr/>
          <p:nvPr/>
        </p:nvPicPr>
        <p:blipFill>
          <a:blip r:embed="rId2"/>
          <a:stretch/>
        </p:blipFill>
        <p:spPr>
          <a:xfrm>
            <a:off x="4419720" y="1676520"/>
            <a:ext cx="4038480" cy="384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mpatiens walleri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ijtig Lies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ANd9GcSQYpB83jb8S2oIeKnsTG75HxYL2Q8xaiMoKt_-fjj-44rmurYiAw"/>
          <p:cNvPicPr/>
          <p:nvPr/>
        </p:nvPicPr>
        <p:blipFill>
          <a:blip r:embed="rId1"/>
          <a:stretch/>
        </p:blipFill>
        <p:spPr>
          <a:xfrm>
            <a:off x="4495680" y="1828800"/>
            <a:ext cx="4038840" cy="4021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ANd9GcRsTLUcvap_fDpb-Pl3sbcFnruF2CfT6WF2wCg-twaIsGwNfsrUOA"/>
          <p:cNvPicPr/>
          <p:nvPr/>
        </p:nvPicPr>
        <p:blipFill>
          <a:blip r:embed="rId2"/>
          <a:stretch/>
        </p:blipFill>
        <p:spPr>
          <a:xfrm>
            <a:off x="533520" y="2362320"/>
            <a:ext cx="3809880" cy="2535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vatera trime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vat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ANd9GcRZLg8r1HZU9cuMKu7uYqG73hRpJh0bUbByJscMBOFeF-YvtOO0wQ"/>
          <p:cNvPicPr/>
          <p:nvPr/>
        </p:nvPicPr>
        <p:blipFill>
          <a:blip r:embed="rId1"/>
          <a:stretch/>
        </p:blipFill>
        <p:spPr>
          <a:xfrm>
            <a:off x="5029200" y="1600200"/>
            <a:ext cx="2209680" cy="2076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ANd9GcSORSADfNm2i1S1GeFxdaBpEmBxw9qRtxQBC6x-kL6y4gKyLMuwLA"/>
          <p:cNvPicPr/>
          <p:nvPr/>
        </p:nvPicPr>
        <p:blipFill>
          <a:blip r:embed="rId2"/>
          <a:stretch/>
        </p:blipFill>
        <p:spPr>
          <a:xfrm>
            <a:off x="5029200" y="3886200"/>
            <a:ext cx="219564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ANd9GcTvw3JY90XNLQ7uQOW2qU5AmuuwDZpprjqpg_lp3oxvyE6SYN2G"/>
          <p:cNvPicPr/>
          <p:nvPr/>
        </p:nvPicPr>
        <p:blipFill>
          <a:blip r:embed="rId3"/>
          <a:stretch/>
        </p:blipFill>
        <p:spPr>
          <a:xfrm>
            <a:off x="1828800" y="2057400"/>
            <a:ext cx="257508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belia erin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belia; Long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ANd9GcRPfY8ppjClahkcgOalVnZRk7-8ka-xPJWGp3V7ekPKVQZVgJxu"/>
          <p:cNvPicPr/>
          <p:nvPr/>
        </p:nvPicPr>
        <p:blipFill>
          <a:blip r:embed="rId1"/>
          <a:stretch/>
        </p:blipFill>
        <p:spPr>
          <a:xfrm>
            <a:off x="5943600" y="1905120"/>
            <a:ext cx="2505240" cy="1819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ANd9GcQBLsBejHn0MZaX4R3qGBTkkjiFy_z3bv6wJw10i6tdXcZ9fpnWOw"/>
          <p:cNvPicPr/>
          <p:nvPr/>
        </p:nvPicPr>
        <p:blipFill>
          <a:blip r:embed="rId2"/>
          <a:stretch/>
        </p:blipFill>
        <p:spPr>
          <a:xfrm>
            <a:off x="5943600" y="4038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ANd9GcRf5Sn8rPzBNmd3FvS2nE5EoUNKmv0jy_yoWj3hCPTOH3UZ9rQn"/>
          <p:cNvPicPr/>
          <p:nvPr/>
        </p:nvPicPr>
        <p:blipFill>
          <a:blip r:embed="rId3"/>
          <a:stretch/>
        </p:blipFill>
        <p:spPr>
          <a:xfrm>
            <a:off x="1295280" y="2362320"/>
            <a:ext cx="3810240" cy="2868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bularia maritim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ldza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ANd9GcR94ndorftElTIKCDBr1qHESS2-0L96Gj76zDk_nXRQtW1bSorh"/>
          <p:cNvPicPr/>
          <p:nvPr/>
        </p:nvPicPr>
        <p:blipFill>
          <a:blip r:embed="rId1"/>
          <a:stretch/>
        </p:blipFill>
        <p:spPr>
          <a:xfrm>
            <a:off x="5562720" y="1676520"/>
            <a:ext cx="2438280" cy="2232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ANd9GcRgpP5zQsPl_wGI1J8LfV_1bv9jZqRkXaBEtcpnSzInp8z5PZgw"/>
          <p:cNvPicPr/>
          <p:nvPr/>
        </p:nvPicPr>
        <p:blipFill>
          <a:blip r:embed="rId2"/>
          <a:stretch/>
        </p:blipFill>
        <p:spPr>
          <a:xfrm>
            <a:off x="762120" y="2438280"/>
            <a:ext cx="4572000" cy="3043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Nd9GcSzx9oM7RxDP3eLEsBGXyFWI1QLFKeGGNgXz3KVf7iPMAngD9Ek1A"/>
          <p:cNvPicPr/>
          <p:nvPr/>
        </p:nvPicPr>
        <p:blipFill>
          <a:blip r:embed="rId3"/>
          <a:stretch/>
        </p:blipFill>
        <p:spPr>
          <a:xfrm>
            <a:off x="5562720" y="4038480"/>
            <a:ext cx="2457360" cy="1976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icotiana x sandera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tab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ANd9GcT_v8Nf9J7ffzkm0km6XGjISLONmivTUjamJJ4isq8286XVtKReDQ"/>
          <p:cNvPicPr/>
          <p:nvPr/>
        </p:nvPicPr>
        <p:blipFill>
          <a:blip r:embed="rId1"/>
          <a:stretch/>
        </p:blipFill>
        <p:spPr>
          <a:xfrm>
            <a:off x="6172200" y="2971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ANd9GcRhw_yNYjHQzhT1yE_sszlY8SZ0uNx7Uu-h3LJKx5EfkfMaPSCfRA"/>
          <p:cNvPicPr/>
          <p:nvPr/>
        </p:nvPicPr>
        <p:blipFill>
          <a:blip r:embed="rId2"/>
          <a:stretch/>
        </p:blipFill>
        <p:spPr>
          <a:xfrm>
            <a:off x="914400" y="2209680"/>
            <a:ext cx="4800600" cy="319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largonium (Zonale Groep)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an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3243240" y="2571840"/>
            <a:ext cx="26575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3958324889_b840ac3d6e"/>
          <p:cNvPicPr/>
          <p:nvPr/>
        </p:nvPicPr>
        <p:blipFill>
          <a:blip r:embed="rId1"/>
          <a:stretch/>
        </p:blipFill>
        <p:spPr>
          <a:xfrm>
            <a:off x="5410080" y="1752480"/>
            <a:ext cx="2934000" cy="1895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ANd9GcSY7xCDG3wQCLDk3Vy8AVqb-oKNYecG5Xsgy4aBSD6WglGh3qt1"/>
          <p:cNvPicPr/>
          <p:nvPr/>
        </p:nvPicPr>
        <p:blipFill>
          <a:blip r:embed="rId2"/>
          <a:stretch/>
        </p:blipFill>
        <p:spPr>
          <a:xfrm>
            <a:off x="5410080" y="3886200"/>
            <a:ext cx="2943360" cy="2046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ANd9GcTZb5sFX_ioZq9ES9wGejgkMzNCdfvlAtQ5oVqULQ9B6SG0poY48Q"/>
          <p:cNvPicPr/>
          <p:nvPr/>
        </p:nvPicPr>
        <p:blipFill>
          <a:blip r:embed="rId3"/>
          <a:stretch/>
        </p:blipFill>
        <p:spPr>
          <a:xfrm>
            <a:off x="914400" y="2057400"/>
            <a:ext cx="411480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jarig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tun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tu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Nd9GcQGEUAg2gqnEHZm5a1TEpjsk6WyMV9JGOmmk3cYOLp1FfE0BLcS"/>
          <p:cNvPicPr/>
          <p:nvPr/>
        </p:nvPicPr>
        <p:blipFill>
          <a:blip r:embed="rId1"/>
          <a:stretch/>
        </p:blipFill>
        <p:spPr>
          <a:xfrm>
            <a:off x="4876920" y="2362320"/>
            <a:ext cx="3504960" cy="2973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ANd9GcSMOJEA_3nGiKAFxj1R7lF5SUB_hAvDakV5tJHJJngSAXEarMcjkw"/>
          <p:cNvPicPr/>
          <p:nvPr/>
        </p:nvPicPr>
        <p:blipFill>
          <a:blip r:embed="rId2"/>
          <a:stretch/>
        </p:blipFill>
        <p:spPr>
          <a:xfrm>
            <a:off x="1143000" y="23623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via splend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ursa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ANd9GcRBAkpjQO_6qPhCTUv1rKj5604trMVb7XM_nvTrW60GPKvM8bfu"/>
          <p:cNvPicPr/>
          <p:nvPr/>
        </p:nvPicPr>
        <p:blipFill>
          <a:blip r:embed="rId1"/>
          <a:stretch/>
        </p:blipFill>
        <p:spPr>
          <a:xfrm>
            <a:off x="1143000" y="1752480"/>
            <a:ext cx="2625840" cy="3505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ANd9GcRw1ZR1i7SoxSoZQvc-IsdOd7NHhY5xiqzeShmHQeYaQgxEPi5oiQ"/>
          <p:cNvPicPr/>
          <p:nvPr/>
        </p:nvPicPr>
        <p:blipFill>
          <a:blip r:embed="rId2"/>
          <a:stretch/>
        </p:blipFill>
        <p:spPr>
          <a:xfrm>
            <a:off x="5872320" y="1219320"/>
            <a:ext cx="2357280" cy="2743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ANd9GcQ1YTS1DInED53rmLZWYi2MN62-zChuIQKb2TLbwCOZ0-TFHlCF6A"/>
          <p:cNvPicPr/>
          <p:nvPr/>
        </p:nvPicPr>
        <p:blipFill>
          <a:blip r:embed="rId3"/>
          <a:stretch/>
        </p:blipFill>
        <p:spPr>
          <a:xfrm>
            <a:off x="5867280" y="40384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enecio bicolor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 askruid; Zilver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ANd9GcRzNec_CqMNZPhbffgERsXMAlozycbsKQXyjFkko3K7w4HLqGnxjw"/>
          <p:cNvPicPr/>
          <p:nvPr/>
        </p:nvPicPr>
        <p:blipFill>
          <a:blip r:embed="rId1"/>
          <a:stretch/>
        </p:blipFill>
        <p:spPr>
          <a:xfrm>
            <a:off x="990720" y="1905120"/>
            <a:ext cx="3274920" cy="3809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ANd9GcQ0f4lEEOjylFUXTHyDjyGAVqsXRUSNJXhetdn0Mlk-hdc0kquL"/>
          <p:cNvPicPr/>
          <p:nvPr/>
        </p:nvPicPr>
        <p:blipFill>
          <a:blip r:embed="rId2"/>
          <a:stretch/>
        </p:blipFill>
        <p:spPr>
          <a:xfrm>
            <a:off x="5029200" y="1905120"/>
            <a:ext cx="2724120" cy="1996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ANd9GcRjlk3hSUuvLc-s-UU-ZsIRv5cd2_S7Lr5DLWMHmmssXbaR_HRsKA"/>
          <p:cNvPicPr/>
          <p:nvPr/>
        </p:nvPicPr>
        <p:blipFill>
          <a:blip r:embed="rId3"/>
          <a:stretch/>
        </p:blipFill>
        <p:spPr>
          <a:xfrm>
            <a:off x="5029200" y="3936960"/>
            <a:ext cx="2781360" cy="1844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getes (Erecta Groep)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afrik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Nd9GcRjYtSyCiG8ub92LKxe5YBbGAe-7-4qlnyFaXHuTFmPyRnBIZpy"/>
          <p:cNvPicPr/>
          <p:nvPr/>
        </p:nvPicPr>
        <p:blipFill>
          <a:blip r:embed="rId1"/>
          <a:stretch/>
        </p:blipFill>
        <p:spPr>
          <a:xfrm>
            <a:off x="4648320" y="3048120"/>
            <a:ext cx="3524040" cy="302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ANd9GcRJDlFc1D4LSVkHQx4teMCeb8g87T-Wrl_UKJwq7fW64sDcsGrzHQ"/>
          <p:cNvPicPr/>
          <p:nvPr/>
        </p:nvPicPr>
        <p:blipFill>
          <a:blip r:embed="rId2"/>
          <a:stretch/>
        </p:blipFill>
        <p:spPr>
          <a:xfrm>
            <a:off x="914400" y="2057400"/>
            <a:ext cx="3429000" cy="27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getes (Patula Groep)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e afrik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ANd9GcSqe9pu06sKL77Ma8W-n9S70dzkIlAPACHtOaCvMIjruDIQ9iWu"/>
          <p:cNvPicPr/>
          <p:nvPr/>
        </p:nvPicPr>
        <p:blipFill>
          <a:blip r:embed="rId1"/>
          <a:stretch/>
        </p:blipFill>
        <p:spPr>
          <a:xfrm>
            <a:off x="1219320" y="2133720"/>
            <a:ext cx="3429000" cy="2568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ANd9GcSu8a53gxUi20_9RDjzwqq26GJXV3g6z-zJItNe6EEOlR3hTMh2YA"/>
          <p:cNvPicPr/>
          <p:nvPr/>
        </p:nvPicPr>
        <p:blipFill>
          <a:blip r:embed="rId2"/>
          <a:stretch/>
        </p:blipFill>
        <p:spPr>
          <a:xfrm>
            <a:off x="4724280" y="2819520"/>
            <a:ext cx="3657600" cy="2739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ropaeolum maj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stindische 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ANd9GcRe4kVYUsmC67u5NSCFiCMM95MdFds_kxR52addERoxswS48H9uCw"/>
          <p:cNvPicPr/>
          <p:nvPr/>
        </p:nvPicPr>
        <p:blipFill>
          <a:blip r:embed="rId1"/>
          <a:stretch/>
        </p:blipFill>
        <p:spPr>
          <a:xfrm>
            <a:off x="5943600" y="1828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ANd9GcSDEqDq4HKA7FrrDFGUYWzPOX6MoaQJOmkUNUG2-k0K3bAgzBtBtQ"/>
          <p:cNvPicPr/>
          <p:nvPr/>
        </p:nvPicPr>
        <p:blipFill>
          <a:blip r:embed="rId2"/>
          <a:stretch/>
        </p:blipFill>
        <p:spPr>
          <a:xfrm>
            <a:off x="5943600" y="4038480"/>
            <a:ext cx="2467080" cy="1641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ANd9GcRphaBgmJ6TVzV36tX8fpaXiE_90r2i50_klKPp66uwvT8VTpEtlg"/>
          <p:cNvPicPr/>
          <p:nvPr/>
        </p:nvPicPr>
        <p:blipFill>
          <a:blip r:embed="rId3"/>
          <a:stretch/>
        </p:blipFill>
        <p:spPr>
          <a:xfrm>
            <a:off x="609480" y="1828800"/>
            <a:ext cx="5105520" cy="382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erben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Jzer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ANd9GcQbvuKBKomjDtUzPwR3uYuwTOgVyYdqdPuwvs8wRdWNJ_sqnPrvOA"/>
          <p:cNvPicPr/>
          <p:nvPr/>
        </p:nvPicPr>
        <p:blipFill>
          <a:blip r:embed="rId1"/>
          <a:stretch/>
        </p:blipFill>
        <p:spPr>
          <a:xfrm>
            <a:off x="4419720" y="2057400"/>
            <a:ext cx="4419360" cy="2968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ANd9GcR2u39iQRKsWDlclU1jCaTTfgiOXD6Gd5qUTbBAWBw1fD743xFr"/>
          <p:cNvPicPr/>
          <p:nvPr/>
        </p:nvPicPr>
        <p:blipFill>
          <a:blip r:embed="rId2"/>
          <a:stretch/>
        </p:blipFill>
        <p:spPr>
          <a:xfrm>
            <a:off x="380880" y="2057400"/>
            <a:ext cx="3657600" cy="2987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weejarig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cea ros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ok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ANd9GcTFE8znSBd_-j2_01ZEJgb9ZdKhgVdhSw5p8wMt9hsqVqjajgP7"/>
          <p:cNvPicPr/>
          <p:nvPr/>
        </p:nvPicPr>
        <p:blipFill>
          <a:blip r:embed="rId1"/>
          <a:stretch/>
        </p:blipFill>
        <p:spPr>
          <a:xfrm>
            <a:off x="1143000" y="2286000"/>
            <a:ext cx="4267080" cy="3195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ANd9GcR-OMg7CA26FuNZHiC-h2Y5nSRK01G6FNtlIs8Q0Epfs1eTLaZ3JA"/>
          <p:cNvPicPr/>
          <p:nvPr/>
        </p:nvPicPr>
        <p:blipFill>
          <a:blip r:embed="rId2"/>
          <a:stretch/>
        </p:blipFill>
        <p:spPr>
          <a:xfrm>
            <a:off x="5562720" y="2819520"/>
            <a:ext cx="2971800" cy="2379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llis perenn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ANd9GcTszg2i_yyG1rloztFqDIRhxZLTHunlESPGqEVR9dtBz-3fGZKH"/>
          <p:cNvPicPr/>
          <p:nvPr/>
        </p:nvPicPr>
        <p:blipFill>
          <a:blip r:embed="rId1"/>
          <a:stretch/>
        </p:blipFill>
        <p:spPr>
          <a:xfrm>
            <a:off x="1371600" y="2209680"/>
            <a:ext cx="3130560" cy="320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ANd9GcQgHOwQhevnkfGccw1SHm5G5A-0mV7Av8FF43aTIKNljl4vff5RBw"/>
          <p:cNvPicPr/>
          <p:nvPr/>
        </p:nvPicPr>
        <p:blipFill>
          <a:blip r:embed="rId2"/>
          <a:stretch/>
        </p:blipFill>
        <p:spPr>
          <a:xfrm>
            <a:off x="4572000" y="2209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geratum houstonian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xicaantje; Leverbal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ANd9GcQey_X2xYLhjXmMHJlKbnbBeMWoFhK2uHtTrPpu-GLnV50ksvta"/>
          <p:cNvPicPr/>
          <p:nvPr/>
        </p:nvPicPr>
        <p:blipFill>
          <a:blip r:embed="rId1"/>
          <a:stretch/>
        </p:blipFill>
        <p:spPr>
          <a:xfrm>
            <a:off x="2819520" y="1752480"/>
            <a:ext cx="3733560" cy="279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ANd9GcS5pZ0_sy8UDlfHWWrAFHrgcwvvIwZlRlICBUsuTcrCLTpPqMMc"/>
          <p:cNvPicPr/>
          <p:nvPr/>
        </p:nvPicPr>
        <p:blipFill>
          <a:blip r:embed="rId2"/>
          <a:stretch/>
        </p:blipFill>
        <p:spPr>
          <a:xfrm>
            <a:off x="6095880" y="4648320"/>
            <a:ext cx="2819520" cy="1873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ANd9GcT73sQwnfZzAM7emkLccGl2Rq1OU5s2Alj2iVVVYZTeld2nOiVy"/>
          <p:cNvPicPr/>
          <p:nvPr/>
        </p:nvPicPr>
        <p:blipFill>
          <a:blip r:embed="rId3"/>
          <a:stretch/>
        </p:blipFill>
        <p:spPr>
          <a:xfrm>
            <a:off x="3505320" y="4648320"/>
            <a:ext cx="2438280" cy="1834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ANd9GcQzZJgde4iQj6fS2Gpcz2inQUAeD6hG2Mftaon0q8Qa_pCOAS3J"/>
          <p:cNvPicPr/>
          <p:nvPr/>
        </p:nvPicPr>
        <p:blipFill>
          <a:blip r:embed="rId4"/>
          <a:stretch/>
        </p:blipFill>
        <p:spPr>
          <a:xfrm>
            <a:off x="762120" y="4648320"/>
            <a:ext cx="250488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anthus barbat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zend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Nd9GcQip6I0bXMK5w38qxHqj34pg2F8eRHV7CmRsV369oC3RbiiduaZOQ"/>
          <p:cNvPicPr/>
          <p:nvPr/>
        </p:nvPicPr>
        <p:blipFill>
          <a:blip r:embed="rId1"/>
          <a:stretch/>
        </p:blipFill>
        <p:spPr>
          <a:xfrm>
            <a:off x="685800" y="2743200"/>
            <a:ext cx="2428920" cy="1876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ANd9GcSRqQxJAd7_zAzVTTMeTcvFEvdAsxWfeSTcQtfTsi23ArC4NFYiog"/>
          <p:cNvPicPr/>
          <p:nvPr/>
        </p:nvPicPr>
        <p:blipFill>
          <a:blip r:embed="rId2"/>
          <a:stretch/>
        </p:blipFill>
        <p:spPr>
          <a:xfrm>
            <a:off x="6172200" y="1295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ANd9GcQ877cjooszhmsr8cR-O7gR4EZuohPZ04s_fiOlYBkTmloxIuALoQ"/>
          <p:cNvPicPr/>
          <p:nvPr/>
        </p:nvPicPr>
        <p:blipFill>
          <a:blip r:embed="rId3"/>
          <a:stretch/>
        </p:blipFill>
        <p:spPr>
          <a:xfrm>
            <a:off x="5867280" y="4038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ANd9GcQAR4QVMal1iPUU6-JM-nmsQuYPgzk8kAQtUmYtUmMr_N7N-vnheQ"/>
          <p:cNvPicPr/>
          <p:nvPr/>
        </p:nvPicPr>
        <p:blipFill>
          <a:blip r:embed="rId4"/>
          <a:stretch/>
        </p:blipFill>
        <p:spPr>
          <a:xfrm>
            <a:off x="3276720" y="2133720"/>
            <a:ext cx="2359080" cy="31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gitalis purpur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ngerhoeds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vogelw-digitalis_purpurea_bloem"/>
          <p:cNvPicPr/>
          <p:nvPr/>
        </p:nvPicPr>
        <p:blipFill>
          <a:blip r:embed="rId1"/>
          <a:stretch/>
        </p:blipFill>
        <p:spPr>
          <a:xfrm>
            <a:off x="6330960" y="1219320"/>
            <a:ext cx="2455920" cy="3276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6"/>
          <p:cNvSpPr/>
          <p:nvPr/>
        </p:nvSpPr>
        <p:spPr>
          <a:xfrm>
            <a:off x="3514680" y="2347920"/>
            <a:ext cx="21146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3514680" y="2347920"/>
            <a:ext cx="21146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4405-digitalis-purpurea"/>
          <p:cNvPicPr/>
          <p:nvPr/>
        </p:nvPicPr>
        <p:blipFill>
          <a:blip r:embed="rId2"/>
          <a:stretch/>
        </p:blipFill>
        <p:spPr>
          <a:xfrm>
            <a:off x="304920" y="1523880"/>
            <a:ext cx="2840040" cy="289584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4" descr="digitalis_purpurea_blatt"/>
          <p:cNvPicPr/>
          <p:nvPr/>
        </p:nvPicPr>
        <p:blipFill>
          <a:blip r:embed="rId3"/>
          <a:stretch/>
        </p:blipFill>
        <p:spPr>
          <a:xfrm>
            <a:off x="3200400" y="43434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psacus sativ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arde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ANd9GcTE8yLabgY9MNNikIzKqGGRaL7Xn4mUHLPpH8fYyGzkGtSxG5fd"/>
          <p:cNvPicPr/>
          <p:nvPr/>
        </p:nvPicPr>
        <p:blipFill>
          <a:blip r:embed="rId1"/>
          <a:stretch/>
        </p:blipFill>
        <p:spPr>
          <a:xfrm>
            <a:off x="4114800" y="1828800"/>
            <a:ext cx="1504800" cy="2009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ANd9GcTJmh8r6D0lfGXJ2F0pVYnIVhhzjNdJTcc2AZImCXPbPjmj_SNa"/>
          <p:cNvPicPr/>
          <p:nvPr/>
        </p:nvPicPr>
        <p:blipFill>
          <a:blip r:embed="rId2"/>
          <a:stretch/>
        </p:blipFill>
        <p:spPr>
          <a:xfrm>
            <a:off x="6324480" y="365760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ANd9GcSOlAsTJrtXcj8dubDj3hwH6NOC707kOFArWg05VHMYNiXMyohjOw"/>
          <p:cNvPicPr/>
          <p:nvPr/>
        </p:nvPicPr>
        <p:blipFill>
          <a:blip r:embed="rId3"/>
          <a:stretch/>
        </p:blipFill>
        <p:spPr>
          <a:xfrm>
            <a:off x="533520" y="1828800"/>
            <a:ext cx="284148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rysimum cheir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u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Nd9GcSHkzZJ3wqiFF7l_uIQ_bHPhjx0iLyV04oC8bgq7wrz-WglWI-iag"/>
          <p:cNvPicPr/>
          <p:nvPr/>
        </p:nvPicPr>
        <p:blipFill>
          <a:blip r:embed="rId1"/>
          <a:stretch/>
        </p:blipFill>
        <p:spPr>
          <a:xfrm>
            <a:off x="5791320" y="1295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ANd9GcSZ1R4mgT5WLYte0TUzzH-SMYD7-CN7yzjzZM_eE0qiIeTmCGGB"/>
          <p:cNvPicPr/>
          <p:nvPr/>
        </p:nvPicPr>
        <p:blipFill>
          <a:blip r:embed="rId2"/>
          <a:stretch/>
        </p:blipFill>
        <p:spPr>
          <a:xfrm>
            <a:off x="6324480" y="3429000"/>
            <a:ext cx="1847880" cy="2476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ANd9GcTPGGLvV9eNFZa_rwyd0eH1i2aPSjSpMjgOQOkPIx6of_UsAfFdrQ"/>
          <p:cNvPicPr/>
          <p:nvPr/>
        </p:nvPicPr>
        <p:blipFill>
          <a:blip r:embed="rId3"/>
          <a:stretch/>
        </p:blipFill>
        <p:spPr>
          <a:xfrm>
            <a:off x="990720" y="2819520"/>
            <a:ext cx="4724280" cy="313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unaria annu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udaspe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ANd9GcS4PffcV1CQw-XeIqzzUrfDz9QY8i8CJPbFrUuS_nAUdqfWM-Oglw"/>
          <p:cNvPicPr/>
          <p:nvPr/>
        </p:nvPicPr>
        <p:blipFill>
          <a:blip r:embed="rId1"/>
          <a:stretch/>
        </p:blipFill>
        <p:spPr>
          <a:xfrm>
            <a:off x="701640" y="1828800"/>
            <a:ext cx="3294000" cy="4495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ANd9GcQE8QyfJR3UEsMIu8KcagYa7SYhiFk0rq_rmoLQjwyOpKU5yF3A"/>
          <p:cNvPicPr/>
          <p:nvPr/>
        </p:nvPicPr>
        <p:blipFill>
          <a:blip r:embed="rId2"/>
          <a:stretch/>
        </p:blipFill>
        <p:spPr>
          <a:xfrm>
            <a:off x="6248520" y="4495680"/>
            <a:ext cx="2695320" cy="1793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ANd9GcRNc0n-b2WdDS_TAyItANKOG5mlUnnEmr5tW1obmsindSksOJ_8FA"/>
          <p:cNvPicPr/>
          <p:nvPr/>
        </p:nvPicPr>
        <p:blipFill>
          <a:blip r:embed="rId3"/>
          <a:stretch/>
        </p:blipFill>
        <p:spPr>
          <a:xfrm>
            <a:off x="4114800" y="4724280"/>
            <a:ext cx="2085840" cy="1562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ANd9GcSpe5pXYClN0twuXHFdZ2m2x1rxVLlbpyE24B8lVxewNWuxu5yheg"/>
          <p:cNvPicPr/>
          <p:nvPr/>
        </p:nvPicPr>
        <p:blipFill>
          <a:blip r:embed="rId4"/>
          <a:stretch/>
        </p:blipFill>
        <p:spPr>
          <a:xfrm>
            <a:off x="6629400" y="1828800"/>
            <a:ext cx="2133720" cy="1598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ANd9GcTg2vvf8sf9qb8pzSf3_JfD0spjXZsbCUx3zhrcdyLsyiQx6EDXPw"/>
          <p:cNvPicPr/>
          <p:nvPr/>
        </p:nvPicPr>
        <p:blipFill>
          <a:blip r:embed="rId5"/>
          <a:stretch/>
        </p:blipFill>
        <p:spPr>
          <a:xfrm>
            <a:off x="4038480" y="1828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yosotis sylvatic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svergeetmijnie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ANd9GcQ4xAZd6dGkkR2ocuo3GEs2_latcnyHE_bZjNnGu9_rwhFYs93e"/>
          <p:cNvPicPr/>
          <p:nvPr/>
        </p:nvPicPr>
        <p:blipFill>
          <a:blip r:embed="rId1"/>
          <a:stretch/>
        </p:blipFill>
        <p:spPr>
          <a:xfrm>
            <a:off x="5181480" y="20574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ANd9GcQy9BuC18H12DGexojpoWqI9GFYe4WNSSCfw07J6IiljTq8pU3hig"/>
          <p:cNvPicPr/>
          <p:nvPr/>
        </p:nvPicPr>
        <p:blipFill>
          <a:blip r:embed="rId2"/>
          <a:stretch/>
        </p:blipFill>
        <p:spPr>
          <a:xfrm>
            <a:off x="762120" y="2362320"/>
            <a:ext cx="4114800" cy="3098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ANd9GcSoHNcghmRM0wOMZM1wRm5U9dLzWYZXpnLmHiC_ldgHeusV95kSvQ"/>
          <p:cNvPicPr/>
          <p:nvPr/>
        </p:nvPicPr>
        <p:blipFill>
          <a:blip r:embed="rId3"/>
          <a:stretch/>
        </p:blipFill>
        <p:spPr>
          <a:xfrm>
            <a:off x="6019920" y="388620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ola tricolor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iekleurig viool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ANd9GcRXLFQG8ypLJpm1P0hfufCcK0POgb066GZ2bnyzxLGQXu_wIRPC"/>
          <p:cNvPicPr/>
          <p:nvPr/>
        </p:nvPicPr>
        <p:blipFill>
          <a:blip r:embed="rId1"/>
          <a:stretch/>
        </p:blipFill>
        <p:spPr>
          <a:xfrm>
            <a:off x="380880" y="2362320"/>
            <a:ext cx="4343400" cy="2854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ANd9GcRpbmrVcHTAqK39qUYRpoBUKcojlRQrw8MXj7_6TchBXmnAXhol"/>
          <p:cNvPicPr/>
          <p:nvPr/>
        </p:nvPicPr>
        <p:blipFill>
          <a:blip r:embed="rId2"/>
          <a:stretch/>
        </p:blipFill>
        <p:spPr>
          <a:xfrm>
            <a:off x="4952880" y="2362320"/>
            <a:ext cx="3810240" cy="285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tirrhinum maj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euwe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ANd9GcQddEIga42SgYje0BoIOAHwp9mK8gtpszpxRBYruCpsoXyTlw-m8Q"/>
          <p:cNvPicPr/>
          <p:nvPr/>
        </p:nvPicPr>
        <p:blipFill>
          <a:blip r:embed="rId1"/>
          <a:stretch/>
        </p:blipFill>
        <p:spPr>
          <a:xfrm>
            <a:off x="5791320" y="4251240"/>
            <a:ext cx="2590560" cy="1940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ANd9GcT8xiVDZ6P45UVc2TzzrhuTP9p3Rtyrp5XVcxrw_Tr-wsqOiY4-lA"/>
          <p:cNvPicPr/>
          <p:nvPr/>
        </p:nvPicPr>
        <p:blipFill>
          <a:blip r:embed="rId2"/>
          <a:stretch/>
        </p:blipFill>
        <p:spPr>
          <a:xfrm>
            <a:off x="6248520" y="1676520"/>
            <a:ext cx="2038320" cy="2238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ANd9GcQND5BsKJNNTmi0ImzIAvftecRJZ6WdRis_JVaovuTbUxg9rcZHrw"/>
          <p:cNvPicPr/>
          <p:nvPr/>
        </p:nvPicPr>
        <p:blipFill>
          <a:blip r:embed="rId3"/>
          <a:stretch/>
        </p:blipFill>
        <p:spPr>
          <a:xfrm>
            <a:off x="1295280" y="1676520"/>
            <a:ext cx="3657600" cy="2435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ANd9GcQ7DOrmUrybxXjn231OHsnGfea-gstBlGWe9pIJD0Yl2gM7mtaz"/>
          <p:cNvPicPr/>
          <p:nvPr/>
        </p:nvPicPr>
        <p:blipFill>
          <a:blip r:embed="rId4"/>
          <a:stretch/>
        </p:blipFill>
        <p:spPr>
          <a:xfrm>
            <a:off x="1295280" y="42670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rgyranthemum frutesc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uikmarg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ANd9GcRj4X7eKYErqJtpWgWe1tsNoeYpqu6cfgOM3Ps8ZjLYmA7Nqsv4Ag"/>
          <p:cNvPicPr/>
          <p:nvPr/>
        </p:nvPicPr>
        <p:blipFill>
          <a:blip r:embed="rId1"/>
          <a:stretch/>
        </p:blipFill>
        <p:spPr>
          <a:xfrm>
            <a:off x="990720" y="2590920"/>
            <a:ext cx="249876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ANd9GcQTaoHL79SQNBx43kvSnuMudSrno15eay_lT_GX8oRE6N6pPsDT_A"/>
          <p:cNvPicPr/>
          <p:nvPr/>
        </p:nvPicPr>
        <p:blipFill>
          <a:blip r:embed="rId2"/>
          <a:stretch/>
        </p:blipFill>
        <p:spPr>
          <a:xfrm>
            <a:off x="6095880" y="2590920"/>
            <a:ext cx="213840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ANd9GcQNCLQBOaEwbngT8Nxe9ENrSpTwTnTN1ocxsHp2W64jCb5rZ7RC"/>
          <p:cNvPicPr/>
          <p:nvPr/>
        </p:nvPicPr>
        <p:blipFill>
          <a:blip r:embed="rId3"/>
          <a:stretch/>
        </p:blipFill>
        <p:spPr>
          <a:xfrm>
            <a:off x="3581280" y="28954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gonia (Semperflorens Groep)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aibeg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DisplayLargeImage"/>
          <p:cNvPicPr/>
          <p:nvPr/>
        </p:nvPicPr>
        <p:blipFill>
          <a:blip r:embed="rId1"/>
          <a:stretch/>
        </p:blipFill>
        <p:spPr>
          <a:xfrm>
            <a:off x="914400" y="167652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ANd9GcRFy9MaNm1pecomeHqUHnTwX4LTQR9cHfB4m0eorNG49G52lxXF"/>
          <p:cNvPicPr/>
          <p:nvPr/>
        </p:nvPicPr>
        <p:blipFill>
          <a:blip r:embed="rId2"/>
          <a:stretch/>
        </p:blipFill>
        <p:spPr>
          <a:xfrm>
            <a:off x="3962520" y="1676520"/>
            <a:ext cx="1733400" cy="1704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ANd9GcQJOK8TTpWcWp3GGUxCnLBt2Xxcm2bfR5XcTRIb1KWnK9nqSmEd"/>
          <p:cNvPicPr/>
          <p:nvPr/>
        </p:nvPicPr>
        <p:blipFill>
          <a:blip r:embed="rId3"/>
          <a:stretch/>
        </p:blipFill>
        <p:spPr>
          <a:xfrm>
            <a:off x="5943600" y="1676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ANd9GcTS9kwAiAHSwLkS-Nij9SDQQ0wt6GpmEPYGMI9QqAgzzrloOMQfsg"/>
          <p:cNvPicPr/>
          <p:nvPr/>
        </p:nvPicPr>
        <p:blipFill>
          <a:blip r:embed="rId4"/>
          <a:stretch/>
        </p:blipFill>
        <p:spPr>
          <a:xfrm>
            <a:off x="4800600" y="3581280"/>
            <a:ext cx="232560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endula officin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uds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alendula_officinalis3"/>
          <p:cNvPicPr/>
          <p:nvPr/>
        </p:nvPicPr>
        <p:blipFill>
          <a:blip r:embed="rId1"/>
          <a:stretch/>
        </p:blipFill>
        <p:spPr>
          <a:xfrm>
            <a:off x="1600200" y="1752480"/>
            <a:ext cx="6114960" cy="454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listephus chinens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mer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ANd9GcQfvPQ-7DJRnXduT6O0hEqWMMgKQN2fT8PDuovacylLUbDOYgyFzg"/>
          <p:cNvPicPr/>
          <p:nvPr/>
        </p:nvPicPr>
        <p:blipFill>
          <a:blip r:embed="rId1"/>
          <a:stretch/>
        </p:blipFill>
        <p:spPr>
          <a:xfrm>
            <a:off x="1371600" y="2514600"/>
            <a:ext cx="3200400" cy="2357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ANd9GcQvfIWMvSPcX6D9pKrr3FQIdsp3eYdFOCeL8h5gXTTOnd-x_Tlk"/>
          <p:cNvPicPr/>
          <p:nvPr/>
        </p:nvPicPr>
        <p:blipFill>
          <a:blip r:embed="rId2"/>
          <a:stretch/>
        </p:blipFill>
        <p:spPr>
          <a:xfrm>
            <a:off x="4724280" y="1905120"/>
            <a:ext cx="283392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ntaurea cyan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re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ANd9GcTLMTFx4CP0La8taYOs3RZSWTuJ7qDMrsgxyo16UGtjFSJSYCqq4g"/>
          <p:cNvPicPr/>
          <p:nvPr/>
        </p:nvPicPr>
        <p:blipFill>
          <a:blip r:embed="rId1"/>
          <a:stretch/>
        </p:blipFill>
        <p:spPr>
          <a:xfrm>
            <a:off x="4800600" y="16002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ANd9GcTKVLrss2eMMRJ_wu2f0Yt-9mZMTDLsOh3iduVv8sejOASvmjVA"/>
          <p:cNvPicPr/>
          <p:nvPr/>
        </p:nvPicPr>
        <p:blipFill>
          <a:blip r:embed="rId2"/>
          <a:stretch/>
        </p:blipFill>
        <p:spPr>
          <a:xfrm>
            <a:off x="5715000" y="4191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ANd9GcQV9jQnnLs5m59n28qaFi5FgUTsd60nWA8cIe4CjFNlclqq3QKVtA"/>
          <p:cNvPicPr/>
          <p:nvPr/>
        </p:nvPicPr>
        <p:blipFill>
          <a:blip r:embed="rId3"/>
          <a:stretch/>
        </p:blipFill>
        <p:spPr>
          <a:xfrm>
            <a:off x="2362320" y="1600200"/>
            <a:ext cx="1915920" cy="2362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ANd9GcSixJspMiSQeWSSQDltvUoF_OcE46lrm0HVe02hq3rHEHjVcqXcIg"/>
          <p:cNvPicPr/>
          <p:nvPr/>
        </p:nvPicPr>
        <p:blipFill>
          <a:blip r:embed="rId4"/>
          <a:stretch/>
        </p:blipFill>
        <p:spPr>
          <a:xfrm>
            <a:off x="1143000" y="41911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7:38:1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