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Aangepaste voorstelling 1" id="0">
      <p:sldLst>
        <p:sld r:id="rId6"/>
        <p:sld r:id="rId10"/>
        <p:sld r:id="rId14"/>
        <p:sld r:id="rId18"/>
        <p:sld r:id="rId22"/>
        <p:sld r:id="rId26"/>
        <p:sld r:id="rId8"/>
        <p:sld r:id="rId12"/>
        <p:sld r:id="rId16"/>
        <p:sld r:id="rId20"/>
      </p:sldLst>
    </p:custShow>
    <p:custShow name="Aangepaste voorstelling 2" id="1">
      <p:sldLst>
        <p:sld r:id="rId7"/>
        <p:sld r:id="rId11"/>
        <p:sld r:id="rId15"/>
        <p:sld r:id="rId19"/>
        <p:sld r:id="rId23"/>
        <p:sld r:id="rId27"/>
        <p:sld r:id="rId9"/>
        <p:sld r:id="rId13"/>
        <p:sld r:id="rId17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A21-C668-4AE1-BDE5-8CB79C7E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F44-F6EA-490F-AB8E-F0863B66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46B-4D13-4294-91BF-87A5E195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17A-2359-4264-A1D4-96B36E78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7CB-4C47-442B-826F-219729CF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571-22CC-429D-A1B7-5D87B5A6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F70-223E-437A-96B7-141A2ACE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DA7-F924-4F44-9334-1FDF8A05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41F-2DE3-4AB8-AD42-04DC96FE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E98-B275-40B0-B7AF-5A14F8C3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01A-B307-4700-A7EF-DB6D6CB5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049-C875-44DD-9AEA-C47BE33A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756D-1E4A-4A76-9855-618B1A3563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l- en knolgew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anthus niv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galanthus_nivalis_close-up_aka"/>
          <p:cNvPicPr/>
          <p:nvPr/>
        </p:nvPicPr>
        <p:blipFill>
          <a:blip r:embed="rId1"/>
          <a:stretch/>
        </p:blipFill>
        <p:spPr>
          <a:xfrm>
            <a:off x="685800" y="1752480"/>
            <a:ext cx="3247920" cy="3248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Galanthus_nivalis"/>
          <p:cNvPicPr/>
          <p:nvPr/>
        </p:nvPicPr>
        <p:blipFill>
          <a:blip r:embed="rId2"/>
          <a:stretch/>
        </p:blipFill>
        <p:spPr>
          <a:xfrm>
            <a:off x="4114800" y="1828800"/>
            <a:ext cx="41115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oides hisp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hyacint; bos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Q740-0401040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ANd9GcQVsnHzC6Y3HMFCnFuTIIWzvWGoqHPfdv1pbBIQz5FdLnW-N0bMTw"/>
          <p:cNvPicPr/>
          <p:nvPr/>
        </p:nvPicPr>
        <p:blipFill>
          <a:blip r:embed="rId1"/>
          <a:stretch/>
        </p:blipFill>
        <p:spPr>
          <a:xfrm>
            <a:off x="5029200" y="1905120"/>
            <a:ext cx="3205080" cy="32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Nd9GcR0ue48xDYoQXknZ9WFW2FmsXYfbimi10x3snwBAbrh0GdAYxKaiQ"/>
          <p:cNvPicPr/>
          <p:nvPr/>
        </p:nvPicPr>
        <p:blipFill>
          <a:blip r:embed="rId2"/>
          <a:stretch/>
        </p:blipFill>
        <p:spPr>
          <a:xfrm>
            <a:off x="152388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re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ANd9GcQ7rzokSdoz1nUPOb1t9S5OGPXxZ5IGMbw1gEKB0VNwBeyTtQey"/>
          <p:cNvPicPr/>
          <p:nvPr/>
        </p:nvPicPr>
        <p:blipFill>
          <a:blip r:embed="rId1"/>
          <a:stretch/>
        </p:blipFill>
        <p:spPr>
          <a:xfrm>
            <a:off x="1447920" y="22096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Nd9GcS-sfw-EnPfkMUewiPI6M3EkOD-Jb26tBqqoEGag0b0MRHalJ2g"/>
          <p:cNvPicPr/>
          <p:nvPr/>
        </p:nvPicPr>
        <p:blipFill>
          <a:blip r:embed="rId2"/>
          <a:stretch/>
        </p:blipFill>
        <p:spPr>
          <a:xfrm>
            <a:off x="4724280" y="2198520"/>
            <a:ext cx="3133800" cy="25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uscari botry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drui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Nd9GcTkwyiyxx2Il3-2xo_mcHYZvZirVQzmQ8Oz0JV1GUD0V5H73bEWUA"/>
          <p:cNvPicPr/>
          <p:nvPr/>
        </p:nvPicPr>
        <p:blipFill>
          <a:blip r:embed="rId1"/>
          <a:stretch/>
        </p:blipFill>
        <p:spPr>
          <a:xfrm>
            <a:off x="5715000" y="2286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QzFWlJ12vzxC0lM_vF5eHVgRl6gYySvUYAIjdErbp3QVe-SLAN"/>
          <p:cNvPicPr/>
          <p:nvPr/>
        </p:nvPicPr>
        <p:blipFill>
          <a:blip r:embed="rId2"/>
          <a:stretch/>
        </p:blipFill>
        <p:spPr>
          <a:xfrm>
            <a:off x="1600200" y="22860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rciss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r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328920" y="250992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Narcissus_Jetfire_JAY"/>
          <p:cNvPicPr/>
          <p:nvPr/>
        </p:nvPicPr>
        <p:blipFill>
          <a:blip r:embed="rId1"/>
          <a:stretch/>
        </p:blipFill>
        <p:spPr>
          <a:xfrm>
            <a:off x="990720" y="1905120"/>
            <a:ext cx="374328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ANd9GcT84_hDXa9Ck9Vhw9SkM-TM81_-pUH9mc4bRA9xxQh3f9oTkfM87w"/>
          <p:cNvPicPr/>
          <p:nvPr/>
        </p:nvPicPr>
        <p:blipFill>
          <a:blip r:embed="rId2"/>
          <a:stretch/>
        </p:blipFill>
        <p:spPr>
          <a:xfrm>
            <a:off x="4800600" y="1752480"/>
            <a:ext cx="28908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rnithogalum umbellat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ornithogalum_umbellatum"/>
          <p:cNvPicPr/>
          <p:nvPr/>
        </p:nvPicPr>
        <p:blipFill>
          <a:blip r:embed="rId1"/>
          <a:stretch/>
        </p:blipFill>
        <p:spPr>
          <a:xfrm>
            <a:off x="2209680" y="2057400"/>
            <a:ext cx="474372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cilla siber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629160" y="2219400"/>
            <a:ext cx="18856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Nd9GcQ4jEVu_N3cErExNtuEtd6u7JaYI4-Ptm2ro8eFzw7z1niskiwW"/>
          <p:cNvPicPr/>
          <p:nvPr/>
        </p:nvPicPr>
        <p:blipFill>
          <a:blip r:embed="rId1"/>
          <a:stretch/>
        </p:blipFill>
        <p:spPr>
          <a:xfrm>
            <a:off x="1295280" y="1981080"/>
            <a:ext cx="2373480" cy="335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2"/>
          <p:cNvSpPr/>
          <p:nvPr/>
        </p:nvSpPr>
        <p:spPr>
          <a:xfrm>
            <a:off x="3581280" y="2276640"/>
            <a:ext cx="1981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Scilla_siberica_flower"/>
          <p:cNvPicPr/>
          <p:nvPr/>
        </p:nvPicPr>
        <p:blipFill>
          <a:blip r:embed="rId2"/>
          <a:stretch/>
        </p:blipFill>
        <p:spPr>
          <a:xfrm>
            <a:off x="4935600" y="2057400"/>
            <a:ext cx="29415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lip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TatnCzbQDzizXaIqZ1VnA6qUxuk43IjCGc2f9NcR3B390P4auc"/>
          <p:cNvPicPr/>
          <p:nvPr/>
        </p:nvPicPr>
        <p:blipFill>
          <a:blip r:embed="rId1"/>
          <a:stretch/>
        </p:blipFill>
        <p:spPr>
          <a:xfrm>
            <a:off x="1828800" y="15238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coron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ANd9GcR6f2-OTxbWxHsJ8If5YN9sMukMo6XlxbDww0radxthXW8m4KZ-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tuberhybrid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l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505320" y="23623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6885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nna ind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sch bloem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ANd9GcSq334ywSX4dhidhUQTdKM7mi3O9KDKBHkUsS7jPftaFhKGu9_Z"/>
          <p:cNvPicPr/>
          <p:nvPr/>
        </p:nvPicPr>
        <p:blipFill>
          <a:blip r:embed="rId1"/>
          <a:stretch/>
        </p:blipFill>
        <p:spPr>
          <a:xfrm>
            <a:off x="1295280" y="1752480"/>
            <a:ext cx="287676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TDPmXR4NP2--i2ANTgS28Za18MSruEooWivNgDD_Cswwj5HyBo"/>
          <p:cNvPicPr/>
          <p:nvPr/>
        </p:nvPicPr>
        <p:blipFill>
          <a:blip r:embed="rId2"/>
          <a:stretch/>
        </p:blipFill>
        <p:spPr>
          <a:xfrm>
            <a:off x="4952880" y="2286000"/>
            <a:ext cx="35816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ah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h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ANd9GcTb-bdSN0myOzuIjAr3SnAzeahHEuYfOFRxLTm-9Tu_XxN68VsJ"/>
          <p:cNvPicPr/>
          <p:nvPr/>
        </p:nvPicPr>
        <p:blipFill>
          <a:blip r:embed="rId1"/>
          <a:stretch/>
        </p:blipFill>
        <p:spPr>
          <a:xfrm>
            <a:off x="914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ANd9GcQ3RpA0ZS93IkgMI5gJF8z1qa17oEDHT4NtWgyuEjxg57qdZmUW"/>
          <p:cNvPicPr/>
          <p:nvPr/>
        </p:nvPicPr>
        <p:blipFill>
          <a:blip r:embed="rId2"/>
          <a:stretch/>
        </p:blipFill>
        <p:spPr>
          <a:xfrm>
            <a:off x="5486400" y="18288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8"/>
          <p:cNvSpPr/>
          <p:nvPr/>
        </p:nvSpPr>
        <p:spPr>
          <a:xfrm>
            <a:off x="4114800" y="2971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ANd9GcSGNfbVgP8NESZc0UJ-EqIahhWQJFHoMd3fKZToQa2cLaxiU5w4pQ"/>
          <p:cNvPicPr/>
          <p:nvPr/>
        </p:nvPicPr>
        <p:blipFill>
          <a:blip r:embed="rId3"/>
          <a:stretch/>
        </p:blipFill>
        <p:spPr>
          <a:xfrm>
            <a:off x="914400" y="4191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ANd9GcT25X7JQXx78KaOXrNTYRqEOkvIjmxChhiLob1_BI6sGD-RlLW7"/>
          <p:cNvPicPr/>
          <p:nvPr/>
        </p:nvPicPr>
        <p:blipFill>
          <a:blip r:embed="rId4"/>
          <a:stretch/>
        </p:blipFill>
        <p:spPr>
          <a:xfrm>
            <a:off x="5943600" y="38862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ANd9GcSCgJMJ4UUuDtE0jmIomM280MbuNL0fIJUMmn-kp7fPJHph1cWOgQ"/>
          <p:cNvPicPr/>
          <p:nvPr/>
        </p:nvPicPr>
        <p:blipFill>
          <a:blip r:embed="rId5"/>
          <a:stretch/>
        </p:blipFill>
        <p:spPr>
          <a:xfrm>
            <a:off x="3276720" y="320040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adiole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di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gladiole04_p1"/>
          <p:cNvPicPr/>
          <p:nvPr/>
        </p:nvPicPr>
        <p:blipFill>
          <a:blip r:embed="rId1"/>
          <a:stretch/>
        </p:blipFill>
        <p:spPr>
          <a:xfrm>
            <a:off x="1143000" y="1905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2"/>
          <p:cNvSpPr/>
          <p:nvPr/>
        </p:nvSpPr>
        <p:spPr>
          <a:xfrm>
            <a:off x="3519360" y="2471760"/>
            <a:ext cx="210528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Gladiolus_cultivar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lium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ANd9GcTPS4lON7her503vMmmyuWRQJQtGjuH4N1reUYCUZf_Qrn-JntIWQ"/>
          <p:cNvPicPr/>
          <p:nvPr/>
        </p:nvPicPr>
        <p:blipFill>
          <a:blip r:embed="rId1"/>
          <a:stretch/>
        </p:blipFill>
        <p:spPr>
          <a:xfrm>
            <a:off x="1523880" y="18288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Nd9GcSrGuEHbDZRz0rqIdqY2Qy_VKgU_yQtcnPz8fAGmoH8bUOSKTEb_g"/>
          <p:cNvPicPr/>
          <p:nvPr/>
        </p:nvPicPr>
        <p:blipFill>
          <a:blip r:embed="rId2"/>
          <a:stretch/>
        </p:blipFill>
        <p:spPr>
          <a:xfrm>
            <a:off x="5410080" y="167652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ANd9GcQhFzPLYM_lxsUP-GQ4_Zw7ataKK5R15VC0OjG7TLh_AimQoBnmug"/>
          <p:cNvPicPr/>
          <p:nvPr/>
        </p:nvPicPr>
        <p:blipFill>
          <a:blip r:embed="rId3"/>
          <a:stretch/>
        </p:blipFill>
        <p:spPr>
          <a:xfrm>
            <a:off x="58672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d9GcRs9WlWaBa4d9esikEKqdKboeBhCYKNng2thGZ9ut7VLE_nBGK7"/>
          <p:cNvPicPr/>
          <p:nvPr/>
        </p:nvPicPr>
        <p:blipFill>
          <a:blip r:embed="rId4"/>
          <a:stretch/>
        </p:blipFill>
        <p:spPr>
          <a:xfrm>
            <a:off x="3505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um moly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Nd9GcRfS8YfudDTFO0W6XVGDL41HtWpQa3eQviHPyu1s7WmNNmgEJfR"/>
          <p:cNvPicPr/>
          <p:nvPr/>
        </p:nvPicPr>
        <p:blipFill>
          <a:blip r:embed="rId1"/>
          <a:stretch/>
        </p:blipFill>
        <p:spPr>
          <a:xfrm>
            <a:off x="228600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Nd9GcTjPr_5U2dn0kqvmFybvz4_UhqJWXEfz9WDc-B4KGbgJP1nibX6"/>
          <p:cNvPicPr/>
          <p:nvPr/>
        </p:nvPicPr>
        <p:blipFill>
          <a:blip r:embed="rId2"/>
          <a:stretch/>
        </p:blipFill>
        <p:spPr>
          <a:xfrm>
            <a:off x="5486400" y="29718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bla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2666880"/>
            <a:ext cx="1524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nemone%20blanda"/>
          <p:cNvPicPr/>
          <p:nvPr/>
        </p:nvPicPr>
        <p:blipFill>
          <a:blip r:embed="rId1"/>
          <a:stretch/>
        </p:blipFill>
        <p:spPr>
          <a:xfrm>
            <a:off x="12193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RcZFuH09r2a-OJiGajZ8duBkMCskKw6nlu3AQhdrxubmSx7jhy"/>
          <p:cNvPicPr/>
          <p:nvPr/>
        </p:nvPicPr>
        <p:blipFill>
          <a:blip r:embed="rId2"/>
          <a:stretch/>
        </p:blipFill>
        <p:spPr>
          <a:xfrm>
            <a:off x="5562720" y="1752480"/>
            <a:ext cx="260964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ionodoxa lucilia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r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30Z1RoB2Te-DJzu9S1SlJkGbXPnHlqXebO-GfkknYJqxD7Vq4"/>
          <p:cNvPicPr/>
          <p:nvPr/>
        </p:nvPicPr>
        <p:blipFill>
          <a:blip r:embed="rId1"/>
          <a:stretch/>
        </p:blipFill>
        <p:spPr>
          <a:xfrm>
            <a:off x="838080" y="22860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RQKuSjtFv-UPnNkGlvgp3sT9Q8E7fpUPVOK0HzSLCwAgs-1hPZ"/>
          <p:cNvPicPr/>
          <p:nvPr/>
        </p:nvPicPr>
        <p:blipFill>
          <a:blip r:embed="rId2"/>
          <a:stretch/>
        </p:blipFill>
        <p:spPr>
          <a:xfrm>
            <a:off x="4724280" y="1905120"/>
            <a:ext cx="3505320" cy="280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ocus ver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ANd9GcRdtY6UqDs0uOx2FEwLaKXvfQ2ENnoZG-wSrQjS2nrz7q9ZD3aWmw"/>
          <p:cNvPicPr/>
          <p:nvPr/>
        </p:nvPicPr>
        <p:blipFill>
          <a:blip r:embed="rId1"/>
          <a:stretch/>
        </p:blipFill>
        <p:spPr>
          <a:xfrm>
            <a:off x="1447920" y="22860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T16wBIvssYsbJ9Awe7MBmfzOwFMP1yDkO9qM8ipMWSZLEnu-_2dg"/>
          <p:cNvPicPr/>
          <p:nvPr/>
        </p:nvPicPr>
        <p:blipFill>
          <a:blip r:embed="rId2"/>
          <a:stretch/>
        </p:blipFill>
        <p:spPr>
          <a:xfrm>
            <a:off x="5486400" y="2286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anthis hyem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ako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QCDQ0oRhRqDQ6e2GNNv3oa1KMxBYqcUlRtHFGzP58XLRJMhO74"/>
          <p:cNvPicPr/>
          <p:nvPr/>
        </p:nvPicPr>
        <p:blipFill>
          <a:blip r:embed="rId1"/>
          <a:stretch/>
        </p:blipFill>
        <p:spPr>
          <a:xfrm>
            <a:off x="1371600" y="198108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kHTYDWhhNL8dppiC8QBZB2Y98Zp-EpZyweDt15gniW3p8ya43jA"/>
          <p:cNvPicPr/>
          <p:nvPr/>
        </p:nvPicPr>
        <p:blipFill>
          <a:blip r:embed="rId2"/>
          <a:stretch/>
        </p:blipFill>
        <p:spPr>
          <a:xfrm>
            <a:off x="4800600" y="3333600"/>
            <a:ext cx="300024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imperi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izersk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Nd9GcSfT9-yQ9KUMyrCB3b9USIyt8es5aaynGFtzDMbXjpG_KiucVBY"/>
          <p:cNvPicPr/>
          <p:nvPr/>
        </p:nvPicPr>
        <p:blipFill>
          <a:blip r:embed="rId1"/>
          <a:stretch/>
        </p:blipFill>
        <p:spPr>
          <a:xfrm>
            <a:off x="4952880" y="1905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Nd9GcTQI9ZY448Aqro__RsD9O6SL3ecuGfmsLM3ZAwah6pCO_AB22uahg"/>
          <p:cNvPicPr/>
          <p:nvPr/>
        </p:nvPicPr>
        <p:blipFill>
          <a:blip r:embed="rId2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ANd9GcRddvDY8OuvhwfMj6jQ1Ad6EXzYGGCMIVA_UqNpTm9om40Y30_fcA"/>
          <p:cNvPicPr/>
          <p:nvPr/>
        </p:nvPicPr>
        <p:blipFill>
          <a:blip r:embed="rId3"/>
          <a:stretch/>
        </p:blipFill>
        <p:spPr>
          <a:xfrm>
            <a:off x="3733920" y="441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meleag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vitsei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Nd9GcQcUZNyG2_ozu1v4lJuEnsF40QKrJCEYOXDUM_-fJxgR3hYlFdi"/>
          <p:cNvPicPr/>
          <p:nvPr/>
        </p:nvPicPr>
        <p:blipFill>
          <a:blip r:embed="rId1"/>
          <a:stretch/>
        </p:blipFill>
        <p:spPr>
          <a:xfrm>
            <a:off x="1523880" y="228600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RIT146kVXuPSvQV91nIsd5rqG188pa5j70Ncnfy_Fkm6Ehd2-oIg"/>
          <p:cNvPicPr/>
          <p:nvPr/>
        </p:nvPicPr>
        <p:blipFill>
          <a:blip r:embed="rId2"/>
          <a:stretch/>
        </p:blipFill>
        <p:spPr>
          <a:xfrm>
            <a:off x="32767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ANd9GcReVwigzOu0-7M7KG7C4tv3C6FvpuhIrrK9bGdYxX6O0Yo_guRr"/>
          <p:cNvPicPr/>
          <p:nvPr/>
        </p:nvPicPr>
        <p:blipFill>
          <a:blip r:embed="rId3"/>
          <a:stretch/>
        </p:blipFill>
        <p:spPr>
          <a:xfrm>
            <a:off x="6019920" y="2133720"/>
            <a:ext cx="201924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0-11T11:57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