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Aangepaste voorstelling 1" id="0">
      <p:sldLst>
        <p:sld r:id="rId3"/>
        <p:sld r:id="rId4"/>
        <p:sld r:id="rId5"/>
        <p:sld r:id="rId6"/>
        <p:sld r:id="rId7"/>
        <p:sld r:id="rId8"/>
        <p:sld r:id="rId9"/>
        <p:sld r:id="rId10"/>
      </p:sldLst>
    </p:custShow>
    <p:custShow name="Aangepaste voorstelling 2" id="1">
      <p:sldLst>
        <p:sld r:id="rId10"/>
        <p:sld r:id="rId9"/>
        <p:sld r:id="rId8"/>
        <p:sld r:id="rId7"/>
        <p:sld r:id="rId6"/>
        <p:sld r:id="rId5"/>
        <p:sld r:id="rId4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F46-34F7-4060-BB56-B5464E91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48D-55CE-47F4-8875-16BC0C9B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25F-2E52-4E14-B2CA-CBB96537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B93-253E-41CD-801C-1F5DA09D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D33-AF2B-4F39-9E96-1F999EEA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FE5-4FB4-4A0E-9B2F-ED1BE1AF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A43-2EB2-4EF3-B65C-CF500B7E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CCE-EB6B-4D2D-9C56-0F26A0C3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277-4DAD-4DAD-98A8-21D8362A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5AC-DB75-406F-B4F8-3E0DF0B0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F50-73C9-4510-8720-F0F2AF61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560-3DD7-4F9F-993A-8042F160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FC67-040F-49C2-B6A0-50D30B24D5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ric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un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-K9r7oyvg9UTQelYM6il2F9MG2H_z1O1P9gzW8gSdLn4VKJtR"/>
          <p:cNvPicPr/>
          <p:nvPr/>
        </p:nvPicPr>
        <p:blipFill>
          <a:blip r:embed="rId1"/>
          <a:stretch/>
        </p:blipFill>
        <p:spPr>
          <a:xfrm>
            <a:off x="914400" y="1905120"/>
            <a:ext cx="4038480" cy="34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Sl17dTY5_iAoIJzNOBSKXpVvEfwqxwvW4dxmTryKlOR9QFVe0MTg"/>
          <p:cNvPicPr/>
          <p:nvPr/>
        </p:nvPicPr>
        <p:blipFill>
          <a:blip r:embed="rId2"/>
          <a:stretch/>
        </p:blipFill>
        <p:spPr>
          <a:xfrm>
            <a:off x="5638680" y="190512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car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Nd9GcQcSle9NbQ3XsroHFBEuCup2I3JpnkPxgxzpwgHcnKafVKzVcOZ2Q"/>
          <p:cNvPicPr/>
          <p:nvPr/>
        </p:nvPicPr>
        <p:blipFill>
          <a:blip r:embed="rId1"/>
          <a:stretch/>
        </p:blipFill>
        <p:spPr>
          <a:xfrm>
            <a:off x="59436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ANd9GcTIcrTzVgxIZZpKBYdQB_3KjbxO7ZTO4jlSfl8BE9R1_d0hsY6A"/>
          <p:cNvPicPr/>
          <p:nvPr/>
        </p:nvPicPr>
        <p:blipFill>
          <a:blip r:embed="rId2"/>
          <a:stretch/>
        </p:blipFill>
        <p:spPr>
          <a:xfrm>
            <a:off x="5943600" y="3832200"/>
            <a:ext cx="2523960" cy="23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Nd9GcQD8YV44FNpLzWKf-F42ECMZZvzOsHNKaSEaBP2K7uPqbI3lsbMFQ"/>
          <p:cNvPicPr/>
          <p:nvPr/>
        </p:nvPicPr>
        <p:blipFill>
          <a:blip r:embed="rId3"/>
          <a:stretch/>
        </p:blipFill>
        <p:spPr>
          <a:xfrm>
            <a:off x="1447920" y="2438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Tetrali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dop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3681360" y="2143080"/>
            <a:ext cx="1781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40801-erica-tetralix-1"/>
          <p:cNvPicPr/>
          <p:nvPr/>
        </p:nvPicPr>
        <p:blipFill>
          <a:blip r:embed="rId1"/>
          <a:stretch/>
        </p:blipFill>
        <p:spPr>
          <a:xfrm>
            <a:off x="6553080" y="685800"/>
            <a:ext cx="1725840" cy="2490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Erica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338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3648240" y="2190600"/>
            <a:ext cx="18475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3457440" y="2405160"/>
            <a:ext cx="22291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EricaTetralix"/>
          <p:cNvPicPr/>
          <p:nvPr/>
        </p:nvPicPr>
        <p:blipFill>
          <a:blip r:embed="rId3"/>
          <a:stretch/>
        </p:blipFill>
        <p:spPr>
          <a:xfrm>
            <a:off x="762120" y="1752480"/>
            <a:ext cx="3396960" cy="456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ultheria procum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ulth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ANd9GcRwbht6BYZ8gEj85mVIKfQBCM2nYoa_oEOeaUQwADJ1zNWKyths"/>
          <p:cNvPicPr/>
          <p:nvPr/>
        </p:nvPicPr>
        <p:blipFill>
          <a:blip r:embed="rId1"/>
          <a:stretch/>
        </p:blipFill>
        <p:spPr>
          <a:xfrm>
            <a:off x="609480" y="205740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ANd9GcRFT8sgHO2XY3Mxsb3zSERs4TdJ5f1mIsCfwD7-QGlkZH4BGQa87Q"/>
          <p:cNvPicPr/>
          <p:nvPr/>
        </p:nvPicPr>
        <p:blipFill>
          <a:blip r:embed="rId2"/>
          <a:stretch/>
        </p:blipFill>
        <p:spPr>
          <a:xfrm>
            <a:off x="5486400" y="25146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nettya mucron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net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QzmIl3xf8og3fNZ7LG50UqEKQOkQOviIvW_HR2K1MFltJ5d8Yq"/>
          <p:cNvPicPr/>
          <p:nvPr/>
        </p:nvPicPr>
        <p:blipFill>
          <a:blip r:embed="rId1"/>
          <a:stretch/>
        </p:blipFill>
        <p:spPr>
          <a:xfrm>
            <a:off x="4724280" y="1828800"/>
            <a:ext cx="2847960" cy="18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Nd9GcR82xHO5UPssocoQqwriW_mLRIOXotQHw2uJ8PPFCCHIWeX_Rxx"/>
          <p:cNvPicPr/>
          <p:nvPr/>
        </p:nvPicPr>
        <p:blipFill>
          <a:blip r:embed="rId2"/>
          <a:stretch/>
        </p:blipFill>
        <p:spPr>
          <a:xfrm>
            <a:off x="4724280" y="38098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SZIKJjIOQphzDZPqpF2zn0IlXSzm4mOL_2CYZe4UweKta6xL_m"/>
          <p:cNvPicPr/>
          <p:nvPr/>
        </p:nvPicPr>
        <p:blipFill>
          <a:blip r:embed="rId3"/>
          <a:stretch/>
        </p:blipFill>
        <p:spPr>
          <a:xfrm>
            <a:off x="19051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ANd9GcRuMF-Zca8UsyZNrLIc9fgPDGX-Fop0vDhSfMb52tYONG7XBvji"/>
          <p:cNvPicPr/>
          <p:nvPr/>
        </p:nvPicPr>
        <p:blipFill>
          <a:blip r:embed="rId4"/>
          <a:stretch/>
        </p:blipFill>
        <p:spPr>
          <a:xfrm>
            <a:off x="19810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eris floribu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e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Nd9GcTiQgtlkp1IzTRntMNo_5rqFbEaFyDUqwgt2sjnRzIPobtes3WK"/>
          <p:cNvPicPr/>
          <p:nvPr/>
        </p:nvPicPr>
        <p:blipFill>
          <a:blip r:embed="rId1"/>
          <a:stretch/>
        </p:blipFill>
        <p:spPr>
          <a:xfrm>
            <a:off x="5410080" y="1752480"/>
            <a:ext cx="2695680" cy="179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SavVPMn_1vJbS3mIb2QmYLnn2Rc-p3K3dU3VTfvGah26g9F98HAw"/>
          <p:cNvPicPr/>
          <p:nvPr/>
        </p:nvPicPr>
        <p:blipFill>
          <a:blip r:embed="rId2"/>
          <a:stretch/>
        </p:blipFill>
        <p:spPr>
          <a:xfrm>
            <a:off x="990720" y="2286000"/>
            <a:ext cx="3733560" cy="278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ANd9GcSndOyo6pc6Ld6vZF-ejulQ0ybXXNgY-6BjFmdRAVZ4EQEZVFiMYg"/>
          <p:cNvPicPr/>
          <p:nvPr/>
        </p:nvPicPr>
        <p:blipFill>
          <a:blip r:embed="rId3"/>
          <a:stretch/>
        </p:blipFill>
        <p:spPr>
          <a:xfrm>
            <a:off x="5410080" y="3809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ododendron (Catawbiense Groep) ‘Catawbien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bladige rhododen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S-O7m57E1FTomNyNC4-nJwZwYh8pxCrmJIQWBVeEW-yv5iD9aHXg"/>
          <p:cNvPicPr/>
          <p:nvPr/>
        </p:nvPicPr>
        <p:blipFill>
          <a:blip r:embed="rId1"/>
          <a:stretch/>
        </p:blipFill>
        <p:spPr>
          <a:xfrm>
            <a:off x="6172200" y="4343400"/>
            <a:ext cx="2133720" cy="160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RhjoO97Ow6YfwAu1wUg6UzPlESOum2pME-im3YwBNEWqYMO-3e"/>
          <p:cNvPicPr/>
          <p:nvPr/>
        </p:nvPicPr>
        <p:blipFill>
          <a:blip r:embed="rId2"/>
          <a:stretch/>
        </p:blipFill>
        <p:spPr>
          <a:xfrm>
            <a:off x="5638680" y="2209680"/>
            <a:ext cx="2581560" cy="177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Smgt9Nyx4Esnp03rdEPB2Yo0bvSFFHij5UaR49Ghi2O3ngfF_cIw"/>
          <p:cNvPicPr/>
          <p:nvPr/>
        </p:nvPicPr>
        <p:blipFill>
          <a:blip r:embed="rId3"/>
          <a:stretch/>
        </p:blipFill>
        <p:spPr>
          <a:xfrm>
            <a:off x="1295280" y="2514600"/>
            <a:ext cx="38102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1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