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13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  <p:custShowLst>
    <p:custShow name="Aangepaste voorstelling 1" id="0">
      <p:sldLst>
        <p:sld r:id="rId4"/>
        <p:sld r:id="rId7"/>
        <p:sld r:id="rId11"/>
        <p:sld r:id="rId15"/>
        <p:sld r:id="rId19"/>
        <p:sld r:id="rId23"/>
        <p:sld r:id="rId27"/>
        <p:sld r:id="rId31"/>
        <p:sld r:id="rId35"/>
        <p:sld r:id="rId39"/>
      </p:sldLst>
    </p:custShow>
    <p:custShow name="Aangepaste voorstelling 2" id="1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1A3-5553-40E5-ACDD-44E93DFD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5C5-6B6F-42DB-AFD0-D0C57070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865-9A79-46B0-B5E6-E946D5B9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F9D-9B61-4D7F-B851-131B246A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AA2-D2A3-40A2-B18F-7F0408B3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7A2-5743-4B2D-89CD-768D99CB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D82-D356-4E79-98DE-9C499DF6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B67-3500-469D-836A-8FCD62E4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925-B08E-40B7-ABCD-908C3A55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ABF-125A-451C-B14E-806DA922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061-7470-4BC2-A58A-07B2DAA1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4EE-79C2-4CDA-95C4-1CA9034A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ABF8-4487-450F-BA71-02B29DA637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h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tolonifera ‘Flaviram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gH_YztFGIj2610mLCE8MdEXbR3u_8E2Y2RyFVp6hGNcnlwSqc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ORNUS%20STOLONIFERA%20FLAVIRAMEA"/>
          <p:cNvPicPr/>
          <p:nvPr/>
        </p:nvPicPr>
        <p:blipFill>
          <a:blip r:embed="rId2"/>
          <a:stretch/>
        </p:blipFill>
        <p:spPr>
          <a:xfrm>
            <a:off x="4932360" y="1628640"/>
            <a:ext cx="3768840" cy="25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QkJ-iXBvC0oeRYgeonYMDuiaaKWY6ve06N9XouN5clPJVyUukkjw"/>
          <p:cNvPicPr/>
          <p:nvPr/>
        </p:nvPicPr>
        <p:blipFill>
          <a:blip r:embed="rId3"/>
          <a:stretch/>
        </p:blipFill>
        <p:spPr>
          <a:xfrm>
            <a:off x="2195640" y="3630600"/>
            <a:ext cx="2781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opsis pauciflor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jnhaz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Nd9GcRwzs4EA4UcH87Trgujttw8Y2Bqb0qCrfajMXV_dyOD3HR2sCZAQg"/>
          <p:cNvPicPr/>
          <p:nvPr/>
        </p:nvPicPr>
        <p:blipFill>
          <a:blip r:embed="rId1"/>
          <a:stretch/>
        </p:blipFill>
        <p:spPr>
          <a:xfrm>
            <a:off x="2771640" y="3832200"/>
            <a:ext cx="331308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9GcTp3yjtYKieW4vh_hax1r1uikvrSNCaxhARvlX9wy8upRXzTWeWtg"/>
          <p:cNvPicPr/>
          <p:nvPr/>
        </p:nvPicPr>
        <p:blipFill>
          <a:blip r:embed="rId2"/>
          <a:stretch/>
        </p:blipFill>
        <p:spPr>
          <a:xfrm>
            <a:off x="395280" y="155736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Nd9GcQdSlFC2IGyqLf7Qf87UOCnRgn-Q1Xsbr3jxJuhreh_qdEXcGk6yw"/>
          <p:cNvPicPr/>
          <p:nvPr/>
        </p:nvPicPr>
        <p:blipFill>
          <a:blip r:embed="rId3"/>
          <a:stretch/>
        </p:blipFill>
        <p:spPr>
          <a:xfrm>
            <a:off x="5580000" y="1557360"/>
            <a:ext cx="311472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lus avellana ‘Contor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nkel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ANd9GcRLeUPhR2DSr-4I2_4mq-xKCRdKNIjlSjC19Uas3DSI75i1GHL0vg"/>
          <p:cNvPicPr/>
          <p:nvPr/>
        </p:nvPicPr>
        <p:blipFill>
          <a:blip r:embed="rId1"/>
          <a:stretch/>
        </p:blipFill>
        <p:spPr>
          <a:xfrm>
            <a:off x="5308560" y="1628640"/>
            <a:ext cx="3343320" cy="44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Nd9GcQdHpirUBCYDkRz01E03fXgv2gZ3BnWp6YU7CDeF0m9GNbSFYJm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Nd9GcQxxd8GzDfXUX3hfF6XqCp1A8XDsgIpCAPBCOUEpvQxS-rrfq8E"/>
          <p:cNvPicPr/>
          <p:nvPr/>
        </p:nvPicPr>
        <p:blipFill>
          <a:blip r:embed="rId3"/>
          <a:stretch/>
        </p:blipFill>
        <p:spPr>
          <a:xfrm>
            <a:off x="468360" y="1557360"/>
            <a:ext cx="287964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inus coggyg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uike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QNhDbFERlqww6SQfhjYQcReMYH8edEVn4y0OxXKk4qKUNr3BL3Gw"/>
          <p:cNvPicPr/>
          <p:nvPr/>
        </p:nvPicPr>
        <p:blipFill>
          <a:blip r:embed="rId1"/>
          <a:stretch/>
        </p:blipFill>
        <p:spPr>
          <a:xfrm>
            <a:off x="395280" y="3335400"/>
            <a:ext cx="3745080" cy="28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SMSDK6Qk0n4gNyDUS2lD05h6cTnTy6lLiYpNEtlUS3H-lexvfqEw"/>
          <p:cNvPicPr/>
          <p:nvPr/>
        </p:nvPicPr>
        <p:blipFill>
          <a:blip r:embed="rId2"/>
          <a:stretch/>
        </p:blipFill>
        <p:spPr>
          <a:xfrm>
            <a:off x="4140360" y="1557360"/>
            <a:ext cx="448308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bull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2173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Nd9GcRXeukJc1Ry87BpnESzsgYXYPQ_UU_aft9pKmgMPQM3F2rEOdbk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ranchetti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7760" y="4608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toneaster_franchetii_thumb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676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Cotoneasterfranchetii"/>
          <p:cNvPicPr/>
          <p:nvPr/>
        </p:nvPicPr>
        <p:blipFill>
          <a:blip r:embed="rId2"/>
          <a:stretch/>
        </p:blipFill>
        <p:spPr>
          <a:xfrm>
            <a:off x="4427640" y="3306600"/>
            <a:ext cx="429408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horizo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316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262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RYJn8BL_jPd6cQenyPeM8SqnFtSqs6FKs4mx37a4VRkpUXo_sMqw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ytisus praeco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d9GcQ5L0BkxPf7o05NBdVgZ9jNXHOEHiebO_mqaZLUFXGQzzDO44RkMA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32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ANd9GcTad5rTBaMtAfEhAPsugG6qxuMncOEoh_FEHNcOXixBBhRhgT5FBQ"/>
          <p:cNvPicPr/>
          <p:nvPr/>
        </p:nvPicPr>
        <p:blipFill>
          <a:blip r:embed="rId2"/>
          <a:stretch/>
        </p:blipFill>
        <p:spPr>
          <a:xfrm>
            <a:off x="3995640" y="2565360"/>
            <a:ext cx="2266920" cy="365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Nd9GcRsNWFx-as53zyQuenGeDXwXA2MJQc4dz4jvUbOsffVybGpFyTILA"/>
          <p:cNvPicPr/>
          <p:nvPr/>
        </p:nvPicPr>
        <p:blipFill>
          <a:blip r:embed="rId3"/>
          <a:stretch/>
        </p:blipFill>
        <p:spPr>
          <a:xfrm>
            <a:off x="6497640" y="1628640"/>
            <a:ext cx="2184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zia scab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d9GcTOdvJar5nL15LIf4d741SjdPLMze6ktXe598zFwACy4TViJgNj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Nd9GcQZN6PpkqPq8MjYnKJjBOVU1sPN5wD-bDBro8KksJ5CiOvYaNz5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N_Q7fPy2uK1v9URbXVc85seNWZqoUdGdLuwQc96e6Fk_eWNcw"/>
          <p:cNvPicPr/>
          <p:nvPr/>
        </p:nvPicPr>
        <p:blipFill>
          <a:blip r:embed="rId3"/>
          <a:stretch/>
        </p:blipFill>
        <p:spPr>
          <a:xfrm>
            <a:off x="5796000" y="3968640"/>
            <a:ext cx="289872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orsythia x intermedia ‘Spectabil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Nd9GcSqk86RLic-3wHIHIf90nuhvObqbNy_0NPg_sufEozu9eIi-AQs"/>
          <p:cNvPicPr/>
          <p:nvPr/>
        </p:nvPicPr>
        <p:blipFill>
          <a:blip r:embed="rId1"/>
          <a:stretch/>
        </p:blipFill>
        <p:spPr>
          <a:xfrm>
            <a:off x="2700360" y="3149640"/>
            <a:ext cx="403236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77760" y="460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Forsythia"/>
          <p:cNvPicPr/>
          <p:nvPr/>
        </p:nvPicPr>
        <p:blipFill>
          <a:blip r:embed="rId2"/>
          <a:stretch/>
        </p:blipFill>
        <p:spPr>
          <a:xfrm>
            <a:off x="468360" y="1628640"/>
            <a:ext cx="22320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Nd9GcTQFTN1xy7bHWJqY9CuWC66OUfKUNhK5DWa4D7V3HEuoQiwDEVY"/>
          <p:cNvPicPr/>
          <p:nvPr/>
        </p:nvPicPr>
        <p:blipFill>
          <a:blip r:embed="rId3"/>
          <a:stretch/>
        </p:blipFill>
        <p:spPr>
          <a:xfrm>
            <a:off x="671040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almatum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DR1VMriiUAb4rxY92cElbCDBZY2LUuZkGVAwbzyuGEAImFLw"/>
          <p:cNvPicPr/>
          <p:nvPr/>
        </p:nvPicPr>
        <p:blipFill>
          <a:blip r:embed="rId1"/>
          <a:stretch/>
        </p:blipFill>
        <p:spPr>
          <a:xfrm>
            <a:off x="395280" y="1557360"/>
            <a:ext cx="3384720" cy="28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RhllF6CB9nwIGNDHpUYinKNXcE72qX9wS9jMvZmpYFvDvbdvwAgA"/>
          <p:cNvPicPr/>
          <p:nvPr/>
        </p:nvPicPr>
        <p:blipFill>
          <a:blip r:embed="rId2"/>
          <a:stretch/>
        </p:blipFill>
        <p:spPr>
          <a:xfrm>
            <a:off x="6012000" y="1628640"/>
            <a:ext cx="268272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Nd9GcSarRGcrOkm_PW3erGpSwU4DSjFgcDGkXuESJqZbxXhbnff_CYn"/>
          <p:cNvPicPr/>
          <p:nvPr/>
        </p:nvPicPr>
        <p:blipFill>
          <a:blip r:embed="rId3"/>
          <a:stretch/>
        </p:blipFill>
        <p:spPr>
          <a:xfrm>
            <a:off x="3780000" y="3614760"/>
            <a:ext cx="3384360" cy="252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amamelis mol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ver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jcs-hamamelis-mollis-46881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d9GcQadLejoiqx_5NtCXwZv-WCXeqA7NWGB5oC_lszkMnishFQYSyN"/>
          <p:cNvPicPr/>
          <p:nvPr/>
        </p:nvPicPr>
        <p:blipFill>
          <a:blip r:embed="rId2"/>
          <a:stretch/>
        </p:blipFill>
        <p:spPr>
          <a:xfrm>
            <a:off x="5940360" y="1628640"/>
            <a:ext cx="2768760" cy="231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qqUcj3LJ89ctcRojUJSQFcoBL0k41Iz2SDfdgfREyvMd2F98tAw"/>
          <p:cNvPicPr/>
          <p:nvPr/>
        </p:nvPicPr>
        <p:blipFill>
          <a:blip r:embed="rId3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biscus syriacus ‘Oiseau Bleu’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thaeast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760" y="460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ANd9GcT_V4i6oMI0fl_z1W6SqBYT3AlfebLDeAdPw93k2oQehXFyw0rI"/>
          <p:cNvPicPr/>
          <p:nvPr/>
        </p:nvPicPr>
        <p:blipFill>
          <a:blip r:embed="rId1"/>
          <a:stretch/>
        </p:blipFill>
        <p:spPr>
          <a:xfrm>
            <a:off x="468360" y="2708280"/>
            <a:ext cx="2549520" cy="340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ANd9GcQ8Pk2X3HChBNnkjK3VQ_R5KhJ0ReyHLzb9NC4q0cKcpVJEhUE5"/>
          <p:cNvPicPr/>
          <p:nvPr/>
        </p:nvPicPr>
        <p:blipFill>
          <a:blip r:embed="rId2"/>
          <a:stretch/>
        </p:blipFill>
        <p:spPr>
          <a:xfrm>
            <a:off x="3708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Nd9GcSSCFdPYAHved8U08aiLcMgI4Fi9zTG4QmeclQB_1txxtMh2Ly6"/>
          <p:cNvPicPr/>
          <p:nvPr/>
        </p:nvPicPr>
        <p:blipFill>
          <a:blip r:embed="rId3"/>
          <a:stretch/>
        </p:blipFill>
        <p:spPr>
          <a:xfrm>
            <a:off x="6516720" y="2852640"/>
            <a:ext cx="21589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macrophylla ‘Bouquet Ro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776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843_1"/>
          <p:cNvPicPr/>
          <p:nvPr/>
        </p:nvPicPr>
        <p:blipFill>
          <a:blip r:embed="rId1"/>
          <a:stretch/>
        </p:blipFill>
        <p:spPr>
          <a:xfrm>
            <a:off x="468360" y="19890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d9GcTBfBoOSer380AQaDgDeCSlM4ZnYsaaXKmhWxB9zthMZrps8BkK"/>
          <p:cNvPicPr/>
          <p:nvPr/>
        </p:nvPicPr>
        <p:blipFill>
          <a:blip r:embed="rId2"/>
          <a:stretch/>
        </p:blipFill>
        <p:spPr>
          <a:xfrm>
            <a:off x="3348000" y="371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ANd9GcRMZx4CAtLt8KGFCpDnQBePnnrNgOV_y2btfLwn3g5iDhUKXYvM"/>
          <p:cNvPicPr/>
          <p:nvPr/>
        </p:nvPicPr>
        <p:blipFill>
          <a:blip r:embed="rId3"/>
          <a:stretch/>
        </p:blipFill>
        <p:spPr>
          <a:xfrm>
            <a:off x="5219640" y="1989000"/>
            <a:ext cx="34750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pericum ‘Hidcote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sth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Nd9GcRIxrjGNsJqNaMONr3sugZrgum8dffpAQoA2a8rHd3PVcKp6jO23Q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2094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77760" y="46080"/>
            <a:ext cx="24289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51457977"/>
          <p:cNvPicPr/>
          <p:nvPr/>
        </p:nvPicPr>
        <p:blipFill>
          <a:blip r:embed="rId2"/>
          <a:stretch/>
        </p:blipFill>
        <p:spPr>
          <a:xfrm>
            <a:off x="4572000" y="1557360"/>
            <a:ext cx="4110120" cy="319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Nd9GcQOIGe1aF_xjzdz_5g4QkKp6uxR8Zuo1gjWggmy6eGjVpvDAU5N"/>
          <p:cNvPicPr/>
          <p:nvPr/>
        </p:nvPicPr>
        <p:blipFill>
          <a:blip r:embed="rId3"/>
          <a:stretch/>
        </p:blipFill>
        <p:spPr>
          <a:xfrm>
            <a:off x="2227320" y="3716280"/>
            <a:ext cx="23526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ria ja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onkel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Kerria_japonica_-_flower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ANd9GcTxYAFqHogHSS-EKxDUkD0ytgvcmfItjV5Ta8_Kshb1D82JmxRU"/>
          <p:cNvPicPr/>
          <p:nvPr/>
        </p:nvPicPr>
        <p:blipFill>
          <a:blip r:embed="rId2"/>
          <a:stretch/>
        </p:blipFill>
        <p:spPr>
          <a:xfrm>
            <a:off x="5508720" y="1628640"/>
            <a:ext cx="3186000" cy="238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Nd9GcSeq8bnGljb5M5jewgCwreJSAL8I7D0CtjYgtoSwLu46yrl2CbQ"/>
          <p:cNvPicPr/>
          <p:nvPr/>
        </p:nvPicPr>
        <p:blipFill>
          <a:blip r:embed="rId3"/>
          <a:stretch/>
        </p:blipFill>
        <p:spPr>
          <a:xfrm>
            <a:off x="2843280" y="4000680"/>
            <a:ext cx="2881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gnolia Soulangean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r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76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Magnolia%20soulangeana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9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6WrDqPLzvHO4kAcdtv5mTt-u-UA4vPiMvonNNlEBzJ70ruaw4cg"/>
          <p:cNvPicPr/>
          <p:nvPr/>
        </p:nvPicPr>
        <p:blipFill>
          <a:blip r:embed="rId2"/>
          <a:stretch/>
        </p:blipFill>
        <p:spPr>
          <a:xfrm>
            <a:off x="4500720" y="357336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RIomNyPNla9YwTvcng7dl7nHy7_A-fBGOiphtxKPI0xnQbJ4-x"/>
          <p:cNvPicPr/>
          <p:nvPr/>
        </p:nvPicPr>
        <p:blipFill>
          <a:blip r:embed="rId3"/>
          <a:stretch/>
        </p:blipFill>
        <p:spPr>
          <a:xfrm>
            <a:off x="6084720" y="1628640"/>
            <a:ext cx="2610000" cy="195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iladelp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ANd9GcTBl-Ft9v4gEGvC5c2Dx_tqtyXOlrsZ8HcnZRqverD1X17B2A5F"/>
          <p:cNvPicPr/>
          <p:nvPr/>
        </p:nvPicPr>
        <p:blipFill>
          <a:blip r:embed="rId1"/>
          <a:stretch/>
        </p:blipFill>
        <p:spPr>
          <a:xfrm>
            <a:off x="468360" y="1628640"/>
            <a:ext cx="17906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hiladelphus+pekinensis"/>
          <p:cNvPicPr/>
          <p:nvPr/>
        </p:nvPicPr>
        <p:blipFill>
          <a:blip r:embed="rId2"/>
          <a:stretch/>
        </p:blipFill>
        <p:spPr>
          <a:xfrm>
            <a:off x="5076720" y="1557360"/>
            <a:ext cx="3575160" cy="268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ANd9GcQ4gVPLDnuNsEdfcwbscT6UYTKo31r_7_9SuwAXMa7GpZESgQm9"/>
          <p:cNvPicPr/>
          <p:nvPr/>
        </p:nvPicPr>
        <p:blipFill>
          <a:blip r:embed="rId3"/>
          <a:stretch/>
        </p:blipFill>
        <p:spPr>
          <a:xfrm>
            <a:off x="226836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fruticosa ‘Abbotswoo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863_0_Potentilla-fruticosa-Abbotswood-Fingerstrauch-Abbotswood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ANd9GcRNj6CXoS0r9TnJ3gmd4meXY21k6oyvtDsz2t2IqjFRoyOfI2LJ"/>
          <p:cNvPicPr/>
          <p:nvPr/>
        </p:nvPicPr>
        <p:blipFill>
          <a:blip r:embed="rId2"/>
          <a:stretch/>
        </p:blipFill>
        <p:spPr>
          <a:xfrm>
            <a:off x="5219640" y="1557360"/>
            <a:ext cx="347508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ANd9GcT1aPNjozWvXjkm3r8wmrpPrtqDtDOU19MdxEnPxbCwFf_mYORmfg"/>
          <p:cNvPicPr/>
          <p:nvPr/>
        </p:nvPicPr>
        <p:blipFill>
          <a:blip r:embed="rId3"/>
          <a:stretch/>
        </p:blipFill>
        <p:spPr>
          <a:xfrm>
            <a:off x="3059280" y="4143240"/>
            <a:ext cx="2665080" cy="19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trilo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andel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ANd9GcQQSQRJ9J7bHkeXSk_b_0pTMbrCeiKUvy29Mkau9H3xr_a5WMxSUw"/>
          <p:cNvPicPr/>
          <p:nvPr/>
        </p:nvPicPr>
        <p:blipFill>
          <a:blip r:embed="rId1"/>
          <a:stretch/>
        </p:blipFill>
        <p:spPr>
          <a:xfrm>
            <a:off x="468360" y="4365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ANd9GcTggzrymK8T-LRJ8ycuLvtw9yhyubN7a9pJ752crghLwSW6w0-c2g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ANd9GcRiTv9QTKV_BL9bF1yxkx0_mj49UQz8mRecF7m0GakKbGLdXlWkcA"/>
          <p:cNvPicPr/>
          <p:nvPr/>
        </p:nvPicPr>
        <p:blipFill>
          <a:blip r:embed="rId3"/>
          <a:stretch/>
        </p:blipFill>
        <p:spPr>
          <a:xfrm>
            <a:off x="3276720" y="162864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acanth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istockphoto_9654641-pyracantha-cultivar-quot-orange-charmer-quot"/>
          <p:cNvPicPr/>
          <p:nvPr/>
        </p:nvPicPr>
        <p:blipFill>
          <a:blip r:embed="rId1"/>
          <a:stretch/>
        </p:blipFill>
        <p:spPr>
          <a:xfrm>
            <a:off x="395280" y="155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ANd9GcTgJhF8grXdAV5aRr4VEzHaUX8qiti5KGQUHk9fuHLa4EWOy1vvPQ"/>
          <p:cNvPicPr/>
          <p:nvPr/>
        </p:nvPicPr>
        <p:blipFill>
          <a:blip r:embed="rId2"/>
          <a:stretch/>
        </p:blipFill>
        <p:spPr>
          <a:xfrm>
            <a:off x="6553080" y="1628640"/>
            <a:ext cx="2103480" cy="25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ANd9GcQHO-OWsXVV6AnIn0U0Z5QPMTLMIFS_p7lLf4pH7mNxTCf4xC-i"/>
          <p:cNvPicPr/>
          <p:nvPr/>
        </p:nvPicPr>
        <p:blipFill>
          <a:blip r:embed="rId3"/>
          <a:stretch/>
        </p:blipFill>
        <p:spPr>
          <a:xfrm>
            <a:off x="3492360" y="3852720"/>
            <a:ext cx="2664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media ‘Parkjuweel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QjwrNylku6AurqtpmJlGIY3Li5HzFgk7r8ReJ2xA3rS5fZGSXM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lqzhO1wfq2h_ZTRvMuwCsoblH0IsedzeT7pP7CXFPV-c6U12wyw"/>
          <p:cNvPicPr/>
          <p:nvPr/>
        </p:nvPicPr>
        <p:blipFill>
          <a:blip r:embed="rId2"/>
          <a:stretch/>
        </p:blipFill>
        <p:spPr>
          <a:xfrm>
            <a:off x="5651640" y="1628640"/>
            <a:ext cx="3043080" cy="227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h4AZiWW00qM749vffjWzlb9gCiwUfiMPLzsypg93kTDnDLEQ5vw"/>
          <p:cNvPicPr/>
          <p:nvPr/>
        </p:nvPicPr>
        <p:blipFill>
          <a:blip r:embed="rId3"/>
          <a:stretch/>
        </p:blipFill>
        <p:spPr>
          <a:xfrm>
            <a:off x="3635280" y="393372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us typhin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zijnboom, fluweel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ANd9GcTAtqXoEFsCvHSEFA180WWQRHehxTgipFUGeUCIWZRXmHK8sx0d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Nd9GcS6cP-rHHuXlUQEHnkG7voMWbpWn-7N-D3upxcPlkdGorhLY6jJpw"/>
          <p:cNvPicPr/>
          <p:nvPr/>
        </p:nvPicPr>
        <p:blipFill>
          <a:blip r:embed="rId2"/>
          <a:stretch/>
        </p:blipFill>
        <p:spPr>
          <a:xfrm>
            <a:off x="468360" y="4051440"/>
            <a:ext cx="2590920" cy="2093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9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d9GcTZLOZMsSuDlttzDEgZqEzWj9TtG1uyj5SeWeyH7x9X1z32jxXhKA"/>
          <p:cNvPicPr/>
          <p:nvPr/>
        </p:nvPicPr>
        <p:blipFill>
          <a:blip r:embed="rId3"/>
          <a:stretch/>
        </p:blipFill>
        <p:spPr>
          <a:xfrm>
            <a:off x="5940360" y="4073400"/>
            <a:ext cx="2735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bes sanguineum ‘King Edward V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Ribes%20sanguineum%20King%20Edward%20VII"/>
          <p:cNvPicPr/>
          <p:nvPr/>
        </p:nvPicPr>
        <p:blipFill>
          <a:blip r:embed="rId1"/>
          <a:stretch/>
        </p:blipFill>
        <p:spPr>
          <a:xfrm>
            <a:off x="4067280" y="1557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ANd9GcTV9vY-qGT1LFEvEjcxEpyl3xHwNBBKMtgIzwfheQUIsCmzZq4OwQ"/>
          <p:cNvPicPr/>
          <p:nvPr/>
        </p:nvPicPr>
        <p:blipFill>
          <a:blip r:embed="rId2"/>
          <a:stretch/>
        </p:blipFill>
        <p:spPr>
          <a:xfrm>
            <a:off x="468360" y="2205000"/>
            <a:ext cx="292572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 (treurv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Nd9GcRjQJgMZcNGc75Ks7mHBTWJ4dviIjKbtgB7AGy0-8BKFgDC_sfE"/>
          <p:cNvPicPr/>
          <p:nvPr/>
        </p:nvPicPr>
        <p:blipFill>
          <a:blip r:embed="rId1"/>
          <a:stretch/>
        </p:blipFill>
        <p:spPr>
          <a:xfrm>
            <a:off x="468360" y="1557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77760" y="460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ANd9GcSduHF3Sxu2JSiULZCsyID3tmkpx5wpG5J_9xb1jHufh8dWAD1J9Q"/>
          <p:cNvPicPr/>
          <p:nvPr/>
        </p:nvPicPr>
        <p:blipFill>
          <a:blip r:embed="rId2"/>
          <a:stretch/>
        </p:blipFill>
        <p:spPr>
          <a:xfrm>
            <a:off x="1763640" y="3798720"/>
            <a:ext cx="273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ANd9GcQR15sNAo_baABXjCDV_0g-lO3ypMRz-rY78NVd_q4idYTF1Ei_"/>
          <p:cNvPicPr/>
          <p:nvPr/>
        </p:nvPicPr>
        <p:blipFill>
          <a:blip r:embed="rId3"/>
          <a:stretch/>
        </p:blipFill>
        <p:spPr>
          <a:xfrm>
            <a:off x="4500720" y="1557360"/>
            <a:ext cx="221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RPO3MhohTJmZCtITch6wAQM8AeIzNd3rR3EDY-N7HYDGMgB4yu8Q"/>
          <p:cNvPicPr/>
          <p:nvPr/>
        </p:nvPicPr>
        <p:blipFill>
          <a:blip r:embed="rId4"/>
          <a:stretch/>
        </p:blipFill>
        <p:spPr>
          <a:xfrm>
            <a:off x="6156360" y="3740040"/>
            <a:ext cx="25160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argut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ANd9GcTi_TL3CPlZgueLSWkC2ISTMGKzyjLGqYdhy7veqjGW1BKcqQCN"/>
          <p:cNvPicPr/>
          <p:nvPr/>
        </p:nvPicPr>
        <p:blipFill>
          <a:blip r:embed="rId1"/>
          <a:stretch/>
        </p:blipFill>
        <p:spPr>
          <a:xfrm>
            <a:off x="6264360" y="2924280"/>
            <a:ext cx="2387520" cy="31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ANd9GcQVcWr8EZKkXIpJtfcX7OqFXkR-9a9ZdjOKozyFsO_UTWlJiXzM"/>
          <p:cNvPicPr/>
          <p:nvPr/>
        </p:nvPicPr>
        <p:blipFill>
          <a:blip r:embed="rId2"/>
          <a:stretch/>
        </p:blipFill>
        <p:spPr>
          <a:xfrm>
            <a:off x="468360" y="4005360"/>
            <a:ext cx="218124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ANd9GcSjd-Keq5JdBMVZmjZyAjZUjerxvp1wUtm8oV6HTHXy_bN5VZsNGg"/>
          <p:cNvPicPr/>
          <p:nvPr/>
        </p:nvPicPr>
        <p:blipFill>
          <a:blip r:embed="rId3"/>
          <a:stretch/>
        </p:blipFill>
        <p:spPr>
          <a:xfrm>
            <a:off x="2771640" y="155736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vanhoutte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7760" y="460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Nd9GcQG9IZKHZLeXpIGgO9G0RLxigK88THN0vvl5Ul_XJBLJNY52mbDSQ"/>
          <p:cNvPicPr/>
          <p:nvPr/>
        </p:nvPicPr>
        <p:blipFill>
          <a:blip r:embed="rId1"/>
          <a:stretch/>
        </p:blipFill>
        <p:spPr>
          <a:xfrm>
            <a:off x="468360" y="1628640"/>
            <a:ext cx="2581200" cy="1771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77760" y="46080"/>
            <a:ext cx="2438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77760" y="46080"/>
            <a:ext cx="27050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342_kulisy_2"/>
          <p:cNvPicPr/>
          <p:nvPr/>
        </p:nvPicPr>
        <p:blipFill>
          <a:blip r:embed="rId2"/>
          <a:stretch/>
        </p:blipFill>
        <p:spPr>
          <a:xfrm>
            <a:off x="5651640" y="1628640"/>
            <a:ext cx="3047760" cy="1962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7"/>
          <p:cNvSpPr/>
          <p:nvPr/>
        </p:nvSpPr>
        <p:spPr>
          <a:xfrm>
            <a:off x="77760" y="46080"/>
            <a:ext cx="1523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260_tavolnik_1"/>
          <p:cNvPicPr/>
          <p:nvPr/>
        </p:nvPicPr>
        <p:blipFill>
          <a:blip r:embed="rId3"/>
          <a:stretch/>
        </p:blipFill>
        <p:spPr>
          <a:xfrm>
            <a:off x="3203640" y="3700440"/>
            <a:ext cx="27367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japonica ‘Anthony Waterer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ANd9GcTnUrkEwlpvbCxIajpJW4jdX86xo1tM_78Qyi4SeBJgeKklXZ_ET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269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Nd9GcQa7qlnNhS6X95JIAkTFE-AkYJ6vO--_4jYjnQDurfqWhkqp5XQ"/>
          <p:cNvPicPr/>
          <p:nvPr/>
        </p:nvPicPr>
        <p:blipFill>
          <a:blip r:embed="rId2"/>
          <a:stretch/>
        </p:blipFill>
        <p:spPr>
          <a:xfrm>
            <a:off x="5867280" y="1557360"/>
            <a:ext cx="2811600" cy="274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ANd9GcQOhhWgg-jx0Hf3-tzLKjImlKh4YYovGic8CJuofy8zwYqSaQN2Zw"/>
          <p:cNvPicPr/>
          <p:nvPr/>
        </p:nvPicPr>
        <p:blipFill>
          <a:blip r:embed="rId3"/>
          <a:stretch/>
        </p:blipFill>
        <p:spPr>
          <a:xfrm>
            <a:off x="3203640" y="35733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nip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R8Ifhecl6WyLEWL4XfZE-i50NeHwJsLxOt_UQmM7eqn9Ryp962vg"/>
          <p:cNvPicPr/>
          <p:nvPr/>
        </p:nvPicPr>
        <p:blipFill>
          <a:blip r:embed="rId1"/>
          <a:stretch/>
        </p:blipFill>
        <p:spPr>
          <a:xfrm>
            <a:off x="3708360" y="1628640"/>
            <a:ext cx="2952720" cy="217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-3Ap5kyZxYfTB_-K3zOoyn3M4RBlAmfmuYAzoW9rWCU10Ty8ZGA"/>
          <p:cNvPicPr/>
          <p:nvPr/>
        </p:nvPicPr>
        <p:blipFill>
          <a:blip r:embed="rId2"/>
          <a:stretch/>
        </p:blipFill>
        <p:spPr>
          <a:xfrm>
            <a:off x="468360" y="2852640"/>
            <a:ext cx="2951280" cy="232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ANd9GcSbTt_jR4D0pQ6u_HI1OQ6JMkVCufa_E72kgqm0YCznw-zkugsQ"/>
          <p:cNvPicPr/>
          <p:nvPr/>
        </p:nvPicPr>
        <p:blipFill>
          <a:blip r:embed="rId3"/>
          <a:stretch/>
        </p:blipFill>
        <p:spPr>
          <a:xfrm>
            <a:off x="5651640" y="3860640"/>
            <a:ext cx="30430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albus var. Laevig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7760" y="46080"/>
            <a:ext cx="181944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albus-1bU"/>
          <p:cNvPicPr/>
          <p:nvPr/>
        </p:nvPicPr>
        <p:blipFill>
          <a:blip r:embed="rId1"/>
          <a:stretch/>
        </p:blipFill>
        <p:spPr>
          <a:xfrm>
            <a:off x="468360" y="1628640"/>
            <a:ext cx="2389320" cy="32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ANd9GcSzQaVNqvPsJ3r-cruQ3t9cTTI-4bw37sg7XHl7VsDkh-RzT2qIoA"/>
          <p:cNvPicPr/>
          <p:nvPr/>
        </p:nvPicPr>
        <p:blipFill>
          <a:blip r:embed="rId2"/>
          <a:stretch/>
        </p:blipFill>
        <p:spPr>
          <a:xfrm>
            <a:off x="5724360" y="1628640"/>
            <a:ext cx="2941920" cy="22640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77760" y="4608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5" descr="symphoricarpos-albus-var-laevigatus-scheebeere-1-deckstaruch-oder-hecke"/>
          <p:cNvPicPr/>
          <p:nvPr/>
        </p:nvPicPr>
        <p:blipFill>
          <a:blip r:embed="rId3"/>
          <a:stretch/>
        </p:blipFill>
        <p:spPr>
          <a:xfrm>
            <a:off x="2843280" y="390852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chenaultii ‘Hancock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77760" y="4608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rosa_mirato"/>
          <p:cNvPicPr/>
          <p:nvPr/>
        </p:nvPicPr>
        <p:blipFill>
          <a:blip r:embed="rId1"/>
          <a:stretch/>
        </p:blipFill>
        <p:spPr>
          <a:xfrm>
            <a:off x="468360" y="2349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77760" y="46080"/>
            <a:ext cx="198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_178"/>
          <p:cNvPicPr/>
          <p:nvPr/>
        </p:nvPicPr>
        <p:blipFill>
          <a:blip r:embed="rId2"/>
          <a:stretch/>
        </p:blipFill>
        <p:spPr>
          <a:xfrm>
            <a:off x="5580000" y="1557360"/>
            <a:ext cx="3124440" cy="2259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3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SymphoricarposMotherofPearl"/>
          <p:cNvPicPr/>
          <p:nvPr/>
        </p:nvPicPr>
        <p:blipFill>
          <a:blip r:embed="rId3"/>
          <a:stretch/>
        </p:blipFill>
        <p:spPr>
          <a:xfrm>
            <a:off x="5580000" y="3846600"/>
            <a:ext cx="313380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ANd9GcTnx4PypajuxGYsGoZUXCW6-DIZbNYch0ktfhcLGWvDPiYGE_bC"/>
          <p:cNvPicPr/>
          <p:nvPr/>
        </p:nvPicPr>
        <p:blipFill>
          <a:blip r:embed="rId1"/>
          <a:stretch/>
        </p:blipFill>
        <p:spPr>
          <a:xfrm>
            <a:off x="468360" y="2637000"/>
            <a:ext cx="210348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ANd9GcTnmYB2ppSOHMwMLxaek7k26DE5bWcNHrCgI4rM-KKvlgUOrR9Kzg"/>
          <p:cNvPicPr/>
          <p:nvPr/>
        </p:nvPicPr>
        <p:blipFill>
          <a:blip r:embed="rId2"/>
          <a:stretch/>
        </p:blipFill>
        <p:spPr>
          <a:xfrm>
            <a:off x="3419640" y="162864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ANd9GcTTSjlZ2A9NMmEBXZQn4Fqhg--3Q_Zid_cTC_T-IcIPT6rItvLcXQ"/>
          <p:cNvPicPr/>
          <p:nvPr/>
        </p:nvPicPr>
        <p:blipFill>
          <a:blip r:embed="rId3"/>
          <a:stretch/>
        </p:blipFill>
        <p:spPr>
          <a:xfrm>
            <a:off x="7164360" y="3141720"/>
            <a:ext cx="1523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thungerbii ‘Atropurpur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SDzYY2NCTfUG8jTR-wvNqhC6EmuzcTodn6iC57JmJg4PyPldk4"/>
          <p:cNvPicPr/>
          <p:nvPr/>
        </p:nvPicPr>
        <p:blipFill>
          <a:blip r:embed="rId1"/>
          <a:stretch/>
        </p:blipFill>
        <p:spPr>
          <a:xfrm>
            <a:off x="468360" y="1628640"/>
            <a:ext cx="22892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QoQTZ2wK5hRAB0vptlqe84fyFDu0U26AeFmFZTU8x2WPIMXAQAA"/>
          <p:cNvPicPr/>
          <p:nvPr/>
        </p:nvPicPr>
        <p:blipFill>
          <a:blip r:embed="rId2"/>
          <a:stretch/>
        </p:blipFill>
        <p:spPr>
          <a:xfrm>
            <a:off x="2484360" y="3446640"/>
            <a:ext cx="359892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woNUbWtIdsUvSgYN0XGxGbHkJPCfSpaCun7IT2tEhUZ0Qi5mfPg"/>
          <p:cNvPicPr/>
          <p:nvPr/>
        </p:nvPicPr>
        <p:blipFill>
          <a:blip r:embed="rId3"/>
          <a:stretch/>
        </p:blipFill>
        <p:spPr>
          <a:xfrm>
            <a:off x="6012000" y="1628640"/>
            <a:ext cx="269244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LtULzqCRo456onjO5t_PDniE4WfqppcXTB8xtSds4nulMZUW7vg"/>
          <p:cNvPicPr/>
          <p:nvPr/>
        </p:nvPicPr>
        <p:blipFill>
          <a:blip r:embed="rId4"/>
          <a:stretch/>
        </p:blipFill>
        <p:spPr>
          <a:xfrm>
            <a:off x="5940360" y="3429000"/>
            <a:ext cx="271944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marix ramosissim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a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Nd9GcRTDPDRNXUdYumt56l3Zl5E8kHMcxunGGqcBX0oKgXL4j5R_tnV"/>
          <p:cNvPicPr/>
          <p:nvPr/>
        </p:nvPicPr>
        <p:blipFill>
          <a:blip r:embed="rId1"/>
          <a:stretch/>
        </p:blipFill>
        <p:spPr>
          <a:xfrm>
            <a:off x="468360" y="27082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ANd9GcS2SJf7ojvQ3BOCM6hDPAmbAc8JDSDoIPRA_Wja_0rJLoDolGXj2w"/>
          <p:cNvPicPr/>
          <p:nvPr/>
        </p:nvPicPr>
        <p:blipFill>
          <a:blip r:embed="rId2"/>
          <a:stretch/>
        </p:blipFill>
        <p:spPr>
          <a:xfrm>
            <a:off x="5580000" y="1628640"/>
            <a:ext cx="3124440" cy="2079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ANd9GcTP88vsLhmyK5uGST9SwrnOweXpWReOeBRbw0qhrhFHk6YvxafP-w"/>
          <p:cNvPicPr/>
          <p:nvPr/>
        </p:nvPicPr>
        <p:blipFill>
          <a:blip r:embed="rId3"/>
          <a:stretch/>
        </p:blipFill>
        <p:spPr>
          <a:xfrm>
            <a:off x="2843280" y="378936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x bodnantense ‘Daw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Nd9GcQp778R3WbEBqS08PKbURm0mBgwFTCR5eo3blXDsWNrvaWQEsm_"/>
          <p:cNvPicPr/>
          <p:nvPr/>
        </p:nvPicPr>
        <p:blipFill>
          <a:blip r:embed="rId1"/>
          <a:stretch/>
        </p:blipFill>
        <p:spPr>
          <a:xfrm>
            <a:off x="468360" y="155736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ANd9GcRW1My67Kjk1piJc9tjl3DwxFbhMwa1h5CQoiYsjli0DLkHH1un"/>
          <p:cNvPicPr/>
          <p:nvPr/>
        </p:nvPicPr>
        <p:blipFill>
          <a:blip r:embed="rId2"/>
          <a:stretch/>
        </p:blipFill>
        <p:spPr>
          <a:xfrm>
            <a:off x="468360" y="36734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Nd9GcQimkhfQNWULVb1hJFpnkdLxg5Ypp3bu5ffTvzVGwk_bpq4GdFc"/>
          <p:cNvPicPr/>
          <p:nvPr/>
        </p:nvPicPr>
        <p:blipFill>
          <a:blip r:embed="rId3"/>
          <a:stretch/>
        </p:blipFill>
        <p:spPr>
          <a:xfrm>
            <a:off x="5364000" y="3870360"/>
            <a:ext cx="330228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ANd9GcSJ8FBHyunefI3vbv6SfTTS8AdNUWNdU9L3gP-_ijoiSKcoPq8S"/>
          <p:cNvPicPr/>
          <p:nvPr/>
        </p:nvPicPr>
        <p:blipFill>
          <a:blip r:embed="rId4"/>
          <a:stretch/>
        </p:blipFill>
        <p:spPr>
          <a:xfrm>
            <a:off x="6659640" y="162864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 ‘Roseum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viburnum_opulus_roseum_sterile_1"/>
          <p:cNvPicPr/>
          <p:nvPr/>
        </p:nvPicPr>
        <p:blipFill>
          <a:blip r:embed="rId1"/>
          <a:stretch/>
        </p:blipFill>
        <p:spPr>
          <a:xfrm>
            <a:off x="468360" y="256536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R90E3d_J9-tnRQiwmGdCQ-9Ns_301mDC_bWnDoAPgHrEcxHXi8tw"/>
          <p:cNvPicPr/>
          <p:nvPr/>
        </p:nvPicPr>
        <p:blipFill>
          <a:blip r:embed="rId2"/>
          <a:stretch/>
        </p:blipFill>
        <p:spPr>
          <a:xfrm>
            <a:off x="428472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Nd9GcSnoh00hZjUcawqCSZ3DcBQKfjP0jXjTMfRHAP8Bu9PrDuaaPd-ug"/>
          <p:cNvPicPr/>
          <p:nvPr/>
        </p:nvPicPr>
        <p:blipFill>
          <a:blip r:embed="rId3"/>
          <a:stretch/>
        </p:blipFill>
        <p:spPr>
          <a:xfrm>
            <a:off x="5292720" y="3773520"/>
            <a:ext cx="287964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plicatum f. tomentos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e 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ANd9GcTe3YfUWAY9if0pYs40qVx1lSlpsMtIBV4Ox28egTVfjhR4V8d6tw"/>
          <p:cNvPicPr/>
          <p:nvPr/>
        </p:nvPicPr>
        <p:blipFill>
          <a:blip r:embed="rId1"/>
          <a:stretch/>
        </p:blipFill>
        <p:spPr>
          <a:xfrm>
            <a:off x="46836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Viburnum-plicatum-f-tomentosum-Summer-Snowflake-529-002"/>
          <p:cNvPicPr/>
          <p:nvPr/>
        </p:nvPicPr>
        <p:blipFill>
          <a:blip r:embed="rId2"/>
          <a:stretch/>
        </p:blipFill>
        <p:spPr>
          <a:xfrm>
            <a:off x="3203640" y="3933720"/>
            <a:ext cx="2857320" cy="222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Nd9GcSiUYc1vUs-ymmqp60r0y5dTEefAap3AwSQbGL-nNCJ4QJldg-V5w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d9GcR8noD7lN5B87x8Zojhk8Uq_ih8JC9xRYLfldHW9b6oeSf6kuTB"/>
          <p:cNvPicPr/>
          <p:nvPr/>
        </p:nvPicPr>
        <p:blipFill>
          <a:blip r:embed="rId4"/>
          <a:stretch/>
        </p:blipFill>
        <p:spPr>
          <a:xfrm>
            <a:off x="3059280" y="1628640"/>
            <a:ext cx="3240000" cy="21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ige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g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ANd9GcTBoTvHuUVjC857n62R9f3GaLylWXJ5Fhhopr7QNRKIqJty8qxk"/>
          <p:cNvPicPr/>
          <p:nvPr/>
        </p:nvPicPr>
        <p:blipFill>
          <a:blip r:embed="rId1"/>
          <a:stretch/>
        </p:blipFill>
        <p:spPr>
          <a:xfrm>
            <a:off x="468360" y="1628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d9GcR_ZcbPOyWN-6ie2NHGRzKXvbhDRBcmX0qjOVmEHRAMCqDdLnaTiA"/>
          <p:cNvPicPr/>
          <p:nvPr/>
        </p:nvPicPr>
        <p:blipFill>
          <a:blip r:embed="rId2"/>
          <a:stretch/>
        </p:blipFill>
        <p:spPr>
          <a:xfrm>
            <a:off x="241128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ANd9GcTWBiMvp7fymlO11ez48w1WHwZcVdgbOqwftTM3OEwtR3EN_1b2"/>
          <p:cNvPicPr/>
          <p:nvPr/>
        </p:nvPicPr>
        <p:blipFill>
          <a:blip r:embed="rId3"/>
          <a:stretch/>
        </p:blipFill>
        <p:spPr>
          <a:xfrm>
            <a:off x="478800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ANd9GcSQS5es4H2KD5lf7qT4p3woWCQ48KzhYaM2YaD328Ud9rNHSwGQ5A"/>
          <p:cNvPicPr/>
          <p:nvPr/>
        </p:nvPicPr>
        <p:blipFill>
          <a:blip r:embed="rId4"/>
          <a:stretch/>
        </p:blipFill>
        <p:spPr>
          <a:xfrm>
            <a:off x="5508720" y="1628640"/>
            <a:ext cx="31604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ddleja davidii ‘Ile de Franc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nd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QIutZT65Z71O9JuOYqh1JPuc8p1E6Zt6RhmqY_ZpuyLhaNOmvPKg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R29vc2VTPxsLcla4Guu7EpwlOA27KoaBEsBNyVI8aRuuP23-8W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1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Qcw0CvJLlOXpeVRqbyDMhMkwguXCD9WBGQ35g6kFxHhPXBvQAs"/>
          <p:cNvPicPr/>
          <p:nvPr/>
        </p:nvPicPr>
        <p:blipFill>
          <a:blip r:embed="rId3"/>
          <a:stretch/>
        </p:blipFill>
        <p:spPr>
          <a:xfrm>
            <a:off x="5940360" y="1628640"/>
            <a:ext cx="2754360" cy="206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carpa bodinieri ‘Profusio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on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z3LC6bpDATLCHJWfuffqeMk8gAPGgIqQOZtFFOrrVY1rwuQkh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QBkCj7apAgVN2CGFDfPgza8hd0UEsflUGzJewBQ3rPDjDBTTo1"/>
          <p:cNvPicPr/>
          <p:nvPr/>
        </p:nvPicPr>
        <p:blipFill>
          <a:blip r:embed="rId2"/>
          <a:stretch/>
        </p:blipFill>
        <p:spPr>
          <a:xfrm>
            <a:off x="5292720" y="1628640"/>
            <a:ext cx="3411720" cy="227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LNe9dsLz9WqBnKWrioPSDK49i4c7zUFCkvcPTOLRS_3IY1Z73"/>
          <p:cNvPicPr/>
          <p:nvPr/>
        </p:nvPicPr>
        <p:blipFill>
          <a:blip r:embed="rId3"/>
          <a:stretch/>
        </p:blipFill>
        <p:spPr>
          <a:xfrm>
            <a:off x="3564000" y="364500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agana arbor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ten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34lYMoD521v_5tezdXcDJSRv-Xkn_p2yE9xJWI2GppAXz8_56AQ"/>
          <p:cNvPicPr/>
          <p:nvPr/>
        </p:nvPicPr>
        <p:blipFill>
          <a:blip r:embed="rId1"/>
          <a:stretch/>
        </p:blipFill>
        <p:spPr>
          <a:xfrm>
            <a:off x="468360" y="155736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ddGIh-iYlxpr2IJip6EVx1Wxm8rx7qDsdrGGjoM19HgCz9iLw"/>
          <p:cNvPicPr/>
          <p:nvPr/>
        </p:nvPicPr>
        <p:blipFill>
          <a:blip r:embed="rId2"/>
          <a:stretch/>
        </p:blipFill>
        <p:spPr>
          <a:xfrm>
            <a:off x="5435640" y="1557360"/>
            <a:ext cx="325908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ANd9GcQOiI8iX_4__wHzPYNiUj7g2PYo6UVTxaoW056wGVfPQgGvqMQc"/>
          <p:cNvPicPr/>
          <p:nvPr/>
        </p:nvPicPr>
        <p:blipFill>
          <a:blip r:embed="rId3"/>
          <a:stretch/>
        </p:blipFill>
        <p:spPr>
          <a:xfrm>
            <a:off x="2700360" y="2637000"/>
            <a:ext cx="225252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enomeli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k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QM5s9VmkmYfhT1nVGuD0_qU60jWurkHNdL0jVzqqJa2nGBNIUJ"/>
          <p:cNvPicPr/>
          <p:nvPr/>
        </p:nvPicPr>
        <p:blipFill>
          <a:blip r:embed="rId1"/>
          <a:stretch/>
        </p:blipFill>
        <p:spPr>
          <a:xfrm>
            <a:off x="2916360" y="1628640"/>
            <a:ext cx="3457440" cy="258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R-JAeGbDDBdx58ZTZG-QkFCJIsCzqXSV9g2p2had7_p8QcdSL1"/>
          <p:cNvPicPr/>
          <p:nvPr/>
        </p:nvPicPr>
        <p:blipFill>
          <a:blip r:embed="rId2"/>
          <a:stretch/>
        </p:blipFill>
        <p:spPr>
          <a:xfrm>
            <a:off x="468360" y="4221000"/>
            <a:ext cx="2390760" cy="19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RQzL065hMa_1HiH0MI9qbYZ6cZI7Qxdf7VBgQ6hMOw2o4DnL2Itw"/>
          <p:cNvPicPr/>
          <p:nvPr/>
        </p:nvPicPr>
        <p:blipFill>
          <a:blip r:embed="rId3"/>
          <a:stretch/>
        </p:blipFill>
        <p:spPr>
          <a:xfrm>
            <a:off x="622764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alba ‘Siberic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3g9udAaByKLJ9roAnjkbJXRwSuPuR_gAFyqGJwH_nd_zadz0xvw"/>
          <p:cNvPicPr/>
          <p:nvPr/>
        </p:nvPicPr>
        <p:blipFill>
          <a:blip r:embed="rId1"/>
          <a:stretch/>
        </p:blipFill>
        <p:spPr>
          <a:xfrm>
            <a:off x="468360" y="1557360"/>
            <a:ext cx="21034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Nd9GcQpIzVe9LYhqN0euJXhmnw-m8S80T279hLS5p8UtWjufoJi-mInuQ"/>
          <p:cNvPicPr/>
          <p:nvPr/>
        </p:nvPicPr>
        <p:blipFill>
          <a:blip r:embed="rId2"/>
          <a:stretch/>
        </p:blipFill>
        <p:spPr>
          <a:xfrm>
            <a:off x="6300720" y="162864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QzZMh_m0wDxvB-eZMCUtI7iUQlj-cyf1wYdcn3N_cbsONFfBdcvg"/>
          <p:cNvPicPr/>
          <p:nvPr/>
        </p:nvPicPr>
        <p:blipFill>
          <a:blip r:embed="rId3"/>
          <a:stretch/>
        </p:blipFill>
        <p:spPr>
          <a:xfrm>
            <a:off x="2987640" y="162864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ANd9GcRyzTtM2kxLufgeZN1sxa3NoKNJDe6Pyj1GllNiiZWVmXX_7oNMgg"/>
          <p:cNvPicPr/>
          <p:nvPr/>
        </p:nvPicPr>
        <p:blipFill>
          <a:blip r:embed="rId4"/>
          <a:stretch/>
        </p:blipFill>
        <p:spPr>
          <a:xfrm>
            <a:off x="2916360" y="43657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Nd9GcSC0nE_eFTY4_vas-X3FLhpslZGgNVJ64dqiNdDs4K19-XE4h3D6w"/>
          <p:cNvPicPr/>
          <p:nvPr/>
        </p:nvPicPr>
        <p:blipFill>
          <a:blip r:embed="rId5"/>
          <a:stretch/>
        </p:blipFill>
        <p:spPr>
          <a:xfrm>
            <a:off x="608472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2-02-13T07:54:45Z</dcterms:modified>
  <cp:revision>11</cp:revision>
  <dc:subject/>
  <dc:title>Dia 1</dc:title>
</cp:coreProperties>
</file>