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18"/>
        <p:sld r:id="rId20"/>
        <p:sld r:id="rId22"/>
        <p:sld r:id="rId24"/>
        <p:sld r:id="rId25"/>
      </p:sldLst>
    </p:custShow>
    <p:custShow name="Aangepaste voorstelling 2" id="1">
      <p:sldLst>
        <p:sld r:id="rId4"/>
        <p:sld r:id="rId7"/>
        <p:sld r:id="rId10"/>
        <p:sld r:id="rId13"/>
        <p:sld r:id="rId16"/>
        <p:sld r:id="rId17"/>
        <p:sld r:id="rId19"/>
        <p:sld r:id="rId21"/>
        <p:sld r:id="rId23"/>
        <p:sld r:id="rId2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D97-8C6C-4903-ABD1-72E5B95E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3145-5FEB-4DAB-868B-37811A0A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240-8E5B-4604-904F-F06F7598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3BFF-89EF-440D-99C0-BB6813B9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43E-012D-4272-860A-3314AEFA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009D-84C3-4FD5-B1C4-AFEBC989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261-6D8A-4559-87BA-BA000FF6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3C44-32F8-425E-8B55-0869495F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AE3-04BF-4D4E-BEFA-1143661D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975D-284C-4F2D-BF21-B84BE976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C1DE-04D3-413D-9C12-D7C4D1A5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9E95-9727-4DE3-AF9A-0A345D22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2F18-4F24-4F94-9A55-F97969EDA1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dembedek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ts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ranium sanguine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edooievaars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l_fi" descr="1-62"/>
          <p:cNvPicPr/>
          <p:nvPr/>
        </p:nvPicPr>
        <p:blipFill>
          <a:blip r:embed="rId1"/>
          <a:stretch/>
        </p:blipFill>
        <p:spPr>
          <a:xfrm>
            <a:off x="1403280" y="1557360"/>
            <a:ext cx="5977080" cy="4491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elianthemum ‘Golden Queen’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onneroos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l_fi" descr="Helianthemum_Golden_Queen"/>
          <p:cNvPicPr/>
          <p:nvPr/>
        </p:nvPicPr>
        <p:blipFill>
          <a:blip r:embed="rId1"/>
          <a:stretch/>
        </p:blipFill>
        <p:spPr>
          <a:xfrm>
            <a:off x="2627280" y="1628640"/>
            <a:ext cx="3668760" cy="4896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sta undulata ‘Mediovariegata’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tlelie; ho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l_fi" descr="hosta_undulata_mediovariegata2"/>
          <p:cNvPicPr/>
          <p:nvPr/>
        </p:nvPicPr>
        <p:blipFill>
          <a:blip r:embed="rId1"/>
          <a:stretch/>
        </p:blipFill>
        <p:spPr>
          <a:xfrm>
            <a:off x="1187280" y="1628640"/>
            <a:ext cx="6553440" cy="4453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beris sempervirens ‘Schneeflocke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efke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l_fi" descr="Candytuft"/>
          <p:cNvPicPr/>
          <p:nvPr/>
        </p:nvPicPr>
        <p:blipFill>
          <a:blip r:embed="rId1"/>
          <a:stretch/>
        </p:blipFill>
        <p:spPr>
          <a:xfrm>
            <a:off x="1763640" y="148428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miastrum galeobdolon ‘Variegatum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 dovene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l_fi" descr="ANd9GcRj9X6SSY05KHL6hCs1II5kcaLRX7LFBhjkHqdperdq1AEQuTbnJw&amp;t=1"/>
          <p:cNvPicPr/>
          <p:nvPr/>
        </p:nvPicPr>
        <p:blipFill>
          <a:blip r:embed="rId1"/>
          <a:stretch/>
        </p:blipFill>
        <p:spPr>
          <a:xfrm>
            <a:off x="1258920" y="1628640"/>
            <a:ext cx="6265800" cy="4710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chysandra terminalis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chysandra; dikke manskr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l_fi" descr="pachysandra_teriminalis_green_sheen_2_03"/>
          <p:cNvPicPr/>
          <p:nvPr/>
        </p:nvPicPr>
        <p:blipFill>
          <a:blip r:embed="rId1"/>
          <a:stretch/>
        </p:blipFill>
        <p:spPr>
          <a:xfrm>
            <a:off x="1116000" y="1484280"/>
            <a:ext cx="6913440" cy="4586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sicaria affinis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izendkn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l_fi" descr="Persicaria-affinis_1373409-L"/>
          <p:cNvPicPr/>
          <p:nvPr/>
        </p:nvPicPr>
        <p:blipFill>
          <a:blip r:embed="rId1"/>
          <a:stretch/>
        </p:blipFill>
        <p:spPr>
          <a:xfrm>
            <a:off x="1042920" y="1557360"/>
            <a:ext cx="6769080" cy="4529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xifraga x urbi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ldersverdr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l_fi" descr="150506d"/>
          <p:cNvPicPr/>
          <p:nvPr/>
        </p:nvPicPr>
        <p:blipFill>
          <a:blip r:embed="rId1"/>
          <a:stretch/>
        </p:blipFill>
        <p:spPr>
          <a:xfrm>
            <a:off x="1258920" y="1700280"/>
            <a:ext cx="6119640" cy="4589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mpervivum tector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uis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l_fi" descr="SEMPERVIVUM_TECTORUM"/>
          <p:cNvPicPr/>
          <p:nvPr/>
        </p:nvPicPr>
        <p:blipFill>
          <a:blip r:embed="rId1"/>
          <a:stretch/>
        </p:blipFill>
        <p:spPr>
          <a:xfrm>
            <a:off x="3059280" y="1557360"/>
            <a:ext cx="2700000" cy="4535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chys byzantina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zels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l_fi" descr="lamsoor"/>
          <p:cNvPicPr/>
          <p:nvPr/>
        </p:nvPicPr>
        <p:blipFill>
          <a:blip r:embed="rId1"/>
          <a:stretch/>
        </p:blipFill>
        <p:spPr>
          <a:xfrm>
            <a:off x="1692360" y="148428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juga reptants ‘Atropurpurea’</a:t>
            </a:r>
            <a:br>
              <a:rPr sz="32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egroen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l_fi" descr="ajuga_bronze_beauty_1"/>
          <p:cNvPicPr/>
          <p:nvPr/>
        </p:nvPicPr>
        <p:blipFill>
          <a:blip r:embed="rId1"/>
          <a:stretch/>
        </p:blipFill>
        <p:spPr>
          <a:xfrm>
            <a:off x="2050920" y="170028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ymus praecox ‘Coccineus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ruiptij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l_fi" descr="Thymus%20praecox%20%27Coccineus%27"/>
          <p:cNvPicPr/>
          <p:nvPr/>
        </p:nvPicPr>
        <p:blipFill>
          <a:blip r:embed="rId1"/>
          <a:stretch/>
        </p:blipFill>
        <p:spPr>
          <a:xfrm>
            <a:off x="1258920" y="162864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nca major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ote maagden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l_fi" descr="809"/>
          <p:cNvPicPr/>
          <p:nvPr/>
        </p:nvPicPr>
        <p:blipFill>
          <a:blip r:embed="rId1"/>
          <a:stretch/>
        </p:blipFill>
        <p:spPr>
          <a:xfrm>
            <a:off x="1258920" y="162864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ca minor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 maagdenp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l_fi" descr="vinca_minor"/>
          <p:cNvPicPr/>
          <p:nvPr/>
        </p:nvPicPr>
        <p:blipFill>
          <a:blip r:embed="rId1"/>
          <a:stretch/>
        </p:blipFill>
        <p:spPr>
          <a:xfrm>
            <a:off x="1042920" y="162864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ola odorat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ts viool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193080" cy="4859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abis caucasica ‘Schneehaube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jstebrei; randjes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l_fi" descr="arabis_caucasica_compacta_-schneehaube-1"/>
          <p:cNvPicPr/>
          <p:nvPr/>
        </p:nvPicPr>
        <p:blipFill>
          <a:blip r:embed="rId1"/>
          <a:stretch/>
        </p:blipFill>
        <p:spPr>
          <a:xfrm>
            <a:off x="2268360" y="1484280"/>
            <a:ext cx="3756240" cy="4751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rinia saxatilis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ildz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l_fi" descr="auriniasaxatilisherb"/>
          <p:cNvPicPr/>
          <p:nvPr/>
        </p:nvPicPr>
        <p:blipFill>
          <a:blip r:embed="rId1"/>
          <a:stretch/>
        </p:blipFill>
        <p:spPr>
          <a:xfrm>
            <a:off x="1403280" y="1557360"/>
            <a:ext cx="5904000" cy="4437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rgenia cordifolia ‘Purpure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enlappers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l_fi" descr="1-377"/>
          <p:cNvPicPr/>
          <p:nvPr/>
        </p:nvPicPr>
        <p:blipFill>
          <a:blip r:embed="rId1"/>
          <a:stretch/>
        </p:blipFill>
        <p:spPr>
          <a:xfrm>
            <a:off x="2124000" y="1557360"/>
            <a:ext cx="420048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mpanula carpatica</a:t>
            </a:r>
            <a:br>
              <a:rPr sz="36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rpatenklok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l_fi" descr="Campanula_carpaticaBlue%20Clips"/>
          <p:cNvPicPr/>
          <p:nvPr/>
        </p:nvPicPr>
        <p:blipFill>
          <a:blip r:embed="rId1"/>
          <a:stretch/>
        </p:blipFill>
        <p:spPr>
          <a:xfrm>
            <a:off x="1042920" y="1916280"/>
            <a:ext cx="6913800" cy="4476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mpanula portenschlagiana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okjesbloem; kruipend klok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l_fi" descr="54"/>
          <p:cNvPicPr/>
          <p:nvPr/>
        </p:nvPicPr>
        <p:blipFill>
          <a:blip r:embed="rId1"/>
          <a:stretch/>
        </p:blipFill>
        <p:spPr>
          <a:xfrm>
            <a:off x="1258920" y="155736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erastium tomentosum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orn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l_fi" descr="Cerastium_tomentosum_ENBLA01"/>
          <p:cNvPicPr/>
          <p:nvPr/>
        </p:nvPicPr>
        <p:blipFill>
          <a:blip r:embed="rId1"/>
          <a:stretch/>
        </p:blipFill>
        <p:spPr>
          <a:xfrm>
            <a:off x="1835280" y="1484280"/>
            <a:ext cx="4644720" cy="4680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ranium endressii ‘Wargrave pink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ievaars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l_fi" descr="Geranium%20endressii%20Wargrave%20Pink"/>
          <p:cNvPicPr/>
          <p:nvPr/>
        </p:nvPicPr>
        <p:blipFill>
          <a:blip r:embed="rId1"/>
          <a:stretch/>
        </p:blipFill>
        <p:spPr>
          <a:xfrm>
            <a:off x="900000" y="1557360"/>
            <a:ext cx="6913800" cy="4608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1-10-11T11:51:39Z</dcterms:modified>
  <cp:revision>7</cp:revision>
  <dc:subject/>
  <dc:title>Dia 1</dc:title>
</cp:coreProperties>
</file>