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9"/>
        <p:sld r:id="rId21"/>
        <p:sld r:id="rId23"/>
        <p:sld r:id="rId26"/>
        <p:sld r:id="rId29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8"/>
        <p:sld r:id="rId20"/>
        <p:sld r:id="rId22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CF6-D85E-48B7-B071-BC779FF2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EDE-4701-4703-B164-A7A25133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9E8-D877-43FB-AE4A-C737AA3B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6E8-E117-4AF9-8F16-E80315BA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C5C-1389-4335-A140-AD0A162A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5A7-65F1-4623-8590-0E8D9F10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53B-9BB7-425E-B29E-7498E6F7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7A0-9071-43D8-8291-521BEC81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181-E4B2-44E9-9570-81C9579D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917-3BAE-4B8D-BC77-BB8E600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DB6-B4A8-4793-8796-3CA78D2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EFA-51A5-44F2-A087-3D6CBCE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BEF9-FED3-436A-99F5-9813043775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i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obtusa ‘Nana Gracil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oki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TPCVlWIk24HTdVtXkLSQjxuxWuphNSi3vqJKr0nC66zzZzhT3N"/>
          <p:cNvPicPr/>
          <p:nvPr/>
        </p:nvPicPr>
        <p:blipFill>
          <a:blip r:embed="rId1"/>
          <a:stretch/>
        </p:blipFill>
        <p:spPr>
          <a:xfrm>
            <a:off x="5715000" y="16765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StCgi-dMKlE5QXh4cJU4We_Tu5hy1sXIB3BJRHqX08wyMDPOY3"/>
          <p:cNvPicPr/>
          <p:nvPr/>
        </p:nvPicPr>
        <p:blipFill>
          <a:blip r:embed="rId2"/>
          <a:stretch/>
        </p:blipFill>
        <p:spPr>
          <a:xfrm>
            <a:off x="5715000" y="4267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6mOQ6EBX1F06WU6bNAb8tKfQS2T0B-q-f1VKZGrXUkvHuw8_ujA"/>
          <p:cNvPicPr/>
          <p:nvPr/>
        </p:nvPicPr>
        <p:blipFill>
          <a:blip r:embed="rId3"/>
          <a:stretch/>
        </p:blipFill>
        <p:spPr>
          <a:xfrm>
            <a:off x="9144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pisifera ‘Plumosa Aur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YEsToT2sRRzsKVqdI27z77M3vv6-tts80oWIuyAHSG6WOYgoV"/>
          <p:cNvPicPr/>
          <p:nvPr/>
        </p:nvPicPr>
        <p:blipFill>
          <a:blip r:embed="rId1"/>
          <a:stretch/>
        </p:blipFill>
        <p:spPr>
          <a:xfrm>
            <a:off x="54100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RV7t0xtHgLmD7Ev1dkdEvCjhb53J4YV5BGbiQVJzhaltG9JXKa"/>
          <p:cNvPicPr/>
          <p:nvPr/>
        </p:nvPicPr>
        <p:blipFill>
          <a:blip r:embed="rId2"/>
          <a:stretch/>
        </p:blipFill>
        <p:spPr>
          <a:xfrm>
            <a:off x="6095880" y="1523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Nd9GcRxBbqDCGWciyIzz7S7-34TU9e22fDXK6oZfPWFRy4xmbENe24i"/>
          <p:cNvPicPr/>
          <p:nvPr/>
        </p:nvPicPr>
        <p:blipFill>
          <a:blip r:embed="rId3"/>
          <a:stretch/>
        </p:blipFill>
        <p:spPr>
          <a:xfrm>
            <a:off x="990720" y="2209680"/>
            <a:ext cx="39621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x pfitzeriana ‘Wilhelm Pfitz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QD19YVhmHSurG1vfapFMYFmiPenSeLIqaWa6xAnvkcZqbCdsXoTQ"/>
          <p:cNvPicPr/>
          <p:nvPr/>
        </p:nvPicPr>
        <p:blipFill>
          <a:blip r:embed="rId1"/>
          <a:stretch/>
        </p:blipFill>
        <p:spPr>
          <a:xfrm>
            <a:off x="6248520" y="1447920"/>
            <a:ext cx="199044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1392522525_b67988e803"/>
          <p:cNvPicPr/>
          <p:nvPr/>
        </p:nvPicPr>
        <p:blipFill>
          <a:blip r:embed="rId2"/>
          <a:stretch/>
        </p:blipFill>
        <p:spPr>
          <a:xfrm>
            <a:off x="5029200" y="388620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g_7037"/>
          <p:cNvPicPr/>
          <p:nvPr/>
        </p:nvPicPr>
        <p:blipFill>
          <a:blip r:embed="rId3"/>
          <a:stretch/>
        </p:blipFill>
        <p:spPr>
          <a:xfrm>
            <a:off x="380880" y="2057400"/>
            <a:ext cx="449604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commun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SJnhLL7JcaCLspoEC6iXlT1bFufgd4FDRqodpAeiW6UHH8gee7"/>
          <p:cNvPicPr/>
          <p:nvPr/>
        </p:nvPicPr>
        <p:blipFill>
          <a:blip r:embed="rId1"/>
          <a:stretch/>
        </p:blipFill>
        <p:spPr>
          <a:xfrm>
            <a:off x="1676520" y="2362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Sd48hoijHOmDywmjPVIJh2nvkaP_C1h2dfN6_y1bM3g78XbjMUpw"/>
          <p:cNvPicPr/>
          <p:nvPr/>
        </p:nvPicPr>
        <p:blipFill>
          <a:blip r:embed="rId2"/>
          <a:stretch/>
        </p:blipFill>
        <p:spPr>
          <a:xfrm>
            <a:off x="5638680" y="167652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STERDGB4xu29HylGHi988B4JXCyiELIjrdwoj6nyCux4XkSQpiMg"/>
          <p:cNvPicPr/>
          <p:nvPr/>
        </p:nvPicPr>
        <p:blipFill>
          <a:blip r:embed="rId3"/>
          <a:stretch/>
        </p:blipFill>
        <p:spPr>
          <a:xfrm>
            <a:off x="5638680" y="3890880"/>
            <a:ext cx="245772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squamata ‘Blue Star’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SPAuOUvhOs-2Urmtqvga1l5rctfQacxeCFu_mAVN2-WMTixfR_"/>
          <p:cNvPicPr/>
          <p:nvPr/>
        </p:nvPicPr>
        <p:blipFill>
          <a:blip r:embed="rId1"/>
          <a:stretch/>
        </p:blipFill>
        <p:spPr>
          <a:xfrm>
            <a:off x="571500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d9GcQbXbkSaHd4ivW6IHPs2tY3zQuQpFE4v0c2jAKeawCeiK5XS6pffQ"/>
          <p:cNvPicPr/>
          <p:nvPr/>
        </p:nvPicPr>
        <p:blipFill>
          <a:blip r:embed="rId2"/>
          <a:stretch/>
        </p:blipFill>
        <p:spPr>
          <a:xfrm>
            <a:off x="838080" y="2438280"/>
            <a:ext cx="4419720" cy="290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Q-c0KBJ1b-EjuwQd6WLLRHz45jgidb46t1xrZmtEcZLZ5PCqil"/>
          <p:cNvPicPr/>
          <p:nvPr/>
        </p:nvPicPr>
        <p:blipFill>
          <a:blip r:embed="rId3"/>
          <a:stretch/>
        </p:blipFill>
        <p:spPr>
          <a:xfrm>
            <a:off x="571500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rix decid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l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Nd9GcQUIHpD2fShKm2HutQ7Yv9OX2E2cnX0d_erbhfNzDEoh4ScgRZI"/>
          <p:cNvPicPr/>
          <p:nvPr/>
        </p:nvPicPr>
        <p:blipFill>
          <a:blip r:embed="rId1"/>
          <a:stretch/>
        </p:blipFill>
        <p:spPr>
          <a:xfrm>
            <a:off x="5181480" y="190512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TWPmjkSkju8ZggB9WgF89p-q9-zeMzRIVpvyOjvGfgyOTduKvbWw"/>
          <p:cNvPicPr/>
          <p:nvPr/>
        </p:nvPicPr>
        <p:blipFill>
          <a:blip r:embed="rId2"/>
          <a:stretch/>
        </p:blipFill>
        <p:spPr>
          <a:xfrm>
            <a:off x="5181480" y="403848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ANd9GcQwjTxQ62cI7R7MFMztwGv1vPBnUxS3JW_eU5hnThwxO9xtXI68"/>
          <p:cNvPicPr/>
          <p:nvPr/>
        </p:nvPicPr>
        <p:blipFill>
          <a:blip r:embed="rId3"/>
          <a:stretch/>
        </p:blipFill>
        <p:spPr>
          <a:xfrm>
            <a:off x="914400" y="2057400"/>
            <a:ext cx="217476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Nd9GcSmWqSSMUmmqJfACogYeOyFsvvyXeau0alBSC6Tv5MfC-LHEUkf"/>
          <p:cNvPicPr/>
          <p:nvPr/>
        </p:nvPicPr>
        <p:blipFill>
          <a:blip r:embed="rId4"/>
          <a:stretch/>
        </p:blipFill>
        <p:spPr>
          <a:xfrm>
            <a:off x="3200400" y="2438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etasequoia glyptostrob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se 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d9GcS-XCeIIGQhJWOvmTKVqckJ9nlfgbNIDptb1sbowUaTeW7rtM7f"/>
          <p:cNvPicPr/>
          <p:nvPr/>
        </p:nvPicPr>
        <p:blipFill>
          <a:blip r:embed="rId1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d9GcTEwiGVvjRAFtaXDO4QbiO_nY0nOG7LCSKzbYdpaeneC7pQuZAX"/>
          <p:cNvPicPr/>
          <p:nvPr/>
        </p:nvPicPr>
        <p:blipFill>
          <a:blip r:embed="rId2"/>
          <a:stretch/>
        </p:blipFill>
        <p:spPr>
          <a:xfrm>
            <a:off x="6095880" y="3809880"/>
            <a:ext cx="2467080" cy="197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d9GcSaLiRGquEgLClOUNuR7KLKPlMkaP0gFbClGMbEhN0uR3A8ZznKMw"/>
          <p:cNvPicPr/>
          <p:nvPr/>
        </p:nvPicPr>
        <p:blipFill>
          <a:blip r:embed="rId3"/>
          <a:stretch/>
        </p:blipFill>
        <p:spPr>
          <a:xfrm>
            <a:off x="3886200" y="388620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Nd9GcQERHqNrgy7rD0EC0iGCIv1rdQ9yCQbz7RVHG9DPXUz_y8HiwZ-AQ"/>
          <p:cNvPicPr/>
          <p:nvPr/>
        </p:nvPicPr>
        <p:blipFill>
          <a:blip r:embed="rId4"/>
          <a:stretch/>
        </p:blipFill>
        <p:spPr>
          <a:xfrm>
            <a:off x="285840" y="1752480"/>
            <a:ext cx="3103560" cy="41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Nd9GcRRFq2FDsfwHkuyROS4yMCFgwQ9uZ7NM3nYMA8Mt9vc0EQ_ez3B"/>
          <p:cNvPicPr/>
          <p:nvPr/>
        </p:nvPicPr>
        <p:blipFill>
          <a:blip r:embed="rId5"/>
          <a:stretch/>
        </p:blipFill>
        <p:spPr>
          <a:xfrm>
            <a:off x="3733920" y="175248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abi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par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TjyCdCjvM3pfYlbiNtEp-cpmtY5zn-L85kIdm-PvLvX_ZCQz5"/>
          <p:cNvPicPr/>
          <p:nvPr/>
        </p:nvPicPr>
        <p:blipFill>
          <a:blip r:embed="rId1"/>
          <a:stretch/>
        </p:blipFill>
        <p:spPr>
          <a:xfrm>
            <a:off x="6019920" y="1752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fijnspar"/>
          <p:cNvPicPr/>
          <p:nvPr/>
        </p:nvPicPr>
        <p:blipFill>
          <a:blip r:embed="rId2"/>
          <a:stretch/>
        </p:blipFill>
        <p:spPr>
          <a:xfrm>
            <a:off x="4419720" y="3962520"/>
            <a:ext cx="3733560" cy="24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ANd9GcR6mpIm7HdCRRjfGSD7HEDO2JliChHMUipmUJC5Dui8Vb3uMZz3tg"/>
          <p:cNvPicPr/>
          <p:nvPr/>
        </p:nvPicPr>
        <p:blipFill>
          <a:blip r:embed="rId3"/>
          <a:stretch/>
        </p:blipFill>
        <p:spPr>
          <a:xfrm>
            <a:off x="533520" y="1828800"/>
            <a:ext cx="3617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pungens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TBMm0RAdEXg2CXo0brMvzWAzr7oUxSey7N3V71sHGcmIdqmOD7"/>
          <p:cNvPicPr/>
          <p:nvPr/>
        </p:nvPicPr>
        <p:blipFill>
          <a:blip r:embed="rId1"/>
          <a:stretch/>
        </p:blipFill>
        <p:spPr>
          <a:xfrm>
            <a:off x="548640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R4DjEBLfNu84-XzEJTYhoS164SgJ_g78mKS1pOviJ_1VCF78RAmQ"/>
          <p:cNvPicPr/>
          <p:nvPr/>
        </p:nvPicPr>
        <p:blipFill>
          <a:blip r:embed="rId2"/>
          <a:stretch/>
        </p:blipFill>
        <p:spPr>
          <a:xfrm>
            <a:off x="5867280" y="3733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RxKbBxr7Qc69iQY5w9Z0UCki_jgEAcyXHPfkwPTUwsFLFu-13TXg"/>
          <p:cNvPicPr/>
          <p:nvPr/>
        </p:nvPicPr>
        <p:blipFill>
          <a:blip r:embed="rId3"/>
          <a:stretch/>
        </p:blipFill>
        <p:spPr>
          <a:xfrm>
            <a:off x="99072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mugo var. mugh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SjqC2CT1Y7cL8-DG6QOuO9iB1hcb_wqx8i7pQu5Gh6nYi0fYCL0g"/>
          <p:cNvPicPr/>
          <p:nvPr/>
        </p:nvPicPr>
        <p:blipFill>
          <a:blip r:embed="rId1"/>
          <a:stretch/>
        </p:blipFill>
        <p:spPr>
          <a:xfrm>
            <a:off x="1143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3924360" y="28576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hPinusMugoMughus1"/>
          <p:cNvPicPr/>
          <p:nvPr/>
        </p:nvPicPr>
        <p:blipFill>
          <a:blip r:embed="rId2"/>
          <a:stretch/>
        </p:blipFill>
        <p:spPr>
          <a:xfrm>
            <a:off x="6095880" y="1371600"/>
            <a:ext cx="2286000" cy="20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d9GcQb5eoo8IUDoQJPRvLuB7REn0RzkVnR12w9sVF4ycZ4n_1RJA_2"/>
          <p:cNvPicPr/>
          <p:nvPr/>
        </p:nvPicPr>
        <p:blipFill>
          <a:blip r:embed="rId3"/>
          <a:stretch/>
        </p:blipFill>
        <p:spPr>
          <a:xfrm>
            <a:off x="5181480" y="369576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x Cupressicyparis leylan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yland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SmX4x3XwlTJj750FmqlUg4CwV_2rkcrBpc-aYaARK2_4gPDpggiw"/>
          <p:cNvPicPr/>
          <p:nvPr/>
        </p:nvPicPr>
        <p:blipFill>
          <a:blip r:embed="rId1"/>
          <a:stretch/>
        </p:blipFill>
        <p:spPr>
          <a:xfrm>
            <a:off x="6019920" y="15238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oLnhtLJgQZaoVnq4BJUpmIFjqy6cLcjtCGuAkqADl01l1qLbaCA"/>
          <p:cNvPicPr/>
          <p:nvPr/>
        </p:nvPicPr>
        <p:blipFill>
          <a:blip r:embed="rId2"/>
          <a:stretch/>
        </p:blipFill>
        <p:spPr>
          <a:xfrm>
            <a:off x="5791320" y="38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JkpCWDmAS9JZXQ4Dvhyh0KFXVnBxm4RlsoXFJ0iA_lMNmXz61"/>
          <p:cNvPicPr/>
          <p:nvPr/>
        </p:nvPicPr>
        <p:blipFill>
          <a:blip r:embed="rId3"/>
          <a:stretch/>
        </p:blipFill>
        <p:spPr>
          <a:xfrm>
            <a:off x="3048120" y="38862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QOhePxrCkXKhC08HaKCcKghMzeVKyfInq-ZMqlDvRxYbjJNOUYig"/>
          <p:cNvPicPr/>
          <p:nvPr/>
        </p:nvPicPr>
        <p:blipFill>
          <a:blip r:embed="rId4"/>
          <a:stretch/>
        </p:blipFill>
        <p:spPr>
          <a:xfrm>
            <a:off x="533520" y="1143000"/>
            <a:ext cx="2441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nigra subsp.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enrijks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3048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ANd9GcSpPu8d6WEDYyI8YOr22g6U1FOLaVgfdcnhoOXxpmBLYcOCz4T-"/>
          <p:cNvPicPr/>
          <p:nvPr/>
        </p:nvPicPr>
        <p:blipFill>
          <a:blip r:embed="rId2"/>
          <a:stretch/>
        </p:blipFill>
        <p:spPr>
          <a:xfrm>
            <a:off x="4495680" y="1828800"/>
            <a:ext cx="406728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1480710"/>
          <p:cNvPicPr/>
          <p:nvPr/>
        </p:nvPicPr>
        <p:blipFill>
          <a:blip r:embed="rId3"/>
          <a:stretch/>
        </p:blipFill>
        <p:spPr>
          <a:xfrm>
            <a:off x="4114800" y="4952880"/>
            <a:ext cx="1838160" cy="12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ANd9GcSTE4Eby6wHCdRMojJMaqEX_ydkKBn2MU6PznB_H4Z5Se7v8zBq"/>
          <p:cNvPicPr/>
          <p:nvPr/>
        </p:nvPicPr>
        <p:blipFill>
          <a:blip r:embed="rId4"/>
          <a:stretch/>
        </p:blipFill>
        <p:spPr>
          <a:xfrm>
            <a:off x="6172200" y="4267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57640" y="2562120"/>
            <a:ext cx="2628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719"/>
          <p:cNvPicPr/>
          <p:nvPr/>
        </p:nvPicPr>
        <p:blipFill>
          <a:blip r:embed="rId1"/>
          <a:stretch/>
        </p:blipFill>
        <p:spPr>
          <a:xfrm>
            <a:off x="533520" y="3581280"/>
            <a:ext cx="4343400" cy="2872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Pinus_sylvestris"/>
          <p:cNvPicPr/>
          <p:nvPr/>
        </p:nvPicPr>
        <p:blipFill>
          <a:blip r:embed="rId2"/>
          <a:stretch/>
        </p:blipFill>
        <p:spPr>
          <a:xfrm>
            <a:off x="5638680" y="1295280"/>
            <a:ext cx="3162600" cy="20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ANd9GcSxYjbEoBEFUTvDXGqM1LxugkI5XuWmnflpWQL3z9hbwwhGWR9Z"/>
          <p:cNvPicPr/>
          <p:nvPr/>
        </p:nvPicPr>
        <p:blipFill>
          <a:blip r:embed="rId3"/>
          <a:stretch/>
        </p:blipFill>
        <p:spPr>
          <a:xfrm>
            <a:off x="533520" y="144792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ANd9GcQ-SKIZ-GIoW0s4QtINDpIc6hzTPV0LBwNQtGh8xZmd1ZbZCnD8"/>
          <p:cNvPicPr/>
          <p:nvPr/>
        </p:nvPicPr>
        <p:blipFill>
          <a:blip r:embed="rId4"/>
          <a:stretch/>
        </p:blipFill>
        <p:spPr>
          <a:xfrm>
            <a:off x="5638680" y="3981600"/>
            <a:ext cx="315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d9GcTmLfRNFm4AAFv-JseVqthXM5RgCOICfWjT5TiOhjIlL0gEuz5Y"/>
          <p:cNvPicPr/>
          <p:nvPr/>
        </p:nvPicPr>
        <p:blipFill>
          <a:blip r:embed="rId5"/>
          <a:stretch/>
        </p:blipFill>
        <p:spPr>
          <a:xfrm>
            <a:off x="297180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seudotsuga menzies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ugla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Nd9GcRvbi4w1uB8VdHKAQq7fnf0KikvKv0qxSVP5AWoLkVAPwLXw4kcuQ"/>
          <p:cNvPicPr/>
          <p:nvPr/>
        </p:nvPicPr>
        <p:blipFill>
          <a:blip r:embed="rId1"/>
          <a:stretch/>
        </p:blipFill>
        <p:spPr>
          <a:xfrm>
            <a:off x="2666880" y="1905120"/>
            <a:ext cx="30816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581280" y="2271600"/>
            <a:ext cx="19814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me7"/>
          <p:cNvPicPr/>
          <p:nvPr/>
        </p:nvPicPr>
        <p:blipFill>
          <a:blip r:embed="rId2"/>
          <a:stretch/>
        </p:blipFill>
        <p:spPr>
          <a:xfrm>
            <a:off x="5867280" y="1219320"/>
            <a:ext cx="25066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Nd9GcR5o5ItSQze9GECZFRtwDQX8zaZlD4Yv2Kv56Vpp_OxUh-05kLf"/>
          <p:cNvPicPr/>
          <p:nvPr/>
        </p:nvPicPr>
        <p:blipFill>
          <a:blip r:embed="rId3"/>
          <a:stretch/>
        </p:blipFill>
        <p:spPr>
          <a:xfrm>
            <a:off x="533520" y="3809880"/>
            <a:ext cx="154296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Nd9GcQohRtB-rYBlurl3AOJXDYVAXt1WRG2TRn8U03kWUGRaGfQy0vq"/>
          <p:cNvPicPr/>
          <p:nvPr/>
        </p:nvPicPr>
        <p:blipFill>
          <a:blip r:embed="rId4"/>
          <a:stretch/>
        </p:blipFill>
        <p:spPr>
          <a:xfrm>
            <a:off x="5867280" y="426708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ANd9GcTDpsg52UMlQPexbx5ztJA1NgV2aCy7cSR1nw44ru5FpQcibLmrcw"/>
          <p:cNvPicPr/>
          <p:nvPr/>
        </p:nvPicPr>
        <p:blipFill>
          <a:blip r:embed="rId5"/>
          <a:stretch/>
        </p:blipFill>
        <p:spPr>
          <a:xfrm>
            <a:off x="15228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distich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d9GcTeZRbU8CsGbPVn52wFRG1PdaVRNBJw_66SX1l1cmqXuZUNiiDm"/>
          <p:cNvPicPr/>
          <p:nvPr/>
        </p:nvPicPr>
        <p:blipFill>
          <a:blip r:embed="rId1"/>
          <a:stretch/>
        </p:blipFill>
        <p:spPr>
          <a:xfrm>
            <a:off x="609480" y="440388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Nd9GcT6AjQhEK5IBKxbzrDvWQ-vCxK--nQNbMJjV08a6VImfBkiSYpl"/>
          <p:cNvPicPr/>
          <p:nvPr/>
        </p:nvPicPr>
        <p:blipFill>
          <a:blip r:embed="rId2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ANd9GcRSEdYvedK9fslksIzMlRTSSS8fandYsqxyMOwN4XKqRQiILIhk"/>
          <p:cNvPicPr/>
          <p:nvPr/>
        </p:nvPicPr>
        <p:blipFill>
          <a:blip r:embed="rId3"/>
          <a:stretch/>
        </p:blipFill>
        <p:spPr>
          <a:xfrm>
            <a:off x="3352680" y="1752480"/>
            <a:ext cx="25704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Nd9GcT4ECgGfWeUsAiFvP1DR6UwvOWLNfesx2QvD4ZGpb0ZbHrAeTO6JA"/>
          <p:cNvPicPr/>
          <p:nvPr/>
        </p:nvPicPr>
        <p:blipFill>
          <a:blip r:embed="rId4"/>
          <a:stretch/>
        </p:blipFill>
        <p:spPr>
          <a:xfrm>
            <a:off x="6858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ANd9GcTl_Q28YyqN-ETYHj3JA4Ccrsex-W_v9wCps7T-qjPUBU9q_MOzXw"/>
          <p:cNvPicPr/>
          <p:nvPr/>
        </p:nvPicPr>
        <p:blipFill>
          <a:blip r:embed="rId5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x media ‘Hick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ANd9GcQHeR2Pp4BNPTkkf26fbky_Feh6SLiuF6z6Uwe4ekDX4Q4Cv-1Isg"/>
          <p:cNvPicPr/>
          <p:nvPr/>
        </p:nvPicPr>
        <p:blipFill>
          <a:blip r:embed="rId1"/>
          <a:stretch/>
        </p:blipFill>
        <p:spPr>
          <a:xfrm>
            <a:off x="5715000" y="388620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4067280" y="3048120"/>
            <a:ext cx="100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181400" y="3038400"/>
            <a:ext cx="781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ANd9GcRv5iFmWY0dlNC2nZ9lZOJSZFDTZv54W8E1aGFDwpl0zhn6Xpsjhw"/>
          <p:cNvPicPr/>
          <p:nvPr/>
        </p:nvPicPr>
        <p:blipFill>
          <a:blip r:embed="rId2"/>
          <a:stretch/>
        </p:blipFill>
        <p:spPr>
          <a:xfrm>
            <a:off x="1600200" y="2133720"/>
            <a:ext cx="243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ANd9GcTHhipyMs70uiALGAHhjw-zdn6gfNRo1TTAocc69Ca06TSFM1l2"/>
          <p:cNvPicPr/>
          <p:nvPr/>
        </p:nvPicPr>
        <p:blipFill>
          <a:blip r:embed="rId3"/>
          <a:stretch/>
        </p:blipFill>
        <p:spPr>
          <a:xfrm>
            <a:off x="4952880" y="1981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us bac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taxus, 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d9GcQle7PLCBzYSF1oGffpONPTW0-fQ2gQtJ4bQ23zIr6_IebfarXH"/>
          <p:cNvPicPr/>
          <p:nvPr/>
        </p:nvPicPr>
        <p:blipFill>
          <a:blip r:embed="rId1"/>
          <a:stretch/>
        </p:blipFill>
        <p:spPr>
          <a:xfrm>
            <a:off x="64008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d9GcSHZUvx9etisM2kxMmmYh4grb2TrYrc2BlXkinAuY8ZcKdI9_XPwA"/>
          <p:cNvPicPr/>
          <p:nvPr/>
        </p:nvPicPr>
        <p:blipFill>
          <a:blip r:embed="rId2"/>
          <a:stretch/>
        </p:blipFill>
        <p:spPr>
          <a:xfrm>
            <a:off x="6172200" y="1600200"/>
            <a:ext cx="24271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Nd9GcSeD1GWf3yb8RTYAnZ2MWpiVyc9wLmbJvncAQS1sHihLBAsCbIPNQ"/>
          <p:cNvPicPr/>
          <p:nvPr/>
        </p:nvPicPr>
        <p:blipFill>
          <a:blip r:embed="rId3"/>
          <a:stretch/>
        </p:blipFill>
        <p:spPr>
          <a:xfrm>
            <a:off x="3808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ANd9GcQB1U3aqEGjjHrPjS54jmc3Jqw3-Mo4vZDb4e5rOPs97FIej-Ll"/>
          <p:cNvPicPr/>
          <p:nvPr/>
        </p:nvPicPr>
        <p:blipFill>
          <a:blip r:embed="rId4"/>
          <a:stretch/>
        </p:blipFill>
        <p:spPr>
          <a:xfrm>
            <a:off x="2666880" y="2743200"/>
            <a:ext cx="3353040" cy="25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ANd9GcRdWKPXjlxc-OqDlFP5cfuR88QNkrWNbszTRsA0922PFQ_HB8IBMA"/>
          <p:cNvPicPr/>
          <p:nvPr/>
        </p:nvPicPr>
        <p:blipFill>
          <a:blip r:embed="rId5"/>
          <a:stretch/>
        </p:blipFill>
        <p:spPr>
          <a:xfrm>
            <a:off x="380880" y="12193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occide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erse 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Nd9GcQ31pEJyfaCF7q6YDLOQIf2YZ_LElhPQ2gayJoPdQ0m3dECPdkP"/>
          <p:cNvPicPr/>
          <p:nvPr/>
        </p:nvPicPr>
        <p:blipFill>
          <a:blip r:embed="rId1"/>
          <a:stretch/>
        </p:blipFill>
        <p:spPr>
          <a:xfrm>
            <a:off x="838080" y="1828800"/>
            <a:ext cx="326736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ANd9GcR9Ie6S9MxUsNj7vb3p8uhAB8QKixp0HM1BMYTylTbIr6mNJ5OD-Q"/>
          <p:cNvPicPr/>
          <p:nvPr/>
        </p:nvPicPr>
        <p:blipFill>
          <a:blip r:embed="rId2"/>
          <a:stretch/>
        </p:blipFill>
        <p:spPr>
          <a:xfrm>
            <a:off x="8380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Nd9GcQ3f4GngwTmmBPuVZp_x6Cgmn5I7WU94k9DZUzGvqdv_lQ492Dt3w"/>
          <p:cNvPicPr/>
          <p:nvPr/>
        </p:nvPicPr>
        <p:blipFill>
          <a:blip r:embed="rId3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Nd9GcQRUL-03qACfmlnhbnNTwebRXOI9P3azr7d2zliGf5prF__cs-Atw"/>
          <p:cNvPicPr/>
          <p:nvPr/>
        </p:nvPicPr>
        <p:blipFill>
          <a:blip r:embed="rId4"/>
          <a:stretch/>
        </p:blipFill>
        <p:spPr>
          <a:xfrm>
            <a:off x="655308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Nd9GcT-x5lPhRqWR5hyTLVKRSzYuacspgwtpjnDEvlITuAsZv8Eyx-9"/>
          <p:cNvPicPr/>
          <p:nvPr/>
        </p:nvPicPr>
        <p:blipFill>
          <a:blip r:embed="rId5"/>
          <a:stretch/>
        </p:blipFill>
        <p:spPr>
          <a:xfrm>
            <a:off x="3581280" y="342900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Pl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uzen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hq_5n60HBRjLE9YTWatXuBQLsejRVnW9-37ZR-CSC71tkc-aVKg"/>
          <p:cNvPicPr/>
          <p:nvPr/>
        </p:nvPicPr>
        <p:blipFill>
          <a:blip r:embed="rId1"/>
          <a:stretch/>
        </p:blipFill>
        <p:spPr>
          <a:xfrm>
            <a:off x="38088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R54qh8dzTq-roMiY6UZUX8O0SbldQgTfR5ZJoxh95uQtbkYS33"/>
          <p:cNvPicPr/>
          <p:nvPr/>
        </p:nvPicPr>
        <p:blipFill>
          <a:blip r:embed="rId2"/>
          <a:stretch/>
        </p:blipFill>
        <p:spPr>
          <a:xfrm>
            <a:off x="457200" y="3962520"/>
            <a:ext cx="266688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51OW43yGGXaLg3-c4q-Z-WKJl_wOG8Ucvfgu_d_mIIHUE-gIr2A"/>
          <p:cNvPicPr/>
          <p:nvPr/>
        </p:nvPicPr>
        <p:blipFill>
          <a:blip r:embed="rId3"/>
          <a:stretch/>
        </p:blipFill>
        <p:spPr>
          <a:xfrm>
            <a:off x="3429000" y="21337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Nd9GcQeVhDK23GeMSS_T1AShh1SU5WyDDuL5CciSATU3LMK1sJCWYii"/>
          <p:cNvPicPr/>
          <p:nvPr/>
        </p:nvPicPr>
        <p:blipFill>
          <a:blip r:embed="rId4"/>
          <a:stretch/>
        </p:blipFill>
        <p:spPr>
          <a:xfrm>
            <a:off x="6324480" y="17524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ANd9GcSLjfV7BeNMH_ZXSgRqP-bLMSSLRk5HgURK2AI1ep2qP22zAfRSbg"/>
          <p:cNvPicPr/>
          <p:nvPr/>
        </p:nvPicPr>
        <p:blipFill>
          <a:blip r:embed="rId5"/>
          <a:stretch/>
        </p:blipFill>
        <p:spPr>
          <a:xfrm>
            <a:off x="6324480" y="38862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kore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aanse zilver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Nd9GcTBUgZvYJ-6u26OdSOvcEFytLNW7fDO12wMKHyyTNVBK9HlVt4XmA"/>
          <p:cNvPicPr/>
          <p:nvPr/>
        </p:nvPicPr>
        <p:blipFill>
          <a:blip r:embed="rId1"/>
          <a:stretch/>
        </p:blipFill>
        <p:spPr>
          <a:xfrm>
            <a:off x="52578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S5N1bGr4FETF31jD5Oax-jnaxgqxBXh4ikoX7TjqhJZwd3YmokLA"/>
          <p:cNvPicPr/>
          <p:nvPr/>
        </p:nvPicPr>
        <p:blipFill>
          <a:blip r:embed="rId2"/>
          <a:stretch/>
        </p:blipFill>
        <p:spPr>
          <a:xfrm>
            <a:off x="5257800" y="3809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TtRZjaMzELKWSoX6NbIRVblnpx24qRQaAF-ixIg3shjp6vMtX1pQ"/>
          <p:cNvPicPr/>
          <p:nvPr/>
        </p:nvPicPr>
        <p:blipFill>
          <a:blip r:embed="rId3"/>
          <a:stretch/>
        </p:blipFill>
        <p:spPr>
          <a:xfrm>
            <a:off x="1447920" y="1600200"/>
            <a:ext cx="2841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nordmann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dma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Nd9GcQAps6rtKWhCAweeZ7Ixc03ktpxYClvFB707e3HG5AMFXefTtUc"/>
          <p:cNvPicPr/>
          <p:nvPr/>
        </p:nvPicPr>
        <p:blipFill>
          <a:blip r:embed="rId1"/>
          <a:stretch/>
        </p:blipFill>
        <p:spPr>
          <a:xfrm>
            <a:off x="762120" y="2209680"/>
            <a:ext cx="3039840" cy="403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0Hd-hnW2bVBsxxBVygTQ8YmaFEOME7gIi_KLsmd4BbHyWiL7J"/>
          <p:cNvPicPr/>
          <p:nvPr/>
        </p:nvPicPr>
        <p:blipFill>
          <a:blip r:embed="rId2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Nd9GcSbyYJ-wnATR5QdfeZJNY8c0Begc2TI1_oQclMa2rmqR7KBfCal-w"/>
          <p:cNvPicPr/>
          <p:nvPr/>
        </p:nvPicPr>
        <p:blipFill>
          <a:blip r:embed="rId3"/>
          <a:stretch/>
        </p:blipFill>
        <p:spPr>
          <a:xfrm>
            <a:off x="61722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ANd9GcT-SuCiVxGapvUoPgEHTrF6c9ONMhsY8xlqAHFFuhpImwkm8NoU"/>
          <p:cNvPicPr/>
          <p:nvPr/>
        </p:nvPicPr>
        <p:blipFill>
          <a:blip r:embed="rId4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procera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del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Nd9GcRiOl2UsYoRrgLI1yScfSRS4nrswL7hWIjxszuLQzA4hp1ltFK4AA"/>
          <p:cNvPicPr/>
          <p:nvPr/>
        </p:nvPicPr>
        <p:blipFill>
          <a:blip r:embed="rId1"/>
          <a:stretch/>
        </p:blipFill>
        <p:spPr>
          <a:xfrm>
            <a:off x="58672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SU76Zr45iIk3A8yTXiqb1xkbUKhXTU3R4oSuWRB-RmgHAFfPP7"/>
          <p:cNvPicPr/>
          <p:nvPr/>
        </p:nvPicPr>
        <p:blipFill>
          <a:blip r:embed="rId2"/>
          <a:stretch/>
        </p:blipFill>
        <p:spPr>
          <a:xfrm>
            <a:off x="510552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RIzCJFI6t7ILxFpGViyJpklErqiAmaFO4p1CEKFJl5wNUXB5BLGQ"/>
          <p:cNvPicPr/>
          <p:nvPr/>
        </p:nvPicPr>
        <p:blipFill>
          <a:blip r:embed="rId3"/>
          <a:stretch/>
        </p:blipFill>
        <p:spPr>
          <a:xfrm>
            <a:off x="1066680" y="1523880"/>
            <a:ext cx="33559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deod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malaya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RBabHSChxtmGbW-yaexc7stDSfhA0Noyqf1FePikY_iwT7bKCMFA"/>
          <p:cNvPicPr/>
          <p:nvPr/>
        </p:nvPicPr>
        <p:blipFill>
          <a:blip r:embed="rId1"/>
          <a:stretch/>
        </p:blipFill>
        <p:spPr>
          <a:xfrm>
            <a:off x="1600200" y="1676520"/>
            <a:ext cx="2400480" cy="37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bhWAaz4jyJKoKccWg1wYICD09L3oUVwiA9wzTU2PEgyhP_GiuEg"/>
          <p:cNvPicPr/>
          <p:nvPr/>
        </p:nvPicPr>
        <p:blipFill>
          <a:blip r:embed="rId2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d9GcS5rw3AeBY9Z9XTsSQ4quCxjYbcgP5nOVZYpTwz7U6c3ibIfolGmg"/>
          <p:cNvPicPr/>
          <p:nvPr/>
        </p:nvPicPr>
        <p:blipFill>
          <a:blip r:embed="rId3"/>
          <a:stretch/>
        </p:blipFill>
        <p:spPr>
          <a:xfrm>
            <a:off x="4876920" y="3733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libani Glauca 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las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ANd9GcRYqsDBbcv1jts7MpSq7A1kt58YtQsINuBftjCBCwiWlkEWj1vF4w"/>
          <p:cNvPicPr/>
          <p:nvPr/>
        </p:nvPicPr>
        <p:blipFill>
          <a:blip r:embed="rId1"/>
          <a:stretch/>
        </p:blipFill>
        <p:spPr>
          <a:xfrm>
            <a:off x="1066680" y="1752480"/>
            <a:ext cx="265284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d9GcScyHjLiTgZjymLIadCdpfSNd0dr1lLr9dcTnl0J56Grrn_WIRlNg"/>
          <p:cNvPicPr/>
          <p:nvPr/>
        </p:nvPicPr>
        <p:blipFill>
          <a:blip r:embed="rId2"/>
          <a:stretch/>
        </p:blipFill>
        <p:spPr>
          <a:xfrm>
            <a:off x="6172200" y="3429000"/>
            <a:ext cx="16765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QZJk2dWLRoQNRPztGG9_QENJgK3b8FqDSQTruvX4bj632UCx2F"/>
          <p:cNvPicPr/>
          <p:nvPr/>
        </p:nvPicPr>
        <p:blipFill>
          <a:blip r:embed="rId3"/>
          <a:stretch/>
        </p:blipFill>
        <p:spPr>
          <a:xfrm>
            <a:off x="5486400" y="16002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lawsoniana ‘Columnar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fornisch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BxGJe1hApexGx7OZeojQXm6oTogQ7DekgM21Efi289X-2hlAuqw"/>
          <p:cNvPicPr/>
          <p:nvPr/>
        </p:nvPicPr>
        <p:blipFill>
          <a:blip r:embed="rId1"/>
          <a:stretch/>
        </p:blipFill>
        <p:spPr>
          <a:xfrm>
            <a:off x="1600200" y="2209680"/>
            <a:ext cx="279864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R5DgAdGk00tNMOLc6AKilLR9okTGqmDSxeeDuNDPsisiXwZrn2SQ"/>
          <p:cNvPicPr/>
          <p:nvPr/>
        </p:nvPicPr>
        <p:blipFill>
          <a:blip r:embed="rId2"/>
          <a:stretch/>
        </p:blipFill>
        <p:spPr>
          <a:xfrm>
            <a:off x="5105520" y="2133720"/>
            <a:ext cx="269064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Qj2yeijJrpnn_XPY48BwV4bXQe8TF_VMm8UAD93f9iZ4qC_RASQg"/>
          <p:cNvPicPr/>
          <p:nvPr/>
        </p:nvPicPr>
        <p:blipFill>
          <a:blip r:embed="rId3"/>
          <a:stretch/>
        </p:blipFill>
        <p:spPr>
          <a:xfrm>
            <a:off x="5943600" y="40384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nootkatensis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tka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Ti-kbc3tx0D1PFG99Zal7cYxrW7NqqUKMveiHEJ-dZUHN9NYjZ_g"/>
          <p:cNvPicPr/>
          <p:nvPr/>
        </p:nvPicPr>
        <p:blipFill>
          <a:blip r:embed="rId1"/>
          <a:stretch/>
        </p:blipFill>
        <p:spPr>
          <a:xfrm>
            <a:off x="6553080" y="13716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d9GcTLYHyKoDjZzeGqfzbLoipxlJox5_KAqdHOAX11KyBpz1thEVv4"/>
          <p:cNvPicPr/>
          <p:nvPr/>
        </p:nvPicPr>
        <p:blipFill>
          <a:blip r:embed="rId2"/>
          <a:stretch/>
        </p:blipFill>
        <p:spPr>
          <a:xfrm>
            <a:off x="914400" y="1676520"/>
            <a:ext cx="34732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Qw9nYclTxRDii7FUG92whi2PVK1ztDJ4Tu6yWDJalnPNC6sLHeCw"/>
          <p:cNvPicPr/>
          <p:nvPr/>
        </p:nvPicPr>
        <p:blipFill>
          <a:blip r:embed="rId3"/>
          <a:stretch/>
        </p:blipFill>
        <p:spPr>
          <a:xfrm>
            <a:off x="5562720" y="4013280"/>
            <a:ext cx="2762280" cy="185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