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  <p:custShowLst>
    <p:custShow name="Aangepaste voorstelling 1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</p:sldLst>
    </p:custShow>
    <p:custShow name="Aangepaste voorstelling 2" id="1">
      <p:sldLst>
        <p:sld r:id="rId13"/>
        <p:sld r:id="rId12"/>
        <p:sld r:id="rId11"/>
        <p:sld r:id="rId10"/>
        <p:sld r:id="rId9"/>
        <p:sld r:id="rId8"/>
        <p:sld r:id="rId7"/>
        <p:sld r:id="rId6"/>
        <p:sld r:id="rId5"/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460-3932-4680-88CB-A917CE14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10C9-CC3F-4FA8-B0F0-34B41531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B64F-CDFD-4312-848F-4CE1CB8A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B4AB-66CD-4EEE-BED9-3A31466C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4B70-08D6-4E9A-A3B1-D09518EA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37E-E3A8-45F8-AD4D-BF9FC4EF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D01-69CD-48A8-8E34-C6A844E8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CE0D-43E0-48BF-88CE-C5B25B6D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4348-84C8-42FF-BEFC-40841E25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FB1-05FA-48A2-AF7C-F2EADBA3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30C-AB32-46DB-9176-0F4D09CB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FDF6-1347-4B26-B413-96A471E6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68C8-F937-4577-A6FF-1A4256005D6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0570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implant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i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arthenocissus tricuspidat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wing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3576600" y="2281320"/>
            <a:ext cx="199080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Wilder_Wein_(Parthenocissus_tricuspidata,_Green_Spring)_8_Juni_2003"/>
          <p:cNvPicPr/>
          <p:nvPr/>
        </p:nvPicPr>
        <p:blipFill>
          <a:blip r:embed="rId1"/>
          <a:stretch/>
        </p:blipFill>
        <p:spPr>
          <a:xfrm>
            <a:off x="6410160" y="1447920"/>
            <a:ext cx="1974960" cy="22860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parthenocissus_tricuspidata_veitchi_01"/>
          <p:cNvPicPr/>
          <p:nvPr/>
        </p:nvPicPr>
        <p:blipFill>
          <a:blip r:embed="rId2"/>
          <a:stretch/>
        </p:blipFill>
        <p:spPr>
          <a:xfrm>
            <a:off x="533520" y="1981080"/>
            <a:ext cx="3809880" cy="25448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4"/>
          <p:cNvSpPr/>
          <p:nvPr/>
        </p:nvSpPr>
        <p:spPr>
          <a:xfrm>
            <a:off x="3600360" y="2247840"/>
            <a:ext cx="1943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6" descr="ParthenocissusTricuspidataVeitchiiBostonIvy"/>
          <p:cNvPicPr/>
          <p:nvPr/>
        </p:nvPicPr>
        <p:blipFill>
          <a:blip r:embed="rId3"/>
          <a:stretch/>
        </p:blipFill>
        <p:spPr>
          <a:xfrm>
            <a:off x="6431040" y="4114800"/>
            <a:ext cx="1913040" cy="2324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ANd9GcRU5wel0vNVxaDEAbDtdAugj0dV5XE1v3LMYxRcQhTEgijvDdwQ"/>
          <p:cNvPicPr/>
          <p:nvPr/>
        </p:nvPicPr>
        <p:blipFill>
          <a:blip r:embed="rId4"/>
          <a:stretch/>
        </p:blipFill>
        <p:spPr>
          <a:xfrm>
            <a:off x="3429000" y="46483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isteria sinens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e r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3281400" y="2543040"/>
            <a:ext cx="25812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ANd9GcTXwZpO9_aH6jWtOv65gTpvkuV0skTtwp2SVs9q31bl9t6BW7Lm"/>
          <p:cNvPicPr/>
          <p:nvPr/>
        </p:nvPicPr>
        <p:blipFill>
          <a:blip r:embed="rId1"/>
          <a:stretch/>
        </p:blipFill>
        <p:spPr>
          <a:xfrm>
            <a:off x="914400" y="2514600"/>
            <a:ext cx="4038480" cy="2629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ANd9GcRkk0ObDqdOTjY3t7dpxcCGb54uZW72JPMhwe4Ig6gjVz7xahIw"/>
          <p:cNvPicPr/>
          <p:nvPr/>
        </p:nvPicPr>
        <p:blipFill>
          <a:blip r:embed="rId2"/>
          <a:stretch/>
        </p:blipFill>
        <p:spPr>
          <a:xfrm>
            <a:off x="5257800" y="39625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ANd9GcS_in9xwZT9Ba80-3gGUZSD-aeFTihaUu3M23KHfHJ0vwzrF19_"/>
          <p:cNvPicPr/>
          <p:nvPr/>
        </p:nvPicPr>
        <p:blipFill>
          <a:blip r:embed="rId3"/>
          <a:stretch/>
        </p:blipFill>
        <p:spPr>
          <a:xfrm>
            <a:off x="6172200" y="1295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lematis (Late grootbloemige groep) ‘Jackmanii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dru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5715000" y="3429000"/>
            <a:ext cx="2943360" cy="1909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clematis%20jackmanii"/>
          <p:cNvPicPr/>
          <p:nvPr/>
        </p:nvPicPr>
        <p:blipFill>
          <a:blip r:embed="rId2"/>
          <a:stretch/>
        </p:blipFill>
        <p:spPr>
          <a:xfrm>
            <a:off x="838080" y="2590920"/>
            <a:ext cx="461016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uyonymus fortunei ‘Variegatus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nte kardinaalsh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ANd9GcTq_pf0ZslhFebPaG5M4YEOc_1reaTeeUXfi0sI2_486QV1XDPoCA"/>
          <p:cNvPicPr/>
          <p:nvPr/>
        </p:nvPicPr>
        <p:blipFill>
          <a:blip r:embed="rId1"/>
          <a:stretch/>
        </p:blipFill>
        <p:spPr>
          <a:xfrm>
            <a:off x="2133720" y="2362320"/>
            <a:ext cx="5257800" cy="34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Fallopia baldschua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uidslu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original"/>
          <p:cNvPicPr/>
          <p:nvPr/>
        </p:nvPicPr>
        <p:blipFill>
          <a:blip r:embed="rId1"/>
          <a:stretch/>
        </p:blipFill>
        <p:spPr>
          <a:xfrm>
            <a:off x="685800" y="213372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8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Fallopia_baldschuanica"/>
          <p:cNvPicPr/>
          <p:nvPr/>
        </p:nvPicPr>
        <p:blipFill>
          <a:blip r:embed="rId2"/>
          <a:stretch/>
        </p:blipFill>
        <p:spPr>
          <a:xfrm>
            <a:off x="5638680" y="137160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2"/>
          <p:cNvSpPr/>
          <p:nvPr/>
        </p:nvSpPr>
        <p:spPr>
          <a:xfrm>
            <a:off x="3362400" y="2481120"/>
            <a:ext cx="24192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ANd9GcTuNtapSSzZfmsRu3ohIZV1uLu-ysNuEl48N_aoA9rGFWxak9Ik"/>
          <p:cNvPicPr/>
          <p:nvPr/>
        </p:nvPicPr>
        <p:blipFill>
          <a:blip r:embed="rId3"/>
          <a:stretch/>
        </p:blipFill>
        <p:spPr>
          <a:xfrm>
            <a:off x="5334120" y="4952880"/>
            <a:ext cx="2914560" cy="1571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Forsythia suspens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inees 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ANd9GcRCH66A1pPygfHllrWNBO_V4Q4ChL6k6N1vjktS0E0HMvUWAsjr"/>
          <p:cNvPicPr/>
          <p:nvPr/>
        </p:nvPicPr>
        <p:blipFill>
          <a:blip r:embed="rId1"/>
          <a:stretch/>
        </p:blipFill>
        <p:spPr>
          <a:xfrm>
            <a:off x="6172200" y="14479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Nd9GcRKCjy3SBrzoqmDDPjkFVcvQHw82eTfnR0j2axD-ezr26XLQBhNGw"/>
          <p:cNvPicPr/>
          <p:nvPr/>
        </p:nvPicPr>
        <p:blipFill>
          <a:blip r:embed="rId2"/>
          <a:stretch/>
        </p:blipFill>
        <p:spPr>
          <a:xfrm>
            <a:off x="56386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ANd9GcSQ-7lsW1gaNef6PsqDyuaSPs-5M46mtl-HmNvlfHSJT0ecV7nsaQ"/>
          <p:cNvPicPr/>
          <p:nvPr/>
        </p:nvPicPr>
        <p:blipFill>
          <a:blip r:embed="rId3"/>
          <a:stretch/>
        </p:blipFill>
        <p:spPr>
          <a:xfrm>
            <a:off x="914400" y="2286000"/>
            <a:ext cx="4572000" cy="3032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Hedera helix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klim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jcs-hedera-helix-24498"/>
          <p:cNvPicPr/>
          <p:nvPr/>
        </p:nvPicPr>
        <p:blipFill>
          <a:blip r:embed="rId1"/>
          <a:stretch/>
        </p:blipFill>
        <p:spPr>
          <a:xfrm>
            <a:off x="5181480" y="17524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Hedera%20Helix%20Hibernica%20a"/>
          <p:cNvPicPr/>
          <p:nvPr/>
        </p:nvPicPr>
        <p:blipFill>
          <a:blip r:embed="rId2"/>
          <a:stretch/>
        </p:blipFill>
        <p:spPr>
          <a:xfrm>
            <a:off x="914400" y="266688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2"/>
          <p:cNvSpPr/>
          <p:nvPr/>
        </p:nvSpPr>
        <p:spPr>
          <a:xfrm>
            <a:off x="3405240" y="2448000"/>
            <a:ext cx="2333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ANd9GcSy9vLtjJRGw7BOUZehPrhA5IPsi8aYD96EIG6D91ZxtT53j_faeA"/>
          <p:cNvPicPr/>
          <p:nvPr/>
        </p:nvPicPr>
        <p:blipFill>
          <a:blip r:embed="rId3"/>
          <a:stretch/>
        </p:blipFill>
        <p:spPr>
          <a:xfrm>
            <a:off x="5715000" y="4343400"/>
            <a:ext cx="269568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drangea anomala subsp. Petiola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imhorten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Nd9GcSyjaE-b-M0UPvSS5zfu6VdY_kbF8k5z7CZNq-Tsd2bDH55LlvfAw"/>
          <p:cNvPicPr/>
          <p:nvPr/>
        </p:nvPicPr>
        <p:blipFill>
          <a:blip r:embed="rId1"/>
          <a:stretch/>
        </p:blipFill>
        <p:spPr>
          <a:xfrm>
            <a:off x="5867280" y="4075200"/>
            <a:ext cx="2562480" cy="2154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ANd9GcQJhIVOpUzje8p7fWpXh3NvrbIylVoW9B2d112FzAdnss-bkv99"/>
          <p:cNvPicPr/>
          <p:nvPr/>
        </p:nvPicPr>
        <p:blipFill>
          <a:blip r:embed="rId2"/>
          <a:stretch/>
        </p:blipFill>
        <p:spPr>
          <a:xfrm>
            <a:off x="58672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ANd9GcTYVGezEJUuwCl3Hl_ixExtn5tQg_aqlakOqUHuXToJTCxJpCpw"/>
          <p:cNvPicPr/>
          <p:nvPr/>
        </p:nvPicPr>
        <p:blipFill>
          <a:blip r:embed="rId3"/>
          <a:stretch/>
        </p:blipFill>
        <p:spPr>
          <a:xfrm>
            <a:off x="914400" y="2133720"/>
            <a:ext cx="4572000" cy="3423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asminum nudiflor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jasm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ANd9GcQtoZZCn9O13aydGlRxi7E3mzhBYTraFQMcjrRdqRzw0QcOEY0_"/>
          <p:cNvPicPr/>
          <p:nvPr/>
        </p:nvPicPr>
        <p:blipFill>
          <a:blip r:embed="rId1"/>
          <a:stretch/>
        </p:blipFill>
        <p:spPr>
          <a:xfrm>
            <a:off x="6095880" y="4267080"/>
            <a:ext cx="2352960" cy="1943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ANd9GcRqi3_eX6H1gA7N8rmhM1gIsl4sx3GPmpL-2WrWyfwn09zKe8GK9g"/>
          <p:cNvPicPr/>
          <p:nvPr/>
        </p:nvPicPr>
        <p:blipFill>
          <a:blip r:embed="rId2"/>
          <a:stretch/>
        </p:blipFill>
        <p:spPr>
          <a:xfrm>
            <a:off x="838080" y="2286000"/>
            <a:ext cx="4496040" cy="3371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ANd9GcSmOWL_WCvJmsHFpS-E1TFXG0LPkmy4wkKHni4rDNKvCz9Ekt2C5Q"/>
          <p:cNvPicPr/>
          <p:nvPr/>
        </p:nvPicPr>
        <p:blipFill>
          <a:blip r:embed="rId3"/>
          <a:stretch/>
        </p:blipFill>
        <p:spPr>
          <a:xfrm>
            <a:off x="6019920" y="198108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nicera periclymen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mperfo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3433680" y="2424240"/>
            <a:ext cx="227664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ANd9GcRHngAFkyP8c0Ms68hy9WWZc963-wlKNVE_pmKK_qjoSLFz0zO1"/>
          <p:cNvPicPr/>
          <p:nvPr/>
        </p:nvPicPr>
        <p:blipFill>
          <a:blip r:embed="rId1"/>
          <a:stretch/>
        </p:blipFill>
        <p:spPr>
          <a:xfrm>
            <a:off x="6019920" y="198108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ANd9GcToA47J-tiuJl2acjgscm-ogQjhQPbCHc1FeOMaAuMD61isiT_k2A"/>
          <p:cNvPicPr/>
          <p:nvPr/>
        </p:nvPicPr>
        <p:blipFill>
          <a:blip r:embed="rId2"/>
          <a:stretch/>
        </p:blipFill>
        <p:spPr>
          <a:xfrm>
            <a:off x="3352680" y="3962520"/>
            <a:ext cx="2847960" cy="213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ANd9GcTPnMG0TuiZpVq2bYwzIbcO1-Z82Spfu0dbF92xYS5Zhxgm305Q"/>
          <p:cNvPicPr/>
          <p:nvPr/>
        </p:nvPicPr>
        <p:blipFill>
          <a:blip r:embed="rId3"/>
          <a:stretch/>
        </p:blipFill>
        <p:spPr>
          <a:xfrm>
            <a:off x="6553080" y="39625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ANd9GcQI8r90I8sgyJ-rsmF_fsxCVsUujgqaW-6Jh6tv7JsOV45yqT4t"/>
          <p:cNvPicPr/>
          <p:nvPr/>
        </p:nvPicPr>
        <p:blipFill>
          <a:blip r:embed="rId4"/>
          <a:stretch/>
        </p:blipFill>
        <p:spPr>
          <a:xfrm>
            <a:off x="304920" y="1981080"/>
            <a:ext cx="2757240" cy="4143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8:04:5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