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9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  <p:custShowLst>
    <p:custShow name="Aangepaste voorstelling 1" id="0">
      <p:sldLst>
        <p:sld r:id="rId4"/>
        <p:sld r:id="rId7"/>
        <p:sld r:id="rId10"/>
        <p:sld r:id="rId13"/>
        <p:sld r:id="rId16"/>
        <p:sld r:id="rId19"/>
        <p:sld r:id="rId22"/>
        <p:sld r:id="rId25"/>
        <p:sld r:id="rId28"/>
        <p:sld r:id="rId31"/>
      </p:sldLst>
    </p:custShow>
    <p:custShow name="Aangepaste voorstelling 2" id="1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29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DAA-BDC6-4C02-8DA7-A9493E74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D35-46FC-4898-85F3-3DCF2F58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7F3-CA75-4D5B-A9F7-D65EC6A4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3B4-25F3-45E8-986C-E9D22E32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028-0EB9-482F-9EF0-437C3E17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E65-E299-4B26-A6D4-03125A3C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1C9-752C-4BE6-8FB1-C71DD955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498-F8A5-4A1D-80A2-284AA4B5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CB2-F7CF-4EF2-8426-EFC975C3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451-60CB-45DA-A90E-590E9E42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614-35A7-4B01-A0A0-7A09308D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639-9EA5-4E51-902B-E49F2F97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831D-FCB1-4004-A1E8-718568370D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117.jpeg"/><Relationship Id="rId3" Type="http://schemas.openxmlformats.org/officeDocument/2006/relationships/image" Target="../media/image118.jpeg"/><Relationship Id="rId4" Type="http://schemas.openxmlformats.org/officeDocument/2006/relationships/image" Target="../media/image1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image" Target="../media/image124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image" Target="../media/image128.jpeg"/><Relationship Id="rId5" Type="http://schemas.openxmlformats.org/officeDocument/2006/relationships/image" Target="../media/image129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image" Target="../media/image131.jpeg"/><Relationship Id="rId3" Type="http://schemas.openxmlformats.org/officeDocument/2006/relationships/image" Target="../media/image132.jpeg"/><Relationship Id="rId4" Type="http://schemas.openxmlformats.org/officeDocument/2006/relationships/image" Target="../media/image13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4.jpeg"/><Relationship Id="rId2" Type="http://schemas.openxmlformats.org/officeDocument/2006/relationships/image" Target="../media/image135.jpeg"/><Relationship Id="rId3" Type="http://schemas.openxmlformats.org/officeDocument/2006/relationships/image" Target="../media/image136.jpeg"/><Relationship Id="rId4" Type="http://schemas.openxmlformats.org/officeDocument/2006/relationships/image" Target="../media/image137.jpeg"/><Relationship Id="rId5" Type="http://schemas.openxmlformats.org/officeDocument/2006/relationships/image" Target="../media/image13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image" Target="../media/image141.jpeg"/><Relationship Id="rId4" Type="http://schemas.openxmlformats.org/officeDocument/2006/relationships/image" Target="../media/image142.jpeg"/><Relationship Id="rId5" Type="http://schemas.openxmlformats.org/officeDocument/2006/relationships/image" Target="../media/image143.jpeg"/><Relationship Id="rId6" Type="http://schemas.openxmlformats.org/officeDocument/2006/relationships/image" Target="../media/image14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ierb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 ‘Fastigia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lvormige 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Nd9GcTrGiaQ7IcYfyITmGD3hBeqWPoGYBf8HrA6_S6M_dTeZlb0JN-VfQ"/>
          <p:cNvPicPr/>
          <p:nvPr/>
        </p:nvPicPr>
        <p:blipFill>
          <a:blip r:embed="rId1"/>
          <a:stretch/>
        </p:blipFill>
        <p:spPr>
          <a:xfrm>
            <a:off x="3733920" y="2286000"/>
            <a:ext cx="21682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Nd9GcSX5sC5ktnssg_STGdwSkHh0yzPCQQDoO0Rx2vn6RIhNz_8U-Hjmw"/>
          <p:cNvPicPr/>
          <p:nvPr/>
        </p:nvPicPr>
        <p:blipFill>
          <a:blip r:embed="rId2"/>
          <a:stretch/>
        </p:blipFill>
        <p:spPr>
          <a:xfrm>
            <a:off x="914400" y="1066680"/>
            <a:ext cx="155268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ANd9GcSy43SkAhgDoEJBl6NuR_2IXfO5uvBPcHBNk8pgOHOZrvCNPlNT"/>
          <p:cNvPicPr/>
          <p:nvPr/>
        </p:nvPicPr>
        <p:blipFill>
          <a:blip r:embed="rId3"/>
          <a:stretch/>
        </p:blipFill>
        <p:spPr>
          <a:xfrm>
            <a:off x="66294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QVgVnGtrGNeCx97O3624pobHsnaLK5H_dGujWbmiZqmdntwyNAmQ"/>
          <p:cNvPicPr/>
          <p:nvPr/>
        </p:nvPicPr>
        <p:blipFill>
          <a:blip r:embed="rId4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ttp://t2.gstatic.com/images?q=tbn:ANd9GcTLAqDcMQtSzNZl4FjeEvOkq3gifdlGwIBMwN4mNNIu_cqJ_LPf"/>
          <p:cNvPicPr/>
          <p:nvPr/>
        </p:nvPicPr>
        <p:blipFill>
          <a:blip r:embed="rId5"/>
          <a:stretch/>
        </p:blipFill>
        <p:spPr>
          <a:xfrm>
            <a:off x="1690560" y="3994200"/>
            <a:ext cx="1738440" cy="2317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talpa bigni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ompet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Nd9GcRnUmC2VDFcFZA8oZHjhGcOCELoMzUEWe7F7ttG87z43vVU6dGb"/>
          <p:cNvPicPr/>
          <p:nvPr/>
        </p:nvPicPr>
        <p:blipFill>
          <a:blip r:embed="rId1"/>
          <a:stretch/>
        </p:blipFill>
        <p:spPr>
          <a:xfrm>
            <a:off x="6858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RCfDq19nvKp9QFIWrNZ_t11z2JJ9Em846_C7j1VY6JjZrIa6K3dQ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LEeuApmRyLmyXbtw1FW8V3iPV7ww1pIQyfEbbnMEVKrvchGBj"/>
          <p:cNvPicPr/>
          <p:nvPr/>
        </p:nvPicPr>
        <p:blipFill>
          <a:blip r:embed="rId3"/>
          <a:stretch/>
        </p:blipFill>
        <p:spPr>
          <a:xfrm>
            <a:off x="762120" y="16765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R0010625"/>
          <p:cNvPicPr/>
          <p:nvPr/>
        </p:nvPicPr>
        <p:blipFill>
          <a:blip r:embed="rId4"/>
          <a:stretch/>
        </p:blipFill>
        <p:spPr>
          <a:xfrm>
            <a:off x="5943600" y="1523880"/>
            <a:ext cx="2467080" cy="1644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oto0776"/>
          <p:cNvPicPr/>
          <p:nvPr/>
        </p:nvPicPr>
        <p:blipFill>
          <a:blip r:embed="rId5"/>
          <a:stretch/>
        </p:blipFill>
        <p:spPr>
          <a:xfrm>
            <a:off x="6324480" y="358128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x media ‘Paul’s Scarle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633840" y="2209680"/>
            <a:ext cx="1876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rataegus%20x%20media%20%27PAUL%27S%20SCARLETT%27%20010000-000-20"/>
          <p:cNvPicPr/>
          <p:nvPr/>
        </p:nvPicPr>
        <p:blipFill>
          <a:blip r:embed="rId1"/>
          <a:stretch/>
        </p:blipFill>
        <p:spPr>
          <a:xfrm>
            <a:off x="685800" y="2133720"/>
            <a:ext cx="2595600" cy="33717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2505924770_2a098b1226"/>
          <p:cNvPicPr/>
          <p:nvPr/>
        </p:nvPicPr>
        <p:blipFill>
          <a:blip r:embed="rId2"/>
          <a:stretch/>
        </p:blipFill>
        <p:spPr>
          <a:xfrm>
            <a:off x="6172200" y="1752480"/>
            <a:ext cx="2610000" cy="173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ANd9GcQNwFvdVtKiofY8ayXWRiENGSXkpjoA5mrLTSH_C-vAaKO1ivha"/>
          <p:cNvPicPr/>
          <p:nvPr/>
        </p:nvPicPr>
        <p:blipFill>
          <a:blip r:embed="rId3"/>
          <a:stretch/>
        </p:blipFill>
        <p:spPr>
          <a:xfrm>
            <a:off x="3352680" y="2971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ANd9GcQEQ5XF5HvenUWm3qRwo_zG3E036PuYOokaJwd2H8yNgaBp29juCw"/>
          <p:cNvPicPr/>
          <p:nvPr/>
        </p:nvPicPr>
        <p:blipFill>
          <a:blip r:embed="rId4"/>
          <a:stretch/>
        </p:blipFill>
        <p:spPr>
          <a:xfrm>
            <a:off x="6324480" y="4267080"/>
            <a:ext cx="2286000" cy="163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 ‘Atropunic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ANd9GcTx3l5Vul2W_Vd2fz2EW2aL8OY_ACHE64uaQvGU-6JXePIhfJ7nZw"/>
          <p:cNvPicPr/>
          <p:nvPr/>
        </p:nvPicPr>
        <p:blipFill>
          <a:blip r:embed="rId1"/>
          <a:stretch/>
        </p:blipFill>
        <p:spPr>
          <a:xfrm>
            <a:off x="3581280" y="2362320"/>
            <a:ext cx="2262240" cy="275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Nd9GcSqVNjrtJKE3OM-dNLGHI43TWYCNyvDwFN2kh2aF-OSNEyMmZBd"/>
          <p:cNvPicPr/>
          <p:nvPr/>
        </p:nvPicPr>
        <p:blipFill>
          <a:blip r:embed="rId2"/>
          <a:stretch/>
        </p:blipFill>
        <p:spPr>
          <a:xfrm>
            <a:off x="990720" y="152388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CYyb-DZmYEsv7U9x9WN1sAjUqZ5KQoEB3Pr24FTt6vQj8K2NO"/>
          <p:cNvPicPr/>
          <p:nvPr/>
        </p:nvPicPr>
        <p:blipFill>
          <a:blip r:embed="rId3"/>
          <a:stretch/>
        </p:blipFill>
        <p:spPr>
          <a:xfrm>
            <a:off x="990720" y="365760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Ruz0giDNV6X9sOo8KeOi6HolaR_UGsMGVtLJ1M-aYwUDdVz4m_"/>
          <p:cNvPicPr/>
          <p:nvPr/>
        </p:nvPicPr>
        <p:blipFill>
          <a:blip r:embed="rId4"/>
          <a:stretch/>
        </p:blipFill>
        <p:spPr>
          <a:xfrm>
            <a:off x="609588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SAIjo1khMTseDHh8KItu5lYILIgBcPtAfsq1wPZEx9K8YbCEkx"/>
          <p:cNvPicPr/>
          <p:nvPr/>
        </p:nvPicPr>
        <p:blipFill>
          <a:blip r:embed="rId5"/>
          <a:stretch/>
        </p:blipFill>
        <p:spPr>
          <a:xfrm>
            <a:off x="67057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leditsia triancanth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christu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Nd9GcQDnNc-ZUNjgdUp6GrQ9IFHLBZhAlcEYvcEs_hE5hg3fB1vD6wxrw"/>
          <p:cNvPicPr/>
          <p:nvPr/>
        </p:nvPicPr>
        <p:blipFill>
          <a:blip r:embed="rId1"/>
          <a:stretch/>
        </p:blipFill>
        <p:spPr>
          <a:xfrm>
            <a:off x="3276720" y="1371600"/>
            <a:ext cx="2811240" cy="282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_8Yc6ZmqY6DtqSIq5UsuAyiUGXpV1YgR_Np6mYbEz3MuNnQkmrQ"/>
          <p:cNvPicPr/>
          <p:nvPr/>
        </p:nvPicPr>
        <p:blipFill>
          <a:blip r:embed="rId2"/>
          <a:stretch/>
        </p:blipFill>
        <p:spPr>
          <a:xfrm>
            <a:off x="6172200" y="4343400"/>
            <a:ext cx="2314440" cy="2004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SZqIpk-VjjIUgD8GGQdlzNxgIWW6_TVUOmNk74tskKoUtCQXu9"/>
          <p:cNvPicPr/>
          <p:nvPr/>
        </p:nvPicPr>
        <p:blipFill>
          <a:blip r:embed="rId3"/>
          <a:stretch/>
        </p:blipFill>
        <p:spPr>
          <a:xfrm>
            <a:off x="838080" y="1295280"/>
            <a:ext cx="2111400" cy="281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ANd9GcT0xKWVnklMLdCmY-ewYlODINuWKC_jtOZ0gOKY1Foe6G961247lA"/>
          <p:cNvPicPr/>
          <p:nvPr/>
        </p:nvPicPr>
        <p:blipFill>
          <a:blip r:embed="rId4"/>
          <a:stretch/>
        </p:blipFill>
        <p:spPr>
          <a:xfrm>
            <a:off x="838080" y="4419720"/>
            <a:ext cx="2343240" cy="194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ANd9GcT3M0BEg6bdnP8aNTOpLgFwqLb-JHvv5TjGM5U82O8pVve6U0mpSg"/>
          <p:cNvPicPr/>
          <p:nvPr/>
        </p:nvPicPr>
        <p:blipFill>
          <a:blip r:embed="rId5"/>
          <a:stretch/>
        </p:blipFill>
        <p:spPr>
          <a:xfrm>
            <a:off x="655308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ANd9GcT4YvflAjvXzPxD-ImX3NK8ZahoHJz3zyM1LO4_jTri795ICFDE3A"/>
          <p:cNvPicPr/>
          <p:nvPr/>
        </p:nvPicPr>
        <p:blipFill>
          <a:blip r:embed="rId6"/>
          <a:stretch/>
        </p:blipFill>
        <p:spPr>
          <a:xfrm>
            <a:off x="3505320" y="44956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glans reg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bFpZnMb5fb3tPJ1lf-s0IdMyHM7xxVJn3L4PFGGb7ibXtlsTbTQ"/>
          <p:cNvPicPr/>
          <p:nvPr/>
        </p:nvPicPr>
        <p:blipFill>
          <a:blip r:embed="rId1"/>
          <a:stretch/>
        </p:blipFill>
        <p:spPr>
          <a:xfrm>
            <a:off x="3505320" y="1371600"/>
            <a:ext cx="2222280" cy="280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TTdFtBam_qKM5v1at79Uil5_FqGFX1w8gjGJeQoFAYxV9nQnwo"/>
          <p:cNvPicPr/>
          <p:nvPr/>
        </p:nvPicPr>
        <p:blipFill>
          <a:blip r:embed="rId2"/>
          <a:stretch/>
        </p:blipFill>
        <p:spPr>
          <a:xfrm>
            <a:off x="144792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Swpha-0MyLDI81IWxmOPi9imXmLaa5ZzblvCdy1Baxi3LVJEyF_A"/>
          <p:cNvPicPr/>
          <p:nvPr/>
        </p:nvPicPr>
        <p:blipFill>
          <a:blip r:embed="rId3"/>
          <a:stretch/>
        </p:blipFill>
        <p:spPr>
          <a:xfrm>
            <a:off x="762120" y="39625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_ymFoMzdd1E-FhuQ-iS5oK54Rym8NDsoJ5VtPse9-jbLQIXqX25rjMbCkmg"/>
          <p:cNvPicPr/>
          <p:nvPr/>
        </p:nvPicPr>
        <p:blipFill>
          <a:blip r:embed="rId4"/>
          <a:stretch/>
        </p:blipFill>
        <p:spPr>
          <a:xfrm>
            <a:off x="3733920" y="4419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RYrCCfjyTA8RBGX-Tj6vSu7L7aJrdPAN8OszVvpnhmH-YUlJxA"/>
          <p:cNvPicPr/>
          <p:nvPr/>
        </p:nvPicPr>
        <p:blipFill>
          <a:blip r:embed="rId5"/>
          <a:stretch/>
        </p:blipFill>
        <p:spPr>
          <a:xfrm>
            <a:off x="6095880" y="38862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Nd9GcTrgT7ed-Y6qM9O_tgX8ybj3IQku_WFSPcwfKqTm7f_ONl8fpXU9g"/>
          <p:cNvPicPr/>
          <p:nvPr/>
        </p:nvPicPr>
        <p:blipFill>
          <a:blip r:embed="rId6"/>
          <a:stretch/>
        </p:blipFill>
        <p:spPr>
          <a:xfrm>
            <a:off x="6095880" y="11430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burnum x wateri ‘Vos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en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ANd9GcSJ5G570MdulxCfDYhF-oe7K-IYa6N9p4uU7PI9DeZ3epDUaOU"/>
          <p:cNvPicPr/>
          <p:nvPr/>
        </p:nvPicPr>
        <p:blipFill>
          <a:blip r:embed="rId1"/>
          <a:stretch/>
        </p:blipFill>
        <p:spPr>
          <a:xfrm>
            <a:off x="762120" y="3733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Nd9GcSTUH0CdW4HwZkeOivoFBjZ5nXEheSiU8yaHAC-XhNIyPNUmhHuKw"/>
          <p:cNvPicPr/>
          <p:nvPr/>
        </p:nvPicPr>
        <p:blipFill>
          <a:blip r:embed="rId2"/>
          <a:stretch/>
        </p:blipFill>
        <p:spPr>
          <a:xfrm>
            <a:off x="594360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ANd9GcSrJKVED_Xp1zNTfmmDTYOL-zPc_Ep-UZo23UdBLFw5Ds8Ip6D7uw"/>
          <p:cNvPicPr/>
          <p:nvPr/>
        </p:nvPicPr>
        <p:blipFill>
          <a:blip r:embed="rId3"/>
          <a:stretch/>
        </p:blipFill>
        <p:spPr>
          <a:xfrm>
            <a:off x="3200400" y="2819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ANd9GcRpjChEieJzzunx-Y2JejCZ4AT32X9HFT3615gJtXyRxbOSeKKT"/>
          <p:cNvPicPr/>
          <p:nvPr/>
        </p:nvPicPr>
        <p:blipFill>
          <a:blip r:embed="rId4"/>
          <a:stretch/>
        </p:blipFill>
        <p:spPr>
          <a:xfrm>
            <a:off x="5943600" y="4476600"/>
            <a:ext cx="2666880" cy="1733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ANd9GcSKNA7JtD9LD5WnjyQgh4JUkqQ5pT0PloUoxv0jFywpuO3Vhu1-fA"/>
          <p:cNvPicPr/>
          <p:nvPr/>
        </p:nvPicPr>
        <p:blipFill>
          <a:blip r:embed="rId5"/>
          <a:stretch/>
        </p:blipFill>
        <p:spPr>
          <a:xfrm>
            <a:off x="762120" y="1523880"/>
            <a:ext cx="2428920" cy="1886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l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SNjxt7CaFoGCBnktNL9nYxiQQSHb9PYg5gLV_JBoM7lRZpIxDJ4g"/>
          <p:cNvPicPr/>
          <p:nvPr/>
        </p:nvPicPr>
        <p:blipFill>
          <a:blip r:embed="rId1"/>
          <a:stretch/>
        </p:blipFill>
        <p:spPr>
          <a:xfrm>
            <a:off x="3429000" y="2514600"/>
            <a:ext cx="2295360" cy="1990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ANd9GcQp_WIOWGxqxQjG7RZdfPGENjs2BMlT90VENHgPVg7ifA9eCfwFIA"/>
          <p:cNvPicPr/>
          <p:nvPr/>
        </p:nvPicPr>
        <p:blipFill>
          <a:blip r:embed="rId2"/>
          <a:stretch/>
        </p:blipFill>
        <p:spPr>
          <a:xfrm>
            <a:off x="990720" y="3673440"/>
            <a:ext cx="1904760" cy="182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ANd9GcSLwmhUXckgWDb_MrFPV_U--ipq2omEYwVWuWrHVfT0wp2uCLLkmQ"/>
          <p:cNvPicPr/>
          <p:nvPr/>
        </p:nvPicPr>
        <p:blipFill>
          <a:blip r:embed="rId3"/>
          <a:stretch/>
        </p:blipFill>
        <p:spPr>
          <a:xfrm>
            <a:off x="6172200" y="14479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ANd9GcT58Bd43Iifrzzk4TUzSzLC2QDHpR08SHifbPLOAQfiRHJZINUIoQ"/>
          <p:cNvPicPr/>
          <p:nvPr/>
        </p:nvPicPr>
        <p:blipFill>
          <a:blip r:embed="rId4"/>
          <a:stretch/>
        </p:blipFill>
        <p:spPr>
          <a:xfrm>
            <a:off x="62485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Nd9GcQBuhW8Ttl_nKmQcQoUGbcqKx-m-Y3zLgfsX3LjTBfZhP7besJN"/>
          <p:cNvPicPr/>
          <p:nvPr/>
        </p:nvPicPr>
        <p:blipFill>
          <a:blip r:embed="rId5"/>
          <a:stretch/>
        </p:blipFill>
        <p:spPr>
          <a:xfrm>
            <a:off x="990720" y="1295280"/>
            <a:ext cx="204300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nus x hispida</a:t>
            </a:r>
            <a:br>
              <a:rPr sz="40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ANd9GcQjkf2O3LB8fyD74N8bVb_cnpjaLb5RnHxrZwghcRU9IcziFvdi"/>
          <p:cNvPicPr/>
          <p:nvPr/>
        </p:nvPicPr>
        <p:blipFill>
          <a:blip r:embed="rId1"/>
          <a:stretch/>
        </p:blipFill>
        <p:spPr>
          <a:xfrm>
            <a:off x="4038480" y="2438280"/>
            <a:ext cx="164952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RgyuL_ec9sYDprovUf7VYHs7c_YW1kN8LBR4uHW-OmVSnS9jex"/>
          <p:cNvPicPr/>
          <p:nvPr/>
        </p:nvPicPr>
        <p:blipFill>
          <a:blip r:embed="rId2"/>
          <a:stretch/>
        </p:blipFill>
        <p:spPr>
          <a:xfrm>
            <a:off x="64008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latanus_x_hispanica_1"/>
          <p:cNvPicPr/>
          <p:nvPr/>
        </p:nvPicPr>
        <p:blipFill>
          <a:blip r:embed="rId3"/>
          <a:stretch/>
        </p:blipFill>
        <p:spPr>
          <a:xfrm>
            <a:off x="762120" y="1523880"/>
            <a:ext cx="3076560" cy="205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nigra ‘Itali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ANd9GcQCUn9gCdYT3E3JM6i6zv61CYgKUWmNPoMD1DEI9Mh1VQoWX0vO"/>
          <p:cNvPicPr/>
          <p:nvPr/>
        </p:nvPicPr>
        <p:blipFill>
          <a:blip r:embed="rId1"/>
          <a:stretch/>
        </p:blipFill>
        <p:spPr>
          <a:xfrm>
            <a:off x="91440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TMlzyp6JIVjV_ceqZi9hY1YoQOG5bod1G-8PeGiVMuh3Emdlw0"/>
          <p:cNvPicPr/>
          <p:nvPr/>
        </p:nvPicPr>
        <p:blipFill>
          <a:blip r:embed="rId2"/>
          <a:stretch/>
        </p:blipFill>
        <p:spPr>
          <a:xfrm>
            <a:off x="6400800" y="3352680"/>
            <a:ext cx="1733400" cy="26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ANd9GcRgQBxJniHEhbZ5R0qqIBMHTW-6Joc1QNi7w448C6wY1b6kE5gIuQ"/>
          <p:cNvPicPr/>
          <p:nvPr/>
        </p:nvPicPr>
        <p:blipFill>
          <a:blip r:embed="rId3"/>
          <a:stretch/>
        </p:blipFill>
        <p:spPr>
          <a:xfrm>
            <a:off x="59436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Nd9GcStEXEiN3kwNl9IduperiAMWn5kZVlNtJfypAgXfGQFP5_YBZcy"/>
          <p:cNvPicPr/>
          <p:nvPr/>
        </p:nvPicPr>
        <p:blipFill>
          <a:blip r:embed="rId4"/>
          <a:stretch/>
        </p:blipFill>
        <p:spPr>
          <a:xfrm>
            <a:off x="3124080" y="205740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ANd9GcSGeM6R7GnnZ90qKo195Cawcy6DtB8vcDlPxmZfVxpxhGU7B0ny8A"/>
          <p:cNvPicPr/>
          <p:nvPr/>
        </p:nvPicPr>
        <p:blipFill>
          <a:blip r:embed="rId5"/>
          <a:stretch/>
        </p:blipFill>
        <p:spPr>
          <a:xfrm>
            <a:off x="91440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negundo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180px-Acer-negundo-total"/>
          <p:cNvPicPr/>
          <p:nvPr/>
        </p:nvPicPr>
        <p:blipFill>
          <a:blip r:embed="rId1"/>
          <a:stretch/>
        </p:blipFill>
        <p:spPr>
          <a:xfrm>
            <a:off x="2971800" y="2590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fEEnaanVzf2VWKL4RYE99HJpo6oVigv6i22zRNrN2Uf7opaUv"/>
          <p:cNvPicPr/>
          <p:nvPr/>
        </p:nvPicPr>
        <p:blipFill>
          <a:blip r:embed="rId2"/>
          <a:stretch/>
        </p:blipFill>
        <p:spPr>
          <a:xfrm>
            <a:off x="685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TbTLew35lQS3YL-nVYif0plb7xNRY1a-USMoxYX1pYlSeXeH-L"/>
          <p:cNvPicPr/>
          <p:nvPr/>
        </p:nvPicPr>
        <p:blipFill>
          <a:blip r:embed="rId3"/>
          <a:stretch/>
        </p:blipFill>
        <p:spPr>
          <a:xfrm>
            <a:off x="533520" y="13716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ANd9GcRQN-qjrOcc0SjASnJ8bhPdV9BmGKelCqyHNeEONVFJd9y1vkSy"/>
          <p:cNvPicPr/>
          <p:nvPr/>
        </p:nvPicPr>
        <p:blipFill>
          <a:blip r:embed="rId4"/>
          <a:stretch/>
        </p:blipFill>
        <p:spPr>
          <a:xfrm>
            <a:off x="6095880" y="11430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ANd9GcRph_5BIxJallShGnL2myFsTDDm5vKmKyPCFZv8AwcL4t_kn2bcSg"/>
          <p:cNvPicPr/>
          <p:nvPr/>
        </p:nvPicPr>
        <p:blipFill>
          <a:blip r:embed="rId5"/>
          <a:stretch/>
        </p:blipFill>
        <p:spPr>
          <a:xfrm>
            <a:off x="6934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cerasifera ‘Nigr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spru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ANd9GcRbgnpXKgaipZcZv5yoW42ayvB1MMZbe11ZEGwjEBhOLy1h-w61"/>
          <p:cNvPicPr/>
          <p:nvPr/>
        </p:nvPicPr>
        <p:blipFill>
          <a:blip r:embed="rId1"/>
          <a:stretch/>
        </p:blipFill>
        <p:spPr>
          <a:xfrm>
            <a:off x="3505320" y="2133720"/>
            <a:ext cx="21859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ANd9GcSK655LUfoz-Rx6ekQCiK59X4oFDlIOIBx5tVZCAiKWWb75QvTMsg"/>
          <p:cNvPicPr/>
          <p:nvPr/>
        </p:nvPicPr>
        <p:blipFill>
          <a:blip r:embed="rId2"/>
          <a:stretch/>
        </p:blipFill>
        <p:spPr>
          <a:xfrm>
            <a:off x="1143000" y="3429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ANd9GcSweTewWUWrlwRwfhejV0rSQ7xoPw5I8tmIpYFXgYMSW0-2yRGe"/>
          <p:cNvPicPr/>
          <p:nvPr/>
        </p:nvPicPr>
        <p:blipFill>
          <a:blip r:embed="rId3"/>
          <a:stretch/>
        </p:blipFill>
        <p:spPr>
          <a:xfrm>
            <a:off x="6324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ANd9GcTW9BQXLax-Ov5Nhd-0WLROgR6h70xm2gwNYLh7jKBpMDz8F4QJjg"/>
          <p:cNvPicPr/>
          <p:nvPr/>
        </p:nvPicPr>
        <p:blipFill>
          <a:blip r:embed="rId4"/>
          <a:stretch/>
        </p:blipFill>
        <p:spPr>
          <a:xfrm>
            <a:off x="5943600" y="114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ANd9GcTgTxNKjGKPVKJuli3LCjksbiutjkuIq7hnEnN1j94z0Swsg7pfVg"/>
          <p:cNvPicPr/>
          <p:nvPr/>
        </p:nvPicPr>
        <p:blipFill>
          <a:blip r:embed="rId5"/>
          <a:stretch/>
        </p:blipFill>
        <p:spPr>
          <a:xfrm>
            <a:off x="8380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rulata ‘Kanzan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s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ANd9GcTlsz5d9IDzCCzv4K6avzUqBPdq1FBWsOFUyded_37kVqGgYNzlhg"/>
          <p:cNvPicPr/>
          <p:nvPr/>
        </p:nvPicPr>
        <p:blipFill>
          <a:blip r:embed="rId1"/>
          <a:stretch/>
        </p:blipFill>
        <p:spPr>
          <a:xfrm>
            <a:off x="3581280" y="2514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Nd9GcQ8TnJ0boNDWdbrbQ1ksFukt47yBRDidBM-ncDEHFoxmJNc9O9E"/>
          <p:cNvPicPr/>
          <p:nvPr/>
        </p:nvPicPr>
        <p:blipFill>
          <a:blip r:embed="rId2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ANd9GcRoHRjwa52_ugfyxqUlYIy1A_l84m2Oi9qRSDK3k7hazAuNul2b"/>
          <p:cNvPicPr/>
          <p:nvPr/>
        </p:nvPicPr>
        <p:blipFill>
          <a:blip r:embed="rId3"/>
          <a:stretch/>
        </p:blipFill>
        <p:spPr>
          <a:xfrm>
            <a:off x="6400800" y="1295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ANd9GcT6B4CJ7c4XClaAcaPiInKXKw30gAM1kmMn8spo9KcM00QNCMI_dA"/>
          <p:cNvPicPr/>
          <p:nvPr/>
        </p:nvPicPr>
        <p:blipFill>
          <a:blip r:embed="rId4"/>
          <a:stretch/>
        </p:blipFill>
        <p:spPr>
          <a:xfrm>
            <a:off x="68580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ANd9GcSQHx7F769h6qboNjYU9GWaJ2-jyEHXUNoAV0incq5QeNLGL0EN"/>
          <p:cNvPicPr/>
          <p:nvPr/>
        </p:nvPicPr>
        <p:blipFill>
          <a:blip r:embed="rId5"/>
          <a:stretch/>
        </p:blipFill>
        <p:spPr>
          <a:xfrm>
            <a:off x="666756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us calleryana ‘Chanticle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ANd9GcQVK_VaIA55EnWSyK8FLiWQXLxvfFv_Cut2vhufUQeQ9F8xaLdR"/>
          <p:cNvPicPr/>
          <p:nvPr/>
        </p:nvPicPr>
        <p:blipFill>
          <a:blip r:embed="rId1"/>
          <a:stretch/>
        </p:blipFill>
        <p:spPr>
          <a:xfrm>
            <a:off x="2971800" y="1447920"/>
            <a:ext cx="17794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ANd9GcQ0dvMzmKc1j5tZ7QuA-0PddrEupg4wonYFTxesTOdO5Y_V7U9TpQ"/>
          <p:cNvPicPr/>
          <p:nvPr/>
        </p:nvPicPr>
        <p:blipFill>
          <a:blip r:embed="rId2"/>
          <a:stretch/>
        </p:blipFill>
        <p:spPr>
          <a:xfrm>
            <a:off x="4876920" y="3352680"/>
            <a:ext cx="1666800" cy="269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ANd9GcTnG3-bjekeQG2141PKdHVsRp5bh6a3Wl71Xfabhbd-Ix_kOkF4"/>
          <p:cNvPicPr/>
          <p:nvPr/>
        </p:nvPicPr>
        <p:blipFill>
          <a:blip r:embed="rId3"/>
          <a:stretch/>
        </p:blipFill>
        <p:spPr>
          <a:xfrm>
            <a:off x="990720" y="1523880"/>
            <a:ext cx="1725480" cy="2133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ANd9GcTvhRwPAMLaTDl-Na1MOA2cAZByGNNxtk1UU1u16X0uzhcRPrwC8Q"/>
          <p:cNvPicPr/>
          <p:nvPr/>
        </p:nvPicPr>
        <p:blipFill>
          <a:blip r:embed="rId4"/>
          <a:stretch/>
        </p:blipFill>
        <p:spPr>
          <a:xfrm>
            <a:off x="990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ANd9GcT69XbahGRJAuRQScO3z8gqPru-xhnMUhlwhiKZP5h4Fr2w2wNe"/>
          <p:cNvPicPr/>
          <p:nvPr/>
        </p:nvPicPr>
        <p:blipFill>
          <a:blip r:embed="rId5"/>
          <a:stretch/>
        </p:blipFill>
        <p:spPr>
          <a:xfrm>
            <a:off x="6858000" y="36576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ANd9GcSrRc_6GttxEY4_ZkSRg7cL4_4dgQPy5rrqVGVN4lzvlB5q5H7x"/>
          <p:cNvPicPr/>
          <p:nvPr/>
        </p:nvPicPr>
        <p:blipFill>
          <a:blip r:embed="rId6"/>
          <a:stretch/>
        </p:blipFill>
        <p:spPr>
          <a:xfrm>
            <a:off x="6858000" y="1066680"/>
            <a:ext cx="1895400" cy="2419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palust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ANd9GcR9pttQBSwMwBrViaBAqBwQcF1xRTBhVhm7aSSQZF-KURifYdQw"/>
          <p:cNvPicPr/>
          <p:nvPr/>
        </p:nvPicPr>
        <p:blipFill>
          <a:blip r:embed="rId1"/>
          <a:stretch/>
        </p:blipFill>
        <p:spPr>
          <a:xfrm>
            <a:off x="3666960" y="2166840"/>
            <a:ext cx="181008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ANd9GcSdK_ZhGFS62UyCmOMhIYG1Lw5E95_nGxdJe51We0hBVVZ9TLWwHg"/>
          <p:cNvPicPr/>
          <p:nvPr/>
        </p:nvPicPr>
        <p:blipFill>
          <a:blip r:embed="rId2"/>
          <a:stretch/>
        </p:blipFill>
        <p:spPr>
          <a:xfrm>
            <a:off x="9907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ANd9GcRmG4DdWLvvuBSFQ-KCndOeD7r_1zoK8mo24CNX7NIka1w2pirdxg"/>
          <p:cNvPicPr/>
          <p:nvPr/>
        </p:nvPicPr>
        <p:blipFill>
          <a:blip r:embed="rId3"/>
          <a:stretch/>
        </p:blipFill>
        <p:spPr>
          <a:xfrm>
            <a:off x="5791320" y="411480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ANd9GcR4PSTdfhXEMEq_1z55tA8O13tOi5helB2dDSRs10vz-TY6YRdU"/>
          <p:cNvPicPr/>
          <p:nvPr/>
        </p:nvPicPr>
        <p:blipFill>
          <a:blip r:embed="rId4"/>
          <a:stretch/>
        </p:blipFill>
        <p:spPr>
          <a:xfrm>
            <a:off x="99072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ANd9GcRmb8pENkU5nKccXi1JT3Tj67A6fukoOD37eqYYbENeCD_9SwMs"/>
          <p:cNvPicPr/>
          <p:nvPr/>
        </p:nvPicPr>
        <p:blipFill>
          <a:blip r:embed="rId5"/>
          <a:stretch/>
        </p:blipFill>
        <p:spPr>
          <a:xfrm>
            <a:off x="5638680" y="1371600"/>
            <a:ext cx="2581560" cy="17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ANd9GcRuXjduBJSoV5Rqv_3Jqc41-1vWrlNcPMjiNDCaYA-Gsi70Z82ABQ"/>
          <p:cNvPicPr/>
          <p:nvPr/>
        </p:nvPicPr>
        <p:blipFill>
          <a:blip r:embed="rId1"/>
          <a:stretch/>
        </p:blipFill>
        <p:spPr>
          <a:xfrm>
            <a:off x="11430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ANd9GcRVCSaiEkuaurqvMIHz97_WkH20Wo6SYb8lwR-C-FGRBQtjSnLBQg"/>
          <p:cNvPicPr/>
          <p:nvPr/>
        </p:nvPicPr>
        <p:blipFill>
          <a:blip r:embed="rId2"/>
          <a:stretch/>
        </p:blipFill>
        <p:spPr>
          <a:xfrm>
            <a:off x="1143000" y="38098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ANd9GcT03LDY6T2WcBeBGMdaVeIeEZIKfKbYrvkIeCyFYyTkIm_IOkdP"/>
          <p:cNvPicPr/>
          <p:nvPr/>
        </p:nvPicPr>
        <p:blipFill>
          <a:blip r:embed="rId3"/>
          <a:stretch/>
        </p:blipFill>
        <p:spPr>
          <a:xfrm>
            <a:off x="3809880" y="2666880"/>
            <a:ext cx="2051280" cy="221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ANd9GcTKV_RTapYIHsltiHtHYeVCJoIUHdAuger0Eaz9n-lf7YcJYMNn"/>
          <p:cNvPicPr/>
          <p:nvPr/>
        </p:nvPicPr>
        <p:blipFill>
          <a:blip r:embed="rId4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TyHVAaP0JymcVmVtnDDbPeQov9V4PUE8FrYMc1ipankvrmsjuE"/>
          <p:cNvPicPr/>
          <p:nvPr/>
        </p:nvPicPr>
        <p:blipFill>
          <a:blip r:embed="rId5"/>
          <a:stretch/>
        </p:blipFill>
        <p:spPr>
          <a:xfrm>
            <a:off x="678168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intermedia ‘Brouwer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edse 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ANd9GcRPvTbpw3qWLLz8wvXUq6ZI2teOZYXhEIyrLYqBC3Acjm6rpTOULg"/>
          <p:cNvPicPr/>
          <p:nvPr/>
        </p:nvPicPr>
        <p:blipFill>
          <a:blip r:embed="rId1"/>
          <a:stretch/>
        </p:blipFill>
        <p:spPr>
          <a:xfrm>
            <a:off x="1143000" y="1600200"/>
            <a:ext cx="2438280" cy="1795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RVJVUw_yLzRC1rc5RRCzG5-RJHAR1T7byn2MrDSig2y7zKlodYsg"/>
          <p:cNvPicPr/>
          <p:nvPr/>
        </p:nvPicPr>
        <p:blipFill>
          <a:blip r:embed="rId2"/>
          <a:stretch/>
        </p:blipFill>
        <p:spPr>
          <a:xfrm>
            <a:off x="6248520" y="1828800"/>
            <a:ext cx="2344680" cy="380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QstHpK_h4iNn6IANvZy2urkYrE8I-_psPqROzm_-YI5cylI_zaXQ"/>
          <p:cNvPicPr/>
          <p:nvPr/>
        </p:nvPicPr>
        <p:blipFill>
          <a:blip r:embed="rId3"/>
          <a:stretch/>
        </p:blipFill>
        <p:spPr>
          <a:xfrm>
            <a:off x="1219320" y="3886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ANd9GcSVxw3d_cZzt7RI7_RgiDWjTjRG4wWafEnhXC4mPyfPk7AvlQReiA"/>
          <p:cNvPicPr/>
          <p:nvPr/>
        </p:nvPicPr>
        <p:blipFill>
          <a:blip r:embed="rId4"/>
          <a:stretch/>
        </p:blipFill>
        <p:spPr>
          <a:xfrm>
            <a:off x="3886200" y="2514600"/>
            <a:ext cx="2217600" cy="27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x europa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ANd9GcSsVB-pSZrvEiF-6oJyyJPovVmp_Jc-WepbwZnXtj73mZf3vq2y"/>
          <p:cNvPicPr/>
          <p:nvPr/>
        </p:nvPicPr>
        <p:blipFill>
          <a:blip r:embed="rId1"/>
          <a:stretch/>
        </p:blipFill>
        <p:spPr>
          <a:xfrm>
            <a:off x="6858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ANd9GcTi_h373Wfv-3eS4i4tCnA-Muaia-_TLFo6VTdhmNqFczkAuqcq"/>
          <p:cNvPicPr/>
          <p:nvPr/>
        </p:nvPicPr>
        <p:blipFill>
          <a:blip r:embed="rId2"/>
          <a:stretch/>
        </p:blipFill>
        <p:spPr>
          <a:xfrm>
            <a:off x="3505320" y="205740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ANd9GcQY-a2xEdE3uA4-idlvOecry6bHOzK-bRCefQMVE8iphSFeGuSXZA"/>
          <p:cNvPicPr/>
          <p:nvPr/>
        </p:nvPicPr>
        <p:blipFill>
          <a:blip r:embed="rId3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ANd9GcQ3itKZQoN16wnn5Y932dPC13XfoQunV3JXCwc-wTsp60UlV0ITUw"/>
          <p:cNvPicPr/>
          <p:nvPr/>
        </p:nvPicPr>
        <p:blipFill>
          <a:blip r:embed="rId4"/>
          <a:stretch/>
        </p:blipFill>
        <p:spPr>
          <a:xfrm>
            <a:off x="632448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ANd9GcT_fBtvUtW7xQ58ZXBFqDP6YoOFNPaZcVDpqZw9vGbbsnWGPzpg"/>
          <p:cNvPicPr/>
          <p:nvPr/>
        </p:nvPicPr>
        <p:blipFill>
          <a:blip r:embed="rId5"/>
          <a:stretch/>
        </p:blipFill>
        <p:spPr>
          <a:xfrm>
            <a:off x="6934320" y="33526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tomentosa ‘Brab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lv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ANd9GcQ7onT6ulxZTtVwE4-a6a2dZ6v4m5znaLknSqVOJLzp5-1u8VAyuA"/>
          <p:cNvPicPr/>
          <p:nvPr/>
        </p:nvPicPr>
        <p:blipFill>
          <a:blip r:embed="rId1"/>
          <a:stretch/>
        </p:blipFill>
        <p:spPr>
          <a:xfrm>
            <a:off x="3581280" y="2133720"/>
            <a:ext cx="2122560" cy="2833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ANd9GcSv3jBmDCl0LazwZJG5hXsC05Dr8y1tyMf72LKSJWcCacW-aLg2CQ"/>
          <p:cNvPicPr/>
          <p:nvPr/>
        </p:nvPicPr>
        <p:blipFill>
          <a:blip r:embed="rId2"/>
          <a:stretch/>
        </p:blipFill>
        <p:spPr>
          <a:xfrm>
            <a:off x="990720" y="1371600"/>
            <a:ext cx="2286000" cy="171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ANd9GcQc2Y9-lgt9tsnxrqDBA22qpqLc6GODaaDVQZaXz5r3EfyF5d_d"/>
          <p:cNvPicPr/>
          <p:nvPr/>
        </p:nvPicPr>
        <p:blipFill>
          <a:blip r:embed="rId3"/>
          <a:stretch/>
        </p:blipFill>
        <p:spPr>
          <a:xfrm>
            <a:off x="1066680" y="396252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ANd9GcQAKgTYJvoLglB51JpiNGLcHfeK497tcY4OTeCDTpSoXN54H3j_VA"/>
          <p:cNvPicPr/>
          <p:nvPr/>
        </p:nvPicPr>
        <p:blipFill>
          <a:blip r:embed="rId4"/>
          <a:stretch/>
        </p:blipFill>
        <p:spPr>
          <a:xfrm>
            <a:off x="6781680" y="3733920"/>
            <a:ext cx="1339920" cy="2009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ANd9GcSxyDtwQ_e60XVIn40fDdj_QngkKPt8mchblZrNEkAaWsjFmNzi"/>
          <p:cNvPicPr/>
          <p:nvPr/>
        </p:nvPicPr>
        <p:blipFill>
          <a:blip r:embed="rId5"/>
          <a:stretch/>
        </p:blipFill>
        <p:spPr>
          <a:xfrm>
            <a:off x="5943600" y="12952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Groenevel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ANd9GcRH3QeMRjrECRskEnU7PK-FkuYWpmxwDOFMkO6iF09E-UR1SQfC"/>
          <p:cNvPicPr/>
          <p:nvPr/>
        </p:nvPicPr>
        <p:blipFill>
          <a:blip r:embed="rId1"/>
          <a:stretch/>
        </p:blipFill>
        <p:spPr>
          <a:xfrm>
            <a:off x="3733920" y="2209680"/>
            <a:ext cx="2077920" cy="2766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ANd9GcStqE6_IW2hZYRf_mwdmqyicSDvVfFZmkSEqRQqQa5vgu8Dpe58"/>
          <p:cNvPicPr/>
          <p:nvPr/>
        </p:nvPicPr>
        <p:blipFill>
          <a:blip r:embed="rId2"/>
          <a:stretch/>
        </p:blipFill>
        <p:spPr>
          <a:xfrm>
            <a:off x="1219320" y="1219320"/>
            <a:ext cx="1809720" cy="253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ANd9GcSb12WBpmJPcBjS9iUu1iSynDAYsoOkGdPKJErZtz0O4pGsv6Zo"/>
          <p:cNvPicPr/>
          <p:nvPr/>
        </p:nvPicPr>
        <p:blipFill>
          <a:blip r:embed="rId3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ANd9GcSd28n5BRTFzXMQmkE4KkGb6QOecEfkJnQQuGjY7u04ApaYEFwN"/>
          <p:cNvPicPr/>
          <p:nvPr/>
        </p:nvPicPr>
        <p:blipFill>
          <a:blip r:embed="rId4"/>
          <a:stretch/>
        </p:blipFill>
        <p:spPr>
          <a:xfrm>
            <a:off x="121932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Wrede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ANd9GcRdS3CQG64GQsK-xHgWzPHZ6bKHzBRBkQNvfN8OFUcI0OPiGTr0OQ"/>
          <p:cNvPicPr/>
          <p:nvPr/>
        </p:nvPicPr>
        <p:blipFill>
          <a:blip r:embed="rId1"/>
          <a:stretch/>
        </p:blipFill>
        <p:spPr>
          <a:xfrm>
            <a:off x="3352680" y="1523880"/>
            <a:ext cx="274032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ANd9GcSZBvagurCEP1C8_ZZ4bK18DEiCHMc4w5VDRVyJd2kBqVZG-z9qFw"/>
          <p:cNvPicPr/>
          <p:nvPr/>
        </p:nvPicPr>
        <p:blipFill>
          <a:blip r:embed="rId2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ANd9GcQ7nGssszS8FNVm9HrJofiuLEucoT4cwtkHRufC86tLt1i7hXClzQ"/>
          <p:cNvPicPr/>
          <p:nvPr/>
        </p:nvPicPr>
        <p:blipFill>
          <a:blip r:embed="rId3"/>
          <a:stretch/>
        </p:blipFill>
        <p:spPr>
          <a:xfrm>
            <a:off x="762120" y="106668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ANd9GcQKNgHT_fZ9REueHMlZj2VpjRT7wn1pBO6yqELdt4L3VFo8oUV4"/>
          <p:cNvPicPr/>
          <p:nvPr/>
        </p:nvPicPr>
        <p:blipFill>
          <a:blip r:embed="rId4"/>
          <a:stretch/>
        </p:blipFill>
        <p:spPr>
          <a:xfrm>
            <a:off x="838080" y="396252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ANd9GcQlhhof4z0SpCmWgbP9EUmodN4eSCA4BLmjASjhSYdN3UcDOBAz"/>
          <p:cNvPicPr/>
          <p:nvPr/>
        </p:nvPicPr>
        <p:blipFill>
          <a:blip r:embed="rId5"/>
          <a:stretch/>
        </p:blipFill>
        <p:spPr>
          <a:xfrm>
            <a:off x="6629400" y="914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tanoides ‘Globosum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esdoorn; bol-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ANd9GcTmNVnVM_FsmuzJ7vngCnGujVkoa8EeuN36BYQangV3NhZokzKCaw"/>
          <p:cNvPicPr/>
          <p:nvPr/>
        </p:nvPicPr>
        <p:blipFill>
          <a:blip r:embed="rId1"/>
          <a:stretch/>
        </p:blipFill>
        <p:spPr>
          <a:xfrm>
            <a:off x="3657600" y="1600200"/>
            <a:ext cx="2322360" cy="28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4aX0pndivVtX1sCo2t7iM1CBUGzbyialMhpV4TdnD3s2TK_vfTw"/>
          <p:cNvPicPr/>
          <p:nvPr/>
        </p:nvPicPr>
        <p:blipFill>
          <a:blip r:embed="rId2"/>
          <a:stretch/>
        </p:blipFill>
        <p:spPr>
          <a:xfrm>
            <a:off x="838080" y="16765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ANd9GcRfFkbNrMQ0jV-aAsUy1ngJKX0OnJH09CEodWm4uL8POMmzrmrp"/>
          <p:cNvPicPr/>
          <p:nvPr/>
        </p:nvPicPr>
        <p:blipFill>
          <a:blip r:embed="rId3"/>
          <a:stretch/>
        </p:blipFill>
        <p:spPr>
          <a:xfrm>
            <a:off x="838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Nd9GcSyGIMn2KiBlrRx6HDV4ElA0V0Nsg_njI33qt8y3-vG9wl6gchj9A"/>
          <p:cNvPicPr/>
          <p:nvPr/>
        </p:nvPicPr>
        <p:blipFill>
          <a:blip r:embed="rId4"/>
          <a:stretch/>
        </p:blipFill>
        <p:spPr>
          <a:xfrm>
            <a:off x="6324480" y="1600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ANd9GcQw_ilJBzq6PXkAAMvumvu2ggqd9uWReqUFZ5trMBwPQkmsnXEu"/>
          <p:cNvPicPr/>
          <p:nvPr/>
        </p:nvPicPr>
        <p:blipFill>
          <a:blip r:embed="rId5"/>
          <a:stretch/>
        </p:blipFill>
        <p:spPr>
          <a:xfrm>
            <a:off x="7086600" y="3809880"/>
            <a:ext cx="125892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ANd9GcQ5fHxEhJmp6M0MSlNVYyw5zp7HpgFgQj-u1_ipUjwgxcqUV--RZw"/>
          <p:cNvPicPr/>
          <p:nvPr/>
        </p:nvPicPr>
        <p:blipFill>
          <a:blip r:embed="rId6"/>
          <a:stretch/>
        </p:blipFill>
        <p:spPr>
          <a:xfrm>
            <a:off x="3505320" y="4648320"/>
            <a:ext cx="3009960" cy="1523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glabra ‘Camperdown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ëel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Ulmus%20glabra%20%27Camperdownii%27%20SW05"/>
          <p:cNvPicPr/>
          <p:nvPr/>
        </p:nvPicPr>
        <p:blipFill>
          <a:blip r:embed="rId1"/>
          <a:stretch/>
        </p:blipFill>
        <p:spPr>
          <a:xfrm>
            <a:off x="2590920" y="14479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4086360" y="2895480"/>
            <a:ext cx="971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campleaf"/>
          <p:cNvPicPr/>
          <p:nvPr/>
        </p:nvPicPr>
        <p:blipFill>
          <a:blip r:embed="rId2"/>
          <a:stretch/>
        </p:blipFill>
        <p:spPr>
          <a:xfrm>
            <a:off x="533520" y="990720"/>
            <a:ext cx="200664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ANd9GcRAi9t6SYoGJdVwx1iXP4WCQbiKY3wfF4LUmXekSZzSiouIMPyB"/>
          <p:cNvPicPr/>
          <p:nvPr/>
        </p:nvPicPr>
        <p:blipFill>
          <a:blip r:embed="rId3"/>
          <a:stretch/>
        </p:blipFill>
        <p:spPr>
          <a:xfrm>
            <a:off x="3049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ANd9GcRRh6BE2SMBhvhX5PbNRCpvZDoBQGEXD5hYfr3xSXVR_yRthm2E2A"/>
          <p:cNvPicPr/>
          <p:nvPr/>
        </p:nvPicPr>
        <p:blipFill>
          <a:blip r:embed="rId4"/>
          <a:stretch/>
        </p:blipFill>
        <p:spPr>
          <a:xfrm>
            <a:off x="6324480" y="106668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ANd9GcSNXr-4a7LD2iQq1qMi_ExfcozYx2zR9YQfTSVz8AZvEwoJwfh8FQ"/>
          <p:cNvPicPr/>
          <p:nvPr/>
        </p:nvPicPr>
        <p:blipFill>
          <a:blip r:embed="rId5"/>
          <a:stretch/>
        </p:blipFill>
        <p:spPr>
          <a:xfrm>
            <a:off x="6934320" y="32767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ANd9GcSWI0d_3_u8Zujc75cR5A37-3zKcm60A-l06Lcpqme2AfenL3U2jQ"/>
          <p:cNvPicPr/>
          <p:nvPr/>
        </p:nvPicPr>
        <p:blipFill>
          <a:blip r:embed="rId6"/>
          <a:stretch/>
        </p:blipFill>
        <p:spPr>
          <a:xfrm>
            <a:off x="3352680" y="4114800"/>
            <a:ext cx="2667240" cy="1714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saccharinum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tte esdo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QtmnG3Bqge5drpr7kjFIkH0OvbPBolzixZLNd-W8uXL4WEcGNR"/>
          <p:cNvPicPr/>
          <p:nvPr/>
        </p:nvPicPr>
        <p:blipFill>
          <a:blip r:embed="rId1"/>
          <a:stretch/>
        </p:blipFill>
        <p:spPr>
          <a:xfrm>
            <a:off x="838080" y="152388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Go1w1Sh0ZOTpz1GacEpUgwYMz5c7lig2ozqu7KmC7ZOmI7SQ"/>
          <p:cNvPicPr/>
          <p:nvPr/>
        </p:nvPicPr>
        <p:blipFill>
          <a:blip r:embed="rId2"/>
          <a:stretch/>
        </p:blipFill>
        <p:spPr>
          <a:xfrm>
            <a:off x="3733920" y="21337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TJg9gSXYOtojK33FLYiSaMtMlqdOfijSz4t4rB1IxTeVLhQ6UY"/>
          <p:cNvPicPr/>
          <p:nvPr/>
        </p:nvPicPr>
        <p:blipFill>
          <a:blip r:embed="rId3"/>
          <a:stretch/>
        </p:blipFill>
        <p:spPr>
          <a:xfrm>
            <a:off x="83808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ANd9GcRm2KQmwYKZnd4wFBWV2KusZAtt-GUK0egP6Y8xHjeCdNjvxQUy"/>
          <p:cNvPicPr/>
          <p:nvPr/>
        </p:nvPicPr>
        <p:blipFill>
          <a:blip r:embed="rId4"/>
          <a:stretch/>
        </p:blipFill>
        <p:spPr>
          <a:xfrm>
            <a:off x="6400800" y="32767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x carn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ANd9GcQgdLE2JSt822jcTtldWj-k7mbRGo58g7TQnfffogrtFobekJbH"/>
          <p:cNvPicPr/>
          <p:nvPr/>
        </p:nvPicPr>
        <p:blipFill>
          <a:blip r:embed="rId1"/>
          <a:stretch/>
        </p:blipFill>
        <p:spPr>
          <a:xfrm>
            <a:off x="3581280" y="1981080"/>
            <a:ext cx="268308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RN5y4RoDmjlDxVOb0glq0Wu3pkfC7KD0K017lGWkUKQ-_6nCJYSg"/>
          <p:cNvPicPr/>
          <p:nvPr/>
        </p:nvPicPr>
        <p:blipFill>
          <a:blip r:embed="rId2"/>
          <a:stretch/>
        </p:blipFill>
        <p:spPr>
          <a:xfrm>
            <a:off x="1447920" y="14479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4"/>
          <p:cNvSpPr/>
          <p:nvPr/>
        </p:nvSpPr>
        <p:spPr>
          <a:xfrm>
            <a:off x="4000680" y="3005280"/>
            <a:ext cx="1143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ANd9GcQ0FqVOHxIcNW8iskQjIz8aqLe7-NyYYLt2pAGnBr0h5GjY6OZf3Q"/>
          <p:cNvPicPr/>
          <p:nvPr/>
        </p:nvPicPr>
        <p:blipFill>
          <a:blip r:embed="rId3"/>
          <a:stretch/>
        </p:blipFill>
        <p:spPr>
          <a:xfrm>
            <a:off x="6629400" y="13716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ANd9GcTgqmIWh1MONB7ZcFtBQaheRHve8o4V5-R4Lm4KR75nLKB1bIEH"/>
          <p:cNvPicPr/>
          <p:nvPr/>
        </p:nvPicPr>
        <p:blipFill>
          <a:blip r:embed="rId4"/>
          <a:stretch/>
        </p:blipFill>
        <p:spPr>
          <a:xfrm>
            <a:off x="1523880" y="4191120"/>
            <a:ext cx="148932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Nd9GcSw3EVJGg8RJ7DA4UdqCDqYEBCh-GTSQYEH6wpWa8Xh-zombaia5g"/>
          <p:cNvPicPr/>
          <p:nvPr/>
        </p:nvPicPr>
        <p:blipFill>
          <a:blip r:embed="rId5"/>
          <a:stretch/>
        </p:blipFill>
        <p:spPr>
          <a:xfrm>
            <a:off x="6019920" y="4775040"/>
            <a:ext cx="2543040" cy="1692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hippocasta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aehi--lf29702"/>
          <p:cNvPicPr/>
          <p:nvPr/>
        </p:nvPicPr>
        <p:blipFill>
          <a:blip r:embed="rId1"/>
          <a:stretch/>
        </p:blipFill>
        <p:spPr>
          <a:xfrm>
            <a:off x="914400" y="14479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ANd9GcRXfXLoWcKcALH8LC6ufKJSEi6FpVbmqPpTz3QzjqnPvSTmRpnAMQ"/>
          <p:cNvPicPr/>
          <p:nvPr/>
        </p:nvPicPr>
        <p:blipFill>
          <a:blip r:embed="rId2"/>
          <a:stretch/>
        </p:blipFill>
        <p:spPr>
          <a:xfrm>
            <a:off x="91440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Nd9GcSoj-8HET2oRtHHzNz5dcFl9wqF5d3yyJDel8qoWdErTV3bZVWZ"/>
          <p:cNvPicPr/>
          <p:nvPr/>
        </p:nvPicPr>
        <p:blipFill>
          <a:blip r:embed="rId3"/>
          <a:stretch/>
        </p:blipFill>
        <p:spPr>
          <a:xfrm>
            <a:off x="3886200" y="3886200"/>
            <a:ext cx="1819440" cy="250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ANd9GcSQHs3tD_6dBVQKwhwowqmDcGgnKe6hjdnqbp7ZtqF3t0YFkY7H"/>
          <p:cNvPicPr/>
          <p:nvPr/>
        </p:nvPicPr>
        <p:blipFill>
          <a:blip r:embed="rId4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ANd9GcTI6Us_Ni49GJn_vLnEnmMtqL4v01pYZUWH51Lsmop9qQuBsYMv"/>
          <p:cNvPicPr/>
          <p:nvPr/>
        </p:nvPicPr>
        <p:blipFill>
          <a:blip r:embed="rId5"/>
          <a:stretch/>
        </p:blipFill>
        <p:spPr>
          <a:xfrm>
            <a:off x="60958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ANd9GcSd1kbumZg0kWns3EDn3JS670vIml7tww_6ZloYSHXyQsQBYJScxQ"/>
          <p:cNvPicPr/>
          <p:nvPr/>
        </p:nvPicPr>
        <p:blipFill>
          <a:blip r:embed="rId6"/>
          <a:stretch/>
        </p:blipFill>
        <p:spPr>
          <a:xfrm>
            <a:off x="358128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6387-Alnus-cordata"/>
          <p:cNvPicPr/>
          <p:nvPr/>
        </p:nvPicPr>
        <p:blipFill>
          <a:blip r:embed="rId1"/>
          <a:stretch/>
        </p:blipFill>
        <p:spPr>
          <a:xfrm>
            <a:off x="762120" y="14479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Hartbladige_els__Alnus_cordata__Italian_Alder@img_2103blad"/>
          <p:cNvPicPr/>
          <p:nvPr/>
        </p:nvPicPr>
        <p:blipFill>
          <a:blip r:embed="rId2"/>
          <a:stretch/>
        </p:blipFill>
        <p:spPr>
          <a:xfrm>
            <a:off x="762120" y="3581280"/>
            <a:ext cx="2166840" cy="2895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4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993-Alnus-cordata"/>
          <p:cNvPicPr/>
          <p:nvPr/>
        </p:nvPicPr>
        <p:blipFill>
          <a:blip r:embed="rId3"/>
          <a:stretch/>
        </p:blipFill>
        <p:spPr>
          <a:xfrm>
            <a:off x="4572000" y="4038480"/>
            <a:ext cx="3581280" cy="238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ANd9GcS4438qhEHLJF01kk0hi0NbK7ATLhwJnasZYvdiG-E2wzqG9xsf"/>
          <p:cNvPicPr/>
          <p:nvPr/>
        </p:nvPicPr>
        <p:blipFill>
          <a:blip r:embed="rId4"/>
          <a:stretch/>
        </p:blipFill>
        <p:spPr>
          <a:xfrm>
            <a:off x="61722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Trist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ur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Nd9GcRAZ7GYH_dunv3RQlYca_2hfItWfQbADPSM1M0RoXGVylcxUklc"/>
          <p:cNvPicPr/>
          <p:nvPr/>
        </p:nvPicPr>
        <p:blipFill>
          <a:blip r:embed="rId1"/>
          <a:stretch/>
        </p:blipFill>
        <p:spPr>
          <a:xfrm>
            <a:off x="8380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d9GcSiL0vg-8YNy__k431NmwYGta7q_tyWI-mgqqvEn843qq8jS7vxQw"/>
          <p:cNvPicPr/>
          <p:nvPr/>
        </p:nvPicPr>
        <p:blipFill>
          <a:blip r:embed="rId2"/>
          <a:stretch/>
        </p:blipFill>
        <p:spPr>
          <a:xfrm>
            <a:off x="83808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QgBJSRt131ikXKjkMp0U1ytUFFlWZ_YVVEncELqmWLgnSvL_-KRw"/>
          <p:cNvPicPr/>
          <p:nvPr/>
        </p:nvPicPr>
        <p:blipFill>
          <a:blip r:embed="rId3"/>
          <a:stretch/>
        </p:blipFill>
        <p:spPr>
          <a:xfrm>
            <a:off x="3581280" y="3505320"/>
            <a:ext cx="160524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C70n4Ai_SVso_StEWuhpytY9jpLMBOJ1-lH35YPxuZaB6t9Bw"/>
          <p:cNvPicPr/>
          <p:nvPr/>
        </p:nvPicPr>
        <p:blipFill>
          <a:blip r:embed="rId4"/>
          <a:stretch/>
        </p:blipFill>
        <p:spPr>
          <a:xfrm>
            <a:off x="5334120" y="1371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QoA4cbm14vNoQ3AwshMAu_fC64sYCFD0iILy-RmAcTxdWSA5pSlg"/>
          <p:cNvPicPr/>
          <p:nvPr/>
        </p:nvPicPr>
        <p:blipFill>
          <a:blip r:embed="rId5"/>
          <a:stretch/>
        </p:blipFill>
        <p:spPr>
          <a:xfrm>
            <a:off x="6019920" y="4094280"/>
            <a:ext cx="2143080" cy="1611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Youngii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eël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Betula%20pendula%20Youngii"/>
          <p:cNvPicPr/>
          <p:nvPr/>
        </p:nvPicPr>
        <p:blipFill>
          <a:blip r:embed="rId1"/>
          <a:stretch/>
        </p:blipFill>
        <p:spPr>
          <a:xfrm>
            <a:off x="2895480" y="2514600"/>
            <a:ext cx="3619800" cy="241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d9GcQeuBIwZg0bsa0AtIZf260wZjyNNxmjBB4U_NUib2MUUqim-Lsn4w"/>
          <p:cNvPicPr/>
          <p:nvPr/>
        </p:nvPicPr>
        <p:blipFill>
          <a:blip r:embed="rId2"/>
          <a:stretch/>
        </p:blipFill>
        <p:spPr>
          <a:xfrm>
            <a:off x="662940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ANd9GcQOlatzFas_LYdLGGyMw8DZ0yxcCVJYLp6AANGDQTXePYZvCwkriQ"/>
          <p:cNvPicPr/>
          <p:nvPr/>
        </p:nvPicPr>
        <p:blipFill>
          <a:blip r:embed="rId3"/>
          <a:stretch/>
        </p:blipFill>
        <p:spPr>
          <a:xfrm>
            <a:off x="838080" y="1219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ANd9GcSPCOTCb1onpg65Hsg5oF2zEJeA9wL9wpZDHoFqp-ylAtzB992j"/>
          <p:cNvPicPr/>
          <p:nvPr/>
        </p:nvPicPr>
        <p:blipFill>
          <a:blip r:embed="rId4"/>
          <a:stretch/>
        </p:blipFill>
        <p:spPr>
          <a:xfrm>
            <a:off x="66294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ANd9GcQtyhkit3dKEfyKCSHuPyub45-d12NHkA8RU9RbeS0cbe1V-ZZpQw"/>
          <p:cNvPicPr/>
          <p:nvPr/>
        </p:nvPicPr>
        <p:blipFill>
          <a:blip r:embed="rId5"/>
          <a:stretch/>
        </p:blipFill>
        <p:spPr>
          <a:xfrm>
            <a:off x="838080" y="3809880"/>
            <a:ext cx="201960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ke Posthumus</cp:lastModifiedBy>
  <dcterms:modified xsi:type="dcterms:W3CDTF">2012-11-14T12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