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37.jpeg" ContentType="image/jpeg"/>
  <Override PartName="/ppt/media/image3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65.jpeg" ContentType="image/jpeg"/>
  <Override PartName="/ppt/media/image62.jpeg" ContentType="image/jpeg"/>
  <Override PartName="/ppt/media/image79.jpeg" ContentType="image/jpeg"/>
  <Override PartName="/ppt/media/image68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69.jpeg" ContentType="image/jpeg"/>
  <Override PartName="/ppt/media/image114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67.jpeg" ContentType="image/jpeg"/>
  <Override PartName="/ppt/media/image92.jpeg" ContentType="image/jpeg"/>
  <Override PartName="/ppt/media/image112.jpeg" ContentType="image/jpeg"/>
  <Override PartName="/ppt/media/image95.jpeg" ContentType="image/jpeg"/>
  <Override PartName="/ppt/media/image96.jpeg" ContentType="image/jpeg"/>
  <Override PartName="/ppt/media/image110.png" ContentType="image/png"/>
  <Override PartName="/ppt/media/image66.jpeg" ContentType="image/jpeg"/>
  <Override PartName="/ppt/media/image91.jpeg" ContentType="image/jpeg"/>
  <Override PartName="/ppt/media/image111.jpeg" ContentType="image/jpeg"/>
  <Override PartName="/ppt/media/image94.jpeg" ContentType="image/jpeg"/>
  <Override PartName="/ppt/media/image20.jpeg" ContentType="image/jpeg"/>
  <Override PartName="/ppt/media/image104.jpeg" ContentType="image/jpeg"/>
  <Override PartName="/ppt/media/image84.jpeg" ContentType="image/jpe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13.jpeg" ContentType="image/jpeg"/>
  <Override PartName="/ppt/media/image2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76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02.jpeg" ContentType="image/jpeg"/>
  <Override PartName="/ppt/media/image23.jpeg" ContentType="image/jpeg"/>
  <Override PartName="/ppt/media/image82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  <p:custShowLst>
    <p:custShow name="Aangepaste voorstelling 1" id="0">
      <p:sldLst>
        <p:sld r:id="rId6"/>
        <p:sld r:id="rId40"/>
        <p:sld r:id="rId37"/>
        <p:sld r:id="rId11"/>
        <p:sld r:id="rId16"/>
        <p:sld r:id="rId31"/>
        <p:sld r:id="rId27"/>
        <p:sld r:id="rId19"/>
        <p:sld r:id="rId23"/>
        <p:sld r:id="rId18"/>
      </p:sldLst>
    </p:custShow>
    <p:custShow name="Aangepaste voorstelling 2" id="1">
      <p:sldLst>
        <p:sld r:id="rId5"/>
        <p:sld r:id="rId39"/>
        <p:sld r:id="rId36"/>
        <p:sld r:id="rId10"/>
        <p:sld r:id="rId15"/>
        <p:sld r:id="rId30"/>
        <p:sld r:id="rId26"/>
        <p:sld r:id="rId18"/>
        <p:sld r:id="rId22"/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3F4A-D6F8-4C20-96CC-6271D4AF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CF8F-9B00-4348-B0ED-A8E52563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813F-9C18-4EA1-B314-C73F66FB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C783-D5AB-4E95-9783-8F421368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BE5F-A843-4F13-8D61-2322A836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D151-9DC8-4AB6-9A00-32C8271B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13D6-58BC-42B4-96EE-3C1EC32A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FA38-4B41-49B2-9CA4-4752F6E5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3E6C-A78F-410D-89A5-649F4424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7336-F450-4147-A834-6C37B1C1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31A9-F083-4133-B5BF-9CDCB03B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AE9E-50A8-49F5-8BE1-0381A65D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8433-FA06-44E1-B5B8-F2858EEC65F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image" Target="../media/image82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f/Sedum_spectabile_brillant_0.0_R.jpg" TargetMode="External"/><Relationship Id="rId2" Type="http://schemas.openxmlformats.org/officeDocument/2006/relationships/image" Target="../media/image102.jpeg"/><Relationship Id="rId3" Type="http://schemas.openxmlformats.org/officeDocument/2006/relationships/image" Target="../media/image103.jpeg"/><Relationship Id="rId4" Type="http://schemas.openxmlformats.org/officeDocument/2006/relationships/image" Target="../media/image10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jpeg"/><Relationship Id="rId3" Type="http://schemas.openxmlformats.org/officeDocument/2006/relationships/image" Target="../media/image107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rderpl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ijblo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mpanula glomerata ‘Superb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uwenklo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ANd9GcRsCT1PxW_XPZAR5UhZoIqfgjJhZPeTdZyUCV25Smq3xfIbmQwbtw"/>
          <p:cNvPicPr/>
          <p:nvPr/>
        </p:nvPicPr>
        <p:blipFill>
          <a:blip r:embed="rId1"/>
          <a:stretch/>
        </p:blipFill>
        <p:spPr>
          <a:xfrm>
            <a:off x="990720" y="1828800"/>
            <a:ext cx="3962160" cy="2637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ANd9GcQTQcwkZtGdf7gV47Upc5F13FXggISH-wC8d7fyxDBGU0oGoRO6cg"/>
          <p:cNvPicPr/>
          <p:nvPr/>
        </p:nvPicPr>
        <p:blipFill>
          <a:blip r:embed="rId2"/>
          <a:stretch/>
        </p:blipFill>
        <p:spPr>
          <a:xfrm>
            <a:off x="5715000" y="2819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eopsis verticul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isjes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S6302465sm"/>
          <p:cNvPicPr/>
          <p:nvPr/>
        </p:nvPicPr>
        <p:blipFill>
          <a:blip r:embed="rId1"/>
          <a:stretch/>
        </p:blipFill>
        <p:spPr>
          <a:xfrm>
            <a:off x="685800" y="16765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8"/>
          <p:cNvSpPr/>
          <p:nvPr/>
        </p:nvSpPr>
        <p:spPr>
          <a:xfrm>
            <a:off x="3486240" y="2714760"/>
            <a:ext cx="21715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coreopsis_verticulata"/>
          <p:cNvPicPr/>
          <p:nvPr/>
        </p:nvPicPr>
        <p:blipFill>
          <a:blip r:embed="rId2"/>
          <a:stretch/>
        </p:blipFill>
        <p:spPr>
          <a:xfrm>
            <a:off x="4648320" y="3459240"/>
            <a:ext cx="3914640" cy="2579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elphinium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dders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ANd9GcQkn9lBnl73jTx0xkJQV2mWWHWaG_bnShD6HzcCPnlCnSYN-HZ9Hg"/>
          <p:cNvPicPr/>
          <p:nvPr/>
        </p:nvPicPr>
        <p:blipFill>
          <a:blip r:embed="rId1"/>
          <a:stretch/>
        </p:blipFill>
        <p:spPr>
          <a:xfrm>
            <a:off x="3276720" y="1752480"/>
            <a:ext cx="2738160" cy="395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ANd9GcTdOhZxHmIsahD3I3BP_MavOkG9gqrXfn-7SYIG4Yut-7EM7l5-"/>
          <p:cNvPicPr/>
          <p:nvPr/>
        </p:nvPicPr>
        <p:blipFill>
          <a:blip r:embed="rId2"/>
          <a:stretch/>
        </p:blipFill>
        <p:spPr>
          <a:xfrm>
            <a:off x="6400800" y="3276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ANd9GcQTxFO2Fw5HZDBPNYkdCP22Zr6eQ6SeQAqXvrcmTN0MvxwPNEO2mQ"/>
          <p:cNvPicPr/>
          <p:nvPr/>
        </p:nvPicPr>
        <p:blipFill>
          <a:blip r:embed="rId3"/>
          <a:stretch/>
        </p:blipFill>
        <p:spPr>
          <a:xfrm>
            <a:off x="533520" y="32004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anthus (Plumaris groep) ‘Arti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uidsanj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ANd9GcT_lVfl0zrPirQMsyWjFD3jSDXdwEqTdN0deN9ndQoyodRdxQzc0w"/>
          <p:cNvPicPr/>
          <p:nvPr/>
        </p:nvPicPr>
        <p:blipFill>
          <a:blip r:embed="rId1"/>
          <a:stretch/>
        </p:blipFill>
        <p:spPr>
          <a:xfrm>
            <a:off x="6019920" y="22860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ANd9GcSN2eNjds_VISH-a8K7Hg2qqhgeiw7G57AgKsJTASgIWy2KhpTTmQ"/>
          <p:cNvPicPr/>
          <p:nvPr/>
        </p:nvPicPr>
        <p:blipFill>
          <a:blip r:embed="rId2"/>
          <a:stretch/>
        </p:blipFill>
        <p:spPr>
          <a:xfrm>
            <a:off x="1219320" y="1981080"/>
            <a:ext cx="3962160" cy="336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centra spectabi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oken har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ANd9GcTzQgX2p8DJOfmlf7qEDHIOIHjPg_DOjBoqukHfkcDA9fPsVy49Vg"/>
          <p:cNvPicPr/>
          <p:nvPr/>
        </p:nvPicPr>
        <p:blipFill>
          <a:blip r:embed="rId1"/>
          <a:stretch/>
        </p:blipFill>
        <p:spPr>
          <a:xfrm>
            <a:off x="6019920" y="4114800"/>
            <a:ext cx="230508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ANd9GcRosrnRf0feoXS5GnFWsokErxk507oHYQTQnmnYrZaQEoGmMmLl"/>
          <p:cNvPicPr/>
          <p:nvPr/>
        </p:nvPicPr>
        <p:blipFill>
          <a:blip r:embed="rId2"/>
          <a:stretch/>
        </p:blipFill>
        <p:spPr>
          <a:xfrm>
            <a:off x="5181480" y="1676520"/>
            <a:ext cx="3124440" cy="2404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ANd9GcRj7nAd84rDtMvY-cgaj9pbBKrrQ1e-Dw8qxfF27QeKdTa4JOqrXA"/>
          <p:cNvPicPr/>
          <p:nvPr/>
        </p:nvPicPr>
        <p:blipFill>
          <a:blip r:embed="rId3"/>
          <a:stretch/>
        </p:blipFill>
        <p:spPr>
          <a:xfrm>
            <a:off x="685800" y="3276720"/>
            <a:ext cx="3886200" cy="2911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ANd9GcSxTc0rV8J1eYlwiHGPci8c9klNAotXqL7eR8v3fKuhBmF6xWPRvg"/>
          <p:cNvPicPr/>
          <p:nvPr/>
        </p:nvPicPr>
        <p:blipFill>
          <a:blip r:embed="rId4"/>
          <a:stretch/>
        </p:blipFill>
        <p:spPr>
          <a:xfrm>
            <a:off x="609480" y="1219320"/>
            <a:ext cx="2428920" cy="1885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oronicum oriental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jaarszonn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ANd9GcRplwHekcMd5JZzltr-i-Ut5z5mCtPk-pPZ5PmJacQ1nm7NAJotHg"/>
          <p:cNvPicPr/>
          <p:nvPr/>
        </p:nvPicPr>
        <p:blipFill>
          <a:blip r:embed="rId1"/>
          <a:stretch/>
        </p:blipFill>
        <p:spPr>
          <a:xfrm>
            <a:off x="5791320" y="1752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ANd9GcSUqxfI-j_NTy9zVP6xFjoOmQsyRKSsD_CTNH9AUlaALH0RrXM7Ig"/>
          <p:cNvPicPr/>
          <p:nvPr/>
        </p:nvPicPr>
        <p:blipFill>
          <a:blip r:embed="rId2"/>
          <a:stretch/>
        </p:blipFill>
        <p:spPr>
          <a:xfrm>
            <a:off x="3048120" y="3352680"/>
            <a:ext cx="2732040" cy="2819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ANd9GcTXk6Hnbum80BYDLYgzE-0AZjpcDk3O-yO3E01mDwJGnZ_v7so"/>
          <p:cNvPicPr/>
          <p:nvPr/>
        </p:nvPicPr>
        <p:blipFill>
          <a:blip r:embed="rId3"/>
          <a:stretch/>
        </p:blipFill>
        <p:spPr>
          <a:xfrm>
            <a:off x="762120" y="1752480"/>
            <a:ext cx="2162160" cy="2114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chinops bannaticus ‘Taplow Blue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geldistel, Jacobs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ANd9GcQ_VGS5odu3n0eIdOdYFMa1jtcXGY8tELtUxdlekDS42eFHc9nV"/>
          <p:cNvPicPr/>
          <p:nvPr/>
        </p:nvPicPr>
        <p:blipFill>
          <a:blip r:embed="rId1"/>
          <a:stretch/>
        </p:blipFill>
        <p:spPr>
          <a:xfrm>
            <a:off x="3124080" y="3200400"/>
            <a:ext cx="2824200" cy="28242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3505320" y="2357280"/>
            <a:ext cx="213336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3505320" y="2357280"/>
            <a:ext cx="213336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2" descr="ANd9GcTg25obbYgiAKec4aEmiY6ZAJn1O61CrpNDyHdj8tl-zQvxseuNOQ"/>
          <p:cNvPicPr/>
          <p:nvPr/>
        </p:nvPicPr>
        <p:blipFill>
          <a:blip r:embed="rId2"/>
          <a:stretch/>
        </p:blipFill>
        <p:spPr>
          <a:xfrm>
            <a:off x="914400" y="17524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ANd9GcTKlds9Q5Pgot1zZeYj4YuT6kLIoJZP3z6czus1zSApmK13UG1DjQ"/>
          <p:cNvPicPr/>
          <p:nvPr/>
        </p:nvPicPr>
        <p:blipFill>
          <a:blip r:embed="rId3"/>
          <a:stretch/>
        </p:blipFill>
        <p:spPr>
          <a:xfrm>
            <a:off x="6019920" y="16765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enium ‘Moerheim Beauty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ANd9GcQOZrl2aSHlq9c1nP_vkubFGEOKyxkKZY4mFAgUG6cfVz4ft5VKhQ"/>
          <p:cNvPicPr/>
          <p:nvPr/>
        </p:nvPicPr>
        <p:blipFill>
          <a:blip r:embed="rId1"/>
          <a:stretch/>
        </p:blipFill>
        <p:spPr>
          <a:xfrm>
            <a:off x="6172200" y="403848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ANd9GcTEz0Y8jrYe-_b7HVRkQSkMuiwdtE3GNJI2yxq2Yo7dx77H-9xUTQ"/>
          <p:cNvPicPr/>
          <p:nvPr/>
        </p:nvPicPr>
        <p:blipFill>
          <a:blip r:embed="rId2"/>
          <a:stretch/>
        </p:blipFill>
        <p:spPr>
          <a:xfrm>
            <a:off x="3276720" y="1676520"/>
            <a:ext cx="3047760" cy="2282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ANd9GcSc8QevaoiDWsiSIEl8vNdp4a-SUMPJOIvLN96GgVvWSREp1fJdcw"/>
          <p:cNvPicPr/>
          <p:nvPr/>
        </p:nvPicPr>
        <p:blipFill>
          <a:blip r:embed="rId3"/>
          <a:stretch/>
        </p:blipFill>
        <p:spPr>
          <a:xfrm>
            <a:off x="990720" y="4114800"/>
            <a:ext cx="2428920" cy="1876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ianthus atrorub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ANd9GcQ2Q3OW6g0TuLYKICo-zA50wNavNH61OwvnIoL25pF1TjkJHeW3"/>
          <p:cNvPicPr/>
          <p:nvPr/>
        </p:nvPicPr>
        <p:blipFill>
          <a:blip r:embed="rId1"/>
          <a:stretch/>
        </p:blipFill>
        <p:spPr>
          <a:xfrm>
            <a:off x="914400" y="1295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ANd9GcTy2mW9ZydKS_3OMOpdHXJ22UksuX_SSlPAZjVkDFt_MHgkBSvx"/>
          <p:cNvPicPr/>
          <p:nvPr/>
        </p:nvPicPr>
        <p:blipFill>
          <a:blip r:embed="rId2"/>
          <a:stretch/>
        </p:blipFill>
        <p:spPr>
          <a:xfrm>
            <a:off x="5791320" y="1295280"/>
            <a:ext cx="2743200" cy="19306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helianthus_atrorubens"/>
          <p:cNvPicPr/>
          <p:nvPr/>
        </p:nvPicPr>
        <p:blipFill>
          <a:blip r:embed="rId3"/>
          <a:stretch/>
        </p:blipFill>
        <p:spPr>
          <a:xfrm>
            <a:off x="5638680" y="4265640"/>
            <a:ext cx="3048120" cy="2038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ANd9GcQKz0udixvursGQ_FK5TwWIgDU6HN5Q6gQziUqjukry-Nqbb4ur"/>
          <p:cNvPicPr/>
          <p:nvPr/>
        </p:nvPicPr>
        <p:blipFill>
          <a:blip r:embed="rId4"/>
          <a:stretch/>
        </p:blipFill>
        <p:spPr>
          <a:xfrm>
            <a:off x="3459240" y="2209680"/>
            <a:ext cx="204624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iopsis helianthoides ‘Patul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Nd9GcT3v1U5Bw7p3XFMoEEF0YAdDTbbyuhryGjkXWOFN4WHI5_qE92NmA"/>
          <p:cNvPicPr/>
          <p:nvPr/>
        </p:nvPicPr>
        <p:blipFill>
          <a:blip r:embed="rId1"/>
          <a:stretch/>
        </p:blipFill>
        <p:spPr>
          <a:xfrm>
            <a:off x="3124080" y="2514600"/>
            <a:ext cx="3367080" cy="252252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6"/>
          <p:cNvSpPr/>
          <p:nvPr/>
        </p:nvSpPr>
        <p:spPr>
          <a:xfrm>
            <a:off x="4038480" y="28954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Heliopsis%20h%20Patula"/>
          <p:cNvPicPr/>
          <p:nvPr/>
        </p:nvPicPr>
        <p:blipFill>
          <a:blip r:embed="rId2"/>
          <a:stretch/>
        </p:blipFill>
        <p:spPr>
          <a:xfrm>
            <a:off x="6553080" y="14479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3"/>
          <a:stretch/>
        </p:blipFill>
        <p:spPr>
          <a:xfrm>
            <a:off x="533520" y="388620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hillea filipendulina ‘Parker’s Variety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zendbl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ANd9GcSHREOJ-hgkc6lTA9ovTelJPy3Y2N13cvatHsuJMpAzWCnMOjR0"/>
          <p:cNvPicPr/>
          <p:nvPr/>
        </p:nvPicPr>
        <p:blipFill>
          <a:blip r:embed="rId1"/>
          <a:stretch/>
        </p:blipFill>
        <p:spPr>
          <a:xfrm>
            <a:off x="5867280" y="1676520"/>
            <a:ext cx="2438640" cy="1619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ANd9GcR3Egnpe1fPejaWEEfamgvs_lilUTT3GZWE_pVXeEJmuEfZLNHJ"/>
          <p:cNvPicPr/>
          <p:nvPr/>
        </p:nvPicPr>
        <p:blipFill>
          <a:blip r:embed="rId2"/>
          <a:stretch/>
        </p:blipFill>
        <p:spPr>
          <a:xfrm>
            <a:off x="914400" y="1600200"/>
            <a:ext cx="2438280" cy="1619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ANd9GcRoPU2cYwi8vn4qsk2fNiha5rxAFESKWphB12eI5htQRjO4gL67"/>
          <p:cNvPicPr/>
          <p:nvPr/>
        </p:nvPicPr>
        <p:blipFill>
          <a:blip r:embed="rId3"/>
          <a:stretch/>
        </p:blipFill>
        <p:spPr>
          <a:xfrm>
            <a:off x="3352680" y="350532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ris germanica ‘Robert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ardi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ANd9GcQ9860OFULlVQu_PyE3NrT0hTVu2fwg1XEBmPrx5dPvvust_KpsBw"/>
          <p:cNvPicPr/>
          <p:nvPr/>
        </p:nvPicPr>
        <p:blipFill>
          <a:blip r:embed="rId1"/>
          <a:stretch/>
        </p:blipFill>
        <p:spPr>
          <a:xfrm>
            <a:off x="6095880" y="403848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ANd9GcSrBRQn3ylVWUZus629cfkSJn7o6Bc4DftJ6U_gyusxM9gnlpKhMA"/>
          <p:cNvPicPr/>
          <p:nvPr/>
        </p:nvPicPr>
        <p:blipFill>
          <a:blip r:embed="rId2"/>
          <a:stretch/>
        </p:blipFill>
        <p:spPr>
          <a:xfrm>
            <a:off x="594360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ANd9GcSRQaMO5PtwkFcC5aMFkBCpko93rQmgyAmhS2EcmaJn3Ov45ba0"/>
          <p:cNvPicPr/>
          <p:nvPr/>
        </p:nvPicPr>
        <p:blipFill>
          <a:blip r:embed="rId3"/>
          <a:stretch/>
        </p:blipFill>
        <p:spPr>
          <a:xfrm>
            <a:off x="1143000" y="1600200"/>
            <a:ext cx="336708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Kniphof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urpij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ANd9GcT3fqkJP5aIz3QWUULOQ8XjltrDsAunP8LHpkVJ8XoljyHrMLnx"/>
          <p:cNvPicPr/>
          <p:nvPr/>
        </p:nvPicPr>
        <p:blipFill>
          <a:blip r:embed="rId1"/>
          <a:stretch/>
        </p:blipFill>
        <p:spPr>
          <a:xfrm>
            <a:off x="1143000" y="1981080"/>
            <a:ext cx="3976560" cy="2978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ANd9GcQ9gy5aK-q9upVfWCKMYy981do7dIRTIhSvYuIZ1EeIZZnze_-3KA"/>
          <p:cNvPicPr/>
          <p:nvPr/>
        </p:nvPicPr>
        <p:blipFill>
          <a:blip r:embed="rId2"/>
          <a:stretch/>
        </p:blipFill>
        <p:spPr>
          <a:xfrm>
            <a:off x="5562720" y="1447920"/>
            <a:ext cx="325260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eucanthemum Superbum-groep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rg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Leucanthemum_Alaska_Superbum_Group"/>
          <p:cNvPicPr/>
          <p:nvPr/>
        </p:nvPicPr>
        <p:blipFill>
          <a:blip r:embed="rId1"/>
          <a:stretch/>
        </p:blipFill>
        <p:spPr>
          <a:xfrm>
            <a:off x="914400" y="25909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8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ANd9GcRUPbpwTsZKlW0vf7EkFAu8laKoSkUy8gexBi2Wv0GW9Im0T8WM"/>
          <p:cNvPicPr/>
          <p:nvPr/>
        </p:nvPicPr>
        <p:blipFill>
          <a:blip r:embed="rId2"/>
          <a:stretch/>
        </p:blipFill>
        <p:spPr>
          <a:xfrm>
            <a:off x="4495680" y="1828800"/>
            <a:ext cx="426744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atris spic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chtkaars; lampepoet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ANd9GcRKOSozvgOhYeeLZZJvtHk2a0uc7fs9k9JYDunI5bkW68R4c2Sf"/>
          <p:cNvPicPr/>
          <p:nvPr/>
        </p:nvPicPr>
        <p:blipFill>
          <a:blip r:embed="rId1"/>
          <a:stretch/>
        </p:blipFill>
        <p:spPr>
          <a:xfrm>
            <a:off x="5943600" y="2743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ANd9GcTKv4rwLwej9TBmoY7TYwZh4czWhwTFC5VMFV5Fl86eG_V-tuKG"/>
          <p:cNvPicPr/>
          <p:nvPr/>
        </p:nvPicPr>
        <p:blipFill>
          <a:blip r:embed="rId2"/>
          <a:stretch/>
        </p:blipFill>
        <p:spPr>
          <a:xfrm>
            <a:off x="1371600" y="1828800"/>
            <a:ext cx="352116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upinus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u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Nd9GcTJPsrs54JBa5HACFRrOa-skH4O3fIdcb2C6Soacb-t2xkcegkD"/>
          <p:cNvPicPr/>
          <p:nvPr/>
        </p:nvPicPr>
        <p:blipFill>
          <a:blip r:embed="rId1"/>
          <a:stretch/>
        </p:blipFill>
        <p:spPr>
          <a:xfrm>
            <a:off x="5638680" y="42670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ANd9GcQWlZIp-1TymqOnzDePpTH6RZpSZTc4tDtYHQJhegIE0fUK5-le"/>
          <p:cNvPicPr/>
          <p:nvPr/>
        </p:nvPicPr>
        <p:blipFill>
          <a:blip r:embed="rId2"/>
          <a:stretch/>
        </p:blipFill>
        <p:spPr>
          <a:xfrm>
            <a:off x="6400800" y="1219320"/>
            <a:ext cx="2168640" cy="2895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ANd9GcTqcjHlK0Yq_DDn1w6xnIvofgRzcA5_-kpQUEUQqh3eVKUPSiIhnA"/>
          <p:cNvPicPr/>
          <p:nvPr/>
        </p:nvPicPr>
        <p:blipFill>
          <a:blip r:embed="rId3"/>
          <a:stretch/>
        </p:blipFill>
        <p:spPr>
          <a:xfrm>
            <a:off x="1295280" y="3886200"/>
            <a:ext cx="3381480" cy="2532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ANd9GcTCjFQcmVe3Nh9-IWwY6yGJtr78YdgjIlm8pUgOx_Lo192ABVgQXg"/>
          <p:cNvPicPr/>
          <p:nvPr/>
        </p:nvPicPr>
        <p:blipFill>
          <a:blip r:embed="rId4"/>
          <a:stretch/>
        </p:blipFill>
        <p:spPr>
          <a:xfrm>
            <a:off x="914400" y="1371600"/>
            <a:ext cx="243828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ANd9GcRBoY13SZZQoLJmmwc9hInP05jrJf_OKNSEPPumXk1o9PH9d_PRzA"/>
          <p:cNvPicPr/>
          <p:nvPr/>
        </p:nvPicPr>
        <p:blipFill>
          <a:blip r:embed="rId5"/>
          <a:stretch/>
        </p:blipFill>
        <p:spPr>
          <a:xfrm>
            <a:off x="3581280" y="1828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ysimachia punct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untwede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ANd9GcSiDuZcSiPDCm9ZNH171z5y7jgAJYwwlLzRy9Ft2o1Dl5ZdNsEr"/>
          <p:cNvPicPr/>
          <p:nvPr/>
        </p:nvPicPr>
        <p:blipFill>
          <a:blip r:embed="rId1"/>
          <a:stretch/>
        </p:blipFill>
        <p:spPr>
          <a:xfrm>
            <a:off x="3124080" y="1981080"/>
            <a:ext cx="2522520" cy="336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ANd9GcSMZo-7FzXigllPbtuLh97eN1dRskalmzsDbUaYUpqCn_ybTX6ubQ"/>
          <p:cNvPicPr/>
          <p:nvPr/>
        </p:nvPicPr>
        <p:blipFill>
          <a:blip r:embed="rId2"/>
          <a:stretch/>
        </p:blipFill>
        <p:spPr>
          <a:xfrm>
            <a:off x="5791320" y="3809880"/>
            <a:ext cx="2895480" cy="2300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lysimachia_punctata01"/>
          <p:cNvPicPr/>
          <p:nvPr/>
        </p:nvPicPr>
        <p:blipFill>
          <a:blip r:embed="rId3"/>
          <a:stretch/>
        </p:blipFill>
        <p:spPr>
          <a:xfrm>
            <a:off x="533520" y="4038480"/>
            <a:ext cx="2438280" cy="1949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leaya microcarpa ‘Kelway’s Coral Plume’</a:t>
            </a:r>
            <a:br>
              <a:rPr sz="32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uimpap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ANd9GcSp7wo3o7TSQVGKngZn7pYjaJX0J8E1xqCkvfR1qBXi_DNZEQjSXg"/>
          <p:cNvPicPr/>
          <p:nvPr/>
        </p:nvPicPr>
        <p:blipFill>
          <a:blip r:embed="rId1"/>
          <a:stretch/>
        </p:blipFill>
        <p:spPr>
          <a:xfrm>
            <a:off x="609480" y="1143000"/>
            <a:ext cx="2819520" cy="21114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6"/>
          <p:cNvSpPr/>
          <p:nvPr/>
        </p:nvSpPr>
        <p:spPr>
          <a:xfrm>
            <a:off x="4038480" y="28954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3619440" y="247644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1315_1"/>
          <p:cNvPicPr/>
          <p:nvPr/>
        </p:nvPicPr>
        <p:blipFill>
          <a:blip r:embed="rId2"/>
          <a:stretch/>
        </p:blipFill>
        <p:spPr>
          <a:xfrm>
            <a:off x="3505320" y="2362320"/>
            <a:ext cx="3047760" cy="3047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ANd9GcQ6Xrs3eqsO5vBwJQmncXGRAxoRPDBSM6qTmvpESMgC5_qoE237"/>
          <p:cNvPicPr/>
          <p:nvPr/>
        </p:nvPicPr>
        <p:blipFill>
          <a:blip r:embed="rId3"/>
          <a:stretch/>
        </p:blipFill>
        <p:spPr>
          <a:xfrm>
            <a:off x="6629400" y="417204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onard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rgamot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Nd9GcRlqdoiPkzvRKC1JDC8TewPJtUCRx3w6oAAnZR-jhjTiptC_8im"/>
          <p:cNvPicPr/>
          <p:nvPr/>
        </p:nvPicPr>
        <p:blipFill>
          <a:blip r:embed="rId1"/>
          <a:stretch/>
        </p:blipFill>
        <p:spPr>
          <a:xfrm>
            <a:off x="380880" y="2895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ANd9GcSMjXB4xfarnp-e2fmTpsmu7hyDei0ah1JVE2FErl_ATNOaZtCE"/>
          <p:cNvPicPr/>
          <p:nvPr/>
        </p:nvPicPr>
        <p:blipFill>
          <a:blip r:embed="rId2"/>
          <a:stretch/>
        </p:blipFill>
        <p:spPr>
          <a:xfrm>
            <a:off x="6248520" y="2895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web-02040150"/>
          <p:cNvPicPr/>
          <p:nvPr/>
        </p:nvPicPr>
        <p:blipFill>
          <a:blip r:embed="rId3"/>
          <a:stretch/>
        </p:blipFill>
        <p:spPr>
          <a:xfrm>
            <a:off x="3048120" y="1828800"/>
            <a:ext cx="2943000" cy="3924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epeta faasseni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tte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ANd9GcRvbzZ3o3hnBmxa2IF5ev9nAWs3OlGBD1i-gND2iE8V29GP0idPgg"/>
          <p:cNvPicPr/>
          <p:nvPr/>
        </p:nvPicPr>
        <p:blipFill>
          <a:blip r:embed="rId1"/>
          <a:stretch/>
        </p:blipFill>
        <p:spPr>
          <a:xfrm>
            <a:off x="2743200" y="2286000"/>
            <a:ext cx="3900600" cy="2921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ANd9GcSdSHK4jtnPGBBF2k_yT-sp__mf8wr4KXxsJ8gtcrPo12g9Zgwc"/>
          <p:cNvPicPr/>
          <p:nvPr/>
        </p:nvPicPr>
        <p:blipFill>
          <a:blip r:embed="rId2"/>
          <a:stretch/>
        </p:blipFill>
        <p:spPr>
          <a:xfrm>
            <a:off x="6705720" y="9144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ANd9GcRGtKh2ztjSSOQzN9RsDdA4RQHawdgPgMmcCSwxkyRzbiCmJs4ySQ"/>
          <p:cNvPicPr/>
          <p:nvPr/>
        </p:nvPicPr>
        <p:blipFill>
          <a:blip r:embed="rId3"/>
          <a:stretch/>
        </p:blipFill>
        <p:spPr>
          <a:xfrm>
            <a:off x="6705720" y="35053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ANd9GcT6bFIIImrU5HsB4ZRWkjWbSomUJbFhml6v2fw_-BURYD5Kh6fS"/>
          <p:cNvPicPr/>
          <p:nvPr/>
        </p:nvPicPr>
        <p:blipFill>
          <a:blip r:embed="rId4"/>
          <a:stretch/>
        </p:blipFill>
        <p:spPr>
          <a:xfrm>
            <a:off x="15228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ANd9GcS7qMpTlJRtd0rC4FHal6tZQonV5zLKHXZfF_h9SPkje0vmYSZO"/>
          <p:cNvPicPr/>
          <p:nvPr/>
        </p:nvPicPr>
        <p:blipFill>
          <a:blip r:embed="rId5"/>
          <a:stretch/>
        </p:blipFill>
        <p:spPr>
          <a:xfrm>
            <a:off x="152280" y="3886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2" descr="istockphoto_3591412-paeonia-lactiflora-cultivar"/>
          <p:cNvPicPr/>
          <p:nvPr/>
        </p:nvPicPr>
        <p:blipFill>
          <a:blip r:embed="rId1"/>
          <a:stretch/>
        </p:blipFill>
        <p:spPr>
          <a:xfrm>
            <a:off x="5524560" y="838080"/>
            <a:ext cx="3619440" cy="24098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aeon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oen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ANd9GcRE8shgm1CoYeK07wlI85Eix5Dy8MkEC8mHLKJxXb97e17JVdC-wg"/>
          <p:cNvPicPr/>
          <p:nvPr/>
        </p:nvPicPr>
        <p:blipFill>
          <a:blip r:embed="rId2"/>
          <a:stretch/>
        </p:blipFill>
        <p:spPr>
          <a:xfrm>
            <a:off x="2971800" y="1905120"/>
            <a:ext cx="3162240" cy="2751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ANd9GcSYUrP0hyP36sosYpKNJ5dywzlHcX_EYICTjcurBRvUZ7GDrkbsJQ"/>
          <p:cNvPicPr/>
          <p:nvPr/>
        </p:nvPicPr>
        <p:blipFill>
          <a:blip r:embed="rId3"/>
          <a:stretch/>
        </p:blipFill>
        <p:spPr>
          <a:xfrm>
            <a:off x="304920" y="449568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onitum napellus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nniksk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ANd9GcTQBfrH1H31KA9e-9NtnVU9dK8BjnH8Bb083sMF4uyhnqOUHYHw"/>
          <p:cNvPicPr/>
          <p:nvPr/>
        </p:nvPicPr>
        <p:blipFill>
          <a:blip r:embed="rId1"/>
          <a:stretch/>
        </p:blipFill>
        <p:spPr>
          <a:xfrm>
            <a:off x="6172200" y="11430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ANd9GcSPRmGCooDatrC9NW77VCyh0rjLw9OwPgk-TTamk1LnQ4Y66yBN"/>
          <p:cNvPicPr/>
          <p:nvPr/>
        </p:nvPicPr>
        <p:blipFill>
          <a:blip r:embed="rId2"/>
          <a:stretch/>
        </p:blipFill>
        <p:spPr>
          <a:xfrm>
            <a:off x="1143000" y="1066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ANd9GcTP-jL26dGTKRZo2w2bZfeqJ5DgLWY0gXBWDDlIY3zptSzWB1zKJQ"/>
          <p:cNvPicPr/>
          <p:nvPr/>
        </p:nvPicPr>
        <p:blipFill>
          <a:blip r:embed="rId3"/>
          <a:stretch/>
        </p:blipFill>
        <p:spPr>
          <a:xfrm>
            <a:off x="3429000" y="2362320"/>
            <a:ext cx="2457360" cy="3267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hlox (Paniculata groep)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am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ANd9GcStsL9P5Dryx1k-nZdPnCrhYRqm-GdH0VJ8KuMoF1PsWDVklSGr"/>
          <p:cNvPicPr/>
          <p:nvPr/>
        </p:nvPicPr>
        <p:blipFill>
          <a:blip r:embed="rId1"/>
          <a:stretch/>
        </p:blipFill>
        <p:spPr>
          <a:xfrm>
            <a:off x="6400800" y="1371600"/>
            <a:ext cx="1943280" cy="2352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ANd9GcTDt-y79brqO4JSvehxd-uKX3Slf28_yXIMZUmtTwFm-YowIuwChA"/>
          <p:cNvPicPr/>
          <p:nvPr/>
        </p:nvPicPr>
        <p:blipFill>
          <a:blip r:embed="rId2"/>
          <a:stretch/>
        </p:blipFill>
        <p:spPr>
          <a:xfrm>
            <a:off x="3505320" y="2133720"/>
            <a:ext cx="2652480" cy="3700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Phlox_Paniculata_Group_Windsor"/>
          <p:cNvPicPr/>
          <p:nvPr/>
        </p:nvPicPr>
        <p:blipFill>
          <a:blip r:embed="rId3"/>
          <a:stretch/>
        </p:blipFill>
        <p:spPr>
          <a:xfrm>
            <a:off x="6400800" y="3809880"/>
            <a:ext cx="1995480" cy="2662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ANd9GcRLme6Zz1i7q7GDe5-xIR8b3k_BESWs3jsV82f1PHgkEayYdy3R"/>
          <p:cNvPicPr/>
          <p:nvPr/>
        </p:nvPicPr>
        <p:blipFill>
          <a:blip r:embed="rId4"/>
          <a:stretch/>
        </p:blipFill>
        <p:spPr>
          <a:xfrm>
            <a:off x="762120" y="2971800"/>
            <a:ext cx="2590560" cy="1762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tentilla nepalensis ‘Miss Willmott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nze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809880" y="2800440"/>
            <a:ext cx="152424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Potentilla-Miss-Willmott2"/>
          <p:cNvPicPr/>
          <p:nvPr/>
        </p:nvPicPr>
        <p:blipFill>
          <a:blip r:embed="rId1"/>
          <a:stretch/>
        </p:blipFill>
        <p:spPr>
          <a:xfrm>
            <a:off x="6477120" y="2895480"/>
            <a:ext cx="1904760" cy="1571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ANd9GcQlZ_oshzfLfF1PTttFKFt92kja-RIErQuPBoIPXcIZSzy_nZ1Z"/>
          <p:cNvPicPr/>
          <p:nvPr/>
        </p:nvPicPr>
        <p:blipFill>
          <a:blip r:embed="rId2"/>
          <a:stretch/>
        </p:blipFill>
        <p:spPr>
          <a:xfrm>
            <a:off x="457200" y="2819520"/>
            <a:ext cx="2705040" cy="1695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ANd9GcT7yuwSXbswjQsUuoTWXV6tzJ28Bdve8lozwMWgI_Axqwu0L3Wq"/>
          <p:cNvPicPr/>
          <p:nvPr/>
        </p:nvPicPr>
        <p:blipFill>
          <a:blip r:embed="rId3"/>
          <a:stretch/>
        </p:blipFill>
        <p:spPr>
          <a:xfrm>
            <a:off x="3505320" y="2133720"/>
            <a:ext cx="2636640" cy="3519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ulmonaria saccharata ‘Mrs Moon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ng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ANd9GcRkV8rCUG8LkqN1y6RBJbybh6DKMLZJ9o3XOrpYU-v_X9k44RbgMQ"/>
          <p:cNvPicPr/>
          <p:nvPr/>
        </p:nvPicPr>
        <p:blipFill>
          <a:blip r:embed="rId1"/>
          <a:stretch/>
        </p:blipFill>
        <p:spPr>
          <a:xfrm>
            <a:off x="3276720" y="2057400"/>
            <a:ext cx="2751120" cy="3214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ANd9GcQws9bbR3B56A8tnO_fKaUTr5GtuALyOD173jnCjmJx8dLdVHZ-dg"/>
          <p:cNvPicPr/>
          <p:nvPr/>
        </p:nvPicPr>
        <p:blipFill>
          <a:blip r:embed="rId2"/>
          <a:stretch/>
        </p:blipFill>
        <p:spPr>
          <a:xfrm>
            <a:off x="6553080" y="2362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mini-pulmonaria-saccharata-mrs-moon_0"/>
          <p:cNvPicPr/>
          <p:nvPr/>
        </p:nvPicPr>
        <p:blipFill>
          <a:blip r:embed="rId3"/>
          <a:stretch/>
        </p:blipFill>
        <p:spPr>
          <a:xfrm>
            <a:off x="609480" y="274320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udbeckia fugida ‘Goldsturm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h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0" descr="watermark_417"/>
          <p:cNvPicPr/>
          <p:nvPr/>
        </p:nvPicPr>
        <p:blipFill>
          <a:blip r:embed="rId1"/>
          <a:stretch/>
        </p:blipFill>
        <p:spPr>
          <a:xfrm>
            <a:off x="5867280" y="1752480"/>
            <a:ext cx="2610000" cy="195768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4" descr="watermark_408"/>
          <p:cNvPicPr/>
          <p:nvPr/>
        </p:nvPicPr>
        <p:blipFill>
          <a:blip r:embed="rId2"/>
          <a:stretch/>
        </p:blipFill>
        <p:spPr>
          <a:xfrm>
            <a:off x="533520" y="2133720"/>
            <a:ext cx="4647960" cy="3485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ANd9GcQBO4QHBxXhs148sD1BW8NLiLGccZFpnoF0YAXw4rO5VceiyL3n"/>
          <p:cNvPicPr/>
          <p:nvPr/>
        </p:nvPicPr>
        <p:blipFill>
          <a:blip r:embed="rId3"/>
          <a:stretch/>
        </p:blipFill>
        <p:spPr>
          <a:xfrm>
            <a:off x="5867280" y="3886200"/>
            <a:ext cx="2667240" cy="1996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via nemorosa ‘Ostfriesland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3733920" y="2800440"/>
            <a:ext cx="16761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ANd9GcQjEAGhQWm6MPQK4fqmKf6jG8pTKsMVP3tEpQe-YWpppMZdo8-2_A"/>
          <p:cNvPicPr/>
          <p:nvPr/>
        </p:nvPicPr>
        <p:blipFill>
          <a:blip r:embed="rId1"/>
          <a:stretch/>
        </p:blipFill>
        <p:spPr>
          <a:xfrm>
            <a:off x="6553080" y="1371600"/>
            <a:ext cx="1952640" cy="2343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ANd9GcR1ARZXninMFRb5DUjTlnen1L1Yd_RQ1-ti4jQEjJY76zsMw5KE"/>
          <p:cNvPicPr/>
          <p:nvPr/>
        </p:nvPicPr>
        <p:blipFill>
          <a:blip r:embed="rId2"/>
          <a:stretch/>
        </p:blipFill>
        <p:spPr>
          <a:xfrm>
            <a:off x="1219320" y="1905120"/>
            <a:ext cx="4586040" cy="343512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12"/>
          <p:cNvSpPr/>
          <p:nvPr/>
        </p:nvSpPr>
        <p:spPr>
          <a:xfrm>
            <a:off x="3809880" y="2857680"/>
            <a:ext cx="152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4"/>
          <p:cNvSpPr/>
          <p:nvPr/>
        </p:nvSpPr>
        <p:spPr>
          <a:xfrm>
            <a:off x="3809880" y="2857680"/>
            <a:ext cx="152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6" descr="200px-Salvia_nemorosa_ostfriesland_0"/>
          <p:cNvPicPr/>
          <p:nvPr/>
        </p:nvPicPr>
        <p:blipFill>
          <a:blip r:embed="rId3"/>
          <a:stretch/>
        </p:blipFill>
        <p:spPr>
          <a:xfrm>
            <a:off x="6553080" y="449568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edum spectabilis ‘Brillant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melsleu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8" descr="File:Sedum spectabile brillant 0.0 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20574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ANd9GcR9miAxakWXbXGfI1Cx4AW8N4RNOLYBCG50jkB0d6ue5RY0Qqxv"/>
          <p:cNvPicPr/>
          <p:nvPr/>
        </p:nvPicPr>
        <p:blipFill>
          <a:blip r:embed="rId3"/>
          <a:stretch/>
        </p:blipFill>
        <p:spPr>
          <a:xfrm>
            <a:off x="5943600" y="3772080"/>
            <a:ext cx="2924280" cy="2190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ANd9GcSuMlXpLsgZUd4TFBIYiFV4FObKE-t8UvZCx6kfruxyrZQeSl-fjA"/>
          <p:cNvPicPr/>
          <p:nvPr/>
        </p:nvPicPr>
        <p:blipFill>
          <a:blip r:embed="rId4"/>
          <a:stretch/>
        </p:blipFill>
        <p:spPr>
          <a:xfrm>
            <a:off x="5943600" y="1371600"/>
            <a:ext cx="2771640" cy="2076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lidago cultivars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uldenro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ANd9GcSGqYwgN4gQlvxcKglFOdhpADHc7L9dYeAzwPm1JhF0EGoXruGImQ"/>
          <p:cNvPicPr/>
          <p:nvPr/>
        </p:nvPicPr>
        <p:blipFill>
          <a:blip r:embed="rId1"/>
          <a:stretch/>
        </p:blipFill>
        <p:spPr>
          <a:xfrm>
            <a:off x="6172200" y="137160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ANd9GcS1sEjPOw7GmodfPgUyd76yXstyFEGTIOwHLaBjQfjYJr0AL1wl"/>
          <p:cNvPicPr/>
          <p:nvPr/>
        </p:nvPicPr>
        <p:blipFill>
          <a:blip r:embed="rId2"/>
          <a:stretch/>
        </p:blipFill>
        <p:spPr>
          <a:xfrm>
            <a:off x="1066680" y="2133720"/>
            <a:ext cx="4038840" cy="3025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dune_gold2"/>
          <p:cNvPicPr/>
          <p:nvPr/>
        </p:nvPicPr>
        <p:blipFill>
          <a:blip r:embed="rId3"/>
          <a:stretch/>
        </p:blipFill>
        <p:spPr>
          <a:xfrm>
            <a:off x="5715000" y="3809880"/>
            <a:ext cx="2876400" cy="2470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descantia (Andersoniana Groep) ‘Osprey’ </a:t>
            </a:r>
            <a:br>
              <a:rPr sz="32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dagsbl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ANd9GcTZr0pxqnyNy1MyH4Ln_qq792avBrz6HoKlnHXnKaIwtP61523Ueg"/>
          <p:cNvPicPr/>
          <p:nvPr/>
        </p:nvPicPr>
        <p:blipFill>
          <a:blip r:embed="rId1"/>
          <a:stretch/>
        </p:blipFill>
        <p:spPr>
          <a:xfrm>
            <a:off x="6019920" y="1905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ANd9GcRbLHs3MCLR8AWGxQsBrUNby3FXKWPUe44O-7j7yNguBTxYG5ok"/>
          <p:cNvPicPr/>
          <p:nvPr/>
        </p:nvPicPr>
        <p:blipFill>
          <a:blip r:embed="rId2"/>
          <a:stretch/>
        </p:blipFill>
        <p:spPr>
          <a:xfrm>
            <a:off x="990720" y="2590920"/>
            <a:ext cx="4114800" cy="2728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"/>
          <p:cNvPicPr/>
          <p:nvPr/>
        </p:nvPicPr>
        <p:blipFill>
          <a:blip r:embed="rId3"/>
          <a:stretch/>
        </p:blipFill>
        <p:spPr>
          <a:xfrm>
            <a:off x="6019920" y="3886200"/>
            <a:ext cx="247176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Yucca flaccida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lml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ANd9GcQ-RXo5zYOh71s8rFpFxksU_v_VocOcOJP3PkaS-zZpiEeb9OzlPg"/>
          <p:cNvPicPr/>
          <p:nvPr/>
        </p:nvPicPr>
        <p:blipFill>
          <a:blip r:embed="rId1"/>
          <a:stretch/>
        </p:blipFill>
        <p:spPr>
          <a:xfrm>
            <a:off x="3429000" y="1905120"/>
            <a:ext cx="2921040" cy="3504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ANd9GcS-J0NN7J55WeC3Nnn-5y9DUAffV3qMuGBfMIyucDidnLqXfisX3Q"/>
          <p:cNvPicPr/>
          <p:nvPr/>
        </p:nvPicPr>
        <p:blipFill>
          <a:blip r:embed="rId2"/>
          <a:stretch/>
        </p:blipFill>
        <p:spPr>
          <a:xfrm>
            <a:off x="838080" y="1905120"/>
            <a:ext cx="2190960" cy="3438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ANd9GcS1pO-g0_3cYVmuUgDwNDJ1_ikTXH4QTpnxmD9r_4soryAOtVN6"/>
          <p:cNvPicPr/>
          <p:nvPr/>
        </p:nvPicPr>
        <p:blipFill>
          <a:blip r:embed="rId3"/>
          <a:stretch/>
        </p:blipFill>
        <p:spPr>
          <a:xfrm>
            <a:off x="6781680" y="3581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ANd9GcSkZDAdzL6tAasQQBdeesbLauNVB4Js_FtyKo4JSvXsQZ7dr1a9"/>
          <p:cNvPicPr/>
          <p:nvPr/>
        </p:nvPicPr>
        <p:blipFill>
          <a:blip r:embed="rId4"/>
          <a:stretch/>
        </p:blipFill>
        <p:spPr>
          <a:xfrm>
            <a:off x="6705720" y="7621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chemilla mol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ouwenman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3348000" y="2495520"/>
            <a:ext cx="2448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3348000" y="2495520"/>
            <a:ext cx="2448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roses2plant_2145_12230857"/>
          <p:cNvPicPr/>
          <p:nvPr/>
        </p:nvPicPr>
        <p:blipFill>
          <a:blip r:embed="rId1"/>
          <a:stretch/>
        </p:blipFill>
        <p:spPr>
          <a:xfrm>
            <a:off x="990720" y="1600200"/>
            <a:ext cx="2666880" cy="203832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2"/>
          <p:cNvSpPr/>
          <p:nvPr/>
        </p:nvSpPr>
        <p:spPr>
          <a:xfrm>
            <a:off x="3619440" y="247644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ANd9GcR7qVZceJPV3JH4AEDybOAlpxUPDTEK0-qa7wwCGvZkGf72Y7s7YQ"/>
          <p:cNvPicPr/>
          <p:nvPr/>
        </p:nvPicPr>
        <p:blipFill>
          <a:blip r:embed="rId2"/>
          <a:stretch/>
        </p:blipFill>
        <p:spPr>
          <a:xfrm>
            <a:off x="5867280" y="1523880"/>
            <a:ext cx="2695680" cy="2019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ANd9GcRdfhSmLcIktAPP4iI1cecv0cJEgwhepdpCKIOfb9qwRsjYoyHZ"/>
          <p:cNvPicPr/>
          <p:nvPr/>
        </p:nvPicPr>
        <p:blipFill>
          <a:blip r:embed="rId3"/>
          <a:stretch/>
        </p:blipFill>
        <p:spPr>
          <a:xfrm>
            <a:off x="3200400" y="3733920"/>
            <a:ext cx="3200400" cy="2396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quileg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ke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ANd9GcSsZF2_wazJdpkHGlqe-KLl6nfiW4AFyWFngCRC6y_VQIu-Qsa7"/>
          <p:cNvPicPr/>
          <p:nvPr/>
        </p:nvPicPr>
        <p:blipFill>
          <a:blip r:embed="rId1"/>
          <a:stretch/>
        </p:blipFill>
        <p:spPr>
          <a:xfrm>
            <a:off x="5638680" y="1447920"/>
            <a:ext cx="2581560" cy="1771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ANd9GcSFxp_ixn9Nu-DALh5y2Uj0ut56ys5ecHZq7fwpzEJFb4rBPaZd"/>
          <p:cNvPicPr/>
          <p:nvPr/>
        </p:nvPicPr>
        <p:blipFill>
          <a:blip r:embed="rId2"/>
          <a:stretch/>
        </p:blipFill>
        <p:spPr>
          <a:xfrm>
            <a:off x="2895480" y="3352680"/>
            <a:ext cx="3200400" cy="2409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ANd9GcRQ9n2oMfe-zG3qXh_R_yqwzaV0Y0aT-I9QrhBdHvLT-nvpRxHj"/>
          <p:cNvPicPr/>
          <p:nvPr/>
        </p:nvPicPr>
        <p:blipFill>
          <a:blip r:embed="rId3"/>
          <a:stretch/>
        </p:blipFill>
        <p:spPr>
          <a:xfrm>
            <a:off x="990720" y="13716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runcus dioic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iteb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runcus-dioicus-73-090609b"/>
          <p:cNvPicPr/>
          <p:nvPr/>
        </p:nvPicPr>
        <p:blipFill>
          <a:blip r:embed="rId1"/>
          <a:stretch/>
        </p:blipFill>
        <p:spPr>
          <a:xfrm>
            <a:off x="2971800" y="327672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0"/>
          <p:cNvSpPr/>
          <p:nvPr/>
        </p:nvSpPr>
        <p:spPr>
          <a:xfrm>
            <a:off x="3486240" y="2376360"/>
            <a:ext cx="21715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ANd9GcTUnmBM78hHfYiylJA7kC6ess960-mupfyGF9OBiDg_Zdjk-iIErg"/>
          <p:cNvPicPr/>
          <p:nvPr/>
        </p:nvPicPr>
        <p:blipFill>
          <a:blip r:embed="rId2"/>
          <a:stretch/>
        </p:blipFill>
        <p:spPr>
          <a:xfrm>
            <a:off x="6248520" y="1143000"/>
            <a:ext cx="2209680" cy="2066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ANd9GcT5FVl18H5HXm_kTtk5i5daRtH3otp5oeM0PX-5sOdQ37OH5EyezA"/>
          <p:cNvPicPr/>
          <p:nvPr/>
        </p:nvPicPr>
        <p:blipFill>
          <a:blip r:embed="rId3"/>
          <a:stretch/>
        </p:blipFill>
        <p:spPr>
          <a:xfrm>
            <a:off x="914400" y="12952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ster novi-belgii ‘White ladie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fst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ANd9GcQxRyHN6lEpuJWCLRQtRU-VuLZOnSCb5Tb49JzJ6q4Mz5NBbjIAEg"/>
          <p:cNvPicPr/>
          <p:nvPr/>
        </p:nvPicPr>
        <p:blipFill>
          <a:blip r:embed="rId1"/>
          <a:stretch/>
        </p:blipFill>
        <p:spPr>
          <a:xfrm>
            <a:off x="640080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ANd9GcRoNdwqszszcP-iM7bt-uIwPWWAUYJ51XwwVhRksmUODgy5OZt1"/>
          <p:cNvPicPr/>
          <p:nvPr/>
        </p:nvPicPr>
        <p:blipFill>
          <a:blip r:embed="rId2"/>
          <a:stretch/>
        </p:blipFill>
        <p:spPr>
          <a:xfrm>
            <a:off x="1143000" y="16765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3"/>
          <a:stretch/>
        </p:blipFill>
        <p:spPr>
          <a:xfrm>
            <a:off x="2895480" y="3733920"/>
            <a:ext cx="3276720" cy="2100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stilbe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stil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ANd9GcQ-bQV8lh738vXUjSPf_e1k1i3Lz0XsYkR4zMGaxlhtTImCNLV8YQ"/>
          <p:cNvPicPr/>
          <p:nvPr/>
        </p:nvPicPr>
        <p:blipFill>
          <a:blip r:embed="rId1"/>
          <a:stretch/>
        </p:blipFill>
        <p:spPr>
          <a:xfrm>
            <a:off x="2057400" y="3124080"/>
            <a:ext cx="3981600" cy="2640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ANd9GcQr4cR1MMGXRSLeFRU02RkIXZPVfguUEA2W0_0rCXcac_h4w75E3g"/>
          <p:cNvPicPr/>
          <p:nvPr/>
        </p:nvPicPr>
        <p:blipFill>
          <a:blip r:embed="rId2"/>
          <a:stretch/>
        </p:blipFill>
        <p:spPr>
          <a:xfrm>
            <a:off x="762120" y="12193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ANd9GcTGHMEN6ffws992BbXD6UYdj7JkJxmHQshWVS573_n82S2oLuWcqA"/>
          <p:cNvPicPr/>
          <p:nvPr/>
        </p:nvPicPr>
        <p:blipFill>
          <a:blip r:embed="rId3"/>
          <a:stretch/>
        </p:blipFill>
        <p:spPr>
          <a:xfrm>
            <a:off x="6324480" y="1143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ANd9GcT36IT7sqGtO6I9wRkFSEfUgWuhp-7gfue0flvw1euqC3c3eGX_"/>
          <p:cNvPicPr/>
          <p:nvPr/>
        </p:nvPicPr>
        <p:blipFill>
          <a:blip r:embed="rId4"/>
          <a:stretch/>
        </p:blipFill>
        <p:spPr>
          <a:xfrm>
            <a:off x="6324480" y="3733920"/>
            <a:ext cx="183672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strantia major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euwse kn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zeeuws_knoopje_astrantia_major_kopie"/>
          <p:cNvPicPr/>
          <p:nvPr/>
        </p:nvPicPr>
        <p:blipFill>
          <a:blip r:embed="rId1"/>
          <a:stretch/>
        </p:blipFill>
        <p:spPr>
          <a:xfrm>
            <a:off x="5410080" y="1676520"/>
            <a:ext cx="3157560" cy="236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ANd9GcTqv2ggYk_P_wnVktU3Gv3795N-bsEMJNqpTUIsKOw3iYGyymT7yA"/>
          <p:cNvPicPr/>
          <p:nvPr/>
        </p:nvPicPr>
        <p:blipFill>
          <a:blip r:embed="rId2"/>
          <a:stretch/>
        </p:blipFill>
        <p:spPr>
          <a:xfrm>
            <a:off x="762120" y="167652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"/>
          <p:cNvPicPr/>
          <p:nvPr/>
        </p:nvPicPr>
        <p:blipFill>
          <a:blip r:embed="rId3"/>
          <a:stretch/>
        </p:blipFill>
        <p:spPr>
          <a:xfrm>
            <a:off x="3809880" y="2743200"/>
            <a:ext cx="1704960" cy="3176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ma Beemsterboer</cp:lastModifiedBy>
  <dcterms:modified xsi:type="dcterms:W3CDTF">2011-10-04T08:06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