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Aangepaste voorstelling 1" id="0">
      <p:sldLst>
        <p:sld r:id="rId5"/>
        <p:sld r:id="rId6"/>
        <p:sld r:id="rId7"/>
        <p:sld r:id="rId9"/>
        <p:sld r:id="rId11"/>
        <p:sld r:id="rId13"/>
        <p:sld r:id="rId15"/>
        <p:sld r:id="rId17"/>
        <p:sld r:id="rId18"/>
        <p:sld r:id="rId19"/>
      </p:sldLst>
    </p:custShow>
    <p:custShow name="Aangepaste voorstelling 2" id="1">
      <p:sldLst>
        <p:sld r:id="rId5"/>
        <p:sld r:id="rId6"/>
        <p:sld r:id="rId7"/>
        <p:sld r:id="rId10"/>
        <p:sld r:id="rId12"/>
        <p:sld r:id="rId13"/>
        <p:sld r:id="rId14"/>
        <p:sld r:id="rId15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112-687E-43CF-9BB4-4A86008F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29D-B3E7-475D-9B4A-B32E6780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185-30CF-46BA-BB57-2D7AFB49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128-0A7A-4305-B89C-94C5731E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92F-689D-4547-8DE8-4DA98FD5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76B-A509-4247-A0DC-419D9089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E3D-335D-4B00-9D33-2953F9D9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1DB-B7AF-4438-996A-97170E75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2BC-3AB3-42D1-97A7-47563BEC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848-21E6-43EF-A879-63DB3A37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8C5-1E7E-4B82-852B-207DCF47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99E-16C5-4C92-9A7D-8D474C3F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C82D-DDF4-4F3D-9D5C-7565504C0F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nummul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ni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TXS-HbswxaBMRSZ3eI3wuBZKRb2JWfHTg2T78lOTbThIxPoOJ8RQ"/>
          <p:cNvPicPr/>
          <p:nvPr/>
        </p:nvPicPr>
        <p:blipFill>
          <a:blip r:embed="rId1"/>
          <a:stretch/>
        </p:blipFill>
        <p:spPr>
          <a:xfrm>
            <a:off x="1752480" y="1676520"/>
            <a:ext cx="58676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ragmites austr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QJ8d514DcrtgdNmoKkiCV3W8yaJkHD6PEkRG_JIct5SV-5dePvAQ"/>
          <p:cNvPicPr/>
          <p:nvPr/>
        </p:nvPicPr>
        <p:blipFill>
          <a:blip r:embed="rId1"/>
          <a:stretch/>
        </p:blipFill>
        <p:spPr>
          <a:xfrm>
            <a:off x="632448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Ta4142LVEm6_T4LKMo62X122B6sWf_t7It7QZ0tnAlx63_qvOT1w"/>
          <p:cNvPicPr/>
          <p:nvPr/>
        </p:nvPicPr>
        <p:blipFill>
          <a:blip r:embed="rId2"/>
          <a:stretch/>
        </p:blipFill>
        <p:spPr>
          <a:xfrm>
            <a:off x="838080" y="1447920"/>
            <a:ext cx="3302280" cy="46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Tj3OEqB4SoMc4pG9bEMqKM5L6g4_UHcT3OTHoIB-D3Cfj8QAi2"/>
          <p:cNvPicPr/>
          <p:nvPr/>
        </p:nvPicPr>
        <p:blipFill>
          <a:blip r:embed="rId3"/>
          <a:stretch/>
        </p:blipFill>
        <p:spPr>
          <a:xfrm>
            <a:off x="4267080" y="2819520"/>
            <a:ext cx="254340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h1_n7YxdC2hfSn_1VCqXwG3ZwU17ouBldLrTd8RN4RRsEUNnnrA"/>
          <p:cNvPicPr/>
          <p:nvPr/>
        </p:nvPicPr>
        <p:blipFill>
          <a:blip r:embed="rId4"/>
          <a:stretch/>
        </p:blipFill>
        <p:spPr>
          <a:xfrm>
            <a:off x="6858000" y="4697280"/>
            <a:ext cx="204804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yph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lisdod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Nd9GcTSLoW1K4-kWKYm4ajpDRzABzhTRgVv8qxp32Zm9WOwsVQ-BhUz"/>
          <p:cNvPicPr/>
          <p:nvPr/>
        </p:nvPicPr>
        <p:blipFill>
          <a:blip r:embed="rId1"/>
          <a:stretch/>
        </p:blipFill>
        <p:spPr>
          <a:xfrm>
            <a:off x="647712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ANd9GcQNv1UKgijoHWn30jZbW2Gz_wivPOXA-VjEwEhrPsDgBwK3IRHl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SKo1rVniRI9ByXVfoGEPBekSmQK1agZlqbUS3C-S7ddhy3tR-7"/>
          <p:cNvPicPr/>
          <p:nvPr/>
        </p:nvPicPr>
        <p:blipFill>
          <a:blip r:embed="rId3"/>
          <a:stretch/>
        </p:blipFill>
        <p:spPr>
          <a:xfrm>
            <a:off x="838080" y="1905120"/>
            <a:ext cx="4724640" cy="353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tophyllum demers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oornd hoor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Nd9GcSaJ7cYUcG9XzsvaAoZ8osoB7ARmuQlcW7dtq3uXS4YfaYDOz2RzQ"/>
          <p:cNvPicPr/>
          <p:nvPr/>
        </p:nvPicPr>
        <p:blipFill>
          <a:blip r:embed="rId1"/>
          <a:stretch/>
        </p:blipFill>
        <p:spPr>
          <a:xfrm>
            <a:off x="990720" y="1905120"/>
            <a:ext cx="3270240" cy="434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Nd9GcRs6TZjZaKAkW-Sctkcfa-3FYg3NyPGg3JhQXfi1i76TE4zXORQyQ"/>
          <p:cNvPicPr/>
          <p:nvPr/>
        </p:nvPicPr>
        <p:blipFill>
          <a:blip r:embed="rId2"/>
          <a:stretch/>
        </p:blipFill>
        <p:spPr>
          <a:xfrm>
            <a:off x="5181480" y="1905120"/>
            <a:ext cx="2781360" cy="207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Nd9GcSqFSUMVmVnFgFGebaG5hFMfftYSLE0tXa4RwkChXacIvexS0ap"/>
          <p:cNvPicPr/>
          <p:nvPr/>
        </p:nvPicPr>
        <p:blipFill>
          <a:blip r:embed="rId3"/>
          <a:stretch/>
        </p:blipFill>
        <p:spPr>
          <a:xfrm>
            <a:off x="5181480" y="4264200"/>
            <a:ext cx="2819520" cy="191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edoa canad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water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Nd9GcQBSBu6lzu8Vz_fPjSNvA6tM6LDqaTYbjmdmg9HAt257M7m6fPn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ttoni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vio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Nd9GcSyHlk3dtuTK4fTkdEO0zo2N1eI2shh7va7EnWXQmPy0vwVLIWK"/>
          <p:cNvPicPr/>
          <p:nvPr/>
        </p:nvPicPr>
        <p:blipFill>
          <a:blip r:embed="rId1"/>
          <a:stretch/>
        </p:blipFill>
        <p:spPr>
          <a:xfrm>
            <a:off x="5943600" y="43434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jcs-hottonia-palustris-47938"/>
          <p:cNvPicPr/>
          <p:nvPr/>
        </p:nvPicPr>
        <p:blipFill>
          <a:blip r:embed="rId2"/>
          <a:stretch/>
        </p:blipFill>
        <p:spPr>
          <a:xfrm>
            <a:off x="609480" y="2286000"/>
            <a:ext cx="4496040" cy="29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ANd9GcQKCk1_7VQNLWEztqFW6vl-YTBiYJ-unVblPsq15xyxeeD24ueY"/>
          <p:cNvPicPr/>
          <p:nvPr/>
        </p:nvPicPr>
        <p:blipFill>
          <a:blip r:embed="rId3"/>
          <a:stretch/>
        </p:blipFill>
        <p:spPr>
          <a:xfrm>
            <a:off x="6208560" y="14479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quat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waterranon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Ranunculus"/>
          <p:cNvPicPr/>
          <p:nvPr/>
        </p:nvPicPr>
        <p:blipFill>
          <a:blip r:embed="rId1"/>
          <a:stretch/>
        </p:blipFill>
        <p:spPr>
          <a:xfrm>
            <a:off x="5257800" y="4114800"/>
            <a:ext cx="3419640" cy="228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TMJ8-CkQEw9r5hgufIH74Tj9iIsPggVNa71G3v9cRvA_YMXZCv"/>
          <p:cNvPicPr/>
          <p:nvPr/>
        </p:nvPicPr>
        <p:blipFill>
          <a:blip r:embed="rId2"/>
          <a:stretch/>
        </p:blipFill>
        <p:spPr>
          <a:xfrm>
            <a:off x="609480" y="2514600"/>
            <a:ext cx="434340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SV45AvcWnAo8LSSyDK3uPTc12b3tJ3cRPZ_ljYUU8T8w-G3tyYpA"/>
          <p:cNvPicPr/>
          <p:nvPr/>
        </p:nvPicPr>
        <p:blipFill>
          <a:blip r:embed="rId3"/>
          <a:stretch/>
        </p:blipFill>
        <p:spPr>
          <a:xfrm>
            <a:off x="6172200" y="1981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ratiodes a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307Stratiotes_aloides_-_early_summer"/>
          <p:cNvPicPr/>
          <p:nvPr/>
        </p:nvPicPr>
        <p:blipFill>
          <a:blip r:embed="rId1"/>
          <a:stretch/>
        </p:blipFill>
        <p:spPr>
          <a:xfrm>
            <a:off x="609480" y="1905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Emgnk8fBpHsWEXh-YTY6xZHxtFMtMbpkZAFN09hgRzOQpSwwH"/>
          <p:cNvPicPr/>
          <p:nvPr/>
        </p:nvPicPr>
        <p:blipFill>
          <a:blip r:embed="rId2"/>
          <a:stretch/>
        </p:blipFill>
        <p:spPr>
          <a:xfrm>
            <a:off x="6477120" y="411480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ijf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ocharis morsus-ran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kkerb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ANd9GcTA6bj_7OBsGCddUQE4pZbKjqylxBXygtRR-1JJpazmK334ywMjDA"/>
          <p:cNvPicPr/>
          <p:nvPr/>
        </p:nvPicPr>
        <p:blipFill>
          <a:blip r:embed="rId1"/>
          <a:stretch/>
        </p:blipFill>
        <p:spPr>
          <a:xfrm>
            <a:off x="1981080" y="1905120"/>
            <a:ext cx="51008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uphar lut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ANd9GcRT5Xi_28VT2W0yBSpwgRgcLis4nS8aebJCC6Q1tYQKXhlukZy3Mw"/>
          <p:cNvPicPr/>
          <p:nvPr/>
        </p:nvPicPr>
        <p:blipFill>
          <a:blip r:embed="rId1"/>
          <a:stretch/>
        </p:blipFill>
        <p:spPr>
          <a:xfrm>
            <a:off x="838080" y="2133720"/>
            <a:ext cx="4800600" cy="35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ANd9GcSdiUagJQniAr8D3lCQjdzJEmhrJoOKL61Iq5F7oY8Y9RiYbQru"/>
          <p:cNvPicPr/>
          <p:nvPr/>
        </p:nvPicPr>
        <p:blipFill>
          <a:blip r:embed="rId2"/>
          <a:stretch/>
        </p:blipFill>
        <p:spPr>
          <a:xfrm>
            <a:off x="594360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ymphaea alb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Sn-qfesVnDtYfviykN1T3pvur_JZYykv5DYP4oVBB7EO-ldtnl"/>
          <p:cNvPicPr/>
          <p:nvPr/>
        </p:nvPicPr>
        <p:blipFill>
          <a:blip r:embed="rId1"/>
          <a:stretch/>
        </p:blipFill>
        <p:spPr>
          <a:xfrm>
            <a:off x="5867280" y="44197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QUr2h1OvQ-LyptxXI2ROv7kJ_ymclq7Rjak1JAfhWEsE1ASXehAg"/>
          <p:cNvPicPr/>
          <p:nvPr/>
        </p:nvPicPr>
        <p:blipFill>
          <a:blip r:embed="rId2"/>
          <a:stretch/>
        </p:blipFill>
        <p:spPr>
          <a:xfrm>
            <a:off x="5867280" y="2209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SBRrECEbr0bk7pKN2SlerQrqE-srzhUw-Yf8V0dngV4ExYH0tR"/>
          <p:cNvPicPr/>
          <p:nvPr/>
        </p:nvPicPr>
        <p:blipFill>
          <a:blip r:embed="rId3"/>
          <a:stretch/>
        </p:blipFill>
        <p:spPr>
          <a:xfrm>
            <a:off x="990720" y="2514600"/>
            <a:ext cx="449568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tomus umbel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S-QlaicfyP6NeIcVq-VT66fdayhqz-kvjbtu1qVbKlhvCcJoznBw"/>
          <p:cNvPicPr/>
          <p:nvPr/>
        </p:nvPicPr>
        <p:blipFill>
          <a:blip r:embed="rId1"/>
          <a:stretch/>
        </p:blipFill>
        <p:spPr>
          <a:xfrm>
            <a:off x="4724280" y="3392640"/>
            <a:ext cx="353376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ANd9GcTZizSntHzLzeUFDjsh5sWMNVQCpDWdPH5sFgSC2O6lP3Km5bRAHg"/>
          <p:cNvPicPr/>
          <p:nvPr/>
        </p:nvPicPr>
        <p:blipFill>
          <a:blip r:embed="rId2"/>
          <a:stretch/>
        </p:blipFill>
        <p:spPr>
          <a:xfrm>
            <a:off x="1143000" y="1676520"/>
            <a:ext cx="345924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th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Nd9GcRq2Izc_FF0E6JUzG4HSf_d_fZzcj3sJUdftCHvuvbU8me1RkBU"/>
          <p:cNvPicPr/>
          <p:nvPr/>
        </p:nvPicPr>
        <p:blipFill>
          <a:blip r:embed="rId1"/>
          <a:stretch/>
        </p:blipFill>
        <p:spPr>
          <a:xfrm>
            <a:off x="838080" y="1600200"/>
            <a:ext cx="4496040" cy="336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Qz-1Rai7VVXn42r00ke5bc3nALKry0bLlexIUOH5ttk7Q5tegDSw"/>
          <p:cNvPicPr/>
          <p:nvPr/>
        </p:nvPicPr>
        <p:blipFill>
          <a:blip r:embed="rId2"/>
          <a:stretch/>
        </p:blipFill>
        <p:spPr>
          <a:xfrm>
            <a:off x="5410080" y="3581280"/>
            <a:ext cx="297180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pseudacor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rx1238102821l"/>
          <p:cNvPicPr/>
          <p:nvPr/>
        </p:nvPicPr>
        <p:blipFill>
          <a:blip r:embed="rId1"/>
          <a:stretch/>
        </p:blipFill>
        <p:spPr>
          <a:xfrm>
            <a:off x="6019920" y="3803760"/>
            <a:ext cx="2676240" cy="261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ANd9GcRYep_R-f_lZrqnmX92Rk7J3GRAGdZvsk3JMcSJexWfJi2oJZ9xVA"/>
          <p:cNvPicPr/>
          <p:nvPr/>
        </p:nvPicPr>
        <p:blipFill>
          <a:blip r:embed="rId2"/>
          <a:stretch/>
        </p:blipFill>
        <p:spPr>
          <a:xfrm>
            <a:off x="533520" y="1371600"/>
            <a:ext cx="314640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Tk_Ez-JU5cZccHcpFfXTbZN-yQxb0IKBVlFQ5QSKBBlP_J1yz_"/>
          <p:cNvPicPr/>
          <p:nvPr/>
        </p:nvPicPr>
        <p:blipFill>
          <a:blip r:embed="rId3"/>
          <a:stretch/>
        </p:blipFill>
        <p:spPr>
          <a:xfrm>
            <a:off x="3809880" y="3809880"/>
            <a:ext cx="1990800" cy="134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ANd9GcTzMe8jGrGI7k9PfRX5OaGmabezENyyfhQG0xAriNOSLJnIM7TO"/>
          <p:cNvPicPr/>
          <p:nvPr/>
        </p:nvPicPr>
        <p:blipFill>
          <a:blip r:embed="rId4"/>
          <a:stretch/>
        </p:blipFill>
        <p:spPr>
          <a:xfrm>
            <a:off x="5486400" y="1143000"/>
            <a:ext cx="31528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10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