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  <p:custShowLst>
    <p:custShow name="Aangepaste voorstelling 1" id="0">
      <p:sldLst>
        <p:sld r:id="rId3"/>
        <p:sld r:id="rId4"/>
        <p:sld r:id="rId5"/>
        <p:sld r:id="rId6"/>
        <p:sld r:id="rId7"/>
        <p:sld r:id="rId8"/>
        <p:sld r:id="rId9"/>
        <p:sld r:id="rId10"/>
      </p:sldLst>
    </p:custShow>
    <p:custShow name="Aangepaste voorstelling 2" id="1">
      <p:sldLst>
        <p:sld r:id="rId10"/>
        <p:sld r:id="rId9"/>
        <p:sld r:id="rId8"/>
        <p:sld r:id="rId7"/>
        <p:sld r:id="rId6"/>
        <p:sld r:id="rId5"/>
        <p:sld r:id="rId4"/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FAC1-4EF5-4FDA-AD9B-E2AC825D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33A5-8B1F-43EA-805F-35854F8A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8D0B-72C2-4195-AEA7-39EA3922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DC39-F45E-4ECF-8996-9EF999F9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0CFD-E366-4B9A-9D28-CFA5D8CA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766-FB46-4EE8-9125-004B3163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C86-B670-44DA-A457-B7A3FA3A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3F86-BFFA-4D9B-AE87-EBA9CDD0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4B5-1617-44D0-B8D2-78069DF3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225-DA9E-4043-9045-199D606D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8CDF-C26C-4BD1-9930-1AE60ACD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E64-EABE-4C74-846C-2CF2017B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9021-A5E2-4CDA-BCD2-8057CBEA4C8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ric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una vulg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ik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Q-K9r7oyvg9UTQelYM6il2F9MG2H_z1O1P9gzW8gSdLn4VKJtR"/>
          <p:cNvPicPr/>
          <p:nvPr/>
        </p:nvPicPr>
        <p:blipFill>
          <a:blip r:embed="rId1"/>
          <a:stretch/>
        </p:blipFill>
        <p:spPr>
          <a:xfrm>
            <a:off x="914400" y="1905120"/>
            <a:ext cx="4038480" cy="3431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d9GcSl17dTY5_iAoIJzNOBSKXpVvEfwqxwvW4dxmTryKlOR9QFVe0MTg"/>
          <p:cNvPicPr/>
          <p:nvPr/>
        </p:nvPicPr>
        <p:blipFill>
          <a:blip r:embed="rId2"/>
          <a:stretch/>
        </p:blipFill>
        <p:spPr>
          <a:xfrm>
            <a:off x="5638680" y="1905120"/>
            <a:ext cx="25686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ica carn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ANd9GcQcSle9NbQ3XsroHFBEuCup2I3JpnkPxgxzpwgHcnKafVKzVcOZ2Q"/>
          <p:cNvPicPr/>
          <p:nvPr/>
        </p:nvPicPr>
        <p:blipFill>
          <a:blip r:embed="rId1"/>
          <a:stretch/>
        </p:blipFill>
        <p:spPr>
          <a:xfrm>
            <a:off x="59436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ANd9GcTIcrTzVgxIZZpKBYdQB_3KjbxO7ZTO4jlSfl8BE9R1_d0hsY6A"/>
          <p:cNvPicPr/>
          <p:nvPr/>
        </p:nvPicPr>
        <p:blipFill>
          <a:blip r:embed="rId2"/>
          <a:stretch/>
        </p:blipFill>
        <p:spPr>
          <a:xfrm>
            <a:off x="5943600" y="3832200"/>
            <a:ext cx="2523960" cy="234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ANd9GcQD8YV44FNpLzWKf-F42ECMZZvzOsHNKaSEaBP2K7uPqbI3lsbMFQ"/>
          <p:cNvPicPr/>
          <p:nvPr/>
        </p:nvPicPr>
        <p:blipFill>
          <a:blip r:embed="rId3"/>
          <a:stretch/>
        </p:blipFill>
        <p:spPr>
          <a:xfrm>
            <a:off x="1447920" y="24382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ica Tetralix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dop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3681360" y="2143080"/>
            <a:ext cx="17812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040801-erica-tetralix-1"/>
          <p:cNvPicPr/>
          <p:nvPr/>
        </p:nvPicPr>
        <p:blipFill>
          <a:blip r:embed="rId1"/>
          <a:stretch/>
        </p:blipFill>
        <p:spPr>
          <a:xfrm>
            <a:off x="6553080" y="685800"/>
            <a:ext cx="1725840" cy="24908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Erica"/>
          <p:cNvPicPr/>
          <p:nvPr/>
        </p:nvPicPr>
        <p:blipFill>
          <a:blip r:embed="rId2"/>
          <a:stretch/>
        </p:blipFill>
        <p:spPr>
          <a:xfrm>
            <a:off x="4876920" y="3962520"/>
            <a:ext cx="3504960" cy="23382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2"/>
          <p:cNvSpPr/>
          <p:nvPr/>
        </p:nvSpPr>
        <p:spPr>
          <a:xfrm>
            <a:off x="3648240" y="2190600"/>
            <a:ext cx="184752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3457440" y="2405160"/>
            <a:ext cx="222912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EricaTetralix"/>
          <p:cNvPicPr/>
          <p:nvPr/>
        </p:nvPicPr>
        <p:blipFill>
          <a:blip r:embed="rId3"/>
          <a:stretch/>
        </p:blipFill>
        <p:spPr>
          <a:xfrm>
            <a:off x="762120" y="1752480"/>
            <a:ext cx="3396960" cy="4562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ultheria procumb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ulth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ANd9GcRwbht6BYZ8gEj85mVIKfQBCM2nYoa_oEOeaUQwADJ1zNWKyths"/>
          <p:cNvPicPr/>
          <p:nvPr/>
        </p:nvPicPr>
        <p:blipFill>
          <a:blip r:embed="rId1"/>
          <a:stretch/>
        </p:blipFill>
        <p:spPr>
          <a:xfrm>
            <a:off x="609480" y="2057400"/>
            <a:ext cx="4419720" cy="330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ANd9GcRFT8sgHO2XY3Mxsb3zSERs4TdJ5f1mIsCfwD7-QGlkZH4BGQa87Q"/>
          <p:cNvPicPr/>
          <p:nvPr/>
        </p:nvPicPr>
        <p:blipFill>
          <a:blip r:embed="rId2"/>
          <a:stretch/>
        </p:blipFill>
        <p:spPr>
          <a:xfrm>
            <a:off x="5486400" y="2514600"/>
            <a:ext cx="327672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nettya mucron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nett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ANd9GcQzmIl3xf8og3fNZ7LG50UqEKQOkQOviIvW_HR2K1MFltJ5d8Yq"/>
          <p:cNvPicPr/>
          <p:nvPr/>
        </p:nvPicPr>
        <p:blipFill>
          <a:blip r:embed="rId1"/>
          <a:stretch/>
        </p:blipFill>
        <p:spPr>
          <a:xfrm>
            <a:off x="4724280" y="1828800"/>
            <a:ext cx="2847960" cy="189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ANd9GcR82xHO5UPssocoQqwriW_mLRIOXotQHw2uJ8PPFCCHIWeX_Rxx"/>
          <p:cNvPicPr/>
          <p:nvPr/>
        </p:nvPicPr>
        <p:blipFill>
          <a:blip r:embed="rId2"/>
          <a:stretch/>
        </p:blipFill>
        <p:spPr>
          <a:xfrm>
            <a:off x="4724280" y="380988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ANd9GcSZIKJjIOQphzDZPqpF2zn0IlXSzm4mOL_2CYZe4UweKta6xL_m"/>
          <p:cNvPicPr/>
          <p:nvPr/>
        </p:nvPicPr>
        <p:blipFill>
          <a:blip r:embed="rId3"/>
          <a:stretch/>
        </p:blipFill>
        <p:spPr>
          <a:xfrm>
            <a:off x="1905120" y="1828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ANd9GcRuMF-Zca8UsyZNrLIc9fgPDGX-Fop0vDhSfMb52tYONG7XBvji"/>
          <p:cNvPicPr/>
          <p:nvPr/>
        </p:nvPicPr>
        <p:blipFill>
          <a:blip r:embed="rId4"/>
          <a:stretch/>
        </p:blipFill>
        <p:spPr>
          <a:xfrm>
            <a:off x="1981080" y="38098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eris floribund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e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ANd9GcTiQgtlkp1IzTRntMNo_5rqFbEaFyDUqwgt2sjnRzIPobtes3WK"/>
          <p:cNvPicPr/>
          <p:nvPr/>
        </p:nvPicPr>
        <p:blipFill>
          <a:blip r:embed="rId1"/>
          <a:stretch/>
        </p:blipFill>
        <p:spPr>
          <a:xfrm>
            <a:off x="5410080" y="1752480"/>
            <a:ext cx="2695680" cy="179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ANd9GcSavVPMn_1vJbS3mIb2QmYLnn2Rc-p3K3dU3VTfvGah26g9F98HAw"/>
          <p:cNvPicPr/>
          <p:nvPr/>
        </p:nvPicPr>
        <p:blipFill>
          <a:blip r:embed="rId2"/>
          <a:stretch/>
        </p:blipFill>
        <p:spPr>
          <a:xfrm>
            <a:off x="990720" y="2286000"/>
            <a:ext cx="3733560" cy="2786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ANd9GcSndOyo6pc6Ld6vZF-ejulQ0ybXXNgY-6BjFmdRAVZ4EQEZVFiMYg"/>
          <p:cNvPicPr/>
          <p:nvPr/>
        </p:nvPicPr>
        <p:blipFill>
          <a:blip r:embed="rId3"/>
          <a:stretch/>
        </p:blipFill>
        <p:spPr>
          <a:xfrm>
            <a:off x="5410080" y="3809880"/>
            <a:ext cx="2743200" cy="2054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hododendron (Catawbiense Groep) ‘Catawbiens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bladige rhododen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S-O7m57E1FTomNyNC4-nJwZwYh8pxCrmJIQWBVeEW-yv5iD9aHXg"/>
          <p:cNvPicPr/>
          <p:nvPr/>
        </p:nvPicPr>
        <p:blipFill>
          <a:blip r:embed="rId1"/>
          <a:stretch/>
        </p:blipFill>
        <p:spPr>
          <a:xfrm>
            <a:off x="6172200" y="4343400"/>
            <a:ext cx="2133720" cy="1604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ANd9GcRhjoO97Ow6YfwAu1wUg6UzPlESOum2pME-im3YwBNEWqYMO-3e"/>
          <p:cNvPicPr/>
          <p:nvPr/>
        </p:nvPicPr>
        <p:blipFill>
          <a:blip r:embed="rId2"/>
          <a:stretch/>
        </p:blipFill>
        <p:spPr>
          <a:xfrm>
            <a:off x="5638680" y="2209680"/>
            <a:ext cx="2581560" cy="1771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Smgt9Nyx4Esnp03rdEPB2Yo0bvSFFHij5UaR49Ghi2O3ngfF_cIw"/>
          <p:cNvPicPr/>
          <p:nvPr/>
        </p:nvPicPr>
        <p:blipFill>
          <a:blip r:embed="rId3"/>
          <a:stretch/>
        </p:blipFill>
        <p:spPr>
          <a:xfrm>
            <a:off x="1295280" y="2514600"/>
            <a:ext cx="3810240" cy="2854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51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