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102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03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104.jpeg" ContentType="image/jpeg"/>
  <Override PartName="/ppt/media/image8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Aangepaste voorstelling 1" id="0">
      <p:sldLst>
        <p:sld r:id="rId4"/>
        <p:sld r:id="rId6"/>
        <p:sld r:id="rId8"/>
        <p:sld r:id="rId10"/>
        <p:sld r:id="rId12"/>
        <p:sld r:id="rId14"/>
        <p:sld r:id="rId16"/>
        <p:sld r:id="rId18"/>
        <p:sld r:id="rId20"/>
        <p:sld r:id="rId22"/>
      </p:sldLst>
    </p:custShow>
    <p:custShow name="Aangepaste voorstelling 2" id="1">
      <p:sldLst>
        <p:sld r:id="rId5"/>
        <p:sld r:id="rId7"/>
        <p:sld r:id="rId9"/>
        <p:sld r:id="rId11"/>
        <p:sld r:id="rId13"/>
        <p:sld r:id="rId15"/>
        <p:sld r:id="rId17"/>
        <p:sld r:id="rId19"/>
        <p:sld r:id="rId21"/>
        <p:sld r:id="rId2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2880-FD78-4E8C-B4E2-98A12DDA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C40C-E9A1-4A6A-B71D-66B6F176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74AC-07E1-4693-AE3F-0DE7B1FCD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EA29-17D5-4D5B-98DF-CA8272281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6EA5-08A8-4D41-8D59-086E509A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3D4F-73DC-44B6-BCD0-FC46FABE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183E-0B3C-4EBA-B2AC-ED5D3DFB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5881-B026-4840-8F49-88BD88AA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8EBC-556B-4347-AC84-5221E4AC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8CFF-586C-45DE-AF12-F2B882B5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1803-8EC2-4619-B5B2-0EFEC816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6BF7-EB59-4DCB-BC62-1D3D6849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2E60-9728-424F-BBA4-3713E5A10FA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image" Target="../media/image7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image" Target="../media/image81.jpeg"/><Relationship Id="rId6" Type="http://schemas.openxmlformats.org/officeDocument/2006/relationships/image" Target="../media/image82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image" Target="../media/image86.jpeg"/><Relationship Id="rId5" Type="http://schemas.openxmlformats.org/officeDocument/2006/relationships/image" Target="../media/image87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jpeg"/><Relationship Id="rId3" Type="http://schemas.openxmlformats.org/officeDocument/2006/relationships/image" Target="../media/image90.jpeg"/><Relationship Id="rId4" Type="http://schemas.openxmlformats.org/officeDocument/2006/relationships/image" Target="../media/image91.jpeg"/><Relationship Id="rId5" Type="http://schemas.openxmlformats.org/officeDocument/2006/relationships/image" Target="../media/image9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image" Target="../media/image97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image" Target="../media/image99.jpeg"/><Relationship Id="rId3" Type="http://schemas.openxmlformats.org/officeDocument/2006/relationships/image" Target="../media/image100.jpeg"/><Relationship Id="rId4" Type="http://schemas.openxmlformats.org/officeDocument/2006/relationships/image" Target="../media/image101.jpeg"/><Relationship Id="rId5" Type="http://schemas.openxmlformats.org/officeDocument/2006/relationships/image" Target="../media/image102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image" Target="../media/image104.jpeg"/><Relationship Id="rId3" Type="http://schemas.openxmlformats.org/officeDocument/2006/relationships/image" Target="../media/image105.jpeg"/><Relationship Id="rId4" Type="http://schemas.openxmlformats.org/officeDocument/2006/relationships/image" Target="../media/image106.jpeg"/><Relationship Id="rId5" Type="http://schemas.openxmlformats.org/officeDocument/2006/relationships/image" Target="../media/image10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splants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agus sylvat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be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0" descr="fagus-sylvatica-5"/>
          <p:cNvPicPr/>
          <p:nvPr/>
        </p:nvPicPr>
        <p:blipFill>
          <a:blip r:embed="rId1"/>
          <a:stretch/>
        </p:blipFill>
        <p:spPr>
          <a:xfrm>
            <a:off x="990720" y="1600200"/>
            <a:ext cx="2438280" cy="1832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ANd9GcS8GKmgyiDYeuj51HZROHYOHPqi-38z6MaP_D6AIFtfR9qNLkqjpw"/>
          <p:cNvPicPr/>
          <p:nvPr/>
        </p:nvPicPr>
        <p:blipFill>
          <a:blip r:embed="rId2"/>
          <a:stretch/>
        </p:blipFill>
        <p:spPr>
          <a:xfrm>
            <a:off x="990720" y="45720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ANd9GcTpyc62wjSbBjwmKrqZKzeUIEZre3H4cRrJUSeDpYTxg6iQQQuk"/>
          <p:cNvPicPr/>
          <p:nvPr/>
        </p:nvPicPr>
        <p:blipFill>
          <a:blip r:embed="rId3"/>
          <a:stretch/>
        </p:blipFill>
        <p:spPr>
          <a:xfrm>
            <a:off x="3505320" y="4419720"/>
            <a:ext cx="2238120" cy="1676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8" descr="ANd9GcTaKFtpkVvTReswn6VgDhehC7CaD0iVUL833wWsJNUf_RBKmsTZ"/>
          <p:cNvPicPr/>
          <p:nvPr/>
        </p:nvPicPr>
        <p:blipFill>
          <a:blip r:embed="rId4"/>
          <a:stretch/>
        </p:blipFill>
        <p:spPr>
          <a:xfrm>
            <a:off x="3581280" y="16002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0" descr="ANd9GcQUPl2WMdIWQP5471I6Na3odZ8nG9UjS0roe-ILceSArKwkMmBq"/>
          <p:cNvPicPr/>
          <p:nvPr/>
        </p:nvPicPr>
        <p:blipFill>
          <a:blip r:embed="rId5"/>
          <a:stretch/>
        </p:blipFill>
        <p:spPr>
          <a:xfrm>
            <a:off x="6553080" y="3657600"/>
            <a:ext cx="1719360" cy="2514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ANd9GcQXWHFGXB6mgOuYKXXsFljtztF9Vn-NbiWtsW6nTPZOMJf-cAI0ow"/>
          <p:cNvPicPr/>
          <p:nvPr/>
        </p:nvPicPr>
        <p:blipFill>
          <a:blip r:embed="rId6"/>
          <a:stretch/>
        </p:blipFill>
        <p:spPr>
          <a:xfrm>
            <a:off x="6477120" y="762120"/>
            <a:ext cx="177480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raxinus excelsior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ANd9GcQonzGbUaMT0wzeFZ4daE4T5Rmn7fnAZv_62dyEylnpg640Uu7U"/>
          <p:cNvPicPr/>
          <p:nvPr/>
        </p:nvPicPr>
        <p:blipFill>
          <a:blip r:embed="rId1"/>
          <a:stretch/>
        </p:blipFill>
        <p:spPr>
          <a:xfrm>
            <a:off x="1143000" y="152388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ANd9GcS4o9TQGBuKQ0LmLPJInnOnt2u3v4SCUpQyFwN_1DimrDfTQGkO"/>
          <p:cNvPicPr/>
          <p:nvPr/>
        </p:nvPicPr>
        <p:blipFill>
          <a:blip r:embed="rId2"/>
          <a:stretch/>
        </p:blipFill>
        <p:spPr>
          <a:xfrm>
            <a:off x="1143000" y="3733920"/>
            <a:ext cx="1754280" cy="2333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ANd9GcT6cKKD4jx9EuEOdTIYJ5mACnYuxNsKyaPWQt338yyxyUmjV44K"/>
          <p:cNvPicPr/>
          <p:nvPr/>
        </p:nvPicPr>
        <p:blipFill>
          <a:blip r:embed="rId3"/>
          <a:stretch/>
        </p:blipFill>
        <p:spPr>
          <a:xfrm>
            <a:off x="6095880" y="41911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ANd9GcSkX_0FeECvrCjOYmDtpr87CyVpuro-XlqfVcd0LR0EBZSyKWRS"/>
          <p:cNvPicPr/>
          <p:nvPr/>
        </p:nvPicPr>
        <p:blipFill>
          <a:blip r:embed="rId4"/>
          <a:stretch/>
        </p:blipFill>
        <p:spPr>
          <a:xfrm>
            <a:off x="3276720" y="4191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6" descr="ANd9GcSf4E9SMkl4qbSeIkHXVJFSqcvK2qq3rzobwmhKx38woXfBzF4dvg"/>
          <p:cNvPicPr/>
          <p:nvPr/>
        </p:nvPicPr>
        <p:blipFill>
          <a:blip r:embed="rId5"/>
          <a:stretch/>
        </p:blipFill>
        <p:spPr>
          <a:xfrm>
            <a:off x="5562720" y="1447920"/>
            <a:ext cx="2923920" cy="2190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pulus alb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beel; witte pop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3747960" y="2809800"/>
            <a:ext cx="16480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ANd9GcSJqqqsLj00OGlhNtvoclLaOnqGr8dh7WtDlZ6NE0116516YeWA9A"/>
          <p:cNvPicPr/>
          <p:nvPr/>
        </p:nvPicPr>
        <p:blipFill>
          <a:blip r:embed="rId1"/>
          <a:stretch/>
        </p:blipFill>
        <p:spPr>
          <a:xfrm>
            <a:off x="6477120" y="1295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Populus_alba_trunk"/>
          <p:cNvPicPr/>
          <p:nvPr/>
        </p:nvPicPr>
        <p:blipFill>
          <a:blip r:embed="rId2"/>
          <a:stretch/>
        </p:blipFill>
        <p:spPr>
          <a:xfrm>
            <a:off x="5943600" y="426708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ANd9GcT8roO4TgydGKjYIo-Jb-ovSNUNqYQjXoEbSuG8Hv-rnlXwTN42"/>
          <p:cNvPicPr/>
          <p:nvPr/>
        </p:nvPicPr>
        <p:blipFill>
          <a:blip r:embed="rId3"/>
          <a:stretch/>
        </p:blipFill>
        <p:spPr>
          <a:xfrm>
            <a:off x="3657600" y="2133720"/>
            <a:ext cx="2089080" cy="3138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ANd9GcRB0asRiKO9tX-oQKDzQlSpZ3OlDOZc4Orj-pPeLggRkFYJMleX"/>
          <p:cNvPicPr/>
          <p:nvPr/>
        </p:nvPicPr>
        <p:blipFill>
          <a:blip r:embed="rId4"/>
          <a:stretch/>
        </p:blipFill>
        <p:spPr>
          <a:xfrm>
            <a:off x="914400" y="1295280"/>
            <a:ext cx="2235240" cy="2743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ANd9GcTWqoyE2TMwKjnee7o143G28-LEKGooiPu6woB7I-vNdoQHZasO"/>
          <p:cNvPicPr/>
          <p:nvPr/>
        </p:nvPicPr>
        <p:blipFill>
          <a:blip r:embed="rId5"/>
          <a:stretch/>
        </p:blipFill>
        <p:spPr>
          <a:xfrm>
            <a:off x="838080" y="43434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pulus canadens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nadese pop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ANd9GcQIGZhyVU-jiKqUup3cRrX5Q4ugps5CylLBxnTZyKlsz7CYuYWDKg"/>
          <p:cNvPicPr/>
          <p:nvPr/>
        </p:nvPicPr>
        <p:blipFill>
          <a:blip r:embed="rId1"/>
          <a:stretch/>
        </p:blipFill>
        <p:spPr>
          <a:xfrm>
            <a:off x="1295280" y="1447920"/>
            <a:ext cx="2467080" cy="1857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ANd9GcSAQ0dCHSUSlLNNtpCES0weiJXyDcVqbzLV_tkfw4Pbh7qzDJkD"/>
          <p:cNvPicPr/>
          <p:nvPr/>
        </p:nvPicPr>
        <p:blipFill>
          <a:blip r:embed="rId2"/>
          <a:stretch/>
        </p:blipFill>
        <p:spPr>
          <a:xfrm>
            <a:off x="4038480" y="2362320"/>
            <a:ext cx="2283120" cy="3047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ANd9GcSlA3MhyTftdBaWEky7iTFpFHv_eURoBRe1dX2KwaEhcOK6T_LGNQ"/>
          <p:cNvPicPr/>
          <p:nvPr/>
        </p:nvPicPr>
        <p:blipFill>
          <a:blip r:embed="rId3"/>
          <a:stretch/>
        </p:blipFill>
        <p:spPr>
          <a:xfrm>
            <a:off x="1295280" y="3429000"/>
            <a:ext cx="1752840" cy="2610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ANd9GcQsG58NWMs6HEZAck-fFe7_5biAlD6cEpiT9ZIFCTbDkkXL_HRu"/>
          <p:cNvPicPr/>
          <p:nvPr/>
        </p:nvPicPr>
        <p:blipFill>
          <a:blip r:embed="rId4"/>
          <a:stretch/>
        </p:blipFill>
        <p:spPr>
          <a:xfrm>
            <a:off x="6705720" y="14479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ANd9GcRWRtdCvTHJx8VRyNJFcSsWEDsrhzymZG59XnWdXytaLGXcHFjVdg"/>
          <p:cNvPicPr/>
          <p:nvPr/>
        </p:nvPicPr>
        <p:blipFill>
          <a:blip r:embed="rId5"/>
          <a:stretch/>
        </p:blipFill>
        <p:spPr>
          <a:xfrm>
            <a:off x="6477120" y="41911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avium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lde kers+ boskr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3676680" y="2833560"/>
            <a:ext cx="17906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Prunus_avium"/>
          <p:cNvPicPr/>
          <p:nvPr/>
        </p:nvPicPr>
        <p:blipFill>
          <a:blip r:embed="rId1"/>
          <a:stretch/>
        </p:blipFill>
        <p:spPr>
          <a:xfrm>
            <a:off x="3124080" y="2362320"/>
            <a:ext cx="3124440" cy="2082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ANd9GcSLepjISdWXmcZFMCxN0pa0uAJkzXnjNeZu8KBHyUKuTrNlOVy5"/>
          <p:cNvPicPr/>
          <p:nvPr/>
        </p:nvPicPr>
        <p:blipFill>
          <a:blip r:embed="rId2"/>
          <a:stretch/>
        </p:blipFill>
        <p:spPr>
          <a:xfrm>
            <a:off x="838080" y="36576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ANd9GcSzCuGkyP8zWlXok3lm7EhdzKnhduVWQ2pqxJZ33iZNIzCkH566"/>
          <p:cNvPicPr/>
          <p:nvPr/>
        </p:nvPicPr>
        <p:blipFill>
          <a:blip r:embed="rId3"/>
          <a:stretch/>
        </p:blipFill>
        <p:spPr>
          <a:xfrm>
            <a:off x="6324480" y="4267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ANd9GcTGLoI7lmt92mBrDjXETNiTP2_Ly72uHMZ3GIF9QT-14134U0c"/>
          <p:cNvPicPr/>
          <p:nvPr/>
        </p:nvPicPr>
        <p:blipFill>
          <a:blip r:embed="rId4"/>
          <a:stretch/>
        </p:blipFill>
        <p:spPr>
          <a:xfrm>
            <a:off x="838080" y="914400"/>
            <a:ext cx="1819440" cy="2514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ANd9GcQg2mGZtHEaCK9_DRLTND43h3GW7nMpg9Dn1IRlxMAxC7uO4Een"/>
          <p:cNvPicPr/>
          <p:nvPr/>
        </p:nvPicPr>
        <p:blipFill>
          <a:blip r:embed="rId5"/>
          <a:stretch/>
        </p:blipFill>
        <p:spPr>
          <a:xfrm>
            <a:off x="6858000" y="13716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Quercus robur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mere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quercus-robur-tree-traditional"/>
          <p:cNvPicPr/>
          <p:nvPr/>
        </p:nvPicPr>
        <p:blipFill>
          <a:blip r:embed="rId1"/>
          <a:stretch/>
        </p:blipFill>
        <p:spPr>
          <a:xfrm>
            <a:off x="3200400" y="2438280"/>
            <a:ext cx="2981160" cy="2738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ANd9GcTGXEYGzyGL-S7EScLsHrFWyyLyifdXAoJq4sJ6zLN2PLazuSQI"/>
          <p:cNvPicPr/>
          <p:nvPr/>
        </p:nvPicPr>
        <p:blipFill>
          <a:blip r:embed="rId2"/>
          <a:stretch/>
        </p:blipFill>
        <p:spPr>
          <a:xfrm>
            <a:off x="533520" y="39625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ANd9GcRRUhzZGci2WMX-HDeiBiQsxYoj0NF_PL5ZEF6g0JFbDkb5Aznv"/>
          <p:cNvPicPr/>
          <p:nvPr/>
        </p:nvPicPr>
        <p:blipFill>
          <a:blip r:embed="rId3"/>
          <a:stretch/>
        </p:blipFill>
        <p:spPr>
          <a:xfrm>
            <a:off x="609480" y="1143000"/>
            <a:ext cx="1828800" cy="2476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ANd9GcQIleWIXcCOsujsh-dA7FSc045QSeksWni3U210GANE-y__3w5P0w"/>
          <p:cNvPicPr/>
          <p:nvPr/>
        </p:nvPicPr>
        <p:blipFill>
          <a:blip r:embed="rId4"/>
          <a:stretch/>
        </p:blipFill>
        <p:spPr>
          <a:xfrm>
            <a:off x="6248520" y="1295280"/>
            <a:ext cx="2485800" cy="1838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4" descr="ANd9GcSp8EBCGmePbQKu6E70FAC3GPFYi1f4wD3zoIt2aDmvFKBZe81VFw"/>
          <p:cNvPicPr/>
          <p:nvPr/>
        </p:nvPicPr>
        <p:blipFill>
          <a:blip r:embed="rId5"/>
          <a:stretch/>
        </p:blipFill>
        <p:spPr>
          <a:xfrm>
            <a:off x="6248520" y="4133880"/>
            <a:ext cx="2361960" cy="1771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Quercus rubr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merikaanse e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ANd9GcTsXtR7rmzsHQzXvfBSo268x0RjGQqwaboBTmxeapDbapUFqq9r"/>
          <p:cNvPicPr/>
          <p:nvPr/>
        </p:nvPicPr>
        <p:blipFill>
          <a:blip r:embed="rId1"/>
          <a:stretch/>
        </p:blipFill>
        <p:spPr>
          <a:xfrm>
            <a:off x="3048120" y="2438280"/>
            <a:ext cx="3214440" cy="2408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ANd9GcQP_bXH5lwXB-cTjuNITsqpKkG1i3lFgYnv5c3d0rdwJu9epfLy"/>
          <p:cNvPicPr/>
          <p:nvPr/>
        </p:nvPicPr>
        <p:blipFill>
          <a:blip r:embed="rId2"/>
          <a:stretch/>
        </p:blipFill>
        <p:spPr>
          <a:xfrm>
            <a:off x="609480" y="3962520"/>
            <a:ext cx="2266920" cy="2019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ANd9GcTIe8LT9R3brcHw-C7X0v4bXiU8d3Rt6eTdLmHFrYvdtUNtqbM-kg"/>
          <p:cNvPicPr/>
          <p:nvPr/>
        </p:nvPicPr>
        <p:blipFill>
          <a:blip r:embed="rId3"/>
          <a:stretch/>
        </p:blipFill>
        <p:spPr>
          <a:xfrm>
            <a:off x="685800" y="1447920"/>
            <a:ext cx="2124000" cy="2152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ANd9GcS41wxNKUUojt91Cm01OXpKULVEd64tXxW9acde9iEQ3zA57MYU6A"/>
          <p:cNvPicPr/>
          <p:nvPr/>
        </p:nvPicPr>
        <p:blipFill>
          <a:blip r:embed="rId4"/>
          <a:stretch/>
        </p:blipFill>
        <p:spPr>
          <a:xfrm>
            <a:off x="6248520" y="13716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ANd9GcTv0hnE3q594ICJ02tFmMRphDY-VzNtAUlCH8uTP47oMTt8Qyh1"/>
          <p:cNvPicPr/>
          <p:nvPr/>
        </p:nvPicPr>
        <p:blipFill>
          <a:blip r:embed="rId5"/>
          <a:stretch/>
        </p:blipFill>
        <p:spPr>
          <a:xfrm>
            <a:off x="6400800" y="4267080"/>
            <a:ext cx="2190600" cy="1679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obinia pseudoacaci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lse aca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ANd9GcSdF4bbCF6jGOdnJbIj790ev8gd0PhYl_z0uqaPYN5H8_bqpkEt"/>
          <p:cNvPicPr/>
          <p:nvPr/>
        </p:nvPicPr>
        <p:blipFill>
          <a:blip r:embed="rId1"/>
          <a:stretch/>
        </p:blipFill>
        <p:spPr>
          <a:xfrm>
            <a:off x="1066680" y="1143000"/>
            <a:ext cx="1847880" cy="246708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8"/>
          <p:cNvSpPr/>
          <p:nvPr/>
        </p:nvSpPr>
        <p:spPr>
          <a:xfrm>
            <a:off x="4000680" y="2666880"/>
            <a:ext cx="1143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0" descr="Witte_acacia__Robinia_pseudoacacia__Black_locustimg_4231"/>
          <p:cNvPicPr/>
          <p:nvPr/>
        </p:nvPicPr>
        <p:blipFill>
          <a:blip r:embed="rId2"/>
          <a:stretch/>
        </p:blipFill>
        <p:spPr>
          <a:xfrm>
            <a:off x="1066680" y="3733920"/>
            <a:ext cx="1881360" cy="2514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ANd9GcSvvzmr4NDS1IeiSLYYOa235-0kyj1Y_8-SPS5trlQNW8uBAuom"/>
          <p:cNvPicPr/>
          <p:nvPr/>
        </p:nvPicPr>
        <p:blipFill>
          <a:blip r:embed="rId3"/>
          <a:stretch/>
        </p:blipFill>
        <p:spPr>
          <a:xfrm>
            <a:off x="6172200" y="1066680"/>
            <a:ext cx="2324160" cy="1971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ANd9GcSs-IVyA7UwGyXCReb3F2MfGu7Mcc39OIRQNwlCsw3EAyDNrE1mZA"/>
          <p:cNvPicPr/>
          <p:nvPr/>
        </p:nvPicPr>
        <p:blipFill>
          <a:blip r:embed="rId4"/>
          <a:stretch/>
        </p:blipFill>
        <p:spPr>
          <a:xfrm>
            <a:off x="3429000" y="1371600"/>
            <a:ext cx="2543040" cy="274320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6"/>
          <p:cNvSpPr/>
          <p:nvPr/>
        </p:nvSpPr>
        <p:spPr>
          <a:xfrm>
            <a:off x="3452760" y="2405160"/>
            <a:ext cx="2238480" cy="20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8" descr="Robinia"/>
          <p:cNvPicPr/>
          <p:nvPr/>
        </p:nvPicPr>
        <p:blipFill>
          <a:blip r:embed="rId5"/>
          <a:stretch/>
        </p:blipFill>
        <p:spPr>
          <a:xfrm>
            <a:off x="3657600" y="4419720"/>
            <a:ext cx="1995480" cy="1825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ANd9GcTYZ2-Txn2nOXZRGS3QyZvMdmx1I_mQMK8vynFfMssh5Sd1t9gN"/>
          <p:cNvPicPr/>
          <p:nvPr/>
        </p:nvPicPr>
        <p:blipFill>
          <a:blip r:embed="rId6"/>
          <a:stretch/>
        </p:blipFill>
        <p:spPr>
          <a:xfrm>
            <a:off x="6362640" y="3352680"/>
            <a:ext cx="219096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ix alb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etwil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ANd9GcTYG7vfUMLFXHwU1WW397Nou0-cKkd9cqvkNYHeW5JCkloiXxFh"/>
          <p:cNvPicPr/>
          <p:nvPr/>
        </p:nvPicPr>
        <p:blipFill>
          <a:blip r:embed="rId1"/>
          <a:stretch/>
        </p:blipFill>
        <p:spPr>
          <a:xfrm>
            <a:off x="3581280" y="2209680"/>
            <a:ext cx="2351160" cy="3138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ANd9GcQvfYfP5-K62IvyfXxIyvD4rBgAZ5cCpZYqasGnF9MpDP_GwtMDpw"/>
          <p:cNvPicPr/>
          <p:nvPr/>
        </p:nvPicPr>
        <p:blipFill>
          <a:blip r:embed="rId2"/>
          <a:stretch/>
        </p:blipFill>
        <p:spPr>
          <a:xfrm>
            <a:off x="6324480" y="3962520"/>
            <a:ext cx="2276640" cy="200952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12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4" descr="ANd9GcTjzx3qOS_gARQY21PhWZY37hNLw6zcUQ5Yon6kgiOUzLtstYpf0A"/>
          <p:cNvPicPr/>
          <p:nvPr/>
        </p:nvPicPr>
        <p:blipFill>
          <a:blip r:embed="rId3"/>
          <a:stretch/>
        </p:blipFill>
        <p:spPr>
          <a:xfrm>
            <a:off x="1143000" y="9907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6" descr="ANd9GcQVchnfEgD0dkzzE35aXZFQjFxcIRsH5nFeHTbkC1NvSZu-iD-B"/>
          <p:cNvPicPr/>
          <p:nvPr/>
        </p:nvPicPr>
        <p:blipFill>
          <a:blip r:embed="rId4"/>
          <a:stretch/>
        </p:blipFill>
        <p:spPr>
          <a:xfrm>
            <a:off x="685800" y="41911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8" descr="ANd9GcQy1R5k-PaK2rgm8_ldGBj0UByJNbcBvyRJPlfESZUhUT1YKJP-"/>
          <p:cNvPicPr/>
          <p:nvPr/>
        </p:nvPicPr>
        <p:blipFill>
          <a:blip r:embed="rId5"/>
          <a:stretch/>
        </p:blipFill>
        <p:spPr>
          <a:xfrm>
            <a:off x="6477120" y="838080"/>
            <a:ext cx="187632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orbus aucupari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ijste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ANd9GcTBJ2GvrKH_4X-wuF99yLOjOvQ6jBLNEDoMMPe7fzIp2L4M9Dd1Lw"/>
          <p:cNvPicPr/>
          <p:nvPr/>
        </p:nvPicPr>
        <p:blipFill>
          <a:blip r:embed="rId1"/>
          <a:stretch/>
        </p:blipFill>
        <p:spPr>
          <a:xfrm>
            <a:off x="914400" y="38862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8"/>
          <p:cNvSpPr/>
          <p:nvPr/>
        </p:nvSpPr>
        <p:spPr>
          <a:xfrm>
            <a:off x="3648240" y="2195640"/>
            <a:ext cx="1847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3648240" y="2195640"/>
            <a:ext cx="1847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2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6" descr="ANd9GcSkQqUEj15s_PYQSpfehNYgdy1LDFdeVHrpReUEizKFafhnqtWl"/>
          <p:cNvPicPr/>
          <p:nvPr/>
        </p:nvPicPr>
        <p:blipFill>
          <a:blip r:embed="rId2"/>
          <a:stretch/>
        </p:blipFill>
        <p:spPr>
          <a:xfrm>
            <a:off x="3581280" y="1981080"/>
            <a:ext cx="2444760" cy="281952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0" descr="sorbus_aucuparia_wilde_lijsterbes_bloeiwijze"/>
          <p:cNvPicPr/>
          <p:nvPr/>
        </p:nvPicPr>
        <p:blipFill>
          <a:blip r:embed="rId3"/>
          <a:stretch/>
        </p:blipFill>
        <p:spPr>
          <a:xfrm>
            <a:off x="304920" y="137160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2" descr="ANd9GcQug4z02VB8kamysKZLxUQX9snrM7XEsYnmrue4KJ5Yh7uDEpS_"/>
          <p:cNvPicPr/>
          <p:nvPr/>
        </p:nvPicPr>
        <p:blipFill>
          <a:blip r:embed="rId4"/>
          <a:stretch/>
        </p:blipFill>
        <p:spPr>
          <a:xfrm>
            <a:off x="6248520" y="3733920"/>
            <a:ext cx="2124000" cy="2152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4" descr="ANd9GcRQ1IGmXZ-2zUVhpHyn0Q-UeEr2U8l_JbSXGID9cBjGM7UAJfVmkg"/>
          <p:cNvPicPr/>
          <p:nvPr/>
        </p:nvPicPr>
        <p:blipFill>
          <a:blip r:embed="rId5"/>
          <a:stretch/>
        </p:blipFill>
        <p:spPr>
          <a:xfrm>
            <a:off x="6172200" y="13716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er plantanoide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orse es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ANd9GcTmJ3B22sId9be8QL5ULn8TzNDd41rkffqph71DaIvLVLEnQ0Zx"/>
          <p:cNvPicPr/>
          <p:nvPr/>
        </p:nvPicPr>
        <p:blipFill>
          <a:blip r:embed="rId1"/>
          <a:stretch/>
        </p:blipFill>
        <p:spPr>
          <a:xfrm>
            <a:off x="1219320" y="1905120"/>
            <a:ext cx="2523960" cy="1809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ANd9GcQrfOZZJ9c5W5CY2TSHLWmJ7moYlnLRVBT0MsjuEImouyCjoTIw"/>
          <p:cNvPicPr/>
          <p:nvPr/>
        </p:nvPicPr>
        <p:blipFill>
          <a:blip r:embed="rId2"/>
          <a:stretch/>
        </p:blipFill>
        <p:spPr>
          <a:xfrm>
            <a:off x="6781680" y="1676520"/>
            <a:ext cx="1524240" cy="1828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ANd9GcTQE-fbS-duHhuCFt5jzH25vDnApYVr-Me8QgmkdDBot__UV8oB"/>
          <p:cNvPicPr/>
          <p:nvPr/>
        </p:nvPicPr>
        <p:blipFill>
          <a:blip r:embed="rId3"/>
          <a:stretch/>
        </p:blipFill>
        <p:spPr>
          <a:xfrm>
            <a:off x="4038480" y="2514600"/>
            <a:ext cx="2333880" cy="2800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ANd9GcQJjX_gSX4de6XWLUg0Vnmeie0DOB9yT5AlwaZSA16ht26EcUFRNA"/>
          <p:cNvPicPr/>
          <p:nvPr/>
        </p:nvPicPr>
        <p:blipFill>
          <a:blip r:embed="rId4"/>
          <a:stretch/>
        </p:blipFill>
        <p:spPr>
          <a:xfrm>
            <a:off x="1143000" y="41148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ANd9GcTyUEz5mbBvWLmQ8QOEO5hJGXYdtIbeJqMVE4huMr89PtolxBe2"/>
          <p:cNvPicPr/>
          <p:nvPr/>
        </p:nvPicPr>
        <p:blipFill>
          <a:blip r:embed="rId5"/>
          <a:stretch/>
        </p:blipFill>
        <p:spPr>
          <a:xfrm>
            <a:off x="6477120" y="36576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illia cordat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nterl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ANd9GcTXiAFbc6ys3wVpTifypoAtwqobtSd7FaZ8Hhuo94jYLOvJOMES"/>
          <p:cNvPicPr/>
          <p:nvPr/>
        </p:nvPicPr>
        <p:blipFill>
          <a:blip r:embed="rId1"/>
          <a:stretch/>
        </p:blipFill>
        <p:spPr>
          <a:xfrm>
            <a:off x="1066680" y="1523880"/>
            <a:ext cx="2276640" cy="2009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ANd9GcTw0ALicTnkWvfAm6n1cMP2b0tezRho7Qid1g_b826UZ4ARMYtoCA"/>
          <p:cNvPicPr/>
          <p:nvPr/>
        </p:nvPicPr>
        <p:blipFill>
          <a:blip r:embed="rId2"/>
          <a:stretch/>
        </p:blipFill>
        <p:spPr>
          <a:xfrm>
            <a:off x="1219320" y="38862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ANd9GcTFHyqnlW9aAVc84QxXwQ1C9iw0t7bx6jOGkCdC4pEWrpdPzraI"/>
          <p:cNvPicPr/>
          <p:nvPr/>
        </p:nvPicPr>
        <p:blipFill>
          <a:blip r:embed="rId3"/>
          <a:stretch/>
        </p:blipFill>
        <p:spPr>
          <a:xfrm>
            <a:off x="3505320" y="2590920"/>
            <a:ext cx="2555640" cy="2590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ANd9GcS-lGcJ8hqZla4mIblx9b6HnXV1NBWkaaQsUbbAkIJyceXJes-Kcw"/>
          <p:cNvPicPr/>
          <p:nvPr/>
        </p:nvPicPr>
        <p:blipFill>
          <a:blip r:embed="rId4"/>
          <a:stretch/>
        </p:blipFill>
        <p:spPr>
          <a:xfrm>
            <a:off x="6095880" y="152388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ANd9GcQ9mKyEUNZeZ9tOVBdPcSLzHoANfOuInZrF671WJytZC738kRsI"/>
          <p:cNvPicPr/>
          <p:nvPr/>
        </p:nvPicPr>
        <p:blipFill>
          <a:blip r:embed="rId5"/>
          <a:stretch/>
        </p:blipFill>
        <p:spPr>
          <a:xfrm>
            <a:off x="6248520" y="4114800"/>
            <a:ext cx="2485800" cy="1838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illia platyphyllo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merl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ANd9GcQkXdOmsXT5quPuIPjNgQ_GQsJi1ZzngzAnVCqAFv_-z6cmgXPo"/>
          <p:cNvPicPr/>
          <p:nvPr/>
        </p:nvPicPr>
        <p:blipFill>
          <a:blip r:embed="rId1"/>
          <a:stretch/>
        </p:blipFill>
        <p:spPr>
          <a:xfrm>
            <a:off x="990720" y="15238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ANd9GcS9GmXX0n5Ocdtbu1iOPsBYqy329KCO0FhlZ4059qIl6oOCEcXjQA"/>
          <p:cNvPicPr/>
          <p:nvPr/>
        </p:nvPicPr>
        <p:blipFill>
          <a:blip r:embed="rId2"/>
          <a:stretch/>
        </p:blipFill>
        <p:spPr>
          <a:xfrm>
            <a:off x="3581280" y="25146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ANd9GcR55gzGnjgg0KpYRKxQtrHSuxrwdnbqtcnmuUvzE_w9lGEa5Liu"/>
          <p:cNvPicPr/>
          <p:nvPr/>
        </p:nvPicPr>
        <p:blipFill>
          <a:blip r:embed="rId3"/>
          <a:stretch/>
        </p:blipFill>
        <p:spPr>
          <a:xfrm>
            <a:off x="990720" y="3505320"/>
            <a:ext cx="2438280" cy="2328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ANd9GcSN-oBCqwDhq90ubFTiu7U46BOT3WlZt8k5ERpgOt0-nAK0dcQCmA"/>
          <p:cNvPicPr/>
          <p:nvPr/>
        </p:nvPicPr>
        <p:blipFill>
          <a:blip r:embed="rId4"/>
          <a:stretch/>
        </p:blipFill>
        <p:spPr>
          <a:xfrm>
            <a:off x="6865920" y="3962520"/>
            <a:ext cx="1487520" cy="2000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ANd9GcRgXzdN4QcYA_UaIsJ1SZzufCrYzdBCrfgkcYpwES7VSONiXnwp"/>
          <p:cNvPicPr/>
          <p:nvPr/>
        </p:nvPicPr>
        <p:blipFill>
          <a:blip r:embed="rId5"/>
          <a:stretch/>
        </p:blipFill>
        <p:spPr>
          <a:xfrm>
            <a:off x="6248520" y="14479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Ulmus minor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ldiep; kleinbladige i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8" descr="Gladde_iep__Ulmus_minor__Smooth-leaved_elm@img_2243blad"/>
          <p:cNvPicPr/>
          <p:nvPr/>
        </p:nvPicPr>
        <p:blipFill>
          <a:blip r:embed="rId1"/>
          <a:stretch/>
        </p:blipFill>
        <p:spPr>
          <a:xfrm>
            <a:off x="685800" y="1523880"/>
            <a:ext cx="3195720" cy="2400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ANd9GcT8iAv0cQjhQ4_aHv22htgQKONxEH6JOCx1TtB-WNr3TniYf5irPw"/>
          <p:cNvPicPr/>
          <p:nvPr/>
        </p:nvPicPr>
        <p:blipFill>
          <a:blip r:embed="rId2"/>
          <a:stretch/>
        </p:blipFill>
        <p:spPr>
          <a:xfrm>
            <a:off x="4038480" y="2971800"/>
            <a:ext cx="1895760" cy="2409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ANd9GcQbtQ2ygsLQJzhtvehdbnLvpya1eJWMwr5yy4vjb_UV_frPMdk_TQ"/>
          <p:cNvPicPr/>
          <p:nvPr/>
        </p:nvPicPr>
        <p:blipFill>
          <a:blip r:embed="rId3"/>
          <a:stretch/>
        </p:blipFill>
        <p:spPr>
          <a:xfrm>
            <a:off x="6172200" y="42670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" descr="ANd9GcQs8VuAiPkYlAGSpldRmLUVezyocQaBsEQf9I9P4RNanO7d04Ck"/>
          <p:cNvPicPr/>
          <p:nvPr/>
        </p:nvPicPr>
        <p:blipFill>
          <a:blip r:embed="rId4"/>
          <a:stretch/>
        </p:blipFill>
        <p:spPr>
          <a:xfrm>
            <a:off x="762120" y="4191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6" descr="ANd9GcQFkJZpwpu1OZJwYK-1jE2ADJnilj_XmK5hMgmuW_X2XZHv-Fq-7g"/>
          <p:cNvPicPr/>
          <p:nvPr/>
        </p:nvPicPr>
        <p:blipFill>
          <a:blip r:embed="rId5"/>
          <a:stretch/>
        </p:blipFill>
        <p:spPr>
          <a:xfrm>
            <a:off x="6019920" y="1447920"/>
            <a:ext cx="2895480" cy="192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er pseudoplatanu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es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ANd9GcR8i3b5ubOhrjHkbThrF-JD4LocRUvf-R9mvC8uDNtdGQ880T2NIA"/>
          <p:cNvPicPr/>
          <p:nvPr/>
        </p:nvPicPr>
        <p:blipFill>
          <a:blip r:embed="rId1"/>
          <a:stretch/>
        </p:blipFill>
        <p:spPr>
          <a:xfrm>
            <a:off x="3643200" y="2200320"/>
            <a:ext cx="2311560" cy="3057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ANd9GcTsdS6huCUuiXA86ichqjpJtAiCYfM2dNAKjWfKRcUHYMAzysy2"/>
          <p:cNvPicPr/>
          <p:nvPr/>
        </p:nvPicPr>
        <p:blipFill>
          <a:blip r:embed="rId2"/>
          <a:stretch/>
        </p:blipFill>
        <p:spPr>
          <a:xfrm>
            <a:off x="838080" y="1828800"/>
            <a:ext cx="2695680" cy="1695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ANd9GcRx3JwDY6SyNzFEdaElyLaf1eURDcsVZqv8ZpFIKO0DnTGrpfNrPw"/>
          <p:cNvPicPr/>
          <p:nvPr/>
        </p:nvPicPr>
        <p:blipFill>
          <a:blip r:embed="rId3"/>
          <a:stretch/>
        </p:blipFill>
        <p:spPr>
          <a:xfrm>
            <a:off x="838080" y="3657600"/>
            <a:ext cx="1847880" cy="2476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ANd9GcQk9S8Hwh5P90G5-MND4TGSX1CK1CM5etIqXhAX3BqwMfvFghNvOQ"/>
          <p:cNvPicPr/>
          <p:nvPr/>
        </p:nvPicPr>
        <p:blipFill>
          <a:blip r:embed="rId4"/>
          <a:stretch/>
        </p:blipFill>
        <p:spPr>
          <a:xfrm>
            <a:off x="6477120" y="16002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ANd9GcTIsaD0IfJsUkOydTCsdJzNZZTftpeb-1IQ38hWosTxzOzTi2SV"/>
          <p:cNvPicPr/>
          <p:nvPr/>
        </p:nvPicPr>
        <p:blipFill>
          <a:blip r:embed="rId5"/>
          <a:stretch/>
        </p:blipFill>
        <p:spPr>
          <a:xfrm>
            <a:off x="6781680" y="4191120"/>
            <a:ext cx="148608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nus glutinos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warte 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ANd9GcSTvZ6oVDCv-CqzTmWp7gNiTnWXVcQU2DKSih1I3Y_Cp9vYoIZaZw"/>
          <p:cNvPicPr/>
          <p:nvPr/>
        </p:nvPicPr>
        <p:blipFill>
          <a:blip r:embed="rId1"/>
          <a:stretch/>
        </p:blipFill>
        <p:spPr>
          <a:xfrm>
            <a:off x="990720" y="1752480"/>
            <a:ext cx="2257200" cy="2028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ANd9GcR1VRnpF4K4GkJhk-AuyJsF_j105zn3fUIP0MIC8qugSAcTVkpg"/>
          <p:cNvPicPr/>
          <p:nvPr/>
        </p:nvPicPr>
        <p:blipFill>
          <a:blip r:embed="rId2"/>
          <a:stretch/>
        </p:blipFill>
        <p:spPr>
          <a:xfrm>
            <a:off x="914400" y="41911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ANd9GcRh9aNJPp8Xfo4zOxKfE6MtKGFHkKrYxQrHJZ8Tjt3MpEdWkuNRMw"/>
          <p:cNvPicPr/>
          <p:nvPr/>
        </p:nvPicPr>
        <p:blipFill>
          <a:blip r:embed="rId3"/>
          <a:stretch/>
        </p:blipFill>
        <p:spPr>
          <a:xfrm>
            <a:off x="3581280" y="2895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ANd9GcRyAti8XxddirvztrR78GEjAPQpgXPo_8rvetJ6bsjBqVGerDhaXw"/>
          <p:cNvPicPr/>
          <p:nvPr/>
        </p:nvPicPr>
        <p:blipFill>
          <a:blip r:embed="rId4"/>
          <a:stretch/>
        </p:blipFill>
        <p:spPr>
          <a:xfrm>
            <a:off x="6553080" y="2286000"/>
            <a:ext cx="1657440" cy="2762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nus inca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tte 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ANd9GcTbT0xzeM4UgNJkc6FyEO4XHpayKLerkTgykHX78u10vjeDsoRD"/>
          <p:cNvPicPr/>
          <p:nvPr/>
        </p:nvPicPr>
        <p:blipFill>
          <a:blip r:embed="rId1"/>
          <a:stretch/>
        </p:blipFill>
        <p:spPr>
          <a:xfrm>
            <a:off x="3200400" y="2590920"/>
            <a:ext cx="3124080" cy="207936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8"/>
          <p:cNvSpPr/>
          <p:nvPr/>
        </p:nvSpPr>
        <p:spPr>
          <a:xfrm>
            <a:off x="3352680" y="2490840"/>
            <a:ext cx="243864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0"/>
          <p:cNvSpPr/>
          <p:nvPr/>
        </p:nvSpPr>
        <p:spPr>
          <a:xfrm>
            <a:off x="3352680" y="2490840"/>
            <a:ext cx="243864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3352680" y="2490840"/>
            <a:ext cx="243864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4" descr="ANd9GcTTQLbJYdQsEpccdlUFRwMGheG6h3Ntp-xdL11w8quxMUED2mGf"/>
          <p:cNvPicPr/>
          <p:nvPr/>
        </p:nvPicPr>
        <p:blipFill>
          <a:blip r:embed="rId2"/>
          <a:stretch/>
        </p:blipFill>
        <p:spPr>
          <a:xfrm>
            <a:off x="6095880" y="1143000"/>
            <a:ext cx="2467080" cy="185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ANd9GcRUYftMZ3cCxdTN-_E1cDnQU9ItX7An0R4QbhdD4ljs3K7gYMwS"/>
          <p:cNvPicPr/>
          <p:nvPr/>
        </p:nvPicPr>
        <p:blipFill>
          <a:blip r:embed="rId3"/>
          <a:stretch/>
        </p:blipFill>
        <p:spPr>
          <a:xfrm>
            <a:off x="990720" y="3581280"/>
            <a:ext cx="2170080" cy="2362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ANd9GcQLYuqFQXQ_CKGeLA9cJ_xpSHkxfMGsiezhAEk9vgDl8VLjOgp1"/>
          <p:cNvPicPr/>
          <p:nvPr/>
        </p:nvPicPr>
        <p:blipFill>
          <a:blip r:embed="rId4"/>
          <a:stretch/>
        </p:blipFill>
        <p:spPr>
          <a:xfrm>
            <a:off x="1066680" y="9144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0" descr="ANd9GcRdHlCoQ0cp1VcQap9cQ8Fz1J8WkMlFJuv1KUau9xuTVmmd6iuSKRjpDRkZ"/>
          <p:cNvPicPr/>
          <p:nvPr/>
        </p:nvPicPr>
        <p:blipFill>
          <a:blip r:embed="rId5"/>
          <a:stretch/>
        </p:blipFill>
        <p:spPr>
          <a:xfrm>
            <a:off x="7010280" y="3962520"/>
            <a:ext cx="1571760" cy="2095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tula pendul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we b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ANd9GcRC70n4Ai_SVso_StEWuhpytY9jpLMBOJ1-lH35YPxuZaB6t9Bw"/>
          <p:cNvPicPr/>
          <p:nvPr/>
        </p:nvPicPr>
        <p:blipFill>
          <a:blip r:embed="rId1"/>
          <a:stretch/>
        </p:blipFill>
        <p:spPr>
          <a:xfrm>
            <a:off x="5791320" y="19051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ANd9GcTXfNJCbEknKHh2CMSBpENF0OwtxoZbquM1YMilMm55N1x6E6timQ"/>
          <p:cNvPicPr/>
          <p:nvPr/>
        </p:nvPicPr>
        <p:blipFill>
          <a:blip r:embed="rId2"/>
          <a:stretch/>
        </p:blipFill>
        <p:spPr>
          <a:xfrm>
            <a:off x="3505320" y="2362320"/>
            <a:ext cx="1724040" cy="2657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ANd9GcQSH1V2-f5p6pOI6YKdgilcgPJef5_l0fLgb1-X1WnjRxExWHXfUw"/>
          <p:cNvPicPr/>
          <p:nvPr/>
        </p:nvPicPr>
        <p:blipFill>
          <a:blip r:embed="rId3"/>
          <a:stretch/>
        </p:blipFill>
        <p:spPr>
          <a:xfrm>
            <a:off x="5943600" y="4114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ANd9GcSxkv2Fuocrm78nriyVkf-mwV2oOdv0IRnh8FEX31fv7jCeXauh5w"/>
          <p:cNvPicPr/>
          <p:nvPr/>
        </p:nvPicPr>
        <p:blipFill>
          <a:blip r:embed="rId4"/>
          <a:stretch/>
        </p:blipFill>
        <p:spPr>
          <a:xfrm>
            <a:off x="914400" y="3352680"/>
            <a:ext cx="1809720" cy="2524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8" descr="ANd9GcSG5m2oWQ2eUh6P8c0wqCEE_OD29FpUflx8azLEH9uVto-xG1be"/>
          <p:cNvPicPr/>
          <p:nvPr/>
        </p:nvPicPr>
        <p:blipFill>
          <a:blip r:embed="rId5"/>
          <a:stretch/>
        </p:blipFill>
        <p:spPr>
          <a:xfrm>
            <a:off x="914400" y="12952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tula pubescen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chte b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ANd9GcRdRJWmUCGW6nJqpMFlRk1Q3QKtchFJeHY9MJIQODDDqyrpxF-dhg"/>
          <p:cNvPicPr/>
          <p:nvPr/>
        </p:nvPicPr>
        <p:blipFill>
          <a:blip r:embed="rId1"/>
          <a:stretch/>
        </p:blipFill>
        <p:spPr>
          <a:xfrm>
            <a:off x="3429000" y="2057400"/>
            <a:ext cx="2220840" cy="2762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Nd9GcSNTnofAOtPqwyB08okqYOV2UHY9SpjaLxydaPTXMXleEZoMTLC_Q"/>
          <p:cNvPicPr/>
          <p:nvPr/>
        </p:nvPicPr>
        <p:blipFill>
          <a:blip r:embed="rId2"/>
          <a:stretch/>
        </p:blipFill>
        <p:spPr>
          <a:xfrm>
            <a:off x="1066680" y="38862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ANd9GcTRQRVP3gEO8o7LS9eYpAvbOPRFKqxgGMAnkIylhUhp-5JkwFyGag"/>
          <p:cNvPicPr/>
          <p:nvPr/>
        </p:nvPicPr>
        <p:blipFill>
          <a:blip r:embed="rId3"/>
          <a:stretch/>
        </p:blipFill>
        <p:spPr>
          <a:xfrm>
            <a:off x="1066680" y="914400"/>
            <a:ext cx="1771920" cy="2571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6" descr="ANd9GcR5ikPtNZucNUok3zRO0xpcPcssMSXwicrlralkzDADMjQNtjiA"/>
          <p:cNvPicPr/>
          <p:nvPr/>
        </p:nvPicPr>
        <p:blipFill>
          <a:blip r:embed="rId4"/>
          <a:stretch/>
        </p:blipFill>
        <p:spPr>
          <a:xfrm>
            <a:off x="6095880" y="4114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8" descr="ANd9GcT82ee1ndBiG2OhBDPOIAuPNw4Ivr9O_Y29Y-uQvPOqmjWAEx9s"/>
          <p:cNvPicPr/>
          <p:nvPr/>
        </p:nvPicPr>
        <p:blipFill>
          <a:blip r:embed="rId5"/>
          <a:stretch/>
        </p:blipFill>
        <p:spPr>
          <a:xfrm>
            <a:off x="6095880" y="114300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rpinus betulu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agbe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ANd9GcQVe4aVTDkRfIyHLZaI_yX7JZP3_eYFNDfAnhEL-B2gQOz9lEJkmw"/>
          <p:cNvPicPr/>
          <p:nvPr/>
        </p:nvPicPr>
        <p:blipFill>
          <a:blip r:embed="rId1"/>
          <a:stretch/>
        </p:blipFill>
        <p:spPr>
          <a:xfrm>
            <a:off x="1143000" y="1828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ANd9GcRw53rxVso8Ueh1vTNxYyPWnqpkfYdAh-7xvcITOwr8n3jv2QGW"/>
          <p:cNvPicPr/>
          <p:nvPr/>
        </p:nvPicPr>
        <p:blipFill>
          <a:blip r:embed="rId2"/>
          <a:stretch/>
        </p:blipFill>
        <p:spPr>
          <a:xfrm>
            <a:off x="5638680" y="1676520"/>
            <a:ext cx="2162160" cy="211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ANd9GcR5QLeyB1WLZrhj44dOQ1r-7tSyDxl7Bxw9g1SqMptNYxc-YIsm"/>
          <p:cNvPicPr/>
          <p:nvPr/>
        </p:nvPicPr>
        <p:blipFill>
          <a:blip r:embed="rId3"/>
          <a:stretch/>
        </p:blipFill>
        <p:spPr>
          <a:xfrm>
            <a:off x="5562720" y="4038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ANd9GcSynO3Vpat1TtS1xq47giRiQ3mrdMk7LYp4s0xMs4QmDv7ZDbqD"/>
          <p:cNvPicPr/>
          <p:nvPr/>
        </p:nvPicPr>
        <p:blipFill>
          <a:blip r:embed="rId4"/>
          <a:stretch/>
        </p:blipFill>
        <p:spPr>
          <a:xfrm>
            <a:off x="1143000" y="3809880"/>
            <a:ext cx="1905120" cy="2210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ANd9GcQrhvHA_qMI-b2OkuI_5i6LooljQS7yme1_uxsJrtQR0W2v05bWaw"/>
          <p:cNvPicPr/>
          <p:nvPr/>
        </p:nvPicPr>
        <p:blipFill>
          <a:blip r:embed="rId5"/>
          <a:stretch/>
        </p:blipFill>
        <p:spPr>
          <a:xfrm>
            <a:off x="3200400" y="4038480"/>
            <a:ext cx="2228760" cy="148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stanea sativ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mme kast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castanea_sativa2"/>
          <p:cNvPicPr/>
          <p:nvPr/>
        </p:nvPicPr>
        <p:blipFill>
          <a:blip r:embed="rId1"/>
          <a:stretch/>
        </p:blipFill>
        <p:spPr>
          <a:xfrm>
            <a:off x="1219320" y="1523880"/>
            <a:ext cx="2666880" cy="2000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ANd9GcRd8-O03aD2-wbetHxp_8mrQaHVMql0lUCouBszyCCQQKBvgE_F"/>
          <p:cNvPicPr/>
          <p:nvPr/>
        </p:nvPicPr>
        <p:blipFill>
          <a:blip r:embed="rId2"/>
          <a:stretch/>
        </p:blipFill>
        <p:spPr>
          <a:xfrm>
            <a:off x="1219320" y="41148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ANd9GcRkHJwbYtI4DV9vhEkJL-Mp3ZbrQFN5vGEfxfViLe8mszbolLym"/>
          <p:cNvPicPr/>
          <p:nvPr/>
        </p:nvPicPr>
        <p:blipFill>
          <a:blip r:embed="rId3"/>
          <a:stretch/>
        </p:blipFill>
        <p:spPr>
          <a:xfrm>
            <a:off x="4114800" y="152388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ANd9GcRIEvkzzgmgSkgaBFsKKLG6VP_zuKLW4mM7CkJwuCNyxG9V-QiZAw"/>
          <p:cNvPicPr/>
          <p:nvPr/>
        </p:nvPicPr>
        <p:blipFill>
          <a:blip r:embed="rId4"/>
          <a:stretch/>
        </p:blipFill>
        <p:spPr>
          <a:xfrm>
            <a:off x="6629400" y="335268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ANd9GcQsiR7Cnmq7b4lsGSwApIYfbhvXJQCveKitqFSo4RCvThv_hG8o"/>
          <p:cNvPicPr/>
          <p:nvPr/>
        </p:nvPicPr>
        <p:blipFill>
          <a:blip r:embed="rId5"/>
          <a:stretch/>
        </p:blipFill>
        <p:spPr>
          <a:xfrm>
            <a:off x="3962520" y="41148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8" descr="ANd9GcTE7_hMzNQniJdov2Cdh3g6tUXeh3--EbOtl3haOGa58SLKm28D"/>
          <p:cNvPicPr/>
          <p:nvPr/>
        </p:nvPicPr>
        <p:blipFill>
          <a:blip r:embed="rId6"/>
          <a:stretch/>
        </p:blipFill>
        <p:spPr>
          <a:xfrm>
            <a:off x="6172200" y="1523880"/>
            <a:ext cx="2209680" cy="165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2T12:02:1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