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97.jpeg" ContentType="image/jpeg"/>
  <Override PartName="/ppt/media/image38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9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10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1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44.jpeg" ContentType="image/jpeg"/>
  <Override PartName="/ppt/media/image135.jpeg" ContentType="image/jpeg"/>
  <Override PartName="/ppt/media/image56.jpeg" ContentType="image/jpeg"/>
  <Override PartName="/ppt/media/image7.jpeg" ContentType="image/jpeg"/>
  <Override PartName="/ppt/media/image129.jpeg" ContentType="image/jpeg"/>
  <Override PartName="/ppt/media/image140.jpeg" ContentType="image/jpeg"/>
  <Override PartName="/ppt/media/image141.jpeg" ContentType="image/jpeg"/>
  <Override PartName="/ppt/media/image57.jpeg" ContentType="image/jpeg"/>
  <Override PartName="/ppt/media/image136.jpeg" ContentType="image/jpeg"/>
  <Override PartName="/ppt/media/image51.jpeg" ContentType="image/jpeg"/>
  <Override PartName="/ppt/media/image130.jpeg" ContentType="image/jpeg"/>
  <Override PartName="/ppt/media/image142.jpeg" ContentType="image/jpeg"/>
  <Override PartName="/ppt/media/image58.jpeg" ContentType="image/jpeg"/>
  <Override PartName="/ppt/media/image137.jpeg" ContentType="image/jpeg"/>
  <Override PartName="/ppt/media/image143.jpeg" ContentType="image/jpeg"/>
  <Override PartName="/ppt/media/image144.jpeg" ContentType="image/jpeg"/>
  <Override PartName="/ppt/media/image59.jpeg" ContentType="image/jpeg"/>
  <Override PartName="/ppt/media/image42.jpeg" ContentType="image/jpeg"/>
  <Override PartName="/ppt/media/image138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6.jpeg" ContentType="image/jpeg"/>
  <Override PartName="/ppt/media/image139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92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  <p:custShowLst>
    <p:custShow name="Aangepaste voorstelling 1" id="0">
      <p:sldLst>
        <p:sld r:id="rId4"/>
        <p:sld r:id="rId7"/>
        <p:sld r:id="rId10"/>
        <p:sld r:id="rId13"/>
        <p:sld r:id="rId16"/>
        <p:sld r:id="rId19"/>
        <p:sld r:id="rId22"/>
        <p:sld r:id="rId25"/>
        <p:sld r:id="rId28"/>
        <p:sld r:id="rId31"/>
      </p:sldLst>
    </p:custShow>
    <p:custShow name="Aangepaste voorstelling 2" id="1">
      <p:sldLst>
        <p:sld r:id="rId5"/>
        <p:sld r:id="rId8"/>
        <p:sld r:id="rId11"/>
        <p:sld r:id="rId14"/>
        <p:sld r:id="rId17"/>
        <p:sld r:id="rId20"/>
        <p:sld r:id="rId23"/>
        <p:sld r:id="rId26"/>
        <p:sld r:id="rId29"/>
        <p:sld r:id="rId3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0336-9A7C-4EA5-8E2B-7B1FC32E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F846-E012-4C7F-95CC-4299A38A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367-62A6-42E4-B274-B8A23CBB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2EF0-78E2-4B24-9E3A-B3C4216A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63A-362A-48A7-89C2-7A1A36E2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324F-B75F-485E-9245-480A26D2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ACE5-CD87-49FC-B161-D2127E59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4FC-7839-4B88-BC2A-B8872AF7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F09-08D5-414B-96BE-058302EC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A722-7B25-4CE6-9552-25F43873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C6EE-D317-4E2D-A010-82176DBA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BFF-8583-4818-BA12-60B59777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6651-A420-45F3-855B-A3E45CFD91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image" Target="../media/image9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image" Target="../media/image103.jpeg"/><Relationship Id="rId5" Type="http://schemas.openxmlformats.org/officeDocument/2006/relationships/image" Target="../media/image104.jpeg"/><Relationship Id="rId6" Type="http://schemas.openxmlformats.org/officeDocument/2006/relationships/image" Target="../media/image105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image" Target="../media/image115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image" Target="../media/image117.jpeg"/><Relationship Id="rId3" Type="http://schemas.openxmlformats.org/officeDocument/2006/relationships/image" Target="../media/image118.jpeg"/><Relationship Id="rId4" Type="http://schemas.openxmlformats.org/officeDocument/2006/relationships/image" Target="../media/image11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image" Target="../media/image123.jpeg"/><Relationship Id="rId5" Type="http://schemas.openxmlformats.org/officeDocument/2006/relationships/image" Target="../media/image124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image" Target="../media/image126.jpeg"/><Relationship Id="rId3" Type="http://schemas.openxmlformats.org/officeDocument/2006/relationships/image" Target="../media/image127.jpeg"/><Relationship Id="rId4" Type="http://schemas.openxmlformats.org/officeDocument/2006/relationships/image" Target="../media/image128.jpeg"/><Relationship Id="rId5" Type="http://schemas.openxmlformats.org/officeDocument/2006/relationships/image" Target="../media/image129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0.jpeg"/><Relationship Id="rId2" Type="http://schemas.openxmlformats.org/officeDocument/2006/relationships/image" Target="../media/image131.jpeg"/><Relationship Id="rId3" Type="http://schemas.openxmlformats.org/officeDocument/2006/relationships/image" Target="../media/image132.jpeg"/><Relationship Id="rId4" Type="http://schemas.openxmlformats.org/officeDocument/2006/relationships/image" Target="../media/image133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4.jpeg"/><Relationship Id="rId2" Type="http://schemas.openxmlformats.org/officeDocument/2006/relationships/image" Target="../media/image135.jpeg"/><Relationship Id="rId3" Type="http://schemas.openxmlformats.org/officeDocument/2006/relationships/image" Target="../media/image136.jpeg"/><Relationship Id="rId4" Type="http://schemas.openxmlformats.org/officeDocument/2006/relationships/image" Target="../media/image137.jpeg"/><Relationship Id="rId5" Type="http://schemas.openxmlformats.org/officeDocument/2006/relationships/image" Target="../media/image13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image" Target="../media/image141.jpeg"/><Relationship Id="rId4" Type="http://schemas.openxmlformats.org/officeDocument/2006/relationships/image" Target="../media/image142.jpeg"/><Relationship Id="rId5" Type="http://schemas.openxmlformats.org/officeDocument/2006/relationships/image" Target="../media/image143.jpeg"/><Relationship Id="rId6" Type="http://schemas.openxmlformats.org/officeDocument/2006/relationships/image" Target="../media/image14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Bom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ierbo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pinus betulus ‘Fastigiat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lvormige haag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ANd9GcTrGiaQ7IcYfyITmGD3hBeqWPoGYBf8HrA6_S6M_dTeZlb0JN-VfQ"/>
          <p:cNvPicPr/>
          <p:nvPr/>
        </p:nvPicPr>
        <p:blipFill>
          <a:blip r:embed="rId1"/>
          <a:stretch/>
        </p:blipFill>
        <p:spPr>
          <a:xfrm>
            <a:off x="3733920" y="2286000"/>
            <a:ext cx="2168280" cy="2895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ANd9GcSX5sC5ktnssg_STGdwSkHh0yzPCQQDoO0Rx2vn6RIhNz_8U-Hjmw"/>
          <p:cNvPicPr/>
          <p:nvPr/>
        </p:nvPicPr>
        <p:blipFill>
          <a:blip r:embed="rId2"/>
          <a:stretch/>
        </p:blipFill>
        <p:spPr>
          <a:xfrm>
            <a:off x="914400" y="1066680"/>
            <a:ext cx="1552680" cy="29527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ANd9GcSy43SkAhgDoEJBl6NuR_2IXfO5uvBPcHBNk8pgOHOZrvCNPlNT"/>
          <p:cNvPicPr/>
          <p:nvPr/>
        </p:nvPicPr>
        <p:blipFill>
          <a:blip r:embed="rId3"/>
          <a:stretch/>
        </p:blipFill>
        <p:spPr>
          <a:xfrm>
            <a:off x="66294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ANd9GcQVgVnGtrGNeCx97O3624pobHsnaLK5H_dGujWbmiZqmdntwyNAmQ"/>
          <p:cNvPicPr/>
          <p:nvPr/>
        </p:nvPicPr>
        <p:blipFill>
          <a:blip r:embed="rId4"/>
          <a:stretch/>
        </p:blipFill>
        <p:spPr>
          <a:xfrm>
            <a:off x="6019920" y="38862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http://t2.gstatic.com/images?q=tbn:ANd9GcTLAqDcMQtSzNZl4FjeEvOkq3gifdlGwIBMwN4mNNIu_cqJ_LPf"/>
          <p:cNvPicPr/>
          <p:nvPr/>
        </p:nvPicPr>
        <p:blipFill>
          <a:blip r:embed="rId5"/>
          <a:stretch/>
        </p:blipFill>
        <p:spPr>
          <a:xfrm>
            <a:off x="1690560" y="3994200"/>
            <a:ext cx="1738440" cy="23176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talpa bignioide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ompet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ANd9GcRnUmC2VDFcFZA8oZHjhGcOCELoMzUEWe7F7ttG87z43vVU6dGb"/>
          <p:cNvPicPr/>
          <p:nvPr/>
        </p:nvPicPr>
        <p:blipFill>
          <a:blip r:embed="rId1"/>
          <a:stretch/>
        </p:blipFill>
        <p:spPr>
          <a:xfrm>
            <a:off x="68580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Nd9GcRCfDq19nvKp9QFIWrNZ_t11z2JJ9Em846_C7j1VY6JjZrIa6K3dQ"/>
          <p:cNvPicPr/>
          <p:nvPr/>
        </p:nvPicPr>
        <p:blipFill>
          <a:blip r:embed="rId2"/>
          <a:stretch/>
        </p:blipFill>
        <p:spPr>
          <a:xfrm>
            <a:off x="3657600" y="2590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ANd9GcTLEeuApmRyLmyXbtw1FW8V3iPV7ww1pIQyfEbbnMEVKrvchGBj"/>
          <p:cNvPicPr/>
          <p:nvPr/>
        </p:nvPicPr>
        <p:blipFill>
          <a:blip r:embed="rId3"/>
          <a:stretch/>
        </p:blipFill>
        <p:spPr>
          <a:xfrm>
            <a:off x="762120" y="16765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2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R0010625"/>
          <p:cNvPicPr/>
          <p:nvPr/>
        </p:nvPicPr>
        <p:blipFill>
          <a:blip r:embed="rId4"/>
          <a:stretch/>
        </p:blipFill>
        <p:spPr>
          <a:xfrm>
            <a:off x="5943600" y="1523880"/>
            <a:ext cx="2467080" cy="1644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Foto0776"/>
          <p:cNvPicPr/>
          <p:nvPr/>
        </p:nvPicPr>
        <p:blipFill>
          <a:blip r:embed="rId5"/>
          <a:stretch/>
        </p:blipFill>
        <p:spPr>
          <a:xfrm>
            <a:off x="6324480" y="3581280"/>
            <a:ext cx="2114640" cy="2819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ataegus x media ‘Paul’s Scarle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mei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633840" y="2209680"/>
            <a:ext cx="1876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Crataegus%20x%20media%20%27PAUL%27S%20SCARLETT%27%20010000-000-20"/>
          <p:cNvPicPr/>
          <p:nvPr/>
        </p:nvPicPr>
        <p:blipFill>
          <a:blip r:embed="rId1"/>
          <a:stretch/>
        </p:blipFill>
        <p:spPr>
          <a:xfrm>
            <a:off x="685800" y="2133720"/>
            <a:ext cx="2595600" cy="33717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2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2505924770_2a098b1226"/>
          <p:cNvPicPr/>
          <p:nvPr/>
        </p:nvPicPr>
        <p:blipFill>
          <a:blip r:embed="rId2"/>
          <a:stretch/>
        </p:blipFill>
        <p:spPr>
          <a:xfrm>
            <a:off x="6172200" y="1752480"/>
            <a:ext cx="2610000" cy="1738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ANd9GcQNwFvdVtKiofY8ayXWRiENGSXkpjoA5mrLTSH_C-vAaKO1ivha"/>
          <p:cNvPicPr/>
          <p:nvPr/>
        </p:nvPicPr>
        <p:blipFill>
          <a:blip r:embed="rId3"/>
          <a:stretch/>
        </p:blipFill>
        <p:spPr>
          <a:xfrm>
            <a:off x="3352680" y="29718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ANd9GcQEQ5XF5HvenUWm3qRwo_zG3E036PuYOokaJwd2H8yNgaBp29juCw"/>
          <p:cNvPicPr/>
          <p:nvPr/>
        </p:nvPicPr>
        <p:blipFill>
          <a:blip r:embed="rId4"/>
          <a:stretch/>
        </p:blipFill>
        <p:spPr>
          <a:xfrm>
            <a:off x="6324480" y="4267080"/>
            <a:ext cx="2286000" cy="1638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agus sylvatica ‘Atropunice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ANd9GcTx3l5Vul2W_Vd2fz2EW2aL8OY_ACHE64uaQvGU-6JXePIhfJ7nZw"/>
          <p:cNvPicPr/>
          <p:nvPr/>
        </p:nvPicPr>
        <p:blipFill>
          <a:blip r:embed="rId1"/>
          <a:stretch/>
        </p:blipFill>
        <p:spPr>
          <a:xfrm>
            <a:off x="3581280" y="2362320"/>
            <a:ext cx="2262240" cy="2757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ANd9GcSqVNjrtJKE3OM-dNLGHI43TWYCNyvDwFN2kh2aF-OSNEyMmZBd"/>
          <p:cNvPicPr/>
          <p:nvPr/>
        </p:nvPicPr>
        <p:blipFill>
          <a:blip r:embed="rId2"/>
          <a:stretch/>
        </p:blipFill>
        <p:spPr>
          <a:xfrm>
            <a:off x="990720" y="1523880"/>
            <a:ext cx="2466720" cy="18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ANd9GcSCYyb-DZmYEsv7U9x9WN1sAjUqZ5KQoEB3Pr24FTt6vQj8K2NO"/>
          <p:cNvPicPr/>
          <p:nvPr/>
        </p:nvPicPr>
        <p:blipFill>
          <a:blip r:embed="rId3"/>
          <a:stretch/>
        </p:blipFill>
        <p:spPr>
          <a:xfrm>
            <a:off x="990720" y="3657600"/>
            <a:ext cx="1857240" cy="246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Nd9GcRuz0giDNV6X9sOo8KeOi6HolaR_UGsMGVtLJ1M-aYwUDdVz4m_"/>
          <p:cNvPicPr/>
          <p:nvPr/>
        </p:nvPicPr>
        <p:blipFill>
          <a:blip r:embed="rId4"/>
          <a:stretch/>
        </p:blipFill>
        <p:spPr>
          <a:xfrm>
            <a:off x="6095880" y="1523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ANd9GcSAIjo1khMTseDHh8KItu5lYILIgBcPtAfsq1wPZEx9K8YbCEkx"/>
          <p:cNvPicPr/>
          <p:nvPr/>
        </p:nvPicPr>
        <p:blipFill>
          <a:blip r:embed="rId5"/>
          <a:stretch/>
        </p:blipFill>
        <p:spPr>
          <a:xfrm>
            <a:off x="670572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leditsia triancantho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lse christu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ANd9GcQDnNc-ZUNjgdUp6GrQ9IFHLBZhAlcEYvcEs_hE5hg3fB1vD6wxrw"/>
          <p:cNvPicPr/>
          <p:nvPr/>
        </p:nvPicPr>
        <p:blipFill>
          <a:blip r:embed="rId1"/>
          <a:stretch/>
        </p:blipFill>
        <p:spPr>
          <a:xfrm>
            <a:off x="3276720" y="1371600"/>
            <a:ext cx="2811240" cy="2824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Nd9GcT_8Yc6ZmqY6DtqSIq5UsuAyiUGXpV1YgR_Np6mYbEz3MuNnQkmrQ"/>
          <p:cNvPicPr/>
          <p:nvPr/>
        </p:nvPicPr>
        <p:blipFill>
          <a:blip r:embed="rId2"/>
          <a:stretch/>
        </p:blipFill>
        <p:spPr>
          <a:xfrm>
            <a:off x="6172200" y="4343400"/>
            <a:ext cx="2314440" cy="2004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ANd9GcSZqIpk-VjjIUgD8GGQdlzNxgIWW6_TVUOmNk74tskKoUtCQXu9"/>
          <p:cNvPicPr/>
          <p:nvPr/>
        </p:nvPicPr>
        <p:blipFill>
          <a:blip r:embed="rId3"/>
          <a:stretch/>
        </p:blipFill>
        <p:spPr>
          <a:xfrm>
            <a:off x="838080" y="1295280"/>
            <a:ext cx="2111400" cy="2819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ANd9GcT0xKWVnklMLdCmY-ewYlODINuWKC_jtOZ0gOKY1Foe6G961247lA"/>
          <p:cNvPicPr/>
          <p:nvPr/>
        </p:nvPicPr>
        <p:blipFill>
          <a:blip r:embed="rId4"/>
          <a:stretch/>
        </p:blipFill>
        <p:spPr>
          <a:xfrm>
            <a:off x="838080" y="4419720"/>
            <a:ext cx="2343240" cy="1942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ANd9GcT3M0BEg6bdnP8aNTOpLgFwqLb-JHvv5TjGM5U82O8pVve6U0mpSg"/>
          <p:cNvPicPr/>
          <p:nvPr/>
        </p:nvPicPr>
        <p:blipFill>
          <a:blip r:embed="rId5"/>
          <a:stretch/>
        </p:blipFill>
        <p:spPr>
          <a:xfrm>
            <a:off x="655308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ANd9GcT4YvflAjvXzPxD-ImX3NK8ZahoHJz3zyM1LO4_jTri795ICFDE3A"/>
          <p:cNvPicPr/>
          <p:nvPr/>
        </p:nvPicPr>
        <p:blipFill>
          <a:blip r:embed="rId6"/>
          <a:stretch/>
        </p:blipFill>
        <p:spPr>
          <a:xfrm>
            <a:off x="3505320" y="44956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glans reg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ln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ANd9GcTbFpZnMb5fb3tPJ1lf-s0IdMyHM7xxVJn3L4PFGGb7ibXtlsTbTQ"/>
          <p:cNvPicPr/>
          <p:nvPr/>
        </p:nvPicPr>
        <p:blipFill>
          <a:blip r:embed="rId1"/>
          <a:stretch/>
        </p:blipFill>
        <p:spPr>
          <a:xfrm>
            <a:off x="3505320" y="1371600"/>
            <a:ext cx="2222280" cy="2800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ANd9GcTTdFtBam_qKM5v1at79Uil5_FqGFX1w8gjGJeQoFAYxV9nQnwo"/>
          <p:cNvPicPr/>
          <p:nvPr/>
        </p:nvPicPr>
        <p:blipFill>
          <a:blip r:embed="rId2"/>
          <a:stretch/>
        </p:blipFill>
        <p:spPr>
          <a:xfrm>
            <a:off x="1447920" y="10666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ANd9GcSwpha-0MyLDI81IWxmOPi9imXmLaa5ZzblvCdy1Baxi3LVJEyF_A"/>
          <p:cNvPicPr/>
          <p:nvPr/>
        </p:nvPicPr>
        <p:blipFill>
          <a:blip r:embed="rId3"/>
          <a:stretch/>
        </p:blipFill>
        <p:spPr>
          <a:xfrm>
            <a:off x="762120" y="396252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ANd9GcS_ymFoMzdd1E-FhuQ-iS5oK54Rym8NDsoJ5VtPse9-jbLQIXqX25rjMbCkmg"/>
          <p:cNvPicPr/>
          <p:nvPr/>
        </p:nvPicPr>
        <p:blipFill>
          <a:blip r:embed="rId4"/>
          <a:stretch/>
        </p:blipFill>
        <p:spPr>
          <a:xfrm>
            <a:off x="3733920" y="44197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ANd9GcRYrCCfjyTA8RBGX-Tj6vSu7L7aJrdPAN8OszVvpnhmH-YUlJxA"/>
          <p:cNvPicPr/>
          <p:nvPr/>
        </p:nvPicPr>
        <p:blipFill>
          <a:blip r:embed="rId5"/>
          <a:stretch/>
        </p:blipFill>
        <p:spPr>
          <a:xfrm>
            <a:off x="6095880" y="388620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ANd9GcTrgT7ed-Y6qM9O_tgX8ybj3IQku_WFSPcwfKqTm7f_ONl8fpXU9g"/>
          <p:cNvPicPr/>
          <p:nvPr/>
        </p:nvPicPr>
        <p:blipFill>
          <a:blip r:embed="rId6"/>
          <a:stretch/>
        </p:blipFill>
        <p:spPr>
          <a:xfrm>
            <a:off x="6095880" y="11430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burnum x wateri ‘Voss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en r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ANd9GcSJ5G570MdulxCfDYhF-oe7K-IYa6N9p4uU7PI9DeZ3epDUaOU"/>
          <p:cNvPicPr/>
          <p:nvPr/>
        </p:nvPicPr>
        <p:blipFill>
          <a:blip r:embed="rId1"/>
          <a:stretch/>
        </p:blipFill>
        <p:spPr>
          <a:xfrm>
            <a:off x="762120" y="3733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ANd9GcSTUH0CdW4HwZkeOivoFBjZ5nXEheSiU8yaHAC-XhNIyPNUmhHuKw"/>
          <p:cNvPicPr/>
          <p:nvPr/>
        </p:nvPicPr>
        <p:blipFill>
          <a:blip r:embed="rId2"/>
          <a:stretch/>
        </p:blipFill>
        <p:spPr>
          <a:xfrm>
            <a:off x="5943600" y="15238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ANd9GcSrJKVED_Xp1zNTfmmDTYOL-zPc_Ep-UZo23UdBLFw5Ds8Ip6D7uw"/>
          <p:cNvPicPr/>
          <p:nvPr/>
        </p:nvPicPr>
        <p:blipFill>
          <a:blip r:embed="rId3"/>
          <a:stretch/>
        </p:blipFill>
        <p:spPr>
          <a:xfrm>
            <a:off x="3200400" y="2819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ANd9GcRpjChEieJzzunx-Y2JejCZ4AT32X9HFT3615gJtXyRxbOSeKKT"/>
          <p:cNvPicPr/>
          <p:nvPr/>
        </p:nvPicPr>
        <p:blipFill>
          <a:blip r:embed="rId4"/>
          <a:stretch/>
        </p:blipFill>
        <p:spPr>
          <a:xfrm>
            <a:off x="5943600" y="4476600"/>
            <a:ext cx="2666880" cy="1733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8" descr="ANd9GcSKNA7JtD9LD5WnjyQgh4JUkqQ5pT0PloUoxv0jFywpuO3Vhu1-fA"/>
          <p:cNvPicPr/>
          <p:nvPr/>
        </p:nvPicPr>
        <p:blipFill>
          <a:blip r:embed="rId5"/>
          <a:stretch/>
        </p:blipFill>
        <p:spPr>
          <a:xfrm>
            <a:off x="762120" y="1523880"/>
            <a:ext cx="2428920" cy="1886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l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a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SNjxt7CaFoGCBnktNL9nYxiQQSHb9PYg5gLV_JBoM7lRZpIxDJ4g"/>
          <p:cNvPicPr/>
          <p:nvPr/>
        </p:nvPicPr>
        <p:blipFill>
          <a:blip r:embed="rId1"/>
          <a:stretch/>
        </p:blipFill>
        <p:spPr>
          <a:xfrm>
            <a:off x="3429000" y="2514600"/>
            <a:ext cx="2295360" cy="1990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ANd9GcQp_WIOWGxqxQjG7RZdfPGENjs2BMlT90VENHgPVg7ifA9eCfwFIA"/>
          <p:cNvPicPr/>
          <p:nvPr/>
        </p:nvPicPr>
        <p:blipFill>
          <a:blip r:embed="rId2"/>
          <a:stretch/>
        </p:blipFill>
        <p:spPr>
          <a:xfrm>
            <a:off x="990720" y="3673440"/>
            <a:ext cx="1904760" cy="182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ANd9GcSLwmhUXckgWDb_MrFPV_U--ipq2omEYwVWuWrHVfT0wp2uCLLkmQ"/>
          <p:cNvPicPr/>
          <p:nvPr/>
        </p:nvPicPr>
        <p:blipFill>
          <a:blip r:embed="rId3"/>
          <a:stretch/>
        </p:blipFill>
        <p:spPr>
          <a:xfrm>
            <a:off x="6172200" y="144792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ANd9GcT58Bd43Iifrzzk4TUzSzLC2QDHpR08SHifbPLOAQfiRHJZINUIoQ"/>
          <p:cNvPicPr/>
          <p:nvPr/>
        </p:nvPicPr>
        <p:blipFill>
          <a:blip r:embed="rId4"/>
          <a:stretch/>
        </p:blipFill>
        <p:spPr>
          <a:xfrm>
            <a:off x="62485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ANd9GcQBuhW8Ttl_nKmQcQoUGbcqKx-m-Y3zLgfsX3LjTBfZhP7besJN"/>
          <p:cNvPicPr/>
          <p:nvPr/>
        </p:nvPicPr>
        <p:blipFill>
          <a:blip r:embed="rId5"/>
          <a:stretch/>
        </p:blipFill>
        <p:spPr>
          <a:xfrm>
            <a:off x="990720" y="1295280"/>
            <a:ext cx="2043000" cy="2057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tanus x hispida</a:t>
            </a:r>
            <a:br>
              <a:rPr sz="40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ta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ANd9GcQjkf2O3LB8fyD74N8bVb_cnpjaLb5RnHxrZwghcRU9IcziFvdi"/>
          <p:cNvPicPr/>
          <p:nvPr/>
        </p:nvPicPr>
        <p:blipFill>
          <a:blip r:embed="rId1"/>
          <a:stretch/>
        </p:blipFill>
        <p:spPr>
          <a:xfrm>
            <a:off x="4038480" y="2438280"/>
            <a:ext cx="1649520" cy="2438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ANd9GcRgyuL_ec9sYDprovUf7VYHs7c_YW1kN8LBR4uHW-OmVSnS9jex"/>
          <p:cNvPicPr/>
          <p:nvPr/>
        </p:nvPicPr>
        <p:blipFill>
          <a:blip r:embed="rId2"/>
          <a:stretch/>
        </p:blipFill>
        <p:spPr>
          <a:xfrm>
            <a:off x="640080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platanus_x_hispanica_1"/>
          <p:cNvPicPr/>
          <p:nvPr/>
        </p:nvPicPr>
        <p:blipFill>
          <a:blip r:embed="rId3"/>
          <a:stretch/>
        </p:blipFill>
        <p:spPr>
          <a:xfrm>
            <a:off x="762120" y="1523880"/>
            <a:ext cx="3076560" cy="2051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nigra ‘Itali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taliaans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ANd9GcQCUn9gCdYT3E3JM6i6zv61CYgKUWmNPoMD1DEI9Mh1VQoWX0vO"/>
          <p:cNvPicPr/>
          <p:nvPr/>
        </p:nvPicPr>
        <p:blipFill>
          <a:blip r:embed="rId1"/>
          <a:stretch/>
        </p:blipFill>
        <p:spPr>
          <a:xfrm>
            <a:off x="914400" y="10666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ANd9GcTMlzyp6JIVjV_ceqZi9hY1YoQOG5bod1G-8PeGiVMuh3Emdlw0"/>
          <p:cNvPicPr/>
          <p:nvPr/>
        </p:nvPicPr>
        <p:blipFill>
          <a:blip r:embed="rId2"/>
          <a:stretch/>
        </p:blipFill>
        <p:spPr>
          <a:xfrm>
            <a:off x="6400800" y="3352680"/>
            <a:ext cx="1733400" cy="262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ANd9GcRgQBxJniHEhbZ5R0qqIBMHTW-6Joc1QNi7w448C6wY1b6kE5gIuQ"/>
          <p:cNvPicPr/>
          <p:nvPr/>
        </p:nvPicPr>
        <p:blipFill>
          <a:blip r:embed="rId3"/>
          <a:stretch/>
        </p:blipFill>
        <p:spPr>
          <a:xfrm>
            <a:off x="59436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Nd9GcStEXEiN3kwNl9IduperiAMWn5kZVlNtJfypAgXfGQFP5_YBZcy"/>
          <p:cNvPicPr/>
          <p:nvPr/>
        </p:nvPicPr>
        <p:blipFill>
          <a:blip r:embed="rId4"/>
          <a:stretch/>
        </p:blipFill>
        <p:spPr>
          <a:xfrm>
            <a:off x="3124080" y="2057400"/>
            <a:ext cx="2625840" cy="350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ANd9GcSGeM6R7GnnZ90qKo195Cawcy6DtB8vcDlPxmZfVxpxhGU7B0ny8A"/>
          <p:cNvPicPr/>
          <p:nvPr/>
        </p:nvPicPr>
        <p:blipFill>
          <a:blip r:embed="rId5"/>
          <a:stretch/>
        </p:blipFill>
        <p:spPr>
          <a:xfrm>
            <a:off x="91440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cer negundo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3238560" y="257184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0"/>
          <p:cNvSpPr/>
          <p:nvPr/>
        </p:nvSpPr>
        <p:spPr>
          <a:xfrm>
            <a:off x="3238560" y="257184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180px-Acer-negundo-total"/>
          <p:cNvPicPr/>
          <p:nvPr/>
        </p:nvPicPr>
        <p:blipFill>
          <a:blip r:embed="rId1"/>
          <a:stretch/>
        </p:blipFill>
        <p:spPr>
          <a:xfrm>
            <a:off x="2971800" y="2590920"/>
            <a:ext cx="3886200" cy="2498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ANd9GcQfEEnaanVzf2VWKL4RYE99HJpo6oVigv6i22zRNrN2Uf7opaUv"/>
          <p:cNvPicPr/>
          <p:nvPr/>
        </p:nvPicPr>
        <p:blipFill>
          <a:blip r:embed="rId2"/>
          <a:stretch/>
        </p:blipFill>
        <p:spPr>
          <a:xfrm>
            <a:off x="685800" y="39625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ANd9GcTbTLew35lQS3YL-nVYif0plb7xNRY1a-USMoxYX1pYlSeXeH-L"/>
          <p:cNvPicPr/>
          <p:nvPr/>
        </p:nvPicPr>
        <p:blipFill>
          <a:blip r:embed="rId3"/>
          <a:stretch/>
        </p:blipFill>
        <p:spPr>
          <a:xfrm>
            <a:off x="533520" y="1371600"/>
            <a:ext cx="2743200" cy="205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ANd9GcRQN-qjrOcc0SjASnJ8bhPdV9BmGKelCqyHNeEONVFJd9y1vkSy"/>
          <p:cNvPicPr/>
          <p:nvPr/>
        </p:nvPicPr>
        <p:blipFill>
          <a:blip r:embed="rId4"/>
          <a:stretch/>
        </p:blipFill>
        <p:spPr>
          <a:xfrm>
            <a:off x="6095880" y="1143000"/>
            <a:ext cx="2629080" cy="173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ANd9GcRph_5BIxJallShGnL2myFsTDDm5vKmKyPCFZv8AwcL4t_kn2bcSg"/>
          <p:cNvPicPr/>
          <p:nvPr/>
        </p:nvPicPr>
        <p:blipFill>
          <a:blip r:embed="rId5"/>
          <a:stretch/>
        </p:blipFill>
        <p:spPr>
          <a:xfrm>
            <a:off x="693432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cerasifera ‘Nigr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spru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ANd9GcRbgnpXKgaipZcZv5yoW42ayvB1MMZbe11ZEGwjEBhOLy1h-w61"/>
          <p:cNvPicPr/>
          <p:nvPr/>
        </p:nvPicPr>
        <p:blipFill>
          <a:blip r:embed="rId1"/>
          <a:stretch/>
        </p:blipFill>
        <p:spPr>
          <a:xfrm>
            <a:off x="3505320" y="2133720"/>
            <a:ext cx="2185920" cy="2743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ANd9GcSK655LUfoz-Rx6ekQCiK59X4oFDlIOIBx5tVZCAiKWWb75QvTMsg"/>
          <p:cNvPicPr/>
          <p:nvPr/>
        </p:nvPicPr>
        <p:blipFill>
          <a:blip r:embed="rId2"/>
          <a:stretch/>
        </p:blipFill>
        <p:spPr>
          <a:xfrm>
            <a:off x="1143000" y="3429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ANd9GcSweTewWUWrlwRwfhejV0rSQ7xoPw5I8tmIpYFXgYMSW0-2yRGe"/>
          <p:cNvPicPr/>
          <p:nvPr/>
        </p:nvPicPr>
        <p:blipFill>
          <a:blip r:embed="rId3"/>
          <a:stretch/>
        </p:blipFill>
        <p:spPr>
          <a:xfrm>
            <a:off x="632448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ANd9GcTW9BQXLax-Ov5Nhd-0WLROgR6h70xm2gwNYLh7jKBpMDz8F4QJjg"/>
          <p:cNvPicPr/>
          <p:nvPr/>
        </p:nvPicPr>
        <p:blipFill>
          <a:blip r:embed="rId4"/>
          <a:stretch/>
        </p:blipFill>
        <p:spPr>
          <a:xfrm>
            <a:off x="5943600" y="1143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ANd9GcTgTxNKjGKPVKJuli3LCjksbiutjkuIq7hnEnN1j94z0Swsg7pfVg"/>
          <p:cNvPicPr/>
          <p:nvPr/>
        </p:nvPicPr>
        <p:blipFill>
          <a:blip r:embed="rId5"/>
          <a:stretch/>
        </p:blipFill>
        <p:spPr>
          <a:xfrm>
            <a:off x="838080" y="10666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errulata ‘Kanzan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sie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ANd9GcTlsz5d9IDzCCzv4K6avzUqBPdq1FBWsOFUyded_37kVqGgYNzlhg"/>
          <p:cNvPicPr/>
          <p:nvPr/>
        </p:nvPicPr>
        <p:blipFill>
          <a:blip r:embed="rId1"/>
          <a:stretch/>
        </p:blipFill>
        <p:spPr>
          <a:xfrm>
            <a:off x="3581280" y="2514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ANd9GcQ8TnJ0boNDWdbrbQ1ksFukt47yBRDidBM-ncDEHFoxmJNc9O9E"/>
          <p:cNvPicPr/>
          <p:nvPr/>
        </p:nvPicPr>
        <p:blipFill>
          <a:blip r:embed="rId2"/>
          <a:stretch/>
        </p:blipFill>
        <p:spPr>
          <a:xfrm>
            <a:off x="6094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ANd9GcRoHRjwa52_ugfyxqUlYIy1A_l84m2Oi9qRSDK3k7hazAuNul2b"/>
          <p:cNvPicPr/>
          <p:nvPr/>
        </p:nvPicPr>
        <p:blipFill>
          <a:blip r:embed="rId3"/>
          <a:stretch/>
        </p:blipFill>
        <p:spPr>
          <a:xfrm>
            <a:off x="6400800" y="129528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ANd9GcT6B4CJ7c4XClaAcaPiInKXKw30gAM1kmMn8spo9KcM00QNCMI_dA"/>
          <p:cNvPicPr/>
          <p:nvPr/>
        </p:nvPicPr>
        <p:blipFill>
          <a:blip r:embed="rId4"/>
          <a:stretch/>
        </p:blipFill>
        <p:spPr>
          <a:xfrm>
            <a:off x="685800" y="1523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ANd9GcSQHx7F769h6qboNjYU9GWaJ2-jyEHXUNoAV0incq5QeNLGL0EN"/>
          <p:cNvPicPr/>
          <p:nvPr/>
        </p:nvPicPr>
        <p:blipFill>
          <a:blip r:embed="rId5"/>
          <a:stretch/>
        </p:blipFill>
        <p:spPr>
          <a:xfrm>
            <a:off x="6667560" y="3581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yrus calleryana ‘Chanticleer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p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ANd9GcQVK_VaIA55EnWSyK8FLiWQXLxvfFv_Cut2vhufUQeQ9F8xaLdR"/>
          <p:cNvPicPr/>
          <p:nvPr/>
        </p:nvPicPr>
        <p:blipFill>
          <a:blip r:embed="rId1"/>
          <a:stretch/>
        </p:blipFill>
        <p:spPr>
          <a:xfrm>
            <a:off x="2971800" y="1447920"/>
            <a:ext cx="1779480" cy="2514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ANd9GcQ0dvMzmKc1j5tZ7QuA-0PddrEupg4wonYFTxesTOdO5Y_V7U9TpQ"/>
          <p:cNvPicPr/>
          <p:nvPr/>
        </p:nvPicPr>
        <p:blipFill>
          <a:blip r:embed="rId2"/>
          <a:stretch/>
        </p:blipFill>
        <p:spPr>
          <a:xfrm>
            <a:off x="4876920" y="3352680"/>
            <a:ext cx="1666800" cy="2695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ANd9GcTnG3-bjekeQG2141PKdHVsRp5bh6a3Wl71Xfabhbd-Ix_kOkF4"/>
          <p:cNvPicPr/>
          <p:nvPr/>
        </p:nvPicPr>
        <p:blipFill>
          <a:blip r:embed="rId3"/>
          <a:stretch/>
        </p:blipFill>
        <p:spPr>
          <a:xfrm>
            <a:off x="990720" y="1523880"/>
            <a:ext cx="1725480" cy="2133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ANd9GcTvhRwPAMLaTDl-Na1MOA2cAZByGNNxtk1UU1u16X0uzhcRPrwC8Q"/>
          <p:cNvPicPr/>
          <p:nvPr/>
        </p:nvPicPr>
        <p:blipFill>
          <a:blip r:embed="rId4"/>
          <a:stretch/>
        </p:blipFill>
        <p:spPr>
          <a:xfrm>
            <a:off x="9907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ANd9GcT69XbahGRJAuRQScO3z8gqPru-xhnMUhlwhiKZP5h4Fr2w2wNe"/>
          <p:cNvPicPr/>
          <p:nvPr/>
        </p:nvPicPr>
        <p:blipFill>
          <a:blip r:embed="rId5"/>
          <a:stretch/>
        </p:blipFill>
        <p:spPr>
          <a:xfrm>
            <a:off x="6858000" y="365760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8" descr="ANd9GcSrRc_6GttxEY4_ZkSRg7cL4_4dgQPy5rrqVGVN4lzvlB5q5H7x"/>
          <p:cNvPicPr/>
          <p:nvPr/>
        </p:nvPicPr>
        <p:blipFill>
          <a:blip r:embed="rId6"/>
          <a:stretch/>
        </p:blipFill>
        <p:spPr>
          <a:xfrm>
            <a:off x="6858000" y="1066680"/>
            <a:ext cx="1895400" cy="2419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palust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as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ANd9GcR9pttQBSwMwBrViaBAqBwQcF1xRTBhVhm7aSSQZF-KURifYdQw"/>
          <p:cNvPicPr/>
          <p:nvPr/>
        </p:nvPicPr>
        <p:blipFill>
          <a:blip r:embed="rId1"/>
          <a:stretch/>
        </p:blipFill>
        <p:spPr>
          <a:xfrm>
            <a:off x="3666960" y="2166840"/>
            <a:ext cx="1810080" cy="2524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ANd9GcSdK_ZhGFS62UyCmOMhIYG1Lw5E95_nGxdJe51We0hBVVZ9TLWwHg"/>
          <p:cNvPicPr/>
          <p:nvPr/>
        </p:nvPicPr>
        <p:blipFill>
          <a:blip r:embed="rId2"/>
          <a:stretch/>
        </p:blipFill>
        <p:spPr>
          <a:xfrm>
            <a:off x="990720" y="1295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ANd9GcRmG4DdWLvvuBSFQ-KCndOeD7r_1zoK8mo24CNX7NIka1w2pirdxg"/>
          <p:cNvPicPr/>
          <p:nvPr/>
        </p:nvPicPr>
        <p:blipFill>
          <a:blip r:embed="rId3"/>
          <a:stretch/>
        </p:blipFill>
        <p:spPr>
          <a:xfrm>
            <a:off x="5791320" y="4114800"/>
            <a:ext cx="2361960" cy="1933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ANd9GcR4PSTdfhXEMEq_1z55tA8O13tOi5helB2dDSRs10vz-TY6YRdU"/>
          <p:cNvPicPr/>
          <p:nvPr/>
        </p:nvPicPr>
        <p:blipFill>
          <a:blip r:embed="rId4"/>
          <a:stretch/>
        </p:blipFill>
        <p:spPr>
          <a:xfrm>
            <a:off x="99072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8" descr="ANd9GcRmb8pENkU5nKccXi1JT3Tj67A6fukoOD37eqYYbENeCD_9SwMs"/>
          <p:cNvPicPr/>
          <p:nvPr/>
        </p:nvPicPr>
        <p:blipFill>
          <a:blip r:embed="rId5"/>
          <a:stretch/>
        </p:blipFill>
        <p:spPr>
          <a:xfrm>
            <a:off x="5638680" y="1371600"/>
            <a:ext cx="2581560" cy="1771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l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ANd9GcRuXjduBJSoV5Rqv_3Jqc41-1vWrlNcPMjiNDCaYA-Gsi70Z82ABQ"/>
          <p:cNvPicPr/>
          <p:nvPr/>
        </p:nvPicPr>
        <p:blipFill>
          <a:blip r:embed="rId1"/>
          <a:stretch/>
        </p:blipFill>
        <p:spPr>
          <a:xfrm>
            <a:off x="11430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ANd9GcRVCSaiEkuaurqvMIHz97_WkH20Wo6SYb8lwR-C-FGRBQtjSnLBQg"/>
          <p:cNvPicPr/>
          <p:nvPr/>
        </p:nvPicPr>
        <p:blipFill>
          <a:blip r:embed="rId2"/>
          <a:stretch/>
        </p:blipFill>
        <p:spPr>
          <a:xfrm>
            <a:off x="1143000" y="38098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ANd9GcT03LDY6T2WcBeBGMdaVeIeEZIKfKbYrvkIeCyFYyTkIm_IOkdP"/>
          <p:cNvPicPr/>
          <p:nvPr/>
        </p:nvPicPr>
        <p:blipFill>
          <a:blip r:embed="rId3"/>
          <a:stretch/>
        </p:blipFill>
        <p:spPr>
          <a:xfrm>
            <a:off x="3809880" y="2666880"/>
            <a:ext cx="2051280" cy="2210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ANd9GcTKV_RTapYIHsltiHtHYeVCJoIUHdAuger0Eaz9n-lf7YcJYMNn"/>
          <p:cNvPicPr/>
          <p:nvPr/>
        </p:nvPicPr>
        <p:blipFill>
          <a:blip r:embed="rId4"/>
          <a:stretch/>
        </p:blipFill>
        <p:spPr>
          <a:xfrm>
            <a:off x="61722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ANd9GcTyHVAaP0JymcVmVtnDDbPeQov9V4PUE8FrYMc1ipankvrmsjuE"/>
          <p:cNvPicPr/>
          <p:nvPr/>
        </p:nvPicPr>
        <p:blipFill>
          <a:blip r:embed="rId5"/>
          <a:stretch/>
        </p:blipFill>
        <p:spPr>
          <a:xfrm>
            <a:off x="678168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intermedia ‘Brouwer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eedse meel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ANd9GcRPvTbpw3qWLLz8wvXUq6ZI2teOZYXhEIyrLYqBC3Acjm6rpTOULg"/>
          <p:cNvPicPr/>
          <p:nvPr/>
        </p:nvPicPr>
        <p:blipFill>
          <a:blip r:embed="rId1"/>
          <a:stretch/>
        </p:blipFill>
        <p:spPr>
          <a:xfrm>
            <a:off x="1143000" y="1600200"/>
            <a:ext cx="2438280" cy="1795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ANd9GcRVJVUw_yLzRC1rc5RRCzG5-RJHAR1T7byn2MrDSig2y7zKlodYsg"/>
          <p:cNvPicPr/>
          <p:nvPr/>
        </p:nvPicPr>
        <p:blipFill>
          <a:blip r:embed="rId2"/>
          <a:stretch/>
        </p:blipFill>
        <p:spPr>
          <a:xfrm>
            <a:off x="6248520" y="1828800"/>
            <a:ext cx="2344680" cy="3809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QstHpK_h4iNn6IANvZy2urkYrE8I-_psPqROzm_-YI5cylI_zaXQ"/>
          <p:cNvPicPr/>
          <p:nvPr/>
        </p:nvPicPr>
        <p:blipFill>
          <a:blip r:embed="rId3"/>
          <a:stretch/>
        </p:blipFill>
        <p:spPr>
          <a:xfrm>
            <a:off x="1219320" y="3886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ANd9GcSVxw3d_cZzt7RI7_RgiDWjTjRG4wWafEnhXC4mPyfPk7AvlQReiA"/>
          <p:cNvPicPr/>
          <p:nvPr/>
        </p:nvPicPr>
        <p:blipFill>
          <a:blip r:embed="rId4"/>
          <a:stretch/>
        </p:blipFill>
        <p:spPr>
          <a:xfrm>
            <a:off x="3886200" y="2514600"/>
            <a:ext cx="2217600" cy="2743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x europae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landse 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ANd9GcSsVB-pSZrvEiF-6oJyyJPovVmp_Jc-WepbwZnXtj73mZf3vq2y"/>
          <p:cNvPicPr/>
          <p:nvPr/>
        </p:nvPicPr>
        <p:blipFill>
          <a:blip r:embed="rId1"/>
          <a:stretch/>
        </p:blipFill>
        <p:spPr>
          <a:xfrm>
            <a:off x="68580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ANd9GcTi_h373Wfv-3eS4i4tCnA-Muaia-_TLFo6VTdhmNqFczkAuqcq"/>
          <p:cNvPicPr/>
          <p:nvPr/>
        </p:nvPicPr>
        <p:blipFill>
          <a:blip r:embed="rId2"/>
          <a:stretch/>
        </p:blipFill>
        <p:spPr>
          <a:xfrm>
            <a:off x="3505320" y="2057400"/>
            <a:ext cx="2522520" cy="3367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ANd9GcQY-a2xEdE3uA4-idlvOecry6bHOzK-bRCefQMVE8iphSFeGuSXZA"/>
          <p:cNvPicPr/>
          <p:nvPr/>
        </p:nvPicPr>
        <p:blipFill>
          <a:blip r:embed="rId3"/>
          <a:stretch/>
        </p:blipFill>
        <p:spPr>
          <a:xfrm>
            <a:off x="6094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ANd9GcQ3itKZQoN16wnn5Y932dPC13XfoQunV3JXCwc-wTsp60UlV0ITUw"/>
          <p:cNvPicPr/>
          <p:nvPr/>
        </p:nvPicPr>
        <p:blipFill>
          <a:blip r:embed="rId4"/>
          <a:stretch/>
        </p:blipFill>
        <p:spPr>
          <a:xfrm>
            <a:off x="6324480" y="1371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" descr="ANd9GcT_fBtvUtW7xQ58ZXBFqDP6YoOFNPaZcVDpqZw9vGbbsnWGPzpg"/>
          <p:cNvPicPr/>
          <p:nvPr/>
        </p:nvPicPr>
        <p:blipFill>
          <a:blip r:embed="rId5"/>
          <a:stretch/>
        </p:blipFill>
        <p:spPr>
          <a:xfrm>
            <a:off x="6934320" y="33526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tomentosa ‘Braban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lv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ANd9GcQ7onT6ulxZTtVwE4-a6a2dZ6v4m5znaLknSqVOJLzp5-1u8VAyuA"/>
          <p:cNvPicPr/>
          <p:nvPr/>
        </p:nvPicPr>
        <p:blipFill>
          <a:blip r:embed="rId1"/>
          <a:stretch/>
        </p:blipFill>
        <p:spPr>
          <a:xfrm>
            <a:off x="3581280" y="2133720"/>
            <a:ext cx="2122560" cy="2833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ANd9GcSv3jBmDCl0LazwZJG5hXsC05Dr8y1tyMf72LKSJWcCacW-aLg2CQ"/>
          <p:cNvPicPr/>
          <p:nvPr/>
        </p:nvPicPr>
        <p:blipFill>
          <a:blip r:embed="rId2"/>
          <a:stretch/>
        </p:blipFill>
        <p:spPr>
          <a:xfrm>
            <a:off x="990720" y="1371600"/>
            <a:ext cx="2286000" cy="1711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ANd9GcQc2Y9-lgt9tsnxrqDBA22qpqLc6GODaaDVQZaXz5r3EfyF5d_d"/>
          <p:cNvPicPr/>
          <p:nvPr/>
        </p:nvPicPr>
        <p:blipFill>
          <a:blip r:embed="rId3"/>
          <a:stretch/>
        </p:blipFill>
        <p:spPr>
          <a:xfrm>
            <a:off x="1066680" y="396252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ANd9GcQAKgTYJvoLglB51JpiNGLcHfeK497tcY4OTeCDTpSoXN54H3j_VA"/>
          <p:cNvPicPr/>
          <p:nvPr/>
        </p:nvPicPr>
        <p:blipFill>
          <a:blip r:embed="rId4"/>
          <a:stretch/>
        </p:blipFill>
        <p:spPr>
          <a:xfrm>
            <a:off x="6781680" y="3733920"/>
            <a:ext cx="1339920" cy="2009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ANd9GcSxyDtwQ_e60XVIn40fDdj_QngkKPt8mchblZrNEkAaWsjFmNzi"/>
          <p:cNvPicPr/>
          <p:nvPr/>
        </p:nvPicPr>
        <p:blipFill>
          <a:blip r:embed="rId5"/>
          <a:stretch/>
        </p:blipFill>
        <p:spPr>
          <a:xfrm>
            <a:off x="5943600" y="12952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x hollandica ‘Groeneveld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landse 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ANd9GcRH3QeMRjrECRskEnU7PK-FkuYWpmxwDOFMkO6iF09E-UR1SQfC"/>
          <p:cNvPicPr/>
          <p:nvPr/>
        </p:nvPicPr>
        <p:blipFill>
          <a:blip r:embed="rId1"/>
          <a:stretch/>
        </p:blipFill>
        <p:spPr>
          <a:xfrm>
            <a:off x="3733920" y="2209680"/>
            <a:ext cx="2077920" cy="2766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ANd9GcStqE6_IW2hZYRf_mwdmqyicSDvVfFZmkSEqRQqQa5vgu8Dpe58"/>
          <p:cNvPicPr/>
          <p:nvPr/>
        </p:nvPicPr>
        <p:blipFill>
          <a:blip r:embed="rId2"/>
          <a:stretch/>
        </p:blipFill>
        <p:spPr>
          <a:xfrm>
            <a:off x="1219320" y="1219320"/>
            <a:ext cx="1809720" cy="2533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ANd9GcSb12WBpmJPcBjS9iUu1iSynDAYsoOkGdPKJErZtz0O4pGsv6Zo"/>
          <p:cNvPicPr/>
          <p:nvPr/>
        </p:nvPicPr>
        <p:blipFill>
          <a:blip r:embed="rId3"/>
          <a:stretch/>
        </p:blipFill>
        <p:spPr>
          <a:xfrm>
            <a:off x="6172200" y="2743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ANd9GcSd28n5BRTFzXMQmkE4KkGb6QOecEfkJnQQuGjY7u04ApaYEFwN"/>
          <p:cNvPicPr/>
          <p:nvPr/>
        </p:nvPicPr>
        <p:blipFill>
          <a:blip r:embed="rId4"/>
          <a:stretch/>
        </p:blipFill>
        <p:spPr>
          <a:xfrm>
            <a:off x="1219320" y="39625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x hollandica ‘Wrede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ANd9GcRdS3CQG64GQsK-xHgWzPHZ6bKHzBRBkQNvfN8OFUcI0OPiGTr0OQ"/>
          <p:cNvPicPr/>
          <p:nvPr/>
        </p:nvPicPr>
        <p:blipFill>
          <a:blip r:embed="rId1"/>
          <a:stretch/>
        </p:blipFill>
        <p:spPr>
          <a:xfrm>
            <a:off x="3352680" y="1523880"/>
            <a:ext cx="2740320" cy="3657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ANd9GcSZBvagurCEP1C8_ZZ4bK18DEiCHMc4w5VDRVyJd2kBqVZG-z9qFw"/>
          <p:cNvPicPr/>
          <p:nvPr/>
        </p:nvPicPr>
        <p:blipFill>
          <a:blip r:embed="rId2"/>
          <a:stretch/>
        </p:blipFill>
        <p:spPr>
          <a:xfrm>
            <a:off x="662940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ANd9GcQ7nGssszS8FNVm9HrJofiuLEucoT4cwtkHRufC86tLt1i7hXClzQ"/>
          <p:cNvPicPr/>
          <p:nvPr/>
        </p:nvPicPr>
        <p:blipFill>
          <a:blip r:embed="rId3"/>
          <a:stretch/>
        </p:blipFill>
        <p:spPr>
          <a:xfrm>
            <a:off x="762120" y="1066680"/>
            <a:ext cx="2361960" cy="1933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ANd9GcQKNgHT_fZ9REueHMlZj2VpjRT7wn1pBO6yqELdt4L3VFo8oUV4"/>
          <p:cNvPicPr/>
          <p:nvPr/>
        </p:nvPicPr>
        <p:blipFill>
          <a:blip r:embed="rId4"/>
          <a:stretch/>
        </p:blipFill>
        <p:spPr>
          <a:xfrm>
            <a:off x="838080" y="396252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ANd9GcQlhhof4z0SpCmWgbP9EUmodN4eSCA4BLmjASjhSYdN3UcDOBAz"/>
          <p:cNvPicPr/>
          <p:nvPr/>
        </p:nvPicPr>
        <p:blipFill>
          <a:blip r:embed="rId5"/>
          <a:stretch/>
        </p:blipFill>
        <p:spPr>
          <a:xfrm>
            <a:off x="6629400" y="9144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latanoides ‘Globosum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gelesdoorn; bol-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ANd9GcTmNVnVM_FsmuzJ7vngCnGujVkoa8EeuN36BYQangV3NhZokzKCaw"/>
          <p:cNvPicPr/>
          <p:nvPr/>
        </p:nvPicPr>
        <p:blipFill>
          <a:blip r:embed="rId1"/>
          <a:stretch/>
        </p:blipFill>
        <p:spPr>
          <a:xfrm>
            <a:off x="3657600" y="1600200"/>
            <a:ext cx="2322360" cy="286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ANd9GcS4aX0pndivVtX1sCo2t7iM1CBUGzbyialMhpV4TdnD3s2TK_vfTw"/>
          <p:cNvPicPr/>
          <p:nvPr/>
        </p:nvPicPr>
        <p:blipFill>
          <a:blip r:embed="rId2"/>
          <a:stretch/>
        </p:blipFill>
        <p:spPr>
          <a:xfrm>
            <a:off x="838080" y="1676520"/>
            <a:ext cx="2543400" cy="180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ANd9GcRfFkbNrMQ0jV-aAsUy1ngJKX0OnJH09CEodWm4uL8POMmzrmrp"/>
          <p:cNvPicPr/>
          <p:nvPr/>
        </p:nvPicPr>
        <p:blipFill>
          <a:blip r:embed="rId3"/>
          <a:stretch/>
        </p:blipFill>
        <p:spPr>
          <a:xfrm>
            <a:off x="838080" y="39625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ANd9GcSyGIMn2KiBlrRx6HDV4ElA0V0Nsg_njI33qt8y3-vG9wl6gchj9A"/>
          <p:cNvPicPr/>
          <p:nvPr/>
        </p:nvPicPr>
        <p:blipFill>
          <a:blip r:embed="rId4"/>
          <a:stretch/>
        </p:blipFill>
        <p:spPr>
          <a:xfrm>
            <a:off x="6324480" y="1600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ANd9GcQw_ilJBzq6PXkAAMvumvu2ggqd9uWReqUFZ5trMBwPQkmsnXEu"/>
          <p:cNvPicPr/>
          <p:nvPr/>
        </p:nvPicPr>
        <p:blipFill>
          <a:blip r:embed="rId5"/>
          <a:stretch/>
        </p:blipFill>
        <p:spPr>
          <a:xfrm>
            <a:off x="7086600" y="3809880"/>
            <a:ext cx="125892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ANd9GcQ5fHxEhJmp6M0MSlNVYyw5zp7HpgFgQj-u1_ipUjwgxcqUV--RZw"/>
          <p:cNvPicPr/>
          <p:nvPr/>
        </p:nvPicPr>
        <p:blipFill>
          <a:blip r:embed="rId6"/>
          <a:stretch/>
        </p:blipFill>
        <p:spPr>
          <a:xfrm>
            <a:off x="3505320" y="4648320"/>
            <a:ext cx="3009960" cy="1523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glabra ‘Camperdown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iëel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Ulmus%20glabra%20%27Camperdownii%27%20SW05"/>
          <p:cNvPicPr/>
          <p:nvPr/>
        </p:nvPicPr>
        <p:blipFill>
          <a:blip r:embed="rId1"/>
          <a:stretch/>
        </p:blipFill>
        <p:spPr>
          <a:xfrm>
            <a:off x="2590920" y="144792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2"/>
          <p:cNvSpPr/>
          <p:nvPr/>
        </p:nvSpPr>
        <p:spPr>
          <a:xfrm>
            <a:off x="4086360" y="2895480"/>
            <a:ext cx="971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4" descr="campleaf"/>
          <p:cNvPicPr/>
          <p:nvPr/>
        </p:nvPicPr>
        <p:blipFill>
          <a:blip r:embed="rId2"/>
          <a:stretch/>
        </p:blipFill>
        <p:spPr>
          <a:xfrm>
            <a:off x="533520" y="990720"/>
            <a:ext cx="2006640" cy="2209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ANd9GcRAi9t6SYoGJdVwx1iXP4WCQbiKY3wfF4LUmXekSZzSiouIMPyB"/>
          <p:cNvPicPr/>
          <p:nvPr/>
        </p:nvPicPr>
        <p:blipFill>
          <a:blip r:embed="rId3"/>
          <a:stretch/>
        </p:blipFill>
        <p:spPr>
          <a:xfrm>
            <a:off x="3049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" descr="ANd9GcRRh6BE2SMBhvhX5PbNRCpvZDoBQGEXD5hYfr3xSXVR_yRthm2E2A"/>
          <p:cNvPicPr/>
          <p:nvPr/>
        </p:nvPicPr>
        <p:blipFill>
          <a:blip r:embed="rId4"/>
          <a:stretch/>
        </p:blipFill>
        <p:spPr>
          <a:xfrm>
            <a:off x="6324480" y="106668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0" descr="ANd9GcSNXr-4a7LD2iQq1qMi_ExfcozYx2zR9YQfTSVz8AZvEwoJwfh8FQ"/>
          <p:cNvPicPr/>
          <p:nvPr/>
        </p:nvPicPr>
        <p:blipFill>
          <a:blip r:embed="rId5"/>
          <a:stretch/>
        </p:blipFill>
        <p:spPr>
          <a:xfrm>
            <a:off x="6934320" y="32767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2" descr="ANd9GcSWI0d_3_u8Zujc75cR5A37-3zKcm60A-l06Lcpqme2AfenL3U2jQ"/>
          <p:cNvPicPr/>
          <p:nvPr/>
        </p:nvPicPr>
        <p:blipFill>
          <a:blip r:embed="rId6"/>
          <a:stretch/>
        </p:blipFill>
        <p:spPr>
          <a:xfrm>
            <a:off x="3352680" y="4114800"/>
            <a:ext cx="2667240" cy="17146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cer saccharinum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itte esdo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ANd9GcQtmnG3Bqge5drpr7kjFIkH0OvbPBolzixZLNd-W8uXL4WEcGNR"/>
          <p:cNvPicPr/>
          <p:nvPr/>
        </p:nvPicPr>
        <p:blipFill>
          <a:blip r:embed="rId1"/>
          <a:stretch/>
        </p:blipFill>
        <p:spPr>
          <a:xfrm>
            <a:off x="838080" y="1523880"/>
            <a:ext cx="2362320" cy="19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ANd9GcSGo1w1Sh0ZOTpz1GacEpUgwYMz5c7lig2ozqu7KmC7ZOmI7SQ"/>
          <p:cNvPicPr/>
          <p:nvPr/>
        </p:nvPicPr>
        <p:blipFill>
          <a:blip r:embed="rId2"/>
          <a:stretch/>
        </p:blipFill>
        <p:spPr>
          <a:xfrm>
            <a:off x="3733920" y="2133720"/>
            <a:ext cx="205416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TJg9gSXYOtojK33FLYiSaMtMlqdOfijSz4t4rB1IxTeVLhQ6UY"/>
          <p:cNvPicPr/>
          <p:nvPr/>
        </p:nvPicPr>
        <p:blipFill>
          <a:blip r:embed="rId3"/>
          <a:stretch/>
        </p:blipFill>
        <p:spPr>
          <a:xfrm>
            <a:off x="838080" y="3505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ANd9GcRm2KQmwYKZnd4wFBWV2KusZAtt-GUK0egP6Y8xHjeCdNjvxQUy"/>
          <p:cNvPicPr/>
          <p:nvPr/>
        </p:nvPicPr>
        <p:blipFill>
          <a:blip r:embed="rId4"/>
          <a:stretch/>
        </p:blipFill>
        <p:spPr>
          <a:xfrm>
            <a:off x="6400800" y="32767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sculus x carne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paarde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ANd9GcQgdLE2JSt822jcTtldWj-k7mbRGo58g7TQnfffogrtFobekJbH"/>
          <p:cNvPicPr/>
          <p:nvPr/>
        </p:nvPicPr>
        <p:blipFill>
          <a:blip r:embed="rId1"/>
          <a:stretch/>
        </p:blipFill>
        <p:spPr>
          <a:xfrm>
            <a:off x="3581280" y="1981080"/>
            <a:ext cx="268308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ANd9GcRN5y4RoDmjlDxVOb0glq0Wu3pkfC7KD0K017lGWkUKQ-_6nCJYSg"/>
          <p:cNvPicPr/>
          <p:nvPr/>
        </p:nvPicPr>
        <p:blipFill>
          <a:blip r:embed="rId2"/>
          <a:stretch/>
        </p:blipFill>
        <p:spPr>
          <a:xfrm>
            <a:off x="1447920" y="1447920"/>
            <a:ext cx="1847880" cy="24667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4"/>
          <p:cNvSpPr/>
          <p:nvPr/>
        </p:nvSpPr>
        <p:spPr>
          <a:xfrm>
            <a:off x="4000680" y="3005280"/>
            <a:ext cx="114300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ANd9GcQ0FqVOHxIcNW8iskQjIz8aqLe7-NyYYLt2pAGnBr0h5GjY6OZf3Q"/>
          <p:cNvPicPr/>
          <p:nvPr/>
        </p:nvPicPr>
        <p:blipFill>
          <a:blip r:embed="rId3"/>
          <a:stretch/>
        </p:blipFill>
        <p:spPr>
          <a:xfrm>
            <a:off x="6629400" y="13716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ANd9GcTgqmIWh1MONB7ZcFtBQaheRHve8o4V5-R4Lm4KR75nLKB1bIEH"/>
          <p:cNvPicPr/>
          <p:nvPr/>
        </p:nvPicPr>
        <p:blipFill>
          <a:blip r:embed="rId4"/>
          <a:stretch/>
        </p:blipFill>
        <p:spPr>
          <a:xfrm>
            <a:off x="1523880" y="4191120"/>
            <a:ext cx="1489320" cy="2238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Nd9GcSw3EVJGg8RJ7DA4UdqCDqYEBCh-GTSQYEH6wpWa8Xh-zombaia5g"/>
          <p:cNvPicPr/>
          <p:nvPr/>
        </p:nvPicPr>
        <p:blipFill>
          <a:blip r:embed="rId5"/>
          <a:stretch/>
        </p:blipFill>
        <p:spPr>
          <a:xfrm>
            <a:off x="6019920" y="4775040"/>
            <a:ext cx="2543040" cy="1692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sculus hippocastan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paarde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aehi--lf29702"/>
          <p:cNvPicPr/>
          <p:nvPr/>
        </p:nvPicPr>
        <p:blipFill>
          <a:blip r:embed="rId1"/>
          <a:stretch/>
        </p:blipFill>
        <p:spPr>
          <a:xfrm>
            <a:off x="914400" y="1447920"/>
            <a:ext cx="2590920" cy="1726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ANd9GcRXfXLoWcKcALH8LC6ufKJSEi6FpVbmqPpTz3QzjqnPvSTmRpnAMQ"/>
          <p:cNvPicPr/>
          <p:nvPr/>
        </p:nvPicPr>
        <p:blipFill>
          <a:blip r:embed="rId2"/>
          <a:stretch/>
        </p:blipFill>
        <p:spPr>
          <a:xfrm>
            <a:off x="91440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ANd9GcSoj-8HET2oRtHHzNz5dcFl9wqF5d3yyJDel8qoWdErTV3bZVWZ"/>
          <p:cNvPicPr/>
          <p:nvPr/>
        </p:nvPicPr>
        <p:blipFill>
          <a:blip r:embed="rId3"/>
          <a:stretch/>
        </p:blipFill>
        <p:spPr>
          <a:xfrm>
            <a:off x="3886200" y="3886200"/>
            <a:ext cx="1819440" cy="2505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ANd9GcSQHs3tD_6dBVQKwhwowqmDcGgnKe6hjdnqbp7ZtqF3t0YFkY7H"/>
          <p:cNvPicPr/>
          <p:nvPr/>
        </p:nvPicPr>
        <p:blipFill>
          <a:blip r:embed="rId4"/>
          <a:stretch/>
        </p:blipFill>
        <p:spPr>
          <a:xfrm>
            <a:off x="670572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ANd9GcTI6Us_Ni49GJn_vLnEnmMtqL4v01pYZUWH51Lsmop9qQuBsYMv"/>
          <p:cNvPicPr/>
          <p:nvPr/>
        </p:nvPicPr>
        <p:blipFill>
          <a:blip r:embed="rId5"/>
          <a:stretch/>
        </p:blipFill>
        <p:spPr>
          <a:xfrm>
            <a:off x="609588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ANd9GcSd1kbumZg0kWns3EDn3JS670vIml7tww_6ZloYSHXyQsQBYJScxQ"/>
          <p:cNvPicPr/>
          <p:nvPr/>
        </p:nvPicPr>
        <p:blipFill>
          <a:blip r:embed="rId6"/>
          <a:stretch/>
        </p:blipFill>
        <p:spPr>
          <a:xfrm>
            <a:off x="3581280" y="1447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cor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taliaans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6387-Alnus-cordata"/>
          <p:cNvPicPr/>
          <p:nvPr/>
        </p:nvPicPr>
        <p:blipFill>
          <a:blip r:embed="rId1"/>
          <a:stretch/>
        </p:blipFill>
        <p:spPr>
          <a:xfrm>
            <a:off x="762120" y="1447920"/>
            <a:ext cx="2895480" cy="19303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Hartbladige_els__Alnus_cordata__Italian_Alder@img_2103blad"/>
          <p:cNvPicPr/>
          <p:nvPr/>
        </p:nvPicPr>
        <p:blipFill>
          <a:blip r:embed="rId2"/>
          <a:stretch/>
        </p:blipFill>
        <p:spPr>
          <a:xfrm>
            <a:off x="762120" y="3581280"/>
            <a:ext cx="2166840" cy="28958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4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993-Alnus-cordata"/>
          <p:cNvPicPr/>
          <p:nvPr/>
        </p:nvPicPr>
        <p:blipFill>
          <a:blip r:embed="rId3"/>
          <a:stretch/>
        </p:blipFill>
        <p:spPr>
          <a:xfrm>
            <a:off x="4572000" y="4038480"/>
            <a:ext cx="3581280" cy="2387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ANd9GcS4438qhEHLJF01kk0hi0NbK7ATLhwJnasZYvdiG-E2wzqG9xsf"/>
          <p:cNvPicPr/>
          <p:nvPr/>
        </p:nvPicPr>
        <p:blipFill>
          <a:blip r:embed="rId4"/>
          <a:stretch/>
        </p:blipFill>
        <p:spPr>
          <a:xfrm>
            <a:off x="6172200" y="1371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 ‘Tristi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ur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ANd9GcRAZ7GYH_dunv3RQlYca_2hfItWfQbADPSM1M0RoXGVylcxUklc"/>
          <p:cNvPicPr/>
          <p:nvPr/>
        </p:nvPicPr>
        <p:blipFill>
          <a:blip r:embed="rId1"/>
          <a:stretch/>
        </p:blipFill>
        <p:spPr>
          <a:xfrm>
            <a:off x="83808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ANd9GcSiL0vg-8YNy__k431NmwYGta7q_tyWI-mgqqvEn843qq8jS7vxQw"/>
          <p:cNvPicPr/>
          <p:nvPr/>
        </p:nvPicPr>
        <p:blipFill>
          <a:blip r:embed="rId2"/>
          <a:stretch/>
        </p:blipFill>
        <p:spPr>
          <a:xfrm>
            <a:off x="83808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QgBJSRt131ikXKjkMp0U1ytUFFlWZ_YVVEncELqmWLgnSvL_-KRw"/>
          <p:cNvPicPr/>
          <p:nvPr/>
        </p:nvPicPr>
        <p:blipFill>
          <a:blip r:embed="rId3"/>
          <a:stretch/>
        </p:blipFill>
        <p:spPr>
          <a:xfrm>
            <a:off x="3581280" y="3505320"/>
            <a:ext cx="1605240" cy="2133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ANd9GcRC70n4Ai_SVso_StEWuhpytY9jpLMBOJ1-lH35YPxuZaB6t9Bw"/>
          <p:cNvPicPr/>
          <p:nvPr/>
        </p:nvPicPr>
        <p:blipFill>
          <a:blip r:embed="rId4"/>
          <a:stretch/>
        </p:blipFill>
        <p:spPr>
          <a:xfrm>
            <a:off x="5334120" y="13716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ANd9GcQoA4cbm14vNoQ3AwshMAu_fC64sYCFD0iILy-RmAcTxdWSA5pSlg"/>
          <p:cNvPicPr/>
          <p:nvPr/>
        </p:nvPicPr>
        <p:blipFill>
          <a:blip r:embed="rId5"/>
          <a:stretch/>
        </p:blipFill>
        <p:spPr>
          <a:xfrm>
            <a:off x="6019920" y="4094280"/>
            <a:ext cx="2143080" cy="1611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 ‘Youngii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ieël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Betula%20pendula%20Youngii"/>
          <p:cNvPicPr/>
          <p:nvPr/>
        </p:nvPicPr>
        <p:blipFill>
          <a:blip r:embed="rId1"/>
          <a:stretch/>
        </p:blipFill>
        <p:spPr>
          <a:xfrm>
            <a:off x="2895480" y="2514600"/>
            <a:ext cx="3619800" cy="241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d9GcQeuBIwZg0bsa0AtIZf260wZjyNNxmjBB4U_NUib2MUUqim-Lsn4w"/>
          <p:cNvPicPr/>
          <p:nvPr/>
        </p:nvPicPr>
        <p:blipFill>
          <a:blip r:embed="rId2"/>
          <a:stretch/>
        </p:blipFill>
        <p:spPr>
          <a:xfrm>
            <a:off x="6629400" y="1219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ANd9GcQOlatzFas_LYdLGGyMw8DZ0yxcCVJYLp6AANGDQTXePYZvCwkriQ"/>
          <p:cNvPicPr/>
          <p:nvPr/>
        </p:nvPicPr>
        <p:blipFill>
          <a:blip r:embed="rId3"/>
          <a:stretch/>
        </p:blipFill>
        <p:spPr>
          <a:xfrm>
            <a:off x="838080" y="1219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ANd9GcSPCOTCb1onpg65Hsg5oF2zEJeA9wL9wpZDHoFqp-ylAtzB992j"/>
          <p:cNvPicPr/>
          <p:nvPr/>
        </p:nvPicPr>
        <p:blipFill>
          <a:blip r:embed="rId4"/>
          <a:stretch/>
        </p:blipFill>
        <p:spPr>
          <a:xfrm>
            <a:off x="662940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ANd9GcQtyhkit3dKEfyKCSHuPyub45-d12NHkA8RU9RbeS0cbe1V-ZZpQw"/>
          <p:cNvPicPr/>
          <p:nvPr/>
        </p:nvPicPr>
        <p:blipFill>
          <a:blip r:embed="rId5"/>
          <a:stretch/>
        </p:blipFill>
        <p:spPr>
          <a:xfrm>
            <a:off x="838080" y="3809880"/>
            <a:ext cx="2019600" cy="2266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ke Posthumus</cp:lastModifiedBy>
  <dcterms:modified xsi:type="dcterms:W3CDTF">2012-11-14T12:36:5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