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Aangepaste voorstelling 1" id="0">
      <p:sldLst>
        <p:sld r:id="rId5"/>
        <p:sld r:id="rId9"/>
        <p:sld r:id="rId11"/>
        <p:sld r:id="rId4"/>
        <p:sld r:id="rId12"/>
        <p:sld r:id="rId19"/>
        <p:sld r:id="rId15"/>
        <p:sld r:id="rId13"/>
        <p:sld r:id="rId22"/>
        <p:sld r:id="rId8"/>
      </p:sldLst>
    </p:custShow>
    <p:custShow name="Aangepaste voorstelling 2" id="1">
      <p:sldLst>
        <p:sld r:id="rId4"/>
        <p:sld r:id="rId6"/>
        <p:sld r:id="rId9"/>
        <p:sld r:id="rId13"/>
        <p:sld r:id="rId16"/>
        <p:sld r:id="rId23"/>
        <p:sld r:id="rId20"/>
        <p:sld r:id="rId17"/>
        <p:sld r:id="rId14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496-8212-4643-BAEB-98E160B3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146-1AEC-4ED7-9B16-1B14B2E1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F0F-8AD4-4315-9F3B-AEC78F16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042-B6B7-4F36-8D90-050B937C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DA7-8FE5-4E27-80B6-F8864FDA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04A-063B-489F-9015-2C8B005E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0EA-28B8-449B-A706-B520046D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DF4-CD5B-4B52-B2BB-A30132B6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C3A-46FA-4E61-A4BE-CE35C35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ED2-8435-47A7-BC83-3F8586F5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632-7251-47FC-AD44-99417685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C99-B889-44F0-AAD6-34CBA903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E8DD-13BA-4B34-AD96-147DD7A00C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gustr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ig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69QHtjui_wjntdxDbn1xEkmyvpSyhRa-U_gp1iV25tffCBHIdjw"/>
          <p:cNvPicPr/>
          <p:nvPr/>
        </p:nvPicPr>
        <p:blipFill>
          <a:blip r:embed="rId1"/>
          <a:stretch/>
        </p:blipFill>
        <p:spPr>
          <a:xfrm>
            <a:off x="468360" y="2060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Nd9GcSgCehBBVvxn6SA51APHZ3cXewosrKbcpiH19gCuT9YJ8kkFd19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RSgDE6raoqdDVCz4EoBSykisR9O9PTus_RGddsdHfidvhv8tHRfg"/>
          <p:cNvPicPr/>
          <p:nvPr/>
        </p:nvPicPr>
        <p:blipFill>
          <a:blip r:embed="rId3"/>
          <a:stretch/>
        </p:blipFill>
        <p:spPr>
          <a:xfrm>
            <a:off x="2987640" y="206064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Nd9GcSBVLQHQ8KFI3K7lnyDlBUyj1cfr4JbJ-tORciqCwDGYsG7U7kjbA"/>
          <p:cNvPicPr/>
          <p:nvPr/>
        </p:nvPicPr>
        <p:blipFill>
          <a:blip r:embed="rId4"/>
          <a:stretch/>
        </p:blipFill>
        <p:spPr>
          <a:xfrm>
            <a:off x="3203640" y="4005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pa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d9GcSwbeUM0S2li-85TxfcIY24qRhcGeZ4p-a1xbpLG-fV1xm9xxJMjg"/>
          <p:cNvPicPr/>
          <p:nvPr/>
        </p:nvPicPr>
        <p:blipFill>
          <a:blip r:embed="rId1"/>
          <a:stretch/>
        </p:blipFill>
        <p:spPr>
          <a:xfrm>
            <a:off x="468360" y="1989000"/>
            <a:ext cx="2590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ANd9GcR7xHCZ1XxdKZhbZverPWqdhmWicvYULMWWfCa3qrN3vXjwVCZd"/>
          <p:cNvPicPr/>
          <p:nvPr/>
        </p:nvPicPr>
        <p:blipFill>
          <a:blip r:embed="rId2"/>
          <a:stretch/>
        </p:blipFill>
        <p:spPr>
          <a:xfrm>
            <a:off x="6156360" y="1989000"/>
            <a:ext cx="25257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d9GcTMqZ1YxXzP9R8uZziAcveHQnsIO3NUqqT-BtW4rpipDknNeAT6"/>
          <p:cNvPicPr/>
          <p:nvPr/>
        </p:nvPicPr>
        <p:blipFill>
          <a:blip r:embed="rId3"/>
          <a:stretch/>
        </p:blipFill>
        <p:spPr>
          <a:xfrm>
            <a:off x="320364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ot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TxVL3lMPMdbR3oixnQE5MnI3fOO0dJpOAnvaEfsPc_ZnNb4WFr-Q"/>
          <p:cNvPicPr/>
          <p:nvPr/>
        </p:nvPicPr>
        <p:blipFill>
          <a:blip r:embed="rId1"/>
          <a:stretch/>
        </p:blipFill>
        <p:spPr>
          <a:xfrm>
            <a:off x="468360" y="364500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Nd9GcRtLSSIYKiICpNAqB-OH5SeesJ9RQPLN1R7h1y7_Kt7J5FrtVrJxQ"/>
          <p:cNvPicPr/>
          <p:nvPr/>
        </p:nvPicPr>
        <p:blipFill>
          <a:blip r:embed="rId2"/>
          <a:stretch/>
        </p:blipFill>
        <p:spPr>
          <a:xfrm>
            <a:off x="3203640" y="191628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TBAsMYQ3uLG8ZkelASrwg-Drg-IJBpNBDhPIttVPItjOuIITU9"/>
          <p:cNvPicPr/>
          <p:nvPr/>
        </p:nvPicPr>
        <p:blipFill>
          <a:blip r:embed="rId3"/>
          <a:stretch/>
        </p:blipFill>
        <p:spPr>
          <a:xfrm>
            <a:off x="6948360" y="3500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pin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Nd9GcSNio21QIIWTvTxq5QpJfq0hK9cpn-4RFrAnXqBFTBxGxY3pM-Z"/>
          <p:cNvPicPr/>
          <p:nvPr/>
        </p:nvPicPr>
        <p:blipFill>
          <a:blip r:embed="rId1"/>
          <a:stretch/>
        </p:blipFill>
        <p:spPr>
          <a:xfrm>
            <a:off x="468360" y="37688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d9GcRUkVRYNU2txsn0I8_PpEMxCyQITj9SYAoTWVpDSc_zURqbORG76w"/>
          <p:cNvPicPr/>
          <p:nvPr/>
        </p:nvPicPr>
        <p:blipFill>
          <a:blip r:embed="rId2"/>
          <a:stretch/>
        </p:blipFill>
        <p:spPr>
          <a:xfrm>
            <a:off x="6300720" y="3718080"/>
            <a:ext cx="2408400" cy="240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ANd9GcQcYmkR7fcRuma7SSggge8Vo1xKY5tQXSFre9iP-z0t6VVeRRM0"/>
          <p:cNvPicPr/>
          <p:nvPr/>
        </p:nvPicPr>
        <p:blipFill>
          <a:blip r:embed="rId3"/>
          <a:stretch/>
        </p:blipFill>
        <p:spPr>
          <a:xfrm>
            <a:off x="3635280" y="198900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can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QF27jBllDV9QDsNC0AVCh8EkRQAyaVDWIaY-4xYY3D9ud-m1xucA"/>
          <p:cNvPicPr/>
          <p:nvPr/>
        </p:nvPicPr>
        <p:blipFill>
          <a:blip r:embed="rId1"/>
          <a:stretch/>
        </p:blipFill>
        <p:spPr>
          <a:xfrm>
            <a:off x="2916360" y="20606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Nd9GcQ30iVgAIfjz0sY1D4sCEWM-ym9wBovG5T5Q2PkaRRZqn0UbRy_Vg"/>
          <p:cNvPicPr/>
          <p:nvPr/>
        </p:nvPicPr>
        <p:blipFill>
          <a:blip r:embed="rId2"/>
          <a:stretch/>
        </p:blipFill>
        <p:spPr>
          <a:xfrm>
            <a:off x="468360" y="3860640"/>
            <a:ext cx="2047680" cy="223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Nd9GcTnflFaynmXgWh4iDMLZisdrSNIvbtuZbVu8eifkq5z2COZFkin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multiflo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bloemig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QTVBJcdldl1jGjTC6peqlkTC7LM7zxOwV_Wv0hDUum1WEQYuwO"/>
          <p:cNvPicPr/>
          <p:nvPr/>
        </p:nvPicPr>
        <p:blipFill>
          <a:blip r:embed="rId1"/>
          <a:stretch/>
        </p:blipFill>
        <p:spPr>
          <a:xfrm>
            <a:off x="2124000" y="4302000"/>
            <a:ext cx="266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Nd9GcS7iFShFODPIJKW-FLIDcvJeKc5eVqX4YZmWSPDB0ZK6ss6NvYW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Nd9GcT_4JYoLq2foLkuP0tsJuau3Mv1Dv1yhA4UebvID2700VWLcfGn"/>
          <p:cNvPicPr/>
          <p:nvPr/>
        </p:nvPicPr>
        <p:blipFill>
          <a:blip r:embed="rId3"/>
          <a:stretch/>
        </p:blipFill>
        <p:spPr>
          <a:xfrm>
            <a:off x="4284720" y="2060640"/>
            <a:ext cx="3025800" cy="22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Nd9GcSrXnr0mv1yryljaZv6FhdXjTm7BWlEofJBVytHSUODKqdgyyXA"/>
          <p:cNvPicPr/>
          <p:nvPr/>
        </p:nvPicPr>
        <p:blipFill>
          <a:blip r:embed="rId4"/>
          <a:stretch/>
        </p:blipFill>
        <p:spPr>
          <a:xfrm>
            <a:off x="468360" y="206064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rug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ottel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Nd9GcRADYUSbNxCLMa8PIVZONKbv_h3LH9FhRL1M9lfANuEtVNN9tbc"/>
          <p:cNvPicPr/>
          <p:nvPr/>
        </p:nvPicPr>
        <p:blipFill>
          <a:blip r:embed="rId1"/>
          <a:stretch/>
        </p:blipFill>
        <p:spPr>
          <a:xfrm>
            <a:off x="2843280" y="206064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Nd9GcSy61R-OUK0CkfIRs9MHus18v5L638vsVQV4QQjdgEpzwPn5Hua"/>
          <p:cNvPicPr/>
          <p:nvPr/>
        </p:nvPicPr>
        <p:blipFill>
          <a:blip r:embed="rId2"/>
          <a:stretch/>
        </p:blipFill>
        <p:spPr>
          <a:xfrm>
            <a:off x="468360" y="3933720"/>
            <a:ext cx="20858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Nd9GcTF07c_tGvQF4O5Vqy1W2GDauvLHgsRIqOPivoVLWyMGJNXwAMnpQ"/>
          <p:cNvPicPr/>
          <p:nvPr/>
        </p:nvPicPr>
        <p:blipFill>
          <a:blip r:embed="rId3"/>
          <a:stretch/>
        </p:blipFill>
        <p:spPr>
          <a:xfrm>
            <a:off x="6877080" y="357336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SUJnEil5EiKroeUcr0yInHFlUhnwOacntQTJUozi4NyV1yewSo9A"/>
          <p:cNvPicPr/>
          <p:nvPr/>
        </p:nvPicPr>
        <p:blipFill>
          <a:blip r:embed="rId1"/>
          <a:stretch/>
        </p:blipFill>
        <p:spPr>
          <a:xfrm>
            <a:off x="3564000" y="2060640"/>
            <a:ext cx="2757600" cy="41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Nd9GcRUt_p1i_ziRiThovzObkuFV04A8R5Lxt4zwUbN-FEefUcwOiLXXA"/>
          <p:cNvPicPr/>
          <p:nvPr/>
        </p:nvPicPr>
        <p:blipFill>
          <a:blip r:embed="rId2"/>
          <a:stretch/>
        </p:blipFill>
        <p:spPr>
          <a:xfrm>
            <a:off x="468360" y="3357720"/>
            <a:ext cx="2324160" cy="19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ANd9GcSzPa4u_1AUCEg5hWGejyA2HH_mbWnF1-L8nKCJhnFRF2JN4vqA9g"/>
          <p:cNvPicPr/>
          <p:nvPr/>
        </p:nvPicPr>
        <p:blipFill>
          <a:blip r:embed="rId3"/>
          <a:stretch/>
        </p:blipFill>
        <p:spPr>
          <a:xfrm>
            <a:off x="6804000" y="29242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ine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uwe 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Nd9GcS7txpQnXF0v0enj98MRp_DCpfvMsicAP6Sm78m6pgbY5JHUkTVTA"/>
          <p:cNvPicPr/>
          <p:nvPr/>
        </p:nvPicPr>
        <p:blipFill>
          <a:blip r:embed="rId1"/>
          <a:stretch/>
        </p:blipFill>
        <p:spPr>
          <a:xfrm>
            <a:off x="468360" y="405432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ANd9GcQPWo47KsTsm2i11wQFOETRYBArodQHFBUhyuwdfphSYqe5Bk4rYw"/>
          <p:cNvPicPr/>
          <p:nvPr/>
        </p:nvPicPr>
        <p:blipFill>
          <a:blip r:embed="rId2"/>
          <a:stretch/>
        </p:blipFill>
        <p:spPr>
          <a:xfrm>
            <a:off x="4859280" y="4008600"/>
            <a:ext cx="2376720" cy="211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d9GcRKvT7n5pIuK94GEj5aMUhvEohwZ6FpwDpHn1DhPGbAGxE9rMRj"/>
          <p:cNvPicPr/>
          <p:nvPr/>
        </p:nvPicPr>
        <p:blipFill>
          <a:blip r:embed="rId3"/>
          <a:stretch/>
        </p:blipFill>
        <p:spPr>
          <a:xfrm>
            <a:off x="2484360" y="1916280"/>
            <a:ext cx="2808360" cy="210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Nd9GcSjBJ-WHvpO8MHAUQP7Yw85cECtV12NAX5IaDlt0UwtSPI_MDf9Ig"/>
          <p:cNvPicPr/>
          <p:nvPr/>
        </p:nvPicPr>
        <p:blipFill>
          <a:blip r:embed="rId4"/>
          <a:stretch/>
        </p:blipFill>
        <p:spPr>
          <a:xfrm>
            <a:off x="6012000" y="1916280"/>
            <a:ext cx="26892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d9GcRrWizUcvcqTyuBZI9UBy7gQuk_BcEBSiZ_TcuJ4td48CaaErfx"/>
          <p:cNvPicPr/>
          <p:nvPr/>
        </p:nvPicPr>
        <p:blipFill>
          <a:blip r:embed="rId1"/>
          <a:stretch/>
        </p:blipFill>
        <p:spPr>
          <a:xfrm>
            <a:off x="468360" y="191628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ANd9GcSKI0n4Z-tA62UXKXc0mWQ312s8E85FbqTNm3eFasMHEDqkuEfiiQ"/>
          <p:cNvPicPr/>
          <p:nvPr/>
        </p:nvPicPr>
        <p:blipFill>
          <a:blip r:embed="rId2"/>
          <a:stretch/>
        </p:blipFill>
        <p:spPr>
          <a:xfrm>
            <a:off x="6516720" y="19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ANd9GcQuhSrVvpVkDIDQhWdP9EhnVNIxRyuo-YnybUjEaXNSp-RUf_0-qw"/>
          <p:cNvPicPr/>
          <p:nvPr/>
        </p:nvPicPr>
        <p:blipFill>
          <a:blip r:embed="rId3"/>
          <a:stretch/>
        </p:blipFill>
        <p:spPr>
          <a:xfrm>
            <a:off x="3059280" y="3789360"/>
            <a:ext cx="30952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Camperstr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esdoorn, Spaanse 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1mCfVWwXQtD4Ju078ePwHjPTyiqJOtYjKd-IlbE4Sg2xclzo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22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Nd9GcSdhL6nt_nrD1l-p_MPEIk1JUzlq7zWpjruyfk4SnjABAVoL4MB"/>
          <p:cNvPicPr/>
          <p:nvPr/>
        </p:nvPicPr>
        <p:blipFill>
          <a:blip r:embed="rId2"/>
          <a:stretch/>
        </p:blipFill>
        <p:spPr>
          <a:xfrm>
            <a:off x="2987640" y="3863880"/>
            <a:ext cx="3313080" cy="227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ANd9GcSyqxCdjkTNSPhhO2-ic5uMbIOZwHWLBk4nfocoXVI1ZawGw4YE7w"/>
          <p:cNvPicPr/>
          <p:nvPr/>
        </p:nvPicPr>
        <p:blipFill>
          <a:blip r:embed="rId3"/>
          <a:stretch/>
        </p:blipFill>
        <p:spPr>
          <a:xfrm>
            <a:off x="6332400" y="162864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mbucus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d9GcQKAopGBJVpj7uAhwi9hGz6Zn0bHlD-uFzIjJW7XxnrqC0P_60bGQ"/>
          <p:cNvPicPr/>
          <p:nvPr/>
        </p:nvPicPr>
        <p:blipFill>
          <a:blip r:embed="rId1"/>
          <a:stretch/>
        </p:blipFill>
        <p:spPr>
          <a:xfrm>
            <a:off x="468360" y="20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Nd9GcQXBQIG6yKZNaXZFCV2KRNOt8d4dCkw4MRSCbGohR19ScOzTgk3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Nd9GcRCRDI7VvFKKPsT8opGFY5Lcg0_1FtsDCTqktdVi7h41224Cc6qiw"/>
          <p:cNvPicPr/>
          <p:nvPr/>
        </p:nvPicPr>
        <p:blipFill>
          <a:blip r:embed="rId3"/>
          <a:stretch/>
        </p:blipFill>
        <p:spPr>
          <a:xfrm>
            <a:off x="3059280" y="3821040"/>
            <a:ext cx="30970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ers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ANd9GcSNhEwGNvB0kZPjfu1mGO6n1SBMTnW2WGMDVmrHq6aPiBVt6T8U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253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Nd9GcQLWb3K5Ci5u5EfxB7taEySBqR4zwRIz0q80IXuz9ysOCl6bHpQ"/>
          <p:cNvPicPr/>
          <p:nvPr/>
        </p:nvPicPr>
        <p:blipFill>
          <a:blip r:embed="rId2"/>
          <a:stretch/>
        </p:blipFill>
        <p:spPr>
          <a:xfrm>
            <a:off x="5651640" y="1989000"/>
            <a:ext cx="303048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ANd9GcTSlAHVv4WPhphUyWQLlPZ8ZDjTNELoGR5W721uqsb0v9X5CMEy"/>
          <p:cNvPicPr/>
          <p:nvPr/>
        </p:nvPicPr>
        <p:blipFill>
          <a:blip r:embed="rId3"/>
          <a:stretch/>
        </p:blipFill>
        <p:spPr>
          <a:xfrm>
            <a:off x="3419640" y="3141720"/>
            <a:ext cx="222408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melanchier lamarckii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enten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iqv_BRKy-ym5IdIBBAKPk-y5ux1MBygibZUeMrw6-1gqLiPNW"/>
          <p:cNvPicPr/>
          <p:nvPr/>
        </p:nvPicPr>
        <p:blipFill>
          <a:blip r:embed="rId1"/>
          <a:stretch/>
        </p:blipFill>
        <p:spPr>
          <a:xfrm>
            <a:off x="468360" y="1557360"/>
            <a:ext cx="2448000" cy="22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mY_Cy_YJuDVzACybELEwSnFt5GfrRAVM90ej9QgOe3yL1U0hXZA"/>
          <p:cNvPicPr/>
          <p:nvPr/>
        </p:nvPicPr>
        <p:blipFill>
          <a:blip r:embed="rId2"/>
          <a:stretch/>
        </p:blipFill>
        <p:spPr>
          <a:xfrm>
            <a:off x="2411280" y="3843360"/>
            <a:ext cx="360072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oHdvQJyNqfzPGUOl7v8rc4sRmDYRj9dlFzoEOBO9cljRA8oi2"/>
          <p:cNvPicPr/>
          <p:nvPr/>
        </p:nvPicPr>
        <p:blipFill>
          <a:blip r:embed="rId3"/>
          <a:stretch/>
        </p:blipFill>
        <p:spPr>
          <a:xfrm>
            <a:off x="6012000" y="1557360"/>
            <a:ext cx="264312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ANd9GcT8117cGPbBcxKDRKVAZKf08IMp3MR-a0aXyD-sQ0IjUnsZNv299A"/>
          <p:cNvPicPr/>
          <p:nvPr/>
        </p:nvPicPr>
        <p:blipFill>
          <a:blip r:embed="rId4"/>
          <a:stretch/>
        </p:blipFill>
        <p:spPr>
          <a:xfrm>
            <a:off x="2916360" y="155736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m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pQ7VLkYyl3IR0e9ssULFluc2BMgs3ti5-FbmHZllJkxctH3rl"/>
          <p:cNvPicPr/>
          <p:nvPr/>
        </p:nvPicPr>
        <p:blipFill>
          <a:blip r:embed="rId1"/>
          <a:stretch/>
        </p:blipFill>
        <p:spPr>
          <a:xfrm>
            <a:off x="468360" y="2060640"/>
            <a:ext cx="30240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qrvFXkhv6fUkGWTaLoFVJ3YP-HxAHtbdQvAHNA7KRb4jwTHXKjg"/>
          <p:cNvPicPr/>
          <p:nvPr/>
        </p:nvPicPr>
        <p:blipFill>
          <a:blip r:embed="rId2"/>
          <a:stretch/>
        </p:blipFill>
        <p:spPr>
          <a:xfrm>
            <a:off x="5580000" y="206064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0VMFuP-pxGSx_2e0KCFSDW1NR83jhs0_uYOolABAVnxroLWyOhw"/>
          <p:cNvPicPr/>
          <p:nvPr/>
        </p:nvPicPr>
        <p:blipFill>
          <a:blip r:embed="rId3"/>
          <a:stretch/>
        </p:blipFill>
        <p:spPr>
          <a:xfrm>
            <a:off x="2843280" y="4076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angui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nC0XEKQMzlYnI0FN7EnSoXe80VZJIyCp47Nsh1M3SSWb_lk7t"/>
          <p:cNvPicPr/>
          <p:nvPr/>
        </p:nvPicPr>
        <p:blipFill>
          <a:blip r:embed="rId1"/>
          <a:stretch/>
        </p:blipFill>
        <p:spPr>
          <a:xfrm>
            <a:off x="468360" y="2205000"/>
            <a:ext cx="2671560" cy="30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Sg_U5dZ_cqDiF4ZNNoAEiCJU-T-Sr-IPA1FpIp4tI8MVnI8jhn5w"/>
          <p:cNvPicPr/>
          <p:nvPr/>
        </p:nvPicPr>
        <p:blipFill>
          <a:blip r:embed="rId2"/>
          <a:stretch/>
        </p:blipFill>
        <p:spPr>
          <a:xfrm>
            <a:off x="4716360" y="2205000"/>
            <a:ext cx="397836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TaOA-syPeuSzqB9SbEvzVbohC3Qk7HDAAA0E_2ilPpj4q_ChZXbQ"/>
          <p:cNvPicPr/>
          <p:nvPr/>
        </p:nvPicPr>
        <p:blipFill>
          <a:blip r:embed="rId3"/>
          <a:stretch/>
        </p:blipFill>
        <p:spPr>
          <a:xfrm>
            <a:off x="262728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us avell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hazelaar, haze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azkrf0-QzAkgFtvVO5qfNxO8eCVWP8DgjFUC8dY2jyZ9suzmE"/>
          <p:cNvPicPr/>
          <p:nvPr/>
        </p:nvPicPr>
        <p:blipFill>
          <a:blip r:embed="rId1"/>
          <a:stretch/>
        </p:blipFill>
        <p:spPr>
          <a:xfrm>
            <a:off x="46836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RLeUPhR2DSr-4I2_4mq-xKCRdKNIjlSjC19Uas3DSI75i1GHL0vg"/>
          <p:cNvPicPr/>
          <p:nvPr/>
        </p:nvPicPr>
        <p:blipFill>
          <a:blip r:embed="rId2"/>
          <a:stretch/>
        </p:blipFill>
        <p:spPr>
          <a:xfrm>
            <a:off x="680400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ERofZpVJuJKUTyWnIPeEz4fBPU1CykPSYBPN9Ojzex-2iraaJOw"/>
          <p:cNvPicPr/>
          <p:nvPr/>
        </p:nvPicPr>
        <p:blipFill>
          <a:blip r:embed="rId3"/>
          <a:stretch/>
        </p:blipFill>
        <p:spPr>
          <a:xfrm>
            <a:off x="3203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ANd9GcRoHMnQxnAerPWDRlVV490MEN9kSo0EFOmt3AZ5PWaBTM781oxO"/>
          <p:cNvPicPr/>
          <p:nvPr/>
        </p:nvPicPr>
        <p:blipFill>
          <a:blip r:embed="rId4"/>
          <a:stretch/>
        </p:blipFill>
        <p:spPr>
          <a:xfrm>
            <a:off x="3276720" y="3782880"/>
            <a:ext cx="25160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monogy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stijlig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Nd9GcSvH7nff3c151jYqYtvnrFBWdgxdAlgbY0IRrcfdorOdjRRr4N6Zw"/>
          <p:cNvPicPr/>
          <p:nvPr/>
        </p:nvPicPr>
        <p:blipFill>
          <a:blip r:embed="rId1"/>
          <a:stretch/>
        </p:blipFill>
        <p:spPr>
          <a:xfrm>
            <a:off x="468360" y="206064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Nd9GcTSlMcuNlKuhTfpHFKxkiabC4wZu1OfgR9Kz6HLEHvZpKPo1dRYqg"/>
          <p:cNvPicPr/>
          <p:nvPr/>
        </p:nvPicPr>
        <p:blipFill>
          <a:blip r:embed="rId2"/>
          <a:stretch/>
        </p:blipFill>
        <p:spPr>
          <a:xfrm>
            <a:off x="5867280" y="2060640"/>
            <a:ext cx="283716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Nd9GcT6WNpTvSO9khYIsS5VSHsvxbl9oc7Bcn8zd8l3lHFhYv9mTVXn"/>
          <p:cNvPicPr/>
          <p:nvPr/>
        </p:nvPicPr>
        <p:blipFill>
          <a:blip r:embed="rId3"/>
          <a:stretch/>
        </p:blipFill>
        <p:spPr>
          <a:xfrm>
            <a:off x="2916360" y="3716280"/>
            <a:ext cx="3168360" cy="23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uonymus europaeus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ardinaalsh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RsENsrwsx7uojAfoccwYAHd2FAP2N-JhS3mExVk4JqPwdkldSJ"/>
          <p:cNvPicPr/>
          <p:nvPr/>
        </p:nvPicPr>
        <p:blipFill>
          <a:blip r:embed="rId1"/>
          <a:stretch/>
        </p:blipFill>
        <p:spPr>
          <a:xfrm>
            <a:off x="468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d9GcTauwAsF0c6hZQZ2z3KyQI1VBv7BsAmQ-J_PePCqVJNHknFJcBA7g"/>
          <p:cNvPicPr/>
          <p:nvPr/>
        </p:nvPicPr>
        <p:blipFill>
          <a:blip r:embed="rId2"/>
          <a:stretch/>
        </p:blipFill>
        <p:spPr>
          <a:xfrm>
            <a:off x="6156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Nd9GcQuw5aTeLjDJD8oXKYNnZzWFQxgpYbVoY1zYhYpwNL0TeW3T0C9KQ"/>
          <p:cNvPicPr/>
          <p:nvPr/>
        </p:nvPicPr>
        <p:blipFill>
          <a:blip r:embed="rId3"/>
          <a:stretch/>
        </p:blipFill>
        <p:spPr>
          <a:xfrm>
            <a:off x="3419640" y="198900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Nd9GcSjulBkjSHyCwHe8KIMS6VajwhcY3oGhoeH-TvSZ5Loh8uQNvgU"/>
          <p:cNvPicPr/>
          <p:nvPr/>
        </p:nvPicPr>
        <p:blipFill>
          <a:blip r:embed="rId4"/>
          <a:stretch/>
        </p:blipFill>
        <p:spPr>
          <a:xfrm>
            <a:off x="3059280" y="3789360"/>
            <a:ext cx="30430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ppophea rhamn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n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d9GcQ_0NWKkvieg7jBuS8-4Au3VkZ39IGSQFXe2wGO2xw_iwqpggxw"/>
          <p:cNvPicPr/>
          <p:nvPr/>
        </p:nvPicPr>
        <p:blipFill>
          <a:blip r:embed="rId1"/>
          <a:stretch/>
        </p:blipFill>
        <p:spPr>
          <a:xfrm>
            <a:off x="468360" y="198900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Nd9GcSZbKyBWGjhYmPWsxvU6YL3pEXPieUc_VBAHI8scMUgvvxgVZF9Ng"/>
          <p:cNvPicPr/>
          <p:nvPr/>
        </p:nvPicPr>
        <p:blipFill>
          <a:blip r:embed="rId2"/>
          <a:stretch/>
        </p:blipFill>
        <p:spPr>
          <a:xfrm>
            <a:off x="5867280" y="1989000"/>
            <a:ext cx="2827440" cy="211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Nd9GcTdUsI8ZkL_OCrVMEPy2F3FLDpKBUTC4nKfIfNTVLMZ9toiEdvn"/>
          <p:cNvPicPr/>
          <p:nvPr/>
        </p:nvPicPr>
        <p:blipFill>
          <a:blip r:embed="rId3"/>
          <a:stretch/>
        </p:blipFill>
        <p:spPr>
          <a:xfrm>
            <a:off x="3419640" y="3141720"/>
            <a:ext cx="2260440" cy="30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1-28T08:34:47Z</dcterms:modified>
  <cp:revision>6</cp:revision>
  <dc:subject/>
  <dc:title>Dia 1</dc:title>
</cp:coreProperties>
</file>