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  <p:custShowLst>
    <p:custShow name="Aangepaste voorstelling 1" id="0">
      <p:sldLst>
        <p:sld r:id="rId5"/>
        <p:sld r:id="rId6"/>
        <p:sld r:id="rId7"/>
        <p:sld r:id="rId9"/>
        <p:sld r:id="rId11"/>
        <p:sld r:id="rId13"/>
        <p:sld r:id="rId15"/>
        <p:sld r:id="rId17"/>
        <p:sld r:id="rId18"/>
        <p:sld r:id="rId19"/>
      </p:sldLst>
    </p:custShow>
    <p:custShow name="Aangepaste voorstelling 2" id="1">
      <p:sldLst>
        <p:sld r:id="rId5"/>
        <p:sld r:id="rId6"/>
        <p:sld r:id="rId7"/>
        <p:sld r:id="rId10"/>
        <p:sld r:id="rId12"/>
        <p:sld r:id="rId13"/>
        <p:sld r:id="rId14"/>
        <p:sld r:id="rId15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16FC-18E0-449F-B986-03A8026FA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DD68-C423-46FA-B87C-1E94D62D0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7C29-7701-462D-AFB2-A46EAA28D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C1F4-47B9-40BE-83C2-EE6FBB0EB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2E95-8C99-4204-9211-15174F232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A01B-8BAA-4C3C-A7AA-A67429A3F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FF01-1EAB-4ED5-8DE4-121B5E7D8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1527-FF7D-4A8F-8D54-4D5C09DCA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D957-F4AC-4E18-9B38-CCD894659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5B06-2BB2-449E-A622-620B7EEE3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F412-8AAC-45F5-BE76-2B5AAA129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53DA-58F8-4216-A23B-C862B3F5E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98019-A9FB-4FCE-A55C-614896D4575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13336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ater 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&amp; 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everpla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ysimachia nummulari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nningkr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ANd9GcTXS-HbswxaBMRSZ3eI3wuBZKRb2JWfHTg2T78lOTbThIxPoOJ8RQ"/>
          <p:cNvPicPr/>
          <p:nvPr/>
        </p:nvPicPr>
        <p:blipFill>
          <a:blip r:embed="rId1"/>
          <a:stretch/>
        </p:blipFill>
        <p:spPr>
          <a:xfrm>
            <a:off x="1752480" y="1676520"/>
            <a:ext cx="5867640" cy="43941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hragmites austral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i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ANd9GcQJ8d514DcrtgdNmoKkiCV3W8yaJkHD6PEkRG_JIct5SV-5dePvAQ"/>
          <p:cNvPicPr/>
          <p:nvPr/>
        </p:nvPicPr>
        <p:blipFill>
          <a:blip r:embed="rId1"/>
          <a:stretch/>
        </p:blipFill>
        <p:spPr>
          <a:xfrm>
            <a:off x="6324480" y="99072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ANd9GcTa4142LVEm6_T4LKMo62X122B6sWf_t7It7QZ0tnAlx63_qvOT1w"/>
          <p:cNvPicPr/>
          <p:nvPr/>
        </p:nvPicPr>
        <p:blipFill>
          <a:blip r:embed="rId2"/>
          <a:stretch/>
        </p:blipFill>
        <p:spPr>
          <a:xfrm>
            <a:off x="838080" y="1447920"/>
            <a:ext cx="3302280" cy="4647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ANd9GcTj3OEqB4SoMc4pG9bEMqKM5L6g4_UHcT3OTHoIB-D3Cfj8QAi2"/>
          <p:cNvPicPr/>
          <p:nvPr/>
        </p:nvPicPr>
        <p:blipFill>
          <a:blip r:embed="rId3"/>
          <a:stretch/>
        </p:blipFill>
        <p:spPr>
          <a:xfrm>
            <a:off x="4267080" y="2819520"/>
            <a:ext cx="2543400" cy="19047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ANd9GcSh1_n7YxdC2hfSn_1VCqXwG3ZwU17ouBldLrTd8RN4RRsEUNnnrA"/>
          <p:cNvPicPr/>
          <p:nvPr/>
        </p:nvPicPr>
        <p:blipFill>
          <a:blip r:embed="rId4"/>
          <a:stretch/>
        </p:blipFill>
        <p:spPr>
          <a:xfrm>
            <a:off x="6858000" y="4697280"/>
            <a:ext cx="2048040" cy="18082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ypha angustifoli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eine lisdod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ANd9GcTSLoW1K4-kWKYm4ajpDRzABzhTRgVv8qxp32Zm9WOwsVQ-BhUz"/>
          <p:cNvPicPr/>
          <p:nvPr/>
        </p:nvPicPr>
        <p:blipFill>
          <a:blip r:embed="rId1"/>
          <a:stretch/>
        </p:blipFill>
        <p:spPr>
          <a:xfrm>
            <a:off x="6477120" y="1219320"/>
            <a:ext cx="1847880" cy="2466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ANd9GcQNv1UKgijoHWn30jZbW2Gz_wivPOXA-VjEwEhrPsDgBwK3IRHl"/>
          <p:cNvPicPr/>
          <p:nvPr/>
        </p:nvPicPr>
        <p:blipFill>
          <a:blip r:embed="rId2"/>
          <a:stretch/>
        </p:blipFill>
        <p:spPr>
          <a:xfrm>
            <a:off x="5943600" y="40384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ANd9GcSKo1rVniRI9ByXVfoGEPBekSmQK1agZlqbUS3C-S7ddhy3tR-7"/>
          <p:cNvPicPr/>
          <p:nvPr/>
        </p:nvPicPr>
        <p:blipFill>
          <a:blip r:embed="rId3"/>
          <a:stretch/>
        </p:blipFill>
        <p:spPr>
          <a:xfrm>
            <a:off x="838080" y="1905120"/>
            <a:ext cx="4724640" cy="35384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eratophyllum demersum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doornd hoornbl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ANd9GcSaJ7cYUcG9XzsvaAoZ8osoB7ARmuQlcW7dtq3uXS4YfaYDOz2RzQ"/>
          <p:cNvPicPr/>
          <p:nvPr/>
        </p:nvPicPr>
        <p:blipFill>
          <a:blip r:embed="rId1"/>
          <a:stretch/>
        </p:blipFill>
        <p:spPr>
          <a:xfrm>
            <a:off x="990720" y="1905120"/>
            <a:ext cx="3270240" cy="43434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ANd9GcRs6TZjZaKAkW-Sctkcfa-3FYg3NyPGg3JhQXfi1i76TE4zXORQyQ"/>
          <p:cNvPicPr/>
          <p:nvPr/>
        </p:nvPicPr>
        <p:blipFill>
          <a:blip r:embed="rId2"/>
          <a:stretch/>
        </p:blipFill>
        <p:spPr>
          <a:xfrm>
            <a:off x="5181480" y="1905120"/>
            <a:ext cx="2781360" cy="20746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ANd9GcSqFSUMVmVnFgFGebaG5hFMfftYSLE0tXa4RwkChXacIvexS0ap"/>
          <p:cNvPicPr/>
          <p:nvPr/>
        </p:nvPicPr>
        <p:blipFill>
          <a:blip r:embed="rId3"/>
          <a:stretch/>
        </p:blipFill>
        <p:spPr>
          <a:xfrm>
            <a:off x="5181480" y="4264200"/>
            <a:ext cx="2819520" cy="19173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Eledoa canadens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anadese waterp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ANd9GcQBSBu6lzu8Vz_fPjSNvA6tM6LDqaTYbjmdmg9HAt257M7m6fPn"/>
          <p:cNvPicPr/>
          <p:nvPr/>
        </p:nvPicPr>
        <p:blipFill>
          <a:blip r:embed="rId1"/>
          <a:stretch/>
        </p:blipFill>
        <p:spPr>
          <a:xfrm>
            <a:off x="1752480" y="19051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Hottonia palustr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erviol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ANd9GcSyHlk3dtuTK4fTkdEO0zo2N1eI2shh7va7EnWXQmPy0vwVLIWK"/>
          <p:cNvPicPr/>
          <p:nvPr/>
        </p:nvPicPr>
        <p:blipFill>
          <a:blip r:embed="rId1"/>
          <a:stretch/>
        </p:blipFill>
        <p:spPr>
          <a:xfrm>
            <a:off x="5943600" y="4343400"/>
            <a:ext cx="2467080" cy="1847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8"/>
          <p:cNvSpPr/>
          <p:nvPr/>
        </p:nvSpPr>
        <p:spPr>
          <a:xfrm>
            <a:off x="3257640" y="2557440"/>
            <a:ext cx="262872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0" descr="jcs-hottonia-palustris-47938"/>
          <p:cNvPicPr/>
          <p:nvPr/>
        </p:nvPicPr>
        <p:blipFill>
          <a:blip r:embed="rId2"/>
          <a:stretch/>
        </p:blipFill>
        <p:spPr>
          <a:xfrm>
            <a:off x="609480" y="2286000"/>
            <a:ext cx="4496040" cy="2986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2" descr="ANd9GcQKCk1_7VQNLWEztqFW6vl-YTBiYJ-unVblPsq15xyxeeD24ueY"/>
          <p:cNvPicPr/>
          <p:nvPr/>
        </p:nvPicPr>
        <p:blipFill>
          <a:blip r:embed="rId3"/>
          <a:stretch/>
        </p:blipFill>
        <p:spPr>
          <a:xfrm>
            <a:off x="6208560" y="1447920"/>
            <a:ext cx="2106720" cy="24382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Ranunculus aquatil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waterranonk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4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6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Ranunculus"/>
          <p:cNvPicPr/>
          <p:nvPr/>
        </p:nvPicPr>
        <p:blipFill>
          <a:blip r:embed="rId1"/>
          <a:stretch/>
        </p:blipFill>
        <p:spPr>
          <a:xfrm>
            <a:off x="5257800" y="4114800"/>
            <a:ext cx="3419640" cy="22827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6" descr="ANd9GcTMJ8-CkQEw9r5hgufIH74Tj9iIsPggVNa71G3v9cRvA_YMXZCv"/>
          <p:cNvPicPr/>
          <p:nvPr/>
        </p:nvPicPr>
        <p:blipFill>
          <a:blip r:embed="rId2"/>
          <a:stretch/>
        </p:blipFill>
        <p:spPr>
          <a:xfrm>
            <a:off x="609480" y="2514600"/>
            <a:ext cx="4343400" cy="2890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8" descr="ANd9GcSV45AvcWnAo8LSSyDK3uPTc12b3tJ3cRPZ_ljYUU8T8w-G3tyYpA"/>
          <p:cNvPicPr/>
          <p:nvPr/>
        </p:nvPicPr>
        <p:blipFill>
          <a:blip r:embed="rId3"/>
          <a:stretch/>
        </p:blipFill>
        <p:spPr>
          <a:xfrm>
            <a:off x="6172200" y="198108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tratiodes aloide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rabbesch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" descr="307Stratiotes_aloides_-_early_summer"/>
          <p:cNvPicPr/>
          <p:nvPr/>
        </p:nvPicPr>
        <p:blipFill>
          <a:blip r:embed="rId1"/>
          <a:stretch/>
        </p:blipFill>
        <p:spPr>
          <a:xfrm>
            <a:off x="609480" y="1905120"/>
            <a:ext cx="5715000" cy="42861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ANd9GcREmgnk8fBpHsWEXh-YTY6xZHxtFMtMbpkZAFN09hgRzOQpSwwH"/>
          <p:cNvPicPr/>
          <p:nvPr/>
        </p:nvPicPr>
        <p:blipFill>
          <a:blip r:embed="rId2"/>
          <a:stretch/>
        </p:blipFill>
        <p:spPr>
          <a:xfrm>
            <a:off x="6477120" y="4114800"/>
            <a:ext cx="2266920" cy="20192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213336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rijfpla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Hydrocharis morsus-ranae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ikkerb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ANd9GcTA6bj_7OBsGCddUQE4pZbKjqylxBXygtRR-1JJpazmK334ywMjDA"/>
          <p:cNvPicPr/>
          <p:nvPr/>
        </p:nvPicPr>
        <p:blipFill>
          <a:blip r:embed="rId1"/>
          <a:stretch/>
        </p:blipFill>
        <p:spPr>
          <a:xfrm>
            <a:off x="1981080" y="1905120"/>
            <a:ext cx="5100840" cy="39607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Nuphar lute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le plo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ANd9GcRT5Xi_28VT2W0yBSpwgRgcLis4nS8aebJCC6Q1tYQKXhlukZy3Mw"/>
          <p:cNvPicPr/>
          <p:nvPr/>
        </p:nvPicPr>
        <p:blipFill>
          <a:blip r:embed="rId1"/>
          <a:stretch/>
        </p:blipFill>
        <p:spPr>
          <a:xfrm>
            <a:off x="838080" y="2133720"/>
            <a:ext cx="4800600" cy="3595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ANd9GcSdiUagJQniAr8D3lCQjdzJEmhrJoOKL61Iq5F7oY8Y9RiYbQru"/>
          <p:cNvPicPr/>
          <p:nvPr/>
        </p:nvPicPr>
        <p:blipFill>
          <a:blip r:embed="rId2"/>
          <a:stretch/>
        </p:blipFill>
        <p:spPr>
          <a:xfrm>
            <a:off x="5943600" y="38862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Nymphaea alb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erle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ANd9GcSn-qfesVnDtYfviykN1T3pvur_JZYykv5DYP4oVBB7EO-ldtnl"/>
          <p:cNvPicPr/>
          <p:nvPr/>
        </p:nvPicPr>
        <p:blipFill>
          <a:blip r:embed="rId1"/>
          <a:stretch/>
        </p:blipFill>
        <p:spPr>
          <a:xfrm>
            <a:off x="5867280" y="4419720"/>
            <a:ext cx="2476800" cy="1847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ANd9GcQUr2h1OvQ-LyptxXI2ROv7kJ_ymclq7Rjak1JAfhWEsE1ASXehAg"/>
          <p:cNvPicPr/>
          <p:nvPr/>
        </p:nvPicPr>
        <p:blipFill>
          <a:blip r:embed="rId2"/>
          <a:stretch/>
        </p:blipFill>
        <p:spPr>
          <a:xfrm>
            <a:off x="5867280" y="22096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ANd9GcSBRrECEbr0bk7pKN2SlerQrqE-srzhUw-Yf8V0dngV4ExYH0tR"/>
          <p:cNvPicPr/>
          <p:nvPr/>
        </p:nvPicPr>
        <p:blipFill>
          <a:blip r:embed="rId3"/>
          <a:stretch/>
        </p:blipFill>
        <p:spPr>
          <a:xfrm>
            <a:off x="990720" y="2514600"/>
            <a:ext cx="4495680" cy="3294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13336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everpla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Butomus umbellat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wane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ANd9GcS-QlaicfyP6NeIcVq-VT66fdayhqz-kvjbtu1qVbKlhvCcJoznBw"/>
          <p:cNvPicPr/>
          <p:nvPr/>
        </p:nvPicPr>
        <p:blipFill>
          <a:blip r:embed="rId1"/>
          <a:stretch/>
        </p:blipFill>
        <p:spPr>
          <a:xfrm>
            <a:off x="4724280" y="3392640"/>
            <a:ext cx="3533760" cy="2646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" descr="ANd9GcTZizSntHzLzeUFDjsh5sWMNVQCpDWdPH5sFgSC2O6lP3Km5bRAHg"/>
          <p:cNvPicPr/>
          <p:nvPr/>
        </p:nvPicPr>
        <p:blipFill>
          <a:blip r:embed="rId2"/>
          <a:stretch/>
        </p:blipFill>
        <p:spPr>
          <a:xfrm>
            <a:off x="1143000" y="1676520"/>
            <a:ext cx="3459240" cy="35049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altha palustr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otter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ANd9GcRq2Izc_FF0E6JUzG4HSf_d_fZzcj3sJUdftCHvuvbU8me1RkBU"/>
          <p:cNvPicPr/>
          <p:nvPr/>
        </p:nvPicPr>
        <p:blipFill>
          <a:blip r:embed="rId1"/>
          <a:stretch/>
        </p:blipFill>
        <p:spPr>
          <a:xfrm>
            <a:off x="838080" y="1600200"/>
            <a:ext cx="4496040" cy="3367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ANd9GcQz-1Rai7VVXn42r00ke5bc3nALKry0bLlexIUOH5ttk7Q5tegDSw"/>
          <p:cNvPicPr/>
          <p:nvPr/>
        </p:nvPicPr>
        <p:blipFill>
          <a:blip r:embed="rId2"/>
          <a:stretch/>
        </p:blipFill>
        <p:spPr>
          <a:xfrm>
            <a:off x="5410080" y="3581280"/>
            <a:ext cx="2971800" cy="23367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Iris pseudacor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le l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4"/>
          <p:cNvSpPr/>
          <p:nvPr/>
        </p:nvSpPr>
        <p:spPr>
          <a:xfrm>
            <a:off x="3490920" y="2371680"/>
            <a:ext cx="2162160" cy="21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6"/>
          <p:cNvSpPr/>
          <p:nvPr/>
        </p:nvSpPr>
        <p:spPr>
          <a:xfrm>
            <a:off x="3490920" y="2371680"/>
            <a:ext cx="2162160" cy="21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arx1238102821l"/>
          <p:cNvPicPr/>
          <p:nvPr/>
        </p:nvPicPr>
        <p:blipFill>
          <a:blip r:embed="rId1"/>
          <a:stretch/>
        </p:blipFill>
        <p:spPr>
          <a:xfrm>
            <a:off x="6019920" y="3803760"/>
            <a:ext cx="2676240" cy="2611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ANd9GcRYep_R-f_lZrqnmX92Rk7J3GRAGdZvsk3JMcSJexWfJi2oJZ9xVA"/>
          <p:cNvPicPr/>
          <p:nvPr/>
        </p:nvPicPr>
        <p:blipFill>
          <a:blip r:embed="rId2"/>
          <a:stretch/>
        </p:blipFill>
        <p:spPr>
          <a:xfrm>
            <a:off x="533520" y="1371600"/>
            <a:ext cx="3146400" cy="3809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ANd9GcTk_Ez-JU5cZccHcpFfXTbZN-yQxb0IKBVlFQ5QSKBBlP_J1yz_"/>
          <p:cNvPicPr/>
          <p:nvPr/>
        </p:nvPicPr>
        <p:blipFill>
          <a:blip r:embed="rId3"/>
          <a:stretch/>
        </p:blipFill>
        <p:spPr>
          <a:xfrm>
            <a:off x="3809880" y="3809880"/>
            <a:ext cx="1990800" cy="1349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4" descr="ANd9GcTzMe8jGrGI7k9PfRX5OaGmabezENyyfhQG0xAriNOSLJnIM7TO"/>
          <p:cNvPicPr/>
          <p:nvPr/>
        </p:nvPicPr>
        <p:blipFill>
          <a:blip r:embed="rId4"/>
          <a:stretch/>
        </p:blipFill>
        <p:spPr>
          <a:xfrm>
            <a:off x="5486400" y="1143000"/>
            <a:ext cx="3152880" cy="23623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Houdijk</cp:lastModifiedBy>
  <dcterms:modified xsi:type="dcterms:W3CDTF">2011-12-13T08:10:02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