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  <p:custShowLst>
    <p:custShow name="Aangepaste voorstelling 1" id="0">
      <p:sldLst>
        <p:sld r:id="rId3"/>
        <p:sld r:id="rId4"/>
        <p:sld r:id="rId5"/>
        <p:sld r:id="rId6"/>
        <p:sld r:id="rId7"/>
        <p:sld r:id="rId8"/>
        <p:sld r:id="rId9"/>
        <p:sld r:id="rId10"/>
      </p:sldLst>
    </p:custShow>
    <p:custShow name="Aangepaste voorstelling 2" id="1">
      <p:sldLst>
        <p:sld r:id="rId10"/>
        <p:sld r:id="rId9"/>
        <p:sld r:id="rId8"/>
        <p:sld r:id="rId7"/>
        <p:sld r:id="rId6"/>
        <p:sld r:id="rId5"/>
        <p:sld r:id="rId4"/>
        <p:sld r:id="rId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05DC-641E-4AD9-866E-A543E4BA7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BAA6-493D-4A4E-BE71-3E5956FF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687C-8AA4-44D2-92AE-235F4ACC8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FF5D-2421-42BF-BD3E-53DCA2D6B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B45A-1F58-40EF-8321-40C4D000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7A68-5E39-47C5-8C31-BD7658D7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BDF3-963D-4367-AC05-52FA19F1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D30F-F4EA-4D3C-AEAF-ED6B6823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1786-3046-49BA-906D-6E48B6D4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5970-7FEA-4624-B79E-DF5610CF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E318-A415-4600-968A-536B8620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ADFE-6134-4206-8C40-515FA451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565D-70DB-43D4-A16B-1BEA932BBEE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ricace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lluna vulga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ruikh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ANd9GcQ-K9r7oyvg9UTQelYM6il2F9MG2H_z1O1P9gzW8gSdLn4VKJtR"/>
          <p:cNvPicPr/>
          <p:nvPr/>
        </p:nvPicPr>
        <p:blipFill>
          <a:blip r:embed="rId1"/>
          <a:stretch/>
        </p:blipFill>
        <p:spPr>
          <a:xfrm>
            <a:off x="914400" y="1905120"/>
            <a:ext cx="4038480" cy="3431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d9GcSl17dTY5_iAoIJzNOBSKXpVvEfwqxwvW4dxmTryKlOR9QFVe0MTg"/>
          <p:cNvPicPr/>
          <p:nvPr/>
        </p:nvPicPr>
        <p:blipFill>
          <a:blip r:embed="rId2"/>
          <a:stretch/>
        </p:blipFill>
        <p:spPr>
          <a:xfrm>
            <a:off x="5638680" y="1905120"/>
            <a:ext cx="25686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rica carn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nterh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ANd9GcQcSle9NbQ3XsroHFBEuCup2I3JpnkPxgxzpwgHcnKafVKzVcOZ2Q"/>
          <p:cNvPicPr/>
          <p:nvPr/>
        </p:nvPicPr>
        <p:blipFill>
          <a:blip r:embed="rId1"/>
          <a:stretch/>
        </p:blipFill>
        <p:spPr>
          <a:xfrm>
            <a:off x="5943600" y="175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ANd9GcTIcrTzVgxIZZpKBYdQB_3KjbxO7ZTO4jlSfl8BE9R1_d0hsY6A"/>
          <p:cNvPicPr/>
          <p:nvPr/>
        </p:nvPicPr>
        <p:blipFill>
          <a:blip r:embed="rId2"/>
          <a:stretch/>
        </p:blipFill>
        <p:spPr>
          <a:xfrm>
            <a:off x="5943600" y="3832200"/>
            <a:ext cx="2523960" cy="234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ANd9GcQD8YV44FNpLzWKf-F42ECMZZvzOsHNKaSEaBP2K7uPqbI3lsbMFQ"/>
          <p:cNvPicPr/>
          <p:nvPr/>
        </p:nvPicPr>
        <p:blipFill>
          <a:blip r:embed="rId3"/>
          <a:stretch/>
        </p:blipFill>
        <p:spPr>
          <a:xfrm>
            <a:off x="1447920" y="2438280"/>
            <a:ext cx="3886200" cy="29149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rica Tetralix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doph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3681360" y="2143080"/>
            <a:ext cx="178128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040801-erica-tetralix-1"/>
          <p:cNvPicPr/>
          <p:nvPr/>
        </p:nvPicPr>
        <p:blipFill>
          <a:blip r:embed="rId1"/>
          <a:stretch/>
        </p:blipFill>
        <p:spPr>
          <a:xfrm>
            <a:off x="6553080" y="685800"/>
            <a:ext cx="1725840" cy="249084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Erica"/>
          <p:cNvPicPr/>
          <p:nvPr/>
        </p:nvPicPr>
        <p:blipFill>
          <a:blip r:embed="rId2"/>
          <a:stretch/>
        </p:blipFill>
        <p:spPr>
          <a:xfrm>
            <a:off x="4876920" y="3962520"/>
            <a:ext cx="3504960" cy="23382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2"/>
          <p:cNvSpPr/>
          <p:nvPr/>
        </p:nvSpPr>
        <p:spPr>
          <a:xfrm>
            <a:off x="3648240" y="2190600"/>
            <a:ext cx="1847520" cy="24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4"/>
          <p:cNvSpPr/>
          <p:nvPr/>
        </p:nvSpPr>
        <p:spPr>
          <a:xfrm>
            <a:off x="3457440" y="2405160"/>
            <a:ext cx="2229120" cy="20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EricaTetralix"/>
          <p:cNvPicPr/>
          <p:nvPr/>
        </p:nvPicPr>
        <p:blipFill>
          <a:blip r:embed="rId3"/>
          <a:stretch/>
        </p:blipFill>
        <p:spPr>
          <a:xfrm>
            <a:off x="762120" y="1752480"/>
            <a:ext cx="3396960" cy="45626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aultheria procumb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ulth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ANd9GcRwbht6BYZ8gEj85mVIKfQBCM2nYoa_oEOeaUQwADJ1zNWKyths"/>
          <p:cNvPicPr/>
          <p:nvPr/>
        </p:nvPicPr>
        <p:blipFill>
          <a:blip r:embed="rId1"/>
          <a:stretch/>
        </p:blipFill>
        <p:spPr>
          <a:xfrm>
            <a:off x="609480" y="2057400"/>
            <a:ext cx="4419720" cy="3309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ANd9GcRFT8sgHO2XY3Mxsb3zSERs4TdJ5f1mIsCfwD7-QGlkZH4BGQa87Q"/>
          <p:cNvPicPr/>
          <p:nvPr/>
        </p:nvPicPr>
        <p:blipFill>
          <a:blip r:embed="rId2"/>
          <a:stretch/>
        </p:blipFill>
        <p:spPr>
          <a:xfrm>
            <a:off x="5486400" y="2514600"/>
            <a:ext cx="327672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ernettya mucron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nett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ANd9GcQzmIl3xf8og3fNZ7LG50UqEKQOkQOviIvW_HR2K1MFltJ5d8Yq"/>
          <p:cNvPicPr/>
          <p:nvPr/>
        </p:nvPicPr>
        <p:blipFill>
          <a:blip r:embed="rId1"/>
          <a:stretch/>
        </p:blipFill>
        <p:spPr>
          <a:xfrm>
            <a:off x="4724280" y="1828800"/>
            <a:ext cx="2847960" cy="1895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ANd9GcR82xHO5UPssocoQqwriW_mLRIOXotQHw2uJ8PPFCCHIWeX_Rxx"/>
          <p:cNvPicPr/>
          <p:nvPr/>
        </p:nvPicPr>
        <p:blipFill>
          <a:blip r:embed="rId2"/>
          <a:stretch/>
        </p:blipFill>
        <p:spPr>
          <a:xfrm>
            <a:off x="4724280" y="3809880"/>
            <a:ext cx="1905120" cy="2400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ANd9GcSZIKJjIOQphzDZPqpF2zn0IlXSzm4mOL_2CYZe4UweKta6xL_m"/>
          <p:cNvPicPr/>
          <p:nvPr/>
        </p:nvPicPr>
        <p:blipFill>
          <a:blip r:embed="rId3"/>
          <a:stretch/>
        </p:blipFill>
        <p:spPr>
          <a:xfrm>
            <a:off x="1905120" y="18288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ANd9GcRuMF-Zca8UsyZNrLIc9fgPDGX-Fop0vDhSfMb52tYONG7XBvji"/>
          <p:cNvPicPr/>
          <p:nvPr/>
        </p:nvPicPr>
        <p:blipFill>
          <a:blip r:embed="rId4"/>
          <a:stretch/>
        </p:blipFill>
        <p:spPr>
          <a:xfrm>
            <a:off x="1981080" y="38098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ieris floribund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ie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ANd9GcTiQgtlkp1IzTRntMNo_5rqFbEaFyDUqwgt2sjnRzIPobtes3WK"/>
          <p:cNvPicPr/>
          <p:nvPr/>
        </p:nvPicPr>
        <p:blipFill>
          <a:blip r:embed="rId1"/>
          <a:stretch/>
        </p:blipFill>
        <p:spPr>
          <a:xfrm>
            <a:off x="5410080" y="1752480"/>
            <a:ext cx="2695680" cy="1793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ANd9GcSavVPMn_1vJbS3mIb2QmYLnn2Rc-p3K3dU3VTfvGah26g9F98HAw"/>
          <p:cNvPicPr/>
          <p:nvPr/>
        </p:nvPicPr>
        <p:blipFill>
          <a:blip r:embed="rId2"/>
          <a:stretch/>
        </p:blipFill>
        <p:spPr>
          <a:xfrm>
            <a:off x="990720" y="2286000"/>
            <a:ext cx="3733560" cy="2786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ANd9GcSndOyo6pc6Ld6vZF-ejulQ0ybXXNgY-6BjFmdRAVZ4EQEZVFiMYg"/>
          <p:cNvPicPr/>
          <p:nvPr/>
        </p:nvPicPr>
        <p:blipFill>
          <a:blip r:embed="rId3"/>
          <a:stretch/>
        </p:blipFill>
        <p:spPr>
          <a:xfrm>
            <a:off x="5410080" y="3809880"/>
            <a:ext cx="2743200" cy="20545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hododendron (Catawbiense Groep) ‘Catawbiense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lbladige rhododend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ANd9GcS-O7m57E1FTomNyNC4-nJwZwYh8pxCrmJIQWBVeEW-yv5iD9aHXg"/>
          <p:cNvPicPr/>
          <p:nvPr/>
        </p:nvPicPr>
        <p:blipFill>
          <a:blip r:embed="rId1"/>
          <a:stretch/>
        </p:blipFill>
        <p:spPr>
          <a:xfrm>
            <a:off x="6172200" y="4343400"/>
            <a:ext cx="2133720" cy="1604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ANd9GcRhjoO97Ow6YfwAu1wUg6UzPlESOum2pME-im3YwBNEWqYMO-3e"/>
          <p:cNvPicPr/>
          <p:nvPr/>
        </p:nvPicPr>
        <p:blipFill>
          <a:blip r:embed="rId2"/>
          <a:stretch/>
        </p:blipFill>
        <p:spPr>
          <a:xfrm>
            <a:off x="5638680" y="2209680"/>
            <a:ext cx="2581560" cy="1771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ANd9GcSmgt9Nyx4Esnp03rdEPB2Yo0bvSFFHij5UaR49Ghi2O3ngfF_cIw"/>
          <p:cNvPicPr/>
          <p:nvPr/>
        </p:nvPicPr>
        <p:blipFill>
          <a:blip r:embed="rId3"/>
          <a:stretch/>
        </p:blipFill>
        <p:spPr>
          <a:xfrm>
            <a:off x="1295280" y="2514600"/>
            <a:ext cx="3810240" cy="28544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3T07:51:4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