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  <p:custShowLst>
    <p:custShow name="Aangepaste voorstelling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  <p:custShow name="Aangepaste voorstelling 2" id="1">
      <p:sldLst>
        <p:sld r:id="rId13"/>
        <p:sld r:id="rId12"/>
        <p:sld r:id="rId11"/>
        <p:sld r:id="rId10"/>
        <p:sld r:id="rId9"/>
        <p:sld r:id="rId8"/>
        <p:sld r:id="rId7"/>
        <p:sld r:id="rId6"/>
        <p:sld r:id="rId5"/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AEB-7F1E-4AA4-823B-406DCA4A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67E-FA44-45B6-A8AE-9ACE560A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5BF-AE3B-49C0-90B3-B79A8018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E74-A647-412F-9F46-410E880C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525-0935-44B3-9C1C-310072BD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D96-4FAE-4448-86AD-19A6FE0D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04D-1DFC-4DA2-9EAD-93F75546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214-B55C-4372-9184-B2C795D5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B8E-666A-420C-B43B-0DA8E2B3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1DF-43DF-4C72-9C35-6F77F9B7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0225-3B67-4C15-B699-316F4703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0C4-65DA-426B-8CF6-2D6C3B93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9FD0-56CC-4577-91EC-F0F7124632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implan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i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rthenocissus tricuspi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wing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3576600" y="2281320"/>
            <a:ext cx="19908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Wilder_Wein_(Parthenocissus_tricuspidata,_Green_Spring)_8_Juni_2003"/>
          <p:cNvPicPr/>
          <p:nvPr/>
        </p:nvPicPr>
        <p:blipFill>
          <a:blip r:embed="rId1"/>
          <a:stretch/>
        </p:blipFill>
        <p:spPr>
          <a:xfrm>
            <a:off x="6410160" y="1447920"/>
            <a:ext cx="197496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parthenocissus_tricuspidata_veitchi_01"/>
          <p:cNvPicPr/>
          <p:nvPr/>
        </p:nvPicPr>
        <p:blipFill>
          <a:blip r:embed="rId2"/>
          <a:stretch/>
        </p:blipFill>
        <p:spPr>
          <a:xfrm>
            <a:off x="533520" y="1981080"/>
            <a:ext cx="3809880" cy="2544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4"/>
          <p:cNvSpPr/>
          <p:nvPr/>
        </p:nvSpPr>
        <p:spPr>
          <a:xfrm>
            <a:off x="3600360" y="2247840"/>
            <a:ext cx="1943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ParthenocissusTricuspidataVeitchiiBostonIvy"/>
          <p:cNvPicPr/>
          <p:nvPr/>
        </p:nvPicPr>
        <p:blipFill>
          <a:blip r:embed="rId3"/>
          <a:stretch/>
        </p:blipFill>
        <p:spPr>
          <a:xfrm>
            <a:off x="6431040" y="4114800"/>
            <a:ext cx="1913040" cy="2324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ANd9GcRU5wel0vNVxaDEAbDtdAugj0dV5XE1v3LMYxRcQhTEgijvDdwQ"/>
          <p:cNvPicPr/>
          <p:nvPr/>
        </p:nvPicPr>
        <p:blipFill>
          <a:blip r:embed="rId4"/>
          <a:stretch/>
        </p:blipFill>
        <p:spPr>
          <a:xfrm>
            <a:off x="3429000" y="46483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isteria sinens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e r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281400" y="2543040"/>
            <a:ext cx="25812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ANd9GcTXwZpO9_aH6jWtOv65gTpvkuV0skTtwp2SVs9q31bl9t6BW7Lm"/>
          <p:cNvPicPr/>
          <p:nvPr/>
        </p:nvPicPr>
        <p:blipFill>
          <a:blip r:embed="rId1"/>
          <a:stretch/>
        </p:blipFill>
        <p:spPr>
          <a:xfrm>
            <a:off x="914400" y="2514600"/>
            <a:ext cx="4038480" cy="262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Nd9GcRkk0ObDqdOTjY3t7dpxcCGb54uZW72JPMhwe4Ig6gjVz7xahIw"/>
          <p:cNvPicPr/>
          <p:nvPr/>
        </p:nvPicPr>
        <p:blipFill>
          <a:blip r:embed="rId2"/>
          <a:stretch/>
        </p:blipFill>
        <p:spPr>
          <a:xfrm>
            <a:off x="5257800" y="39625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Nd9GcS_in9xwZT9Ba80-3gGUZSD-aeFTihaUu3M23KHfHJ0vwzrF19_"/>
          <p:cNvPicPr/>
          <p:nvPr/>
        </p:nvPicPr>
        <p:blipFill>
          <a:blip r:embed="rId3"/>
          <a:stretch/>
        </p:blipFill>
        <p:spPr>
          <a:xfrm>
            <a:off x="6172200" y="1295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lematis (Late grootbloemige groep) ‘Jackmanii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dru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5715000" y="3429000"/>
            <a:ext cx="2943360" cy="1909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lematis%20jackmanii"/>
          <p:cNvPicPr/>
          <p:nvPr/>
        </p:nvPicPr>
        <p:blipFill>
          <a:blip r:embed="rId2"/>
          <a:stretch/>
        </p:blipFill>
        <p:spPr>
          <a:xfrm>
            <a:off x="838080" y="25909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uyonymus fortunei ‘Variegatu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nte kardinaalsh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Nd9GcTq_pf0ZslhFebPaG5M4YEOc_1reaTeeUXfi0sI2_486QV1XDPoCA"/>
          <p:cNvPicPr/>
          <p:nvPr/>
        </p:nvPicPr>
        <p:blipFill>
          <a:blip r:embed="rId1"/>
          <a:stretch/>
        </p:blipFill>
        <p:spPr>
          <a:xfrm>
            <a:off x="2133720" y="2362320"/>
            <a:ext cx="5257800" cy="34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allopia baldschua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lu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original"/>
          <p:cNvPicPr/>
          <p:nvPr/>
        </p:nvPicPr>
        <p:blipFill>
          <a:blip r:embed="rId1"/>
          <a:stretch/>
        </p:blipFill>
        <p:spPr>
          <a:xfrm>
            <a:off x="685800" y="21337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8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Fallopia_baldschuanica"/>
          <p:cNvPicPr/>
          <p:nvPr/>
        </p:nvPicPr>
        <p:blipFill>
          <a:blip r:embed="rId2"/>
          <a:stretch/>
        </p:blipFill>
        <p:spPr>
          <a:xfrm>
            <a:off x="5638680" y="13716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2"/>
          <p:cNvSpPr/>
          <p:nvPr/>
        </p:nvSpPr>
        <p:spPr>
          <a:xfrm>
            <a:off x="3362400" y="2481120"/>
            <a:ext cx="2419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Nd9GcTuNtapSSzZfmsRu3ohIZV1uLu-ysNuEl48N_aoA9rGFWxak9Ik"/>
          <p:cNvPicPr/>
          <p:nvPr/>
        </p:nvPicPr>
        <p:blipFill>
          <a:blip r:embed="rId3"/>
          <a:stretch/>
        </p:blipFill>
        <p:spPr>
          <a:xfrm>
            <a:off x="5334120" y="4952880"/>
            <a:ext cx="2914560" cy="1571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orsythia suspens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es 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Nd9GcRCH66A1pPygfHllrWNBO_V4Q4ChL6k6N1vjktS0E0HMvUWAsjr"/>
          <p:cNvPicPr/>
          <p:nvPr/>
        </p:nvPicPr>
        <p:blipFill>
          <a:blip r:embed="rId1"/>
          <a:stretch/>
        </p:blipFill>
        <p:spPr>
          <a:xfrm>
            <a:off x="617220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RKCjy3SBrzoqmDDPjkFVcvQHw82eTfnR0j2axD-ezr26XLQBhNGw"/>
          <p:cNvPicPr/>
          <p:nvPr/>
        </p:nvPicPr>
        <p:blipFill>
          <a:blip r:embed="rId2"/>
          <a:stretch/>
        </p:blipFill>
        <p:spPr>
          <a:xfrm>
            <a:off x="56386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Nd9GcSQ-7lsW1gaNef6PsqDyuaSPs-5M46mtl-HmNvlfHSJT0ecV7nsaQ"/>
          <p:cNvPicPr/>
          <p:nvPr/>
        </p:nvPicPr>
        <p:blipFill>
          <a:blip r:embed="rId3"/>
          <a:stretch/>
        </p:blipFill>
        <p:spPr>
          <a:xfrm>
            <a:off x="914400" y="2286000"/>
            <a:ext cx="4572000" cy="3032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edera helix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klim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cs-hedera-helix-24498"/>
          <p:cNvPicPr/>
          <p:nvPr/>
        </p:nvPicPr>
        <p:blipFill>
          <a:blip r:embed="rId1"/>
          <a:stretch/>
        </p:blipFill>
        <p:spPr>
          <a:xfrm>
            <a:off x="5181480" y="17524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Hedera%20Helix%20Hibernica%20a"/>
          <p:cNvPicPr/>
          <p:nvPr/>
        </p:nvPicPr>
        <p:blipFill>
          <a:blip r:embed="rId2"/>
          <a:stretch/>
        </p:blipFill>
        <p:spPr>
          <a:xfrm>
            <a:off x="914400" y="26668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2"/>
          <p:cNvSpPr/>
          <p:nvPr/>
        </p:nvSpPr>
        <p:spPr>
          <a:xfrm>
            <a:off x="3405240" y="2448000"/>
            <a:ext cx="2333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ANd9GcSy9vLtjJRGw7BOUZehPrhA5IPsi8aYD96EIG6D91ZxtT53j_faeA"/>
          <p:cNvPicPr/>
          <p:nvPr/>
        </p:nvPicPr>
        <p:blipFill>
          <a:blip r:embed="rId3"/>
          <a:stretch/>
        </p:blipFill>
        <p:spPr>
          <a:xfrm>
            <a:off x="5715000" y="4343400"/>
            <a:ext cx="2695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angea anomala subsp. Petiol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mhorte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Nd9GcSyjaE-b-M0UPvSS5zfu6VdY_kbF8k5z7CZNq-Tsd2bDH55LlvfAw"/>
          <p:cNvPicPr/>
          <p:nvPr/>
        </p:nvPicPr>
        <p:blipFill>
          <a:blip r:embed="rId1"/>
          <a:stretch/>
        </p:blipFill>
        <p:spPr>
          <a:xfrm>
            <a:off x="5867280" y="4075200"/>
            <a:ext cx="2562480" cy="2154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d9GcQJhIVOpUzje8p7fWpXh3NvrbIylVoW9B2d112FzAdnss-bkv99"/>
          <p:cNvPicPr/>
          <p:nvPr/>
        </p:nvPicPr>
        <p:blipFill>
          <a:blip r:embed="rId2"/>
          <a:stretch/>
        </p:blipFill>
        <p:spPr>
          <a:xfrm>
            <a:off x="58672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ANd9GcTYVGezEJUuwCl3Hl_ixExtn5tQg_aqlakOqUHuXToJTCxJpCpw"/>
          <p:cNvPicPr/>
          <p:nvPr/>
        </p:nvPicPr>
        <p:blipFill>
          <a:blip r:embed="rId3"/>
          <a:stretch/>
        </p:blipFill>
        <p:spPr>
          <a:xfrm>
            <a:off x="914400" y="2133720"/>
            <a:ext cx="4572000" cy="3423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asminum nudiflor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jasm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Nd9GcQtoZZCn9O13aydGlRxi7E3mzhBYTraFQMcjrRdqRzw0QcOEY0_"/>
          <p:cNvPicPr/>
          <p:nvPr/>
        </p:nvPicPr>
        <p:blipFill>
          <a:blip r:embed="rId1"/>
          <a:stretch/>
        </p:blipFill>
        <p:spPr>
          <a:xfrm>
            <a:off x="6095880" y="4267080"/>
            <a:ext cx="2352960" cy="1943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Rqi3_eX6H1gA7N8rmhM1gIsl4sx3GPmpL-2WrWyfwn09zKe8GK9g"/>
          <p:cNvPicPr/>
          <p:nvPr/>
        </p:nvPicPr>
        <p:blipFill>
          <a:blip r:embed="rId2"/>
          <a:stretch/>
        </p:blipFill>
        <p:spPr>
          <a:xfrm>
            <a:off x="838080" y="228600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mOWL_WCvJmsHFpS-E1TFXG0LPkmy4wkKHni4rDNKvCz9Ekt2C5Q"/>
          <p:cNvPicPr/>
          <p:nvPr/>
        </p:nvPicPr>
        <p:blipFill>
          <a:blip r:embed="rId3"/>
          <a:stretch/>
        </p:blipFill>
        <p:spPr>
          <a:xfrm>
            <a:off x="6019920" y="19810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nicera periclymen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mperfo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3433680" y="2424240"/>
            <a:ext cx="227664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ANd9GcRHngAFkyP8c0Ms68hy9WWZc963-wlKNVE_pmKK_qjoSLFz0zO1"/>
          <p:cNvPicPr/>
          <p:nvPr/>
        </p:nvPicPr>
        <p:blipFill>
          <a:blip r:embed="rId1"/>
          <a:stretch/>
        </p:blipFill>
        <p:spPr>
          <a:xfrm>
            <a:off x="6019920" y="19810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ToA47J-tiuJl2acjgscm-ogQjhQPbCHc1FeOMaAuMD61isiT_k2A"/>
          <p:cNvPicPr/>
          <p:nvPr/>
        </p:nvPicPr>
        <p:blipFill>
          <a:blip r:embed="rId2"/>
          <a:stretch/>
        </p:blipFill>
        <p:spPr>
          <a:xfrm>
            <a:off x="3352680" y="3962520"/>
            <a:ext cx="2847960" cy="213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ANd9GcTPnMG0TuiZpVq2bYwzIbcO1-Z82Spfu0dbF92xYS5Zhxgm305Q"/>
          <p:cNvPicPr/>
          <p:nvPr/>
        </p:nvPicPr>
        <p:blipFill>
          <a:blip r:embed="rId3"/>
          <a:stretch/>
        </p:blipFill>
        <p:spPr>
          <a:xfrm>
            <a:off x="6553080" y="3962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ANd9GcQI8r90I8sgyJ-rsmF_fsxCVsUujgqaW-6Jh6tv7JsOV45yqT4t"/>
          <p:cNvPicPr/>
          <p:nvPr/>
        </p:nvPicPr>
        <p:blipFill>
          <a:blip r:embed="rId4"/>
          <a:stretch/>
        </p:blipFill>
        <p:spPr>
          <a:xfrm>
            <a:off x="304920" y="1981080"/>
            <a:ext cx="2757240" cy="4143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04:5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