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7"/>
        <p:sld r:id="rId18"/>
        <p:sld r:id="rId20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4"/>
        <p:sld r:id="rId15"/>
        <p:sld r:id="rId17"/>
        <p:sld r:id="rId19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11E-CE2C-4466-9AB3-87333D93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E98-0E38-480F-B2DE-33897D32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D13-2A22-4BE2-BB84-9F3A757D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2E0-7877-4273-BC72-7CE10948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535-B945-4F4F-9AD5-5216D8C5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E41-44A7-4C32-A135-18CF837E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F2F-6161-4115-AEE6-AFAFFE29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297-9F5F-4FFA-8FD6-E4E65631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0CD-556B-4DBA-A0D1-A96185AA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5A4-D861-4202-AA44-3B867C16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FE0-F6C4-430F-AFBE-2BA71DC8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1C6-90DB-47CD-8339-3FAB6E79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21A9-E458-46CA-8F27-2795C011F8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nblijv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lex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hulst, Groene hul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QUCoV5SIVLB3wSMOo4ConI84SBxvqE9PS7yKpsou9amGOmKex3FA"/>
          <p:cNvPicPr/>
          <p:nvPr/>
        </p:nvPicPr>
        <p:blipFill>
          <a:blip r:embed="rId1"/>
          <a:stretch/>
        </p:blipFill>
        <p:spPr>
          <a:xfrm>
            <a:off x="6400800" y="1752480"/>
            <a:ext cx="1790640" cy="254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ANd9GcRAuWGPoeAvnpcSQSgfHoRFMAkdKZgArbnd7qseUYfZ-NBxk2MS"/>
          <p:cNvPicPr/>
          <p:nvPr/>
        </p:nvPicPr>
        <p:blipFill>
          <a:blip r:embed="rId2"/>
          <a:stretch/>
        </p:blipFill>
        <p:spPr>
          <a:xfrm>
            <a:off x="91440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OIlbbre4-k1SSQgdMApbckQRC8hYglQA7HuR3bLo7-kwq950MvA"/>
          <p:cNvPicPr/>
          <p:nvPr/>
        </p:nvPicPr>
        <p:blipFill>
          <a:blip r:embed="rId3"/>
          <a:stretch/>
        </p:blipFill>
        <p:spPr>
          <a:xfrm>
            <a:off x="3429000" y="2362320"/>
            <a:ext cx="22892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ndul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ANd9GcTHBq4FRI7djlWhYyp8y208yBAAbTeR9bAkBOySKYa99TxUPtOO3A"/>
          <p:cNvPicPr/>
          <p:nvPr/>
        </p:nvPicPr>
        <p:blipFill>
          <a:blip r:embed="rId1"/>
          <a:stretch/>
        </p:blipFill>
        <p:spPr>
          <a:xfrm>
            <a:off x="5181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Nd9GcSIgLKtfbtXDbEy9M1mnGHl9G-LwqcztuH-8gY1JPZ10cVVmelIYA"/>
          <p:cNvPicPr/>
          <p:nvPr/>
        </p:nvPicPr>
        <p:blipFill>
          <a:blip r:embed="rId2"/>
          <a:stretch/>
        </p:blipFill>
        <p:spPr>
          <a:xfrm>
            <a:off x="2133720" y="1676520"/>
            <a:ext cx="2819160" cy="211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ANd9GcRl2bjT6qoLfqloY4F-tA18euZvbBUEqEqgzoMrmWpDUuA749Px"/>
          <p:cNvPicPr/>
          <p:nvPr/>
        </p:nvPicPr>
        <p:blipFill>
          <a:blip r:embed="rId3"/>
          <a:stretch/>
        </p:blipFill>
        <p:spPr>
          <a:xfrm>
            <a:off x="2133720" y="3886200"/>
            <a:ext cx="2819160" cy="223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lavandula_angustifolia_1_1464_thumb_2"/>
          <p:cNvPicPr/>
          <p:nvPr/>
        </p:nvPicPr>
        <p:blipFill>
          <a:blip r:embed="rId4"/>
          <a:stretch/>
        </p:blipFill>
        <p:spPr>
          <a:xfrm>
            <a:off x="5181480" y="1600200"/>
            <a:ext cx="21909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nitida ‘Eleg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icera; struik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Nd9GcRBEkQj3_fgLdlpEgUqqI_KbaGoXoTbuQ6s489yZVYThyq_TBsX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ANd9GcQoKQqF21cu1LpjU3aQnA0tuCKQTYjaoczpTMJSOZzJfkoWqY3Z"/>
          <p:cNvPicPr/>
          <p:nvPr/>
        </p:nvPicPr>
        <p:blipFill>
          <a:blip r:embed="rId2"/>
          <a:stretch/>
        </p:blipFill>
        <p:spPr>
          <a:xfrm>
            <a:off x="1352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x media ‘Chari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ahonia_x_media_charity2_1"/>
          <p:cNvPicPr/>
          <p:nvPr/>
        </p:nvPicPr>
        <p:blipFill>
          <a:blip r:embed="rId1"/>
          <a:stretch/>
        </p:blipFill>
        <p:spPr>
          <a:xfrm>
            <a:off x="5715000" y="403848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t00094"/>
          <p:cNvPicPr/>
          <p:nvPr/>
        </p:nvPicPr>
        <p:blipFill>
          <a:blip r:embed="rId2"/>
          <a:stretch/>
        </p:blipFill>
        <p:spPr>
          <a:xfrm>
            <a:off x="5410080" y="175248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QF8RYhag27GUTRZ0_uV8Ia8qgoMabAii4FT-F6jwkv9jFZ2HlX"/>
          <p:cNvPicPr/>
          <p:nvPr/>
        </p:nvPicPr>
        <p:blipFill>
          <a:blip r:embed="rId3"/>
          <a:stretch/>
        </p:blipFill>
        <p:spPr>
          <a:xfrm>
            <a:off x="990720" y="2209680"/>
            <a:ext cx="4038480" cy="3292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jcs-mahonia-aquifolium-52926"/>
          <p:cNvPicPr/>
          <p:nvPr/>
        </p:nvPicPr>
        <p:blipFill>
          <a:blip r:embed="rId1"/>
          <a:stretch/>
        </p:blipFill>
        <p:spPr>
          <a:xfrm>
            <a:off x="5257800" y="1752480"/>
            <a:ext cx="3124080" cy="2075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ANd9GcTtLA6GHuIkjCtz7E8g9pliIZmhqoLIXd4ARlp-a_Wyealli0lk"/>
          <p:cNvPicPr/>
          <p:nvPr/>
        </p:nvPicPr>
        <p:blipFill>
          <a:blip r:embed="rId2"/>
          <a:stretch/>
        </p:blipFill>
        <p:spPr>
          <a:xfrm>
            <a:off x="5257800" y="4114800"/>
            <a:ext cx="3133800" cy="21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ANd9GcRz0zlvk4Z-2BjBC8PfJCvnPJMnObBXv3EpDn0ItssIPTGc-nvc"/>
          <p:cNvPicPr/>
          <p:nvPr/>
        </p:nvPicPr>
        <p:blipFill>
          <a:blip r:embed="rId3"/>
          <a:stretch/>
        </p:blipFill>
        <p:spPr>
          <a:xfrm>
            <a:off x="762120" y="2666880"/>
            <a:ext cx="4114800" cy="234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laurocerasus ‘Rotundifoli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aur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Nd9GcTGHo_qFjyCzGClaUtOqzgQKFTZeHhBJh5kDpvdwbiRbChc08ws"/>
          <p:cNvPicPr/>
          <p:nvPr/>
        </p:nvPicPr>
        <p:blipFill>
          <a:blip r:embed="rId1"/>
          <a:stretch/>
        </p:blipFill>
        <p:spPr>
          <a:xfrm>
            <a:off x="5410080" y="1600200"/>
            <a:ext cx="2924280" cy="2190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big_Prunus%20Laurocerasus%20Rotundifolia%205392%20(Small)"/>
          <p:cNvPicPr/>
          <p:nvPr/>
        </p:nvPicPr>
        <p:blipFill>
          <a:blip r:embed="rId2"/>
          <a:stretch/>
        </p:blipFill>
        <p:spPr>
          <a:xfrm>
            <a:off x="5410080" y="4154400"/>
            <a:ext cx="291492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ANd9GcSyVKLpirbiQnBde5T_2lvNV6ExlcD-Ydgk3bZe4rc5dCd-mXx3xA"/>
          <p:cNvPicPr/>
          <p:nvPr/>
        </p:nvPicPr>
        <p:blipFill>
          <a:blip r:embed="rId3"/>
          <a:stretch/>
        </p:blipFill>
        <p:spPr>
          <a:xfrm>
            <a:off x="838080" y="2362320"/>
            <a:ext cx="4191120" cy="313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kimmia japonica ‘Rubel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kim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ANd9GcRsnOfz1cRJG6rlCf2urr49pK2U780sDqjSZf0D9uvmBxtMd2RD"/>
          <p:cNvPicPr/>
          <p:nvPr/>
        </p:nvPicPr>
        <p:blipFill>
          <a:blip r:embed="rId1"/>
          <a:stretch/>
        </p:blipFill>
        <p:spPr>
          <a:xfrm>
            <a:off x="5562720" y="3809880"/>
            <a:ext cx="2886120" cy="19814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0"/>
          <p:cNvSpPr/>
          <p:nvPr/>
        </p:nvSpPr>
        <p:spPr>
          <a:xfrm>
            <a:off x="3319560" y="2514600"/>
            <a:ext cx="2504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skimmia4"/>
          <p:cNvPicPr/>
          <p:nvPr/>
        </p:nvPicPr>
        <p:blipFill>
          <a:blip r:embed="rId2"/>
          <a:stretch/>
        </p:blipFill>
        <p:spPr>
          <a:xfrm>
            <a:off x="5638680" y="1676520"/>
            <a:ext cx="2724120" cy="199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ANd9GcQ9s3-FuGa5YCdMuCYwpppEwQdDTEtzT8LPoHDJJgrLQFSssly3"/>
          <p:cNvPicPr/>
          <p:nvPr/>
        </p:nvPicPr>
        <p:blipFill>
          <a:blip r:embed="rId3"/>
          <a:stretch/>
        </p:blipFill>
        <p:spPr>
          <a:xfrm>
            <a:off x="1143000" y="1981080"/>
            <a:ext cx="361944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davi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SPFKRSn6_lAVgCVDXQ13GCu4HsEJ8ahoxVWHjM4PmKrXLMkr4m"/>
          <p:cNvPicPr/>
          <p:nvPr/>
        </p:nvPicPr>
        <p:blipFill>
          <a:blip r:embed="rId1"/>
          <a:stretch/>
        </p:blipFill>
        <p:spPr>
          <a:xfrm>
            <a:off x="5943600" y="1676520"/>
            <a:ext cx="2228760" cy="167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Si2KJwV89k5LwiZMOFbIi-X6c6YACfad2pxACCra3lzh3rk5GX"/>
          <p:cNvPicPr/>
          <p:nvPr/>
        </p:nvPicPr>
        <p:blipFill>
          <a:blip r:embed="rId2"/>
          <a:stretch/>
        </p:blipFill>
        <p:spPr>
          <a:xfrm>
            <a:off x="6324480" y="4114800"/>
            <a:ext cx="1838520" cy="18381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3890880" y="2895480"/>
            <a:ext cx="136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viburnum_davidii_bloem30"/>
          <p:cNvPicPr/>
          <p:nvPr/>
        </p:nvPicPr>
        <p:blipFill>
          <a:blip r:embed="rId3"/>
          <a:stretch/>
        </p:blipFill>
        <p:spPr>
          <a:xfrm>
            <a:off x="3657600" y="4111560"/>
            <a:ext cx="2390760" cy="187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ANd9GcQZRGfskq0DZCamJD_wqzBxcP4pEjM_fwOp2cMBoW-3U93NRE9lXw"/>
          <p:cNvPicPr/>
          <p:nvPr/>
        </p:nvPicPr>
        <p:blipFill>
          <a:blip r:embed="rId4"/>
          <a:stretch/>
        </p:blipFill>
        <p:spPr>
          <a:xfrm>
            <a:off x="762120" y="1676520"/>
            <a:ext cx="34290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rhytidophyll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Nd9GcTIBPWkJQMvpIwade1MYKLi38P6NfoFLmcg3E--UFLfu2yrZw00XA"/>
          <p:cNvPicPr/>
          <p:nvPr/>
        </p:nvPicPr>
        <p:blipFill>
          <a:blip r:embed="rId1"/>
          <a:stretch/>
        </p:blipFill>
        <p:spPr>
          <a:xfrm>
            <a:off x="4876920" y="1523880"/>
            <a:ext cx="3381120" cy="253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ANd9GcQaPOiOITT9i_bH2ZKtQrennKq_D71Knz3mbsQqnkcYAx_avjdUbw"/>
          <p:cNvPicPr/>
          <p:nvPr/>
        </p:nvPicPr>
        <p:blipFill>
          <a:blip r:embed="rId2"/>
          <a:stretch/>
        </p:blipFill>
        <p:spPr>
          <a:xfrm>
            <a:off x="6400800" y="41911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ANd9GcSnyjR3RYpv0nJqQjyXXge6qvbhrTZH8E_hQfzRCgB1VtJNaRs3zQ"/>
          <p:cNvPicPr/>
          <p:nvPr/>
        </p:nvPicPr>
        <p:blipFill>
          <a:blip r:embed="rId3"/>
          <a:stretch/>
        </p:blipFill>
        <p:spPr>
          <a:xfrm>
            <a:off x="3581280" y="4191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ANd9GcRpv1SrnCMgz832mK3zuemMRAk-g-furOOzI8aQdIbnPS4Q8aVg"/>
          <p:cNvPicPr/>
          <p:nvPr/>
        </p:nvPicPr>
        <p:blipFill>
          <a:blip r:embed="rId4"/>
          <a:stretch/>
        </p:blipFill>
        <p:spPr>
          <a:xfrm>
            <a:off x="838080" y="152388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t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S-uTfUkds8a_qGPqSiaAyMVz1wSL3Pp6Fu_A1ajUsloatppV-"/>
          <p:cNvPicPr/>
          <p:nvPr/>
        </p:nvPicPr>
        <p:blipFill>
          <a:blip r:embed="rId1"/>
          <a:stretch/>
        </p:blipFill>
        <p:spPr>
          <a:xfrm>
            <a:off x="5105520" y="3487680"/>
            <a:ext cx="3305160" cy="247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SakDyQq7ejPuGArJ-2k5BnJXEOH8gLvaHj44imxfGr7b-oTI7cNQ"/>
          <p:cNvPicPr/>
          <p:nvPr/>
        </p:nvPicPr>
        <p:blipFill>
          <a:blip r:embed="rId2"/>
          <a:stretch/>
        </p:blipFill>
        <p:spPr>
          <a:xfrm>
            <a:off x="838080" y="1600200"/>
            <a:ext cx="403884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ucuba japonica ‘Varieg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rood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Nd9GcQ1KYv5WA1wfE5hcm9Ao3FM3X4XPEmMHpjprsDMqtR8DO0IZ6w_"/>
          <p:cNvPicPr/>
          <p:nvPr/>
        </p:nvPicPr>
        <p:blipFill>
          <a:blip r:embed="rId1"/>
          <a:stretch/>
        </p:blipFill>
        <p:spPr>
          <a:xfrm>
            <a:off x="57913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RxoSqIINmuPujx_WkovX_0ThHgpySN1ZP-9jnlNOZmPpBs6MA"/>
          <p:cNvPicPr/>
          <p:nvPr/>
        </p:nvPicPr>
        <p:blipFill>
          <a:blip r:embed="rId2"/>
          <a:stretch/>
        </p:blipFill>
        <p:spPr>
          <a:xfrm>
            <a:off x="5791320" y="1828800"/>
            <a:ext cx="2400120" cy="202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12whpeV8u0iS1DCgkpwooRrkRYpDHlTVFZGjwOHi6qN_ZOcXGHw"/>
          <p:cNvPicPr/>
          <p:nvPr/>
        </p:nvPicPr>
        <p:blipFill>
          <a:blip r:embed="rId3"/>
          <a:stretch/>
        </p:blipFill>
        <p:spPr>
          <a:xfrm>
            <a:off x="114300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stenophy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14880" y="251928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Berberis_x_stenophylla_Irwinii"/>
          <p:cNvPicPr/>
          <p:nvPr/>
        </p:nvPicPr>
        <p:blipFill>
          <a:blip r:embed="rId1"/>
          <a:stretch/>
        </p:blipFill>
        <p:spPr>
          <a:xfrm>
            <a:off x="2514600" y="2286000"/>
            <a:ext cx="380988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Rsbx1hjO2vLKJ7fxEEgLqXDM1Se_KXCGP0pYlrSFY6L2dTDgcZ&amp;t=1"/>
          <p:cNvPicPr/>
          <p:nvPr/>
        </p:nvPicPr>
        <p:blipFill>
          <a:blip r:embed="rId2"/>
          <a:stretch/>
        </p:blipFill>
        <p:spPr>
          <a:xfrm>
            <a:off x="6553080" y="4191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RaZppIa2mZM7yX2ihKYApy9vg9UL2myKzwpJW1ufZXK1f78Qfg"/>
          <p:cNvPicPr/>
          <p:nvPr/>
        </p:nvPicPr>
        <p:blipFill>
          <a:blip r:embed="rId3"/>
          <a:stretch/>
        </p:blipFill>
        <p:spPr>
          <a:xfrm>
            <a:off x="762120" y="685800"/>
            <a:ext cx="146664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ANd9GcRjXHYEQ31JprsABY506PO4zw5R0YI42ZQPzsrH8mWn3TQGPtG94A"/>
          <p:cNvPicPr/>
          <p:nvPr/>
        </p:nvPicPr>
        <p:blipFill>
          <a:blip r:embed="rId4"/>
          <a:stretch/>
        </p:blipFill>
        <p:spPr>
          <a:xfrm>
            <a:off x="533520" y="4267080"/>
            <a:ext cx="169056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TRfP2aBww89sPHic8R_6ySFHi7lhC9aEkweGL3RFphm3k8UJGW"/>
          <p:cNvPicPr/>
          <p:nvPr/>
        </p:nvPicPr>
        <p:blipFill>
          <a:blip r:embed="rId5"/>
          <a:stretch/>
        </p:blipFill>
        <p:spPr>
          <a:xfrm>
            <a:off x="6629400" y="14479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candidu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ShtH9QAbvu1imtEz9GseXRFE7aOYOgMxF9Jba6zHxoiw0Qc-bF"/>
          <p:cNvPicPr/>
          <p:nvPr/>
        </p:nvPicPr>
        <p:blipFill>
          <a:blip r:embed="rId1"/>
          <a:stretch/>
        </p:blipFill>
        <p:spPr>
          <a:xfrm>
            <a:off x="632448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T8iRfOKYnYi7Rf0v2yuYUZbv14LS-4hn1PfbpqOlx4VW0cyXby"/>
          <p:cNvPicPr/>
          <p:nvPr/>
        </p:nvPicPr>
        <p:blipFill>
          <a:blip r:embed="rId2"/>
          <a:stretch/>
        </p:blipFill>
        <p:spPr>
          <a:xfrm>
            <a:off x="6324480" y="373392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ANd9GcQST76G4lfU1X3dlG0p2UabcoeKKifsv3Kha6xTP54Q3iwo8m7Z"/>
          <p:cNvPicPr/>
          <p:nvPr/>
        </p:nvPicPr>
        <p:blipFill>
          <a:blip r:embed="rId3"/>
          <a:stretch/>
        </p:blipFill>
        <p:spPr>
          <a:xfrm>
            <a:off x="838080" y="2133720"/>
            <a:ext cx="5181840" cy="343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xus sempervir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Buxus_sempervirens_detail_grt"/>
          <p:cNvPicPr/>
          <p:nvPr/>
        </p:nvPicPr>
        <p:blipFill>
          <a:blip r:embed="rId1"/>
          <a:stretch/>
        </p:blipFill>
        <p:spPr>
          <a:xfrm>
            <a:off x="5105520" y="36576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Nd9GcS9DlnpdZZsNhpk5Cu9rf1v0JK5nDJUtL6WKxEGRG9BryVQdiwe2g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loccos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YcvPip1oC7FjIrvICXWp18fPWRfiT_d8LgekFT2O_8QAPO4K_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581280" y="2610000"/>
            <a:ext cx="198144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3E48C331F1446938BCFB7D1F3FBE359"/>
          <p:cNvPicPr/>
          <p:nvPr/>
        </p:nvPicPr>
        <p:blipFill>
          <a:blip r:embed="rId2"/>
          <a:stretch/>
        </p:blipFill>
        <p:spPr>
          <a:xfrm>
            <a:off x="6019920" y="4191120"/>
            <a:ext cx="2476440" cy="20574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Cotoneaster-salicifolius-floccosus__8398"/>
          <p:cNvPicPr/>
          <p:nvPr/>
        </p:nvPicPr>
        <p:blipFill>
          <a:blip r:embed="rId3"/>
          <a:stretch/>
        </p:blipFill>
        <p:spPr>
          <a:xfrm>
            <a:off x="914400" y="1905120"/>
            <a:ext cx="416232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suecicus ‘Coral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SDqCtaX8osxm2y3qPFCX5cOtdNwGLzD7mZyAaPMZcmc2HjTLG9gw"/>
          <p:cNvPicPr/>
          <p:nvPr/>
        </p:nvPicPr>
        <p:blipFill>
          <a:blip r:embed="rId1"/>
          <a:stretch/>
        </p:blipFill>
        <p:spPr>
          <a:xfrm>
            <a:off x="58672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TZVpml045y-Oz7sZt0g9HUuOP3ccCFBDyptzFlAQJGQgTNnvQWMw"/>
          <p:cNvPicPr/>
          <p:nvPr/>
        </p:nvPicPr>
        <p:blipFill>
          <a:blip r:embed="rId2"/>
          <a:stretch/>
        </p:blipFill>
        <p:spPr>
          <a:xfrm>
            <a:off x="5867280" y="190512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TYgKUm8NZmFzcYDWlzYj_NSuCQwovmcVocfsxXnfxetDoaLH_NgA"/>
          <p:cNvPicPr/>
          <p:nvPr/>
        </p:nvPicPr>
        <p:blipFill>
          <a:blip r:embed="rId3"/>
          <a:stretch/>
        </p:blipFill>
        <p:spPr>
          <a:xfrm>
            <a:off x="914400" y="2362320"/>
            <a:ext cx="4495680" cy="326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x ebbinge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276720" y="2548080"/>
            <a:ext cx="25905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elaeagnus-pungens-jpg"/>
          <p:cNvPicPr/>
          <p:nvPr/>
        </p:nvPicPr>
        <p:blipFill>
          <a:blip r:embed="rId1"/>
          <a:stretch/>
        </p:blipFill>
        <p:spPr>
          <a:xfrm>
            <a:off x="5105520" y="365760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0"/>
          <p:cNvSpPr/>
          <p:nvPr/>
        </p:nvSpPr>
        <p:spPr>
          <a:xfrm>
            <a:off x="3429000" y="2571840"/>
            <a:ext cx="2286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elaeagnus_X_ebbingei300x225"/>
          <p:cNvPicPr/>
          <p:nvPr/>
        </p:nvPicPr>
        <p:blipFill>
          <a:blip r:embed="rId2"/>
          <a:stretch/>
        </p:blipFill>
        <p:spPr>
          <a:xfrm>
            <a:off x="1143000" y="19051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pungens ‘Macul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Nd9GcSEygS67TaSUKxQHzgy6J6pYGeij4Zjja1IE11Mn_UQXxLTEF-v"/>
          <p:cNvPicPr/>
          <p:nvPr/>
        </p:nvPicPr>
        <p:blipFill>
          <a:blip r:embed="rId1"/>
          <a:stretch/>
        </p:blipFill>
        <p:spPr>
          <a:xfrm>
            <a:off x="5715000" y="29718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ANd9GcSA_s3BOMJLM2LNr7oqHOhtzIoKj5LIa46IroccrGfNZT85ZhxLtw"/>
          <p:cNvPicPr/>
          <p:nvPr/>
        </p:nvPicPr>
        <p:blipFill>
          <a:blip r:embed="rId2"/>
          <a:stretch/>
        </p:blipFill>
        <p:spPr>
          <a:xfrm>
            <a:off x="1143000" y="2590920"/>
            <a:ext cx="4038480" cy="2711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8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