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140.jpeg" ContentType="image/jpeg"/>
  <Override PartName="/ppt/media/image141.jpeg" ContentType="image/jpeg"/>
  <Override PartName="/ppt/media/image46.jpeg" ContentType="image/jpeg"/>
  <Override PartName="/ppt/media/image137.jpeg" ContentType="image/jpeg"/>
  <Override PartName="/ppt/media/image58.jpeg" ContentType="image/jpeg"/>
  <Override PartName="/ppt/media/image142.jpeg" ContentType="image/jpeg"/>
  <Override PartName="/ppt/media/image47.jpeg" ContentType="image/jpeg"/>
  <Override PartName="/ppt/media/image138.jpeg" ContentType="image/jpeg"/>
  <Override PartName="/ppt/media/image59.jpeg" ContentType="image/jpeg"/>
  <Override PartName="/ppt/media/image42.jpeg" ContentType="image/jpeg"/>
  <Override PartName="/ppt/media/image52.jpeg" ContentType="image/jpeg"/>
  <Override PartName="/ppt/media/image148.jpeg" ContentType="image/jpeg"/>
  <Override PartName="/ppt/media/image131.jpeg" ContentType="image/jpeg"/>
  <Override PartName="/ppt/media/image143.jpeg" ContentType="image/jpeg"/>
  <Override PartName="/ppt/media/image53.jpeg" ContentType="image/jpeg"/>
  <Override PartName="/ppt/media/image149.jpeg" ContentType="image/jpeg"/>
  <Override PartName="/ppt/media/image132.jpeg" ContentType="image/jpeg"/>
  <Override PartName="/ppt/media/image144.jpeg" ContentType="image/jpeg"/>
  <Override PartName="/ppt/media/image150.jpeg" ContentType="image/jpeg"/>
  <Override PartName="/ppt/media/image71.jpeg" ContentType="image/jpeg"/>
  <Override PartName="/ppt/media/image57.jpeg" ContentType="image/jpeg"/>
  <Override PartName="/ppt/media/image136.jpeg" ContentType="image/jpeg"/>
  <Override PartName="/ppt/media/image130.jpeg" ContentType="image/jpeg"/>
  <Override PartName="/ppt/media/image147.jpeg" ContentType="image/jpeg"/>
  <Override PartName="/ppt/media/image51.jpeg" ContentType="image/jpeg"/>
  <Override PartName="/ppt/media/image45.jpeg" ContentType="image/jpeg"/>
  <Override PartName="/ppt/media/image56.jpeg" ContentType="image/jpeg"/>
  <Override PartName="/ppt/media/image135.jpeg" ContentType="image/jpeg"/>
  <Override PartName="/ppt/media/image44.jpeg" ContentType="image/jpeg"/>
  <Override PartName="/ppt/media/image129.jpeg" ContentType="image/jpeg"/>
  <Override PartName="/ppt/media/image146.jpeg" ContentType="image/jpeg"/>
  <Override PartName="/ppt/media/image55.jpeg" ContentType="image/jpeg"/>
  <Override PartName="/ppt/media/image134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28.jpeg" ContentType="image/jpeg"/>
  <Override PartName="/ppt/media/image145.jpeg" ContentType="image/jpeg"/>
  <Override PartName="/ppt/media/image54.jpeg" ContentType="image/jpeg"/>
  <Override PartName="/ppt/media/image133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90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Aangepaste voorstelling 1" id="0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5"/>
      </p:sldLst>
    </p:custShow>
    <p:custShow name="Aangepaste voorstelling 2" id="1">
      <p:sldLst>
        <p:sld r:id="rId6"/>
        <p:sld r:id="rId10"/>
        <p:sld r:id="rId14"/>
        <p:sld r:id="rId18"/>
        <p:sld r:id="rId22"/>
        <p:sld r:id="rId27"/>
        <p:sld r:id="rId31"/>
        <p:sld r:id="rId35"/>
        <p:sld r:id="rId39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A35-727F-413B-B72D-00D1C0B1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A8E-B1AA-4C2E-8947-0790F509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86B-CDD7-4946-800E-EFE078AA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99C-802E-4019-BBD4-73DF859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62E-C54E-4C95-A4F2-25B15BC9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CFD-7232-46A5-92DA-CCE129C1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B45-3665-41BC-9CAE-750DCD39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D3B-BA66-47E6-AEE2-2667AAC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BF8-1F11-49E1-94A2-52F075A1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D57-A287-4AED-84D3-454ADA7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375-C47A-4F79-BF69-C2892F2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916-3F32-4484-9810-ED7DA49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021E-AA27-4BC5-9518-4533B04E09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image" Target="../media/image12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image" Target="../media/image123.jpeg"/><Relationship Id="rId3" Type="http://schemas.openxmlformats.org/officeDocument/2006/relationships/image" Target="../media/image12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jpeg"/><Relationship Id="rId3" Type="http://schemas.openxmlformats.org/officeDocument/2006/relationships/image" Target="../media/image140.jpeg"/><Relationship Id="rId4" Type="http://schemas.openxmlformats.org/officeDocument/2006/relationships/image" Target="../media/image141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2.jpeg"/><Relationship Id="rId2" Type="http://schemas.openxmlformats.org/officeDocument/2006/relationships/image" Target="../media/image143.jpeg"/><Relationship Id="rId3" Type="http://schemas.openxmlformats.org/officeDocument/2006/relationships/image" Target="../media/image144.jpeg"/><Relationship Id="rId4" Type="http://schemas.openxmlformats.org/officeDocument/2006/relationships/image" Target="../media/image145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6.jpeg"/><Relationship Id="rId2" Type="http://schemas.openxmlformats.org/officeDocument/2006/relationships/image" Target="../media/image147.jpeg"/><Relationship Id="rId3" Type="http://schemas.openxmlformats.org/officeDocument/2006/relationships/image" Target="../media/image14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heemse 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Prat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ks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ANd9GcTeb-1Vgy2902llVyp9-sOiaVl1t82wGKEMQ-tPxolDhWmf9mHvBw"/>
          <p:cNvPicPr/>
          <p:nvPr/>
        </p:nvPicPr>
        <p:blipFill>
          <a:blip r:embed="rId1"/>
          <a:stretch/>
        </p:blipFill>
        <p:spPr>
          <a:xfrm>
            <a:off x="5715000" y="1752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Nd9GcTCuhazs1wB_uCr-FgJ5U4lw7A4pTc6A8ojSPlH9fxtyWnd5osf"/>
          <p:cNvPicPr/>
          <p:nvPr/>
        </p:nvPicPr>
        <p:blipFill>
          <a:blip r:embed="rId2"/>
          <a:stretch/>
        </p:blipFill>
        <p:spPr>
          <a:xfrm>
            <a:off x="5715000" y="3657600"/>
            <a:ext cx="2666880" cy="251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RWfGreGvWJGxizLwUSqMoaQWjYeFMXS-Zo4ZbQ0ANdfmwa0Nxk"/>
          <p:cNvPicPr/>
          <p:nvPr/>
        </p:nvPicPr>
        <p:blipFill>
          <a:blip r:embed="rId3"/>
          <a:stretch/>
        </p:blipFill>
        <p:spPr>
          <a:xfrm>
            <a:off x="1066680" y="2590920"/>
            <a:ext cx="441972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rast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hoor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SCw-gP4Qp_Wzf43XzTBehavJgBCJKW-0k53sCq503HsShP9y-5"/>
          <p:cNvPicPr/>
          <p:nvPr/>
        </p:nvPicPr>
        <p:blipFill>
          <a:blip r:embed="rId1"/>
          <a:stretch/>
        </p:blipFill>
        <p:spPr>
          <a:xfrm>
            <a:off x="5334120" y="3808440"/>
            <a:ext cx="276228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NuNc99E9hK18je8Gpw7zbkQOddfaoeyGpWjLe8NE1sS0DA6jQrA"/>
          <p:cNvPicPr/>
          <p:nvPr/>
        </p:nvPicPr>
        <p:blipFill>
          <a:blip r:embed="rId2"/>
          <a:stretch/>
        </p:blipFill>
        <p:spPr>
          <a:xfrm>
            <a:off x="114300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Nd9GcT8KOJuGSvNSr0JZeeABIQ03rsTS5xIkLsaE_bEasNa8aqJ3Xuwdw"/>
          <p:cNvPicPr/>
          <p:nvPr/>
        </p:nvPicPr>
        <p:blipFill>
          <a:blip r:embed="rId3"/>
          <a:stretch/>
        </p:blipFill>
        <p:spPr>
          <a:xfrm>
            <a:off x="5334120" y="1676520"/>
            <a:ext cx="269532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elidoni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inkende gou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ANd9GcTedJhZHjthsFkjcfH5_88wvT4fsLfUCyMumnEDdl95v4w6PkNC"/>
          <p:cNvPicPr/>
          <p:nvPr/>
        </p:nvPicPr>
        <p:blipFill>
          <a:blip r:embed="rId1"/>
          <a:stretch/>
        </p:blipFill>
        <p:spPr>
          <a:xfrm>
            <a:off x="518148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Nd9GcSGzzdt2CMqQ6dH5XmWEvIgK6cOq0gd1akIaCOJ5LJOcDQXMbTxiQ"/>
          <p:cNvPicPr/>
          <p:nvPr/>
        </p:nvPicPr>
        <p:blipFill>
          <a:blip r:embed="rId2"/>
          <a:stretch/>
        </p:blipFill>
        <p:spPr>
          <a:xfrm>
            <a:off x="5181480" y="4191120"/>
            <a:ext cx="261000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ANd9GcTBjos8onk_leGAQ91iwfhjJ_JmOtLsAihsxGL2ao29_ky0IkmPtg"/>
          <p:cNvPicPr/>
          <p:nvPr/>
        </p:nvPicPr>
        <p:blipFill>
          <a:blip r:embed="rId3"/>
          <a:stretch/>
        </p:blipFill>
        <p:spPr>
          <a:xfrm>
            <a:off x="1752480" y="1981080"/>
            <a:ext cx="27385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rysanthemum leucanthem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RlOUj0MT0JpPwFV54S7rIpeVFjaRG9rFwz4aCIQDJfB0lg0LZd"/>
          <p:cNvPicPr/>
          <p:nvPr/>
        </p:nvPicPr>
        <p:blipFill>
          <a:blip r:embed="rId1"/>
          <a:stretch/>
        </p:blipFill>
        <p:spPr>
          <a:xfrm>
            <a:off x="6172200" y="434340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n6W95ZsavgYlUB097UmRr5cBxakTPEHjGMZfsH-B3dsrxDHpD"/>
          <p:cNvPicPr/>
          <p:nvPr/>
        </p:nvPicPr>
        <p:blipFill>
          <a:blip r:embed="rId2"/>
          <a:stretch/>
        </p:blipFill>
        <p:spPr>
          <a:xfrm>
            <a:off x="1066680" y="2438280"/>
            <a:ext cx="4114800" cy="27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ANd9GcRqzRCwwEft6h06zCFC2_8hcg8yl4V8NxhP5AC728D7HvbM4tbc"/>
          <p:cNvPicPr/>
          <p:nvPr/>
        </p:nvPicPr>
        <p:blipFill>
          <a:blip r:embed="rId3"/>
          <a:stretch/>
        </p:blipFill>
        <p:spPr>
          <a:xfrm>
            <a:off x="6705720" y="1219320"/>
            <a:ext cx="16002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irsi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ANd9GcRam12BP_0bjksAsAND5GdP7My94ud1OGZBwKQ3oIwqDl-rWDis"/>
          <p:cNvPicPr/>
          <p:nvPr/>
        </p:nvPicPr>
        <p:blipFill>
          <a:blip r:embed="rId1"/>
          <a:stretch/>
        </p:blipFill>
        <p:spPr>
          <a:xfrm>
            <a:off x="609480" y="1219320"/>
            <a:ext cx="2752920" cy="165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Nd9GcTo2XUq4HXCc2tXCTpx0UMyzMXXcB6l2DW4jiG-MCbEseZjayUR"/>
          <p:cNvPicPr/>
          <p:nvPr/>
        </p:nvPicPr>
        <p:blipFill>
          <a:blip r:embed="rId2"/>
          <a:stretch/>
        </p:blipFill>
        <p:spPr>
          <a:xfrm>
            <a:off x="533520" y="4343400"/>
            <a:ext cx="2819160" cy="187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QGmWLnS5gG_mfqHVcFfIahP1WZ-xAdcp5M7w0hUyLrkF-g81Om"/>
          <p:cNvPicPr/>
          <p:nvPr/>
        </p:nvPicPr>
        <p:blipFill>
          <a:blip r:embed="rId3"/>
          <a:stretch/>
        </p:blipFill>
        <p:spPr>
          <a:xfrm>
            <a:off x="6103800" y="1143000"/>
            <a:ext cx="237348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RlbJFp1RpsJGVUaI0zCAHavsQP-BGegofJwf4KlH-EnX16O1MMAQ"/>
          <p:cNvPicPr/>
          <p:nvPr/>
        </p:nvPicPr>
        <p:blipFill>
          <a:blip r:embed="rId4"/>
          <a:stretch/>
        </p:blipFill>
        <p:spPr>
          <a:xfrm>
            <a:off x="60958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ANd9GcRlPIgEHacFiKBk31ecjhQHMJYPMqljUu1BO47AXMnFrr_btJ5U"/>
          <p:cNvPicPr/>
          <p:nvPr/>
        </p:nvPicPr>
        <p:blipFill>
          <a:blip r:embed="rId5"/>
          <a:stretch/>
        </p:blipFill>
        <p:spPr>
          <a:xfrm>
            <a:off x="3505320" y="1981080"/>
            <a:ext cx="2455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ANd9GcTQYWRqu6zghhQplyPUNDbMy1FeHzLoLjmjYCZii1y-Vhh0AiPwIA"/>
          <p:cNvPicPr/>
          <p:nvPr/>
        </p:nvPicPr>
        <p:blipFill>
          <a:blip r:embed="rId1"/>
          <a:stretch/>
        </p:blipFill>
        <p:spPr>
          <a:xfrm>
            <a:off x="6477120" y="38098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ANd9GcR0mZhjoU2y8J2dv75k2ruiS9VoXEgyWWxlS7eJ-ejQhJYprtwM0w"/>
          <p:cNvPicPr/>
          <p:nvPr/>
        </p:nvPicPr>
        <p:blipFill>
          <a:blip r:embed="rId2"/>
          <a:stretch/>
        </p:blipFill>
        <p:spPr>
          <a:xfrm>
            <a:off x="6470640" y="990720"/>
            <a:ext cx="182556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80880" y="1066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zLw1oh9lgul45plsdnJqokusC9c7mQPrAN4hLRyLB44rWALt_Q"/>
          <p:cNvPicPr/>
          <p:nvPr/>
        </p:nvPicPr>
        <p:blipFill>
          <a:blip r:embed="rId4"/>
          <a:stretch/>
        </p:blipFill>
        <p:spPr>
          <a:xfrm>
            <a:off x="3200400" y="1600200"/>
            <a:ext cx="2840040" cy="419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ANd9GcRJtTafRHE85zVaohr-s06_9yBOiuDgEg33_O8E32C13sp1L6Ny"/>
          <p:cNvPicPr/>
          <p:nvPr/>
        </p:nvPicPr>
        <p:blipFill>
          <a:blip r:embed="rId5"/>
          <a:stretch/>
        </p:blipFill>
        <p:spPr>
          <a:xfrm>
            <a:off x="380880" y="4419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ytrigia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d9GcQmzoYoMDAB0iB2-1qYNWIAbMcpLMPaULFljQrqN-m7RosPZ5mNSA"/>
          <p:cNvPicPr/>
          <p:nvPr/>
        </p:nvPicPr>
        <p:blipFill>
          <a:blip r:embed="rId1"/>
          <a:stretch/>
        </p:blipFill>
        <p:spPr>
          <a:xfrm>
            <a:off x="5867280" y="40384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kHR3_bJGPRdXLtSvE-XpMEq6BIHuIqlSbkwTbnodmougPzf2W"/>
          <p:cNvPicPr/>
          <p:nvPr/>
        </p:nvPicPr>
        <p:blipFill>
          <a:blip r:embed="rId2"/>
          <a:stretch/>
        </p:blipFill>
        <p:spPr>
          <a:xfrm>
            <a:off x="6553080" y="1143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vktOYCRV5C_UUxAdIU2P3AmNZc8uRF8J6aocu4kh0sUMiujLw3w"/>
          <p:cNvPicPr/>
          <p:nvPr/>
        </p:nvPicPr>
        <p:blipFill>
          <a:blip r:embed="rId3"/>
          <a:stretch/>
        </p:blipFill>
        <p:spPr>
          <a:xfrm>
            <a:off x="83808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ANd9GcQ3mr-3WDJYBWTduApS1sTbsboO5mx4EX4RlC7QeRDgBE2Jzxwj"/>
          <p:cNvPicPr/>
          <p:nvPr/>
        </p:nvPicPr>
        <p:blipFill>
          <a:blip r:embed="rId4"/>
          <a:stretch/>
        </p:blipFill>
        <p:spPr>
          <a:xfrm>
            <a:off x="3200400" y="3048120"/>
            <a:ext cx="227016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pilobium hirsut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ig wilgeroo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fXLsE4F04Y3h4_Nzfulsz6ISogplLDD8HWPYaCpz_px9TRuDCDA"/>
          <p:cNvPicPr/>
          <p:nvPr/>
        </p:nvPicPr>
        <p:blipFill>
          <a:blip r:embed="rId1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T7P3rWaAiTJbIJQfiPqkGqu2r5H49YDOF3OdHSsSbmx8Es0SIEaw"/>
          <p:cNvPicPr/>
          <p:nvPr/>
        </p:nvPicPr>
        <p:blipFill>
          <a:blip r:embed="rId2"/>
          <a:stretch/>
        </p:blipFill>
        <p:spPr>
          <a:xfrm>
            <a:off x="59436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RX46zX-RurfRpfw73FQpPwKN9p3m2BdphQNGU1GJeIdmuVIaTsJQ"/>
          <p:cNvPicPr/>
          <p:nvPr/>
        </p:nvPicPr>
        <p:blipFill>
          <a:blip r:embed="rId3"/>
          <a:stretch/>
        </p:blipFill>
        <p:spPr>
          <a:xfrm>
            <a:off x="31240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ANd9GcRBNCHE21LDSYn70NFsLSVMQ2h7Fr538IfG5hEQT2pZn9IdOvdq"/>
          <p:cNvPicPr/>
          <p:nvPr/>
        </p:nvPicPr>
        <p:blipFill>
          <a:blip r:embed="rId4"/>
          <a:stretch/>
        </p:blipFill>
        <p:spPr>
          <a:xfrm>
            <a:off x="457200" y="1905120"/>
            <a:ext cx="24354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quisetum arvens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erm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ANd9GcQmnzUPvO5l8zQYiVs3KclCj0_LWfzrjbCQ9lch4lMUnK90pMuZhg"/>
          <p:cNvPicPr/>
          <p:nvPr/>
        </p:nvPicPr>
        <p:blipFill>
          <a:blip r:embed="rId1"/>
          <a:stretch/>
        </p:blipFill>
        <p:spPr>
          <a:xfrm>
            <a:off x="5784840" y="1143000"/>
            <a:ext cx="238752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u7M4RCT_GnzW2Z4zm_x-cXEX_HoFmdm40eoJVeHNdcqlbr1vddg"/>
          <p:cNvPicPr/>
          <p:nvPr/>
        </p:nvPicPr>
        <p:blipFill>
          <a:blip r:embed="rId2"/>
          <a:stretch/>
        </p:blipFill>
        <p:spPr>
          <a:xfrm>
            <a:off x="914400" y="1143000"/>
            <a:ext cx="212256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TrJJlaWbcbbckybDstk0GLk4SWqFNGNVUDUO_idW6ZR-1tosLN"/>
          <p:cNvPicPr/>
          <p:nvPr/>
        </p:nvPicPr>
        <p:blipFill>
          <a:blip r:embed="rId3"/>
          <a:stretch/>
        </p:blipFill>
        <p:spPr>
          <a:xfrm>
            <a:off x="3124080" y="41148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icaria ver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e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Nd9GcS8XkADPCzeG9qE4OjsvNy_rYZW4nWWmRmoBmE2LElnZWPBkJ2H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1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hillea mille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4svMk1w1ymW0EdfhcxDfuxIZZVa2KOTuGmfzuV2KidwLhsmGHQg"/>
          <p:cNvPicPr/>
          <p:nvPr/>
        </p:nvPicPr>
        <p:blipFill>
          <a:blip r:embed="rId1"/>
          <a:stretch/>
        </p:blipFill>
        <p:spPr>
          <a:xfrm>
            <a:off x="5638680" y="160020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TDgS7nBKPutlrxIlnPDRqtnsKCtGgfovTq3_a2rJJkh7r7xHP68Q"/>
          <p:cNvPicPr/>
          <p:nvPr/>
        </p:nvPicPr>
        <p:blipFill>
          <a:blip r:embed="rId2"/>
          <a:stretch/>
        </p:blipFill>
        <p:spPr>
          <a:xfrm>
            <a:off x="5638680" y="4114800"/>
            <a:ext cx="21909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uJN5ly4A54u4HdbM8WkI9FdhFIJ5yKZ2L3R-160TKQEz5Z3zN2w"/>
          <p:cNvPicPr/>
          <p:nvPr/>
        </p:nvPicPr>
        <p:blipFill>
          <a:blip r:embed="rId3"/>
          <a:stretch/>
        </p:blipFill>
        <p:spPr>
          <a:xfrm>
            <a:off x="1600200" y="1600200"/>
            <a:ext cx="28512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ium aparin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Q_3Zj_ITTGhXL2eBBKvClaDDSLHWIkv3fsH7-MSydY_CeRBwFYVw"/>
          <p:cNvPicPr/>
          <p:nvPr/>
        </p:nvPicPr>
        <p:blipFill>
          <a:blip r:embed="rId1"/>
          <a:stretch/>
        </p:blipFill>
        <p:spPr>
          <a:xfrm>
            <a:off x="11430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_dGap3NjhksZlI9QKy0fy6B08zHoflq3-MwTl68NTTOjjXMva"/>
          <p:cNvPicPr/>
          <p:nvPr/>
        </p:nvPicPr>
        <p:blipFill>
          <a:blip r:embed="rId2"/>
          <a:stretch/>
        </p:blipFill>
        <p:spPr>
          <a:xfrm>
            <a:off x="5715000" y="1295280"/>
            <a:ext cx="2305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ANd9GcSDk0B3JQMxU1OuuVJRT1rDLQqDK0Q4sUXgn73OrJmQrFKJcMTOjA"/>
          <p:cNvPicPr/>
          <p:nvPr/>
        </p:nvPicPr>
        <p:blipFill>
          <a:blip r:embed="rId3"/>
          <a:stretch/>
        </p:blipFill>
        <p:spPr>
          <a:xfrm>
            <a:off x="3124080" y="2971800"/>
            <a:ext cx="251172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echoma hederac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dr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ubAeiKBxyU3IQ2w4YJVmFoG_tCu0Ik2A3XmlnR4Ou51TDeoB_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Qr_hQUuTXJnYn1FD2MEBJG0rUImKTRTNXPNgcuqFV9268qeDKlCA"/>
          <p:cNvPicPr/>
          <p:nvPr/>
        </p:nvPicPr>
        <p:blipFill>
          <a:blip r:embed="rId2"/>
          <a:stretch/>
        </p:blipFill>
        <p:spPr>
          <a:xfrm>
            <a:off x="58672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SWgc1wJ6wMKY4e0DDZ0dFg3A-sMnZpYqBK1tvWnP6G5CM7rsjC"/>
          <p:cNvPicPr/>
          <p:nvPr/>
        </p:nvPicPr>
        <p:blipFill>
          <a:blip r:embed="rId3"/>
          <a:stretch/>
        </p:blipFill>
        <p:spPr>
          <a:xfrm>
            <a:off x="1295280" y="1600200"/>
            <a:ext cx="3629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racleum sphondy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405240" y="2448000"/>
            <a:ext cx="23335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6nkcv_Nj775oqaJub0FjXrFTc0zRjYd8HrWGcbHDNcT4cfrBe"/>
          <p:cNvPicPr/>
          <p:nvPr/>
        </p:nvPicPr>
        <p:blipFill>
          <a:blip r:embed="rId1"/>
          <a:stretch/>
        </p:blipFill>
        <p:spPr>
          <a:xfrm>
            <a:off x="4191120" y="274320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ANd9GcRCJJ7pwaF0dmlOOxE00WJJPEYsFF_W18GIQWqpAeJDEUwhx99AXg"/>
          <p:cNvPicPr/>
          <p:nvPr/>
        </p:nvPicPr>
        <p:blipFill>
          <a:blip r:embed="rId2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ANd9GcRG5N7i8tZQ_qfCBg7tw0szTaDpAosugQV2L3Hlv_pfEg5qGnnM"/>
          <p:cNvPicPr/>
          <p:nvPr/>
        </p:nvPicPr>
        <p:blipFill>
          <a:blip r:embed="rId3"/>
          <a:stretch/>
        </p:blipFill>
        <p:spPr>
          <a:xfrm>
            <a:off x="8380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ANd9GcSXX9NRLYja_SBm7cve7RppZ0m0zKIhkbP9gPa2kGqlRJzoqoNF"/>
          <p:cNvPicPr/>
          <p:nvPr/>
        </p:nvPicPr>
        <p:blipFill>
          <a:blip r:embed="rId4"/>
          <a:stretch/>
        </p:blipFill>
        <p:spPr>
          <a:xfrm>
            <a:off x="6248520" y="3973680"/>
            <a:ext cx="24192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um alb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XwZTDVCZgItqI-P_A2eu0d0Iu1wQohwV65cxhMQbd79LYuqKD"/>
          <p:cNvPicPr/>
          <p:nvPr/>
        </p:nvPicPr>
        <p:blipFill>
          <a:blip r:embed="rId1"/>
          <a:stretch/>
        </p:blipFill>
        <p:spPr>
          <a:xfrm>
            <a:off x="1066680" y="1676520"/>
            <a:ext cx="3353040" cy="2511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SgzbmLpdp-12xhNktQN_A0HeL2zGn_RsLgzF6oQh1vmM2xKoE0xQ"/>
          <p:cNvPicPr/>
          <p:nvPr/>
        </p:nvPicPr>
        <p:blipFill>
          <a:blip r:embed="rId2"/>
          <a:stretch/>
        </p:blipFill>
        <p:spPr>
          <a:xfrm>
            <a:off x="4724280" y="3048120"/>
            <a:ext cx="3130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asbe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TdLy7UeFMGzFqj18_n5BVRBKpldjtv9bIVMw28wGtnTJM2ZUQQ"/>
          <p:cNvPicPr/>
          <p:nvPr/>
        </p:nvPicPr>
        <p:blipFill>
          <a:blip r:embed="rId1"/>
          <a:stretch/>
        </p:blipFill>
        <p:spPr>
          <a:xfrm>
            <a:off x="6629400" y="609480"/>
            <a:ext cx="1609560" cy="28386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linaria%20vulgaris-vlasbekje-06"/>
          <p:cNvPicPr/>
          <p:nvPr/>
        </p:nvPicPr>
        <p:blipFill>
          <a:blip r:embed="rId2"/>
          <a:stretch/>
        </p:blipFill>
        <p:spPr>
          <a:xfrm>
            <a:off x="5715000" y="411480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ANd9GcRofTanP2S2-v32y23PmOVu19NQMf5-XZXvpIsPEca9cbpAxYZkDg"/>
          <p:cNvPicPr/>
          <p:nvPr/>
        </p:nvPicPr>
        <p:blipFill>
          <a:blip r:embed="rId3"/>
          <a:stretch/>
        </p:blipFill>
        <p:spPr>
          <a:xfrm>
            <a:off x="1219320" y="419112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ANd9GcTAKCK3g9rOK8rrfxisA5fG-RQBp5Hfb2Suk1Q3ks7fCLaPskC1"/>
          <p:cNvPicPr/>
          <p:nvPr/>
        </p:nvPicPr>
        <p:blipFill>
          <a:blip r:embed="rId4"/>
          <a:stretch/>
        </p:blipFill>
        <p:spPr>
          <a:xfrm>
            <a:off x="1219320" y="121932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tus corniculatus subsp. cornicul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rol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ANd9GcS5GBRnCUpWKpmh5SjOuOL4nazDQBCj37WG6SGynkxVMgKaR1wxJQ"/>
          <p:cNvPicPr/>
          <p:nvPr/>
        </p:nvPicPr>
        <p:blipFill>
          <a:blip r:embed="rId1"/>
          <a:stretch/>
        </p:blipFill>
        <p:spPr>
          <a:xfrm>
            <a:off x="6324480" y="3886200"/>
            <a:ext cx="21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ANd9GcSHLB9ORWf8GQlVxlCCknG9ybrPsFZYIvV4h0wSimcu353u9Byn"/>
          <p:cNvPicPr/>
          <p:nvPr/>
        </p:nvPicPr>
        <p:blipFill>
          <a:blip r:embed="rId2"/>
          <a:stretch/>
        </p:blipFill>
        <p:spPr>
          <a:xfrm>
            <a:off x="914400" y="213372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Nd9GcS_Zt9TjazlCxY8YnD4N1Jli3hIJCHianN61Lm3jWSPc5Eu6-acQQ"/>
          <p:cNvPicPr/>
          <p:nvPr/>
        </p:nvPicPr>
        <p:blipFill>
          <a:blip r:embed="rId3"/>
          <a:stretch/>
        </p:blipFill>
        <p:spPr>
          <a:xfrm>
            <a:off x="5943600" y="1600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chnis flos-cucul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oekoek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543480" y="2314440"/>
            <a:ext cx="20574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ANd9GcS5L7y8bLejen0XfPNGuLyLukAJLUWKI2DzbAL8U0cp6HIP7AWH"/>
          <p:cNvPicPr/>
          <p:nvPr/>
        </p:nvPicPr>
        <p:blipFill>
          <a:blip r:embed="rId1"/>
          <a:stretch/>
        </p:blipFill>
        <p:spPr>
          <a:xfrm>
            <a:off x="914400" y="2133720"/>
            <a:ext cx="4343400" cy="325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d9GcRU857ML2NFltkTj26icVX5He32EC_NFrtuIaMP8w37Funi_UlYXg"/>
          <p:cNvPicPr/>
          <p:nvPr/>
        </p:nvPicPr>
        <p:blipFill>
          <a:blip r:embed="rId2"/>
          <a:stretch/>
        </p:blipFill>
        <p:spPr>
          <a:xfrm>
            <a:off x="6858000" y="9907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QUOsfhyXU-xkZlh9F5U2VKXxGrSaHKZJXAbs7q__j2QPzsbsJp1g"/>
          <p:cNvPicPr/>
          <p:nvPr/>
        </p:nvPicPr>
        <p:blipFill>
          <a:blip r:embed="rId3"/>
          <a:stretch/>
        </p:blipFill>
        <p:spPr>
          <a:xfrm>
            <a:off x="5715000" y="407664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ythrum salic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kattest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RhSs2sjYXHBBmG1dkKkCJ7KgLNwTe8IR9XU6O9EaMVmD2ZS_h4"/>
          <p:cNvPicPr/>
          <p:nvPr/>
        </p:nvPicPr>
        <p:blipFill>
          <a:blip r:embed="rId1"/>
          <a:stretch/>
        </p:blipFill>
        <p:spPr>
          <a:xfrm>
            <a:off x="4876920" y="380988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CjKubsjEQ-NX3ley9ec6LHwIVluoa_xuJRMA3fYw_Hc5A-gVP"/>
          <p:cNvPicPr/>
          <p:nvPr/>
        </p:nvPicPr>
        <p:blipFill>
          <a:blip r:embed="rId2"/>
          <a:stretch/>
        </p:blipFill>
        <p:spPr>
          <a:xfrm>
            <a:off x="5867280" y="15238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RqLsz1pbP4Nu_Uu799-UFMauftJJJdmVOdlFN25WNiU1KSISLxeg"/>
          <p:cNvPicPr/>
          <p:nvPr/>
        </p:nvPicPr>
        <p:blipFill>
          <a:blip r:embed="rId3"/>
          <a:stretch/>
        </p:blipFill>
        <p:spPr>
          <a:xfrm>
            <a:off x="1295280" y="1676520"/>
            <a:ext cx="30718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tricaria recu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matricaria%20recutita-echte%20kamille-03"/>
          <p:cNvPicPr/>
          <p:nvPr/>
        </p:nvPicPr>
        <p:blipFill>
          <a:blip r:embed="rId1"/>
          <a:stretch/>
        </p:blipFill>
        <p:spPr>
          <a:xfrm>
            <a:off x="4648320" y="38862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0"/>
          <p:cNvSpPr/>
          <p:nvPr/>
        </p:nvSpPr>
        <p:spPr>
          <a:xfrm>
            <a:off x="3595680" y="2257560"/>
            <a:ext cx="195264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ANd9GcQZ2VktyujTUDRJeRZK0KSeW0Z8298R9BsyCo4FA0b1es-BH0gn&amp;t=1"/>
          <p:cNvPicPr/>
          <p:nvPr/>
        </p:nvPicPr>
        <p:blipFill>
          <a:blip r:embed="rId2"/>
          <a:stretch/>
        </p:blipFill>
        <p:spPr>
          <a:xfrm>
            <a:off x="1828800" y="1981080"/>
            <a:ext cx="254016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ANd9GcR7HloxYRV6W2kkmJfI3iAHoeRs02Uda9nzoj4yuO45TNKgPlUPeQ"/>
          <p:cNvPicPr/>
          <p:nvPr/>
        </p:nvPicPr>
        <p:blipFill>
          <a:blip r:embed="rId3"/>
          <a:stretch/>
        </p:blipFill>
        <p:spPr>
          <a:xfrm>
            <a:off x="5867280" y="1676520"/>
            <a:ext cx="1676520" cy="146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apaver rhoe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klap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G8NMsHOcYlwe4xH31g6RoTV6oAeC6s430n7n0B22udvCGwmh5"/>
          <p:cNvPicPr/>
          <p:nvPr/>
        </p:nvPicPr>
        <p:blipFill>
          <a:blip r:embed="rId1"/>
          <a:stretch/>
        </p:blipFill>
        <p:spPr>
          <a:xfrm>
            <a:off x="6800760" y="3809880"/>
            <a:ext cx="147636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papaver-rhoeas_3"/>
          <p:cNvPicPr/>
          <p:nvPr/>
        </p:nvPicPr>
        <p:blipFill>
          <a:blip r:embed="rId2"/>
          <a:stretch/>
        </p:blipFill>
        <p:spPr>
          <a:xfrm>
            <a:off x="5257800" y="1600200"/>
            <a:ext cx="3019320" cy="201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ANd9GcRs5oFEWtxeyYOg8Xm78rZxv2-4r8xKu7jZK_WNExlldLatcs9yow"/>
          <p:cNvPicPr/>
          <p:nvPr/>
        </p:nvPicPr>
        <p:blipFill>
          <a:blip r:embed="rId3"/>
          <a:stretch/>
        </p:blipFill>
        <p:spPr>
          <a:xfrm>
            <a:off x="1066680" y="1600200"/>
            <a:ext cx="2664000" cy="449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ANd9GcRodzu7lOCYr0z2grEGK7-jywAAnL6YPhZ6rqMr-l7nd7-15OXN_w"/>
          <p:cNvPicPr/>
          <p:nvPr/>
        </p:nvPicPr>
        <p:blipFill>
          <a:blip r:embed="rId4"/>
          <a:stretch/>
        </p:blipFill>
        <p:spPr>
          <a:xfrm>
            <a:off x="3962520" y="415296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gopodium podagrar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aegopodium_podagraria"/>
          <p:cNvPicPr/>
          <p:nvPr/>
        </p:nvPicPr>
        <p:blipFill>
          <a:blip r:embed="rId1"/>
          <a:stretch/>
        </p:blipFill>
        <p:spPr>
          <a:xfrm>
            <a:off x="5486400" y="3809880"/>
            <a:ext cx="2562120" cy="256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SQ2k9b2jHDVQJl7o6wMmfkO9Y2l8VXiK68JRKBt_zuIbTMys19Wg"/>
          <p:cNvPicPr/>
          <p:nvPr/>
        </p:nvPicPr>
        <p:blipFill>
          <a:blip r:embed="rId2"/>
          <a:stretch/>
        </p:blipFill>
        <p:spPr>
          <a:xfrm>
            <a:off x="5486400" y="16956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ANd9GcT9jqFSoAj7Oy_7rbT51pExGbx8rhnoJGWJNASY7i9m79B1pghSgQ"/>
          <p:cNvPicPr/>
          <p:nvPr/>
        </p:nvPicPr>
        <p:blipFill>
          <a:blip r:embed="rId3"/>
          <a:stretch/>
        </p:blipFill>
        <p:spPr>
          <a:xfrm>
            <a:off x="1523880" y="1676520"/>
            <a:ext cx="361008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mphib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ANd9GcTAwlktpmY_d9NejUAmxb6IVXe9G5zA7M64YIly5J4xEnsqQ8deIw"/>
          <p:cNvPicPr/>
          <p:nvPr/>
        </p:nvPicPr>
        <p:blipFill>
          <a:blip r:embed="rId1"/>
          <a:stretch/>
        </p:blipFill>
        <p:spPr>
          <a:xfrm>
            <a:off x="57150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ANd9GcRT0tfj6lURyUIL1xLMU4YT7mutU2M03JScPnT11FqkYlHW_FiHHQ"/>
          <p:cNvPicPr/>
          <p:nvPr/>
        </p:nvPicPr>
        <p:blipFill>
          <a:blip r:embed="rId2"/>
          <a:stretch/>
        </p:blipFill>
        <p:spPr>
          <a:xfrm>
            <a:off x="6095880" y="40384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ANd9GcSMMzkjziT2t0bHtLkixtBKRS_Hdsxa7OTzN6l_e_0FHRjwWj5-gw"/>
          <p:cNvPicPr/>
          <p:nvPr/>
        </p:nvPicPr>
        <p:blipFill>
          <a:blip r:embed="rId3"/>
          <a:stretch/>
        </p:blipFill>
        <p:spPr>
          <a:xfrm>
            <a:off x="1219320" y="243828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asites hybri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ANd9GcTCdcbnSe5dyaljfNtg2jt-E200cdcJx5eZaZNIdO6miI08INKJ"/>
          <p:cNvPicPr/>
          <p:nvPr/>
        </p:nvPicPr>
        <p:blipFill>
          <a:blip r:embed="rId1"/>
          <a:stretch/>
        </p:blipFill>
        <p:spPr>
          <a:xfrm>
            <a:off x="556272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ANd9GcRIjTgQzk3We4LReng2X3FZeQgOmb-yqNSajq89b8iDBE7lrLJtL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ANd9GcT4LhwHZmXNS2hCWhni1-LFo51ZJmV16R1Vx8D0Pd6ocv0NhLFtpg"/>
          <p:cNvPicPr/>
          <p:nvPr/>
        </p:nvPicPr>
        <p:blipFill>
          <a:blip r:embed="rId3"/>
          <a:stretch/>
        </p:blipFill>
        <p:spPr>
          <a:xfrm>
            <a:off x="36576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SR3_hSbenWZ7Zi1uHLRLfEw-ecdSU_Jp9KZUqdnDUXt6OuxaYzZg"/>
          <p:cNvPicPr/>
          <p:nvPr/>
        </p:nvPicPr>
        <p:blipFill>
          <a:blip r:embed="rId4"/>
          <a:stretch/>
        </p:blipFill>
        <p:spPr>
          <a:xfrm>
            <a:off x="838080" y="1676520"/>
            <a:ext cx="2708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lance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Nd9GcQICVzoXzaJORXAoWAkPQJQUCHjdGAuU-BkVAnAJ1cvGdRUIbfKsQ"/>
          <p:cNvPicPr/>
          <p:nvPr/>
        </p:nvPicPr>
        <p:blipFill>
          <a:blip r:embed="rId1"/>
          <a:stretch/>
        </p:blipFill>
        <p:spPr>
          <a:xfrm>
            <a:off x="5562720" y="175248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ANd9GcTOFz05TogHWMKmlQw0qoclgvAzcp2qolP05nwt77KbnX1pIFR3"/>
          <p:cNvPicPr/>
          <p:nvPr/>
        </p:nvPicPr>
        <p:blipFill>
          <a:blip r:embed="rId2"/>
          <a:stretch/>
        </p:blipFill>
        <p:spPr>
          <a:xfrm>
            <a:off x="632448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ANd9GcTkH7uRcNyUYG9DpPoW2rp2YgFVEyAdMME9Ka23a6IiITSaDboRvg"/>
          <p:cNvPicPr/>
          <p:nvPr/>
        </p:nvPicPr>
        <p:blipFill>
          <a:blip r:embed="rId3"/>
          <a:stretch/>
        </p:blipFill>
        <p:spPr>
          <a:xfrm>
            <a:off x="1371600" y="175248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ntago maj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Plantago"/>
          <p:cNvPicPr/>
          <p:nvPr/>
        </p:nvPicPr>
        <p:blipFill>
          <a:blip r:embed="rId1"/>
          <a:stretch/>
        </p:blipFill>
        <p:spPr>
          <a:xfrm>
            <a:off x="5257800" y="266688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ANd9GcR06iHuUJK8SCk_kxr2cuRHM2vDM54vZwJzFUfUK81X_3dCCsdSXQ"/>
          <p:cNvPicPr/>
          <p:nvPr/>
        </p:nvPicPr>
        <p:blipFill>
          <a:blip r:embed="rId2"/>
          <a:stretch/>
        </p:blipFill>
        <p:spPr>
          <a:xfrm>
            <a:off x="1219320" y="1752480"/>
            <a:ext cx="37605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atg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Nd9GcS8q6pxjSaQLnpwOoI8oCdIy1_K-rbafpZC9ganTnVtmk-SBPDU"/>
          <p:cNvPicPr/>
          <p:nvPr/>
        </p:nvPicPr>
        <p:blipFill>
          <a:blip r:embed="rId1"/>
          <a:stretch/>
        </p:blipFill>
        <p:spPr>
          <a:xfrm>
            <a:off x="4800600" y="2971800"/>
            <a:ext cx="3733920" cy="2475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ANd9GcQi6Gxichk7qc8knKufBVHEHWEGGtTUH5CZsNCM_MJoLUlnVB62mw"/>
          <p:cNvPicPr/>
          <p:nvPr/>
        </p:nvPicPr>
        <p:blipFill>
          <a:blip r:embed="rId2"/>
          <a:stretch/>
        </p:blipFill>
        <p:spPr>
          <a:xfrm>
            <a:off x="1066680" y="1752480"/>
            <a:ext cx="358164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anunculus ac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bote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ANd9GcQjzsKGuWoqqKmDNhtf9NucADsHUYgbvq2om8wyTDJZbHy8UGeNRQ"/>
          <p:cNvPicPr/>
          <p:nvPr/>
        </p:nvPicPr>
        <p:blipFill>
          <a:blip r:embed="rId1"/>
          <a:stretch/>
        </p:blipFill>
        <p:spPr>
          <a:xfrm>
            <a:off x="3124080" y="428616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ANd9GcR3ciINPHSc2IG_yt6wU8Jik4438o2-LVCR2HdmkQjJjuwRkg99QA"/>
          <p:cNvPicPr/>
          <p:nvPr/>
        </p:nvPicPr>
        <p:blipFill>
          <a:blip r:embed="rId2"/>
          <a:stretch/>
        </p:blipFill>
        <p:spPr>
          <a:xfrm>
            <a:off x="57913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Q8r8KMXtzPXaLXCh7OmaKoVWxXueSnzGb6o5u5ttzFzjex3e76kw"/>
          <p:cNvPicPr/>
          <p:nvPr/>
        </p:nvPicPr>
        <p:blipFill>
          <a:blip r:embed="rId3"/>
          <a:stretch/>
        </p:blipFill>
        <p:spPr>
          <a:xfrm>
            <a:off x="5867280" y="4267080"/>
            <a:ext cx="2486160" cy="1955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Tvv7LGknxJfA0gRN0EqFnTvOm6amRKPlc2NW0aKUnSC1cuQlx_vw"/>
          <p:cNvPicPr/>
          <p:nvPr/>
        </p:nvPicPr>
        <p:blipFill>
          <a:blip r:embed="rId4"/>
          <a:stretch/>
        </p:blipFill>
        <p:spPr>
          <a:xfrm>
            <a:off x="838080" y="1447920"/>
            <a:ext cx="217980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acetoce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ape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076640" y="2766960"/>
            <a:ext cx="990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chapenzuring-kleiner"/>
          <p:cNvPicPr/>
          <p:nvPr/>
        </p:nvPicPr>
        <p:blipFill>
          <a:blip r:embed="rId1"/>
          <a:stretch/>
        </p:blipFill>
        <p:spPr>
          <a:xfrm>
            <a:off x="914400" y="114300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Nd9GcQEPSmPf_VadcnMNdC7QfPMv6m5k8HTqIKKU0Bin4OJEeXuBxsT"/>
          <p:cNvPicPr/>
          <p:nvPr/>
        </p:nvPicPr>
        <p:blipFill>
          <a:blip r:embed="rId2"/>
          <a:stretch/>
        </p:blipFill>
        <p:spPr>
          <a:xfrm>
            <a:off x="6400800" y="3886200"/>
            <a:ext cx="2090880" cy="2486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ANd9GcTmYCkmPLvQBix-haYW8YHiaDBjlLxEH8sXr26gkD8LEaRzQAynNw"/>
          <p:cNvPicPr/>
          <p:nvPr/>
        </p:nvPicPr>
        <p:blipFill>
          <a:blip r:embed="rId3"/>
          <a:stretch/>
        </p:blipFill>
        <p:spPr>
          <a:xfrm>
            <a:off x="3124080" y="1523880"/>
            <a:ext cx="3002040" cy="451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umex obtusifoli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Rumex_obtusifolius-ridderzuring02"/>
          <p:cNvPicPr/>
          <p:nvPr/>
        </p:nvPicPr>
        <p:blipFill>
          <a:blip r:embed="rId1"/>
          <a:stretch/>
        </p:blipFill>
        <p:spPr>
          <a:xfrm>
            <a:off x="8380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ANd9GcTiACbbFz1gEcFo5pr17B6o8uPiKat1kQrt98H39UXw2wvhagMd"/>
          <p:cNvPicPr/>
          <p:nvPr/>
        </p:nvPicPr>
        <p:blipFill>
          <a:blip r:embed="rId2"/>
          <a:stretch/>
        </p:blipFill>
        <p:spPr>
          <a:xfrm>
            <a:off x="2133720" y="41148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ANd9GcQbJFPHa6vxNBbjG5oB-dX8ay9IUB2pLbMSOc4JIfb1GZQJ3bJh9w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9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nchus olerace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melkdis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Nd9GcQ9XOi7nuDOu7lgc0M0BM_emgfEyU-Oo4PjaMwTCbh0VUZNm8Py6Q"/>
          <p:cNvPicPr/>
          <p:nvPr/>
        </p:nvPicPr>
        <p:blipFill>
          <a:blip r:embed="rId1"/>
          <a:stretch/>
        </p:blipFill>
        <p:spPr>
          <a:xfrm>
            <a:off x="518148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ANd9GcTix9ov1l2aLtpAeek6jM3fVe1Mmmc4ZhdPlvwCpyvZyxym7-D94w"/>
          <p:cNvPicPr/>
          <p:nvPr/>
        </p:nvPicPr>
        <p:blipFill>
          <a:blip r:embed="rId2"/>
          <a:stretch/>
        </p:blipFill>
        <p:spPr>
          <a:xfrm>
            <a:off x="6477120" y="1600200"/>
            <a:ext cx="1838160" cy="2486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Nd9GcR-CB_CiFKZxNOUUikbjyiT-gs-tasFcfy_COvyJZ6aMcjlcOID9A"/>
          <p:cNvPicPr/>
          <p:nvPr/>
        </p:nvPicPr>
        <p:blipFill>
          <a:blip r:embed="rId3"/>
          <a:stretch/>
        </p:blipFill>
        <p:spPr>
          <a:xfrm>
            <a:off x="838080" y="1523880"/>
            <a:ext cx="2038320" cy="2248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ANd9GcQmx_0T8DBy_TOwWXJhUbkpRLq1MDRdfZZ5XBn3NTOP_nlq9dtQ"/>
          <p:cNvPicPr/>
          <p:nvPr/>
        </p:nvPicPr>
        <p:blipFill>
          <a:blip r:embed="rId4"/>
          <a:stretch/>
        </p:blipFill>
        <p:spPr>
          <a:xfrm>
            <a:off x="3809880" y="160020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ANd9GcT1o2jY8f1HkKiaX44EaQdQTvFiXnlCSQk57-TYlcu6giOBsfOgyw"/>
          <p:cNvPicPr/>
          <p:nvPr/>
        </p:nvPicPr>
        <p:blipFill>
          <a:blip r:embed="rId5"/>
          <a:stretch/>
        </p:blipFill>
        <p:spPr>
          <a:xfrm>
            <a:off x="18288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tellaria med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Nd9GcQUNpQRmBjWb6WddkDfiaN8gN6MwqoH-zudYSpAvBTIpcC2cJjF1g"/>
          <p:cNvPicPr/>
          <p:nvPr/>
        </p:nvPicPr>
        <p:blipFill>
          <a:blip r:embed="rId1"/>
          <a:stretch/>
        </p:blipFill>
        <p:spPr>
          <a:xfrm>
            <a:off x="5791320" y="3962520"/>
            <a:ext cx="2238120" cy="20383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d9GcTG7gWaRK86vrKweGvg_Z-hwAvyZwDrYPdMTkhOMc-D8KVOjdRW"/>
          <p:cNvPicPr/>
          <p:nvPr/>
        </p:nvPicPr>
        <p:blipFill>
          <a:blip r:embed="rId2"/>
          <a:stretch/>
        </p:blipFill>
        <p:spPr>
          <a:xfrm>
            <a:off x="5486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ANd9GcT8lo0XUIuXPD2-VSDnRPX_sLM5-VT3-PT_uqFQDhlRf1OAwucMtg"/>
          <p:cNvPicPr/>
          <p:nvPr/>
        </p:nvPicPr>
        <p:blipFill>
          <a:blip r:embed="rId3"/>
          <a:stretch/>
        </p:blipFill>
        <p:spPr>
          <a:xfrm>
            <a:off x="1219320" y="236232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aria petio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ok zond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Nd9GcQlTT5s-x1fw4EzXWQrhKJEm59idxUZoulK6Yrdr1Wcs1fQsqZtaQ"/>
          <p:cNvPicPr/>
          <p:nvPr/>
        </p:nvPicPr>
        <p:blipFill>
          <a:blip r:embed="rId1"/>
          <a:stretch/>
        </p:blipFill>
        <p:spPr>
          <a:xfrm>
            <a:off x="5562720" y="3809880"/>
            <a:ext cx="2619360" cy="196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ANd9GcRE1K438_1ZGqDUoryB68MzUt5AkWbmHsHDLLbEwq-w5eqTIB3Z"/>
          <p:cNvPicPr/>
          <p:nvPr/>
        </p:nvPicPr>
        <p:blipFill>
          <a:blip r:embed="rId2"/>
          <a:stretch/>
        </p:blipFill>
        <p:spPr>
          <a:xfrm>
            <a:off x="5562720" y="18288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Qk7REOk-hLVX3Zpfbe_pwzDzHqL5BOzHGmVltZihLbeSWcZFfIMw"/>
          <p:cNvPicPr/>
          <p:nvPr/>
        </p:nvPicPr>
        <p:blipFill>
          <a:blip r:embed="rId3"/>
          <a:stretch/>
        </p:blipFill>
        <p:spPr>
          <a:xfrm>
            <a:off x="1295280" y="1828800"/>
            <a:ext cx="3436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ytum officinal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meer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ANd9GcThwJABaanMHigU29zlvrsjeVIROR6ldjRyHlVI6M6kSN2xBGZPbQ"/>
          <p:cNvPicPr/>
          <p:nvPr/>
        </p:nvPicPr>
        <p:blipFill>
          <a:blip r:embed="rId1"/>
          <a:stretch/>
        </p:blipFill>
        <p:spPr>
          <a:xfrm>
            <a:off x="5715000" y="36576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ANd9GcQfUYJgM2l9LMZr2fUFNVlThAK_wU48jXGkA-BfrBP1erCZ5ypQLw"/>
          <p:cNvPicPr/>
          <p:nvPr/>
        </p:nvPicPr>
        <p:blipFill>
          <a:blip r:embed="rId2"/>
          <a:stretch/>
        </p:blipFill>
        <p:spPr>
          <a:xfrm>
            <a:off x="1523880" y="1676520"/>
            <a:ext cx="3138480" cy="419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ANd9GcR0loNTCIw94ned9N4Sovo0Bl-uSifg6ZtmtsSg-AdcgJ9rcU_D"/>
          <p:cNvPicPr/>
          <p:nvPr/>
        </p:nvPicPr>
        <p:blipFill>
          <a:blip r:embed="rId3"/>
          <a:stretch/>
        </p:blipFill>
        <p:spPr>
          <a:xfrm>
            <a:off x="5181480" y="16765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nacet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worm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ANd9GcQZrT4ceWD68Pkz2zM616oK1uMmKHE_FIJtEl0oPJyOwIUfUghQ"/>
          <p:cNvPicPr/>
          <p:nvPr/>
        </p:nvPicPr>
        <p:blipFill>
          <a:blip r:embed="rId1"/>
          <a:stretch/>
        </p:blipFill>
        <p:spPr>
          <a:xfrm>
            <a:off x="5334120" y="1752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ANd9GcRaZCQeU2jdiMAEFy61D4S5rwWiDtlySUEOVIFqsyTAIKr5ekrymw"/>
          <p:cNvPicPr/>
          <p:nvPr/>
        </p:nvPicPr>
        <p:blipFill>
          <a:blip r:embed="rId2"/>
          <a:stretch/>
        </p:blipFill>
        <p:spPr>
          <a:xfrm>
            <a:off x="53341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ANd9GcTTw1f9I3VdE3PQ5GavecFRXqzghWPP2FHLBk5QoqO-h8LicAaSZg"/>
          <p:cNvPicPr/>
          <p:nvPr/>
        </p:nvPicPr>
        <p:blipFill>
          <a:blip r:embed="rId3"/>
          <a:stretch/>
        </p:blipFill>
        <p:spPr>
          <a:xfrm>
            <a:off x="1219320" y="2438280"/>
            <a:ext cx="39621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raxacum officinal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ANd9GcRDeJMoGctv6VfbAUQiVFgTFn6CnnY_1q9WbtGMMtyZzlJKPDddCQ"/>
          <p:cNvPicPr/>
          <p:nvPr/>
        </p:nvPicPr>
        <p:blipFill>
          <a:blip r:embed="rId1"/>
          <a:stretch/>
        </p:blipFill>
        <p:spPr>
          <a:xfrm>
            <a:off x="2514600" y="2133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ANd9GcQgxdOacR6Ozx7VGRRubH9rsMe8xepsEkGNL4NaXgDuyxQYMzBM"/>
          <p:cNvPicPr/>
          <p:nvPr/>
        </p:nvPicPr>
        <p:blipFill>
          <a:blip r:embed="rId2"/>
          <a:stretch/>
        </p:blipFill>
        <p:spPr>
          <a:xfrm>
            <a:off x="6095880" y="46483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ANd9GcRzyXum6ep3gGtz2XOsZgi3UzqHEPmb6Dy9DWOw-fbTBL5IAfczAQ"/>
          <p:cNvPicPr/>
          <p:nvPr/>
        </p:nvPicPr>
        <p:blipFill>
          <a:blip r:embed="rId3"/>
          <a:stretch/>
        </p:blipFill>
        <p:spPr>
          <a:xfrm>
            <a:off x="6172200" y="182880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ANd9GcRV5VC1vlEC1n1drB5nvj8g6aqva2FXQir12X_ICQek1yaVkPsJ3w"/>
          <p:cNvPicPr/>
          <p:nvPr/>
        </p:nvPicPr>
        <p:blipFill>
          <a:blip r:embed="rId4"/>
          <a:stretch/>
        </p:blipFill>
        <p:spPr>
          <a:xfrm>
            <a:off x="914400" y="2743200"/>
            <a:ext cx="12193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pratense 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ANd9GcTeFlBs3cmV1N1CVvgC1hKD3MYePhRvpip-sn32XXk2FBuI3BLC"/>
          <p:cNvPicPr/>
          <p:nvPr/>
        </p:nvPicPr>
        <p:blipFill>
          <a:blip r:embed="rId1"/>
          <a:stretch/>
        </p:blipFill>
        <p:spPr>
          <a:xfrm>
            <a:off x="6324480" y="3733920"/>
            <a:ext cx="1905120" cy="2228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Nd9GcTDGI1UiTlyK3W7Nw7ckDUGUzZRRQNuVLlzjzEnLKnVfBnVyOla_A"/>
          <p:cNvPicPr/>
          <p:nvPr/>
        </p:nvPicPr>
        <p:blipFill>
          <a:blip r:embed="rId2"/>
          <a:stretch/>
        </p:blipFill>
        <p:spPr>
          <a:xfrm>
            <a:off x="5562720" y="160020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ANd9GcTrRvdxqLSL4f_UNL2ba4s1Qy2WjFb72-R3lA8g5ygxtAdjhQjj"/>
          <p:cNvPicPr/>
          <p:nvPr/>
        </p:nvPicPr>
        <p:blipFill>
          <a:blip r:embed="rId3"/>
          <a:stretch/>
        </p:blipFill>
        <p:spPr>
          <a:xfrm>
            <a:off x="1066680" y="2286000"/>
            <a:ext cx="38862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ifolium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ANd9GcRZZPOqU4AyZanJv8r2PzS2cf34vTPeaHe7H-JlpuSrdSNNYkwv"/>
          <p:cNvPicPr/>
          <p:nvPr/>
        </p:nvPicPr>
        <p:blipFill>
          <a:blip r:embed="rId1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d9GcSwGAomStRCT2c6u5QOYfyYwgNYPgouSeMwWVaEjRPFWlUfNyob"/>
          <p:cNvPicPr/>
          <p:nvPr/>
        </p:nvPicPr>
        <p:blipFill>
          <a:blip r:embed="rId2"/>
          <a:stretch/>
        </p:blipFill>
        <p:spPr>
          <a:xfrm>
            <a:off x="59436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Nd9GcTINxajyi5jgzUUgaGxHQ2z8O9Rrm7bNc6CMUQI8hvTgrFpyTaT"/>
          <p:cNvPicPr/>
          <p:nvPr/>
        </p:nvPicPr>
        <p:blipFill>
          <a:blip r:embed="rId3"/>
          <a:stretch/>
        </p:blipFill>
        <p:spPr>
          <a:xfrm>
            <a:off x="990720" y="2133720"/>
            <a:ext cx="4419360" cy="3309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ssilago farf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 hoef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ANd9GcRPQ_ERlai4tdShgfoGGBXJEWx3NHvBZ2UB3D14dRqd7KhmlSTkEw"/>
          <p:cNvPicPr/>
          <p:nvPr/>
        </p:nvPicPr>
        <p:blipFill>
          <a:blip r:embed="rId1"/>
          <a:stretch/>
        </p:blipFill>
        <p:spPr>
          <a:xfrm>
            <a:off x="4800600" y="4343400"/>
            <a:ext cx="2781360" cy="1844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ANd9GcSIGPfmxHsdR6UQ4MT6lODlWfcJBAgZ2Y_HwXhSqOtjYxidecHyLw"/>
          <p:cNvPicPr/>
          <p:nvPr/>
        </p:nvPicPr>
        <p:blipFill>
          <a:blip r:embed="rId2"/>
          <a:stretch/>
        </p:blipFill>
        <p:spPr>
          <a:xfrm>
            <a:off x="1905120" y="41148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ANd9GcTe1DzdSq4qjzVUF0U_9VsrYsgXSQW5bwoFQILlBBH5GMjHKd1g"/>
          <p:cNvPicPr/>
          <p:nvPr/>
        </p:nvPicPr>
        <p:blipFill>
          <a:blip r:embed="rId3"/>
          <a:stretch/>
        </p:blipFill>
        <p:spPr>
          <a:xfrm>
            <a:off x="4724280" y="1752480"/>
            <a:ext cx="2743200" cy="2306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ANd9GcQruMe3Xxy8k3Y6P-dS_Cw76SbWXggXTDTifm9jHQoREvqOa2DqDQ"/>
          <p:cNvPicPr/>
          <p:nvPr/>
        </p:nvPicPr>
        <p:blipFill>
          <a:blip r:embed="rId4"/>
          <a:stretch/>
        </p:blipFill>
        <p:spPr>
          <a:xfrm>
            <a:off x="1905120" y="1752480"/>
            <a:ext cx="2438280" cy="223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rtica dio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ANd9GcQ6TR8pgZe5mpOglazXlym9AMLgoVrT3ONwBnQ1Vr5vu0NYZcLF"/>
          <p:cNvPicPr/>
          <p:nvPr/>
        </p:nvPicPr>
        <p:blipFill>
          <a:blip r:embed="rId1"/>
          <a:stretch/>
        </p:blipFill>
        <p:spPr>
          <a:xfrm>
            <a:off x="4495680" y="18288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ANd9GcQltvFzoIR3HCQlP-sqllSiJbAQTgztcAMRVypOi_EAo6KP60P7"/>
          <p:cNvPicPr/>
          <p:nvPr/>
        </p:nvPicPr>
        <p:blipFill>
          <a:blip r:embed="rId2"/>
          <a:stretch/>
        </p:blipFill>
        <p:spPr>
          <a:xfrm>
            <a:off x="4572000" y="39625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ANd9GcTk4_f-wvbGWy3eSiOn70xIkQ53xxtFExi2CcTDnHrSwdr1RY4l"/>
          <p:cNvPicPr/>
          <p:nvPr/>
        </p:nvPicPr>
        <p:blipFill>
          <a:blip r:embed="rId3"/>
          <a:stretch/>
        </p:blipFill>
        <p:spPr>
          <a:xfrm>
            <a:off x="1752480" y="44956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ANd9GcSJSMw8LLd-bSmTYYQ2LYoubDWxJ6feFpHwB-nSn0hOl26WIaiz"/>
          <p:cNvPicPr/>
          <p:nvPr/>
        </p:nvPicPr>
        <p:blipFill>
          <a:blip r:embed="rId4"/>
          <a:stretch/>
        </p:blipFill>
        <p:spPr>
          <a:xfrm>
            <a:off x="2438280" y="1676520"/>
            <a:ext cx="177192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onica filiform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derepr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ANd9GcTRUD0UzAcXsno-PvVOx28zXVDu9nraouPN_kC1DyTCTTTZqy5b"/>
          <p:cNvPicPr/>
          <p:nvPr/>
        </p:nvPicPr>
        <p:blipFill>
          <a:blip r:embed="rId1"/>
          <a:stretch/>
        </p:blipFill>
        <p:spPr>
          <a:xfrm>
            <a:off x="58672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ANd9GcTgyDnPdrRIyjb09X2b3-njUPT5y3rr990LT4hyHdxzGk63hiSfhw"/>
          <p:cNvPicPr/>
          <p:nvPr/>
        </p:nvPicPr>
        <p:blipFill>
          <a:blip r:embed="rId2"/>
          <a:stretch/>
        </p:blipFill>
        <p:spPr>
          <a:xfrm>
            <a:off x="57913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ANd9GcTyDzW9URChWjCPJw40Ado08kdV25URVFOuP-N1qiR-cYHNIl0x1g"/>
          <p:cNvPicPr/>
          <p:nvPr/>
        </p:nvPicPr>
        <p:blipFill>
          <a:blip r:embed="rId3"/>
          <a:stretch/>
        </p:blipFill>
        <p:spPr>
          <a:xfrm>
            <a:off x="990720" y="2209680"/>
            <a:ext cx="46479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cia crac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wik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ANd9GcRt9Sego9AtDD-fV1fIjEtmahLf60otItLuZKrj-BM2Cc0aO2cwMA"/>
          <p:cNvPicPr/>
          <p:nvPr/>
        </p:nvPicPr>
        <p:blipFill>
          <a:blip r:embed="rId1"/>
          <a:stretch/>
        </p:blipFill>
        <p:spPr>
          <a:xfrm>
            <a:off x="5486400" y="2286000"/>
            <a:ext cx="2660760" cy="3962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ANd9GcTBXsn8mVuC8LB0GTTXUOVj_aJCn8ytWWnIcOnoPqbPm5-qIbfn"/>
          <p:cNvPicPr/>
          <p:nvPr/>
        </p:nvPicPr>
        <p:blipFill>
          <a:blip r:embed="rId2"/>
          <a:stretch/>
        </p:blipFill>
        <p:spPr>
          <a:xfrm>
            <a:off x="1295280" y="1752480"/>
            <a:ext cx="4038840" cy="301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hrisc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luite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Nd9GcQAgjMRawIXMX78fLJZ7k7PrhlTxz_FpMgBu_Wm39qDL7VMpOhh"/>
          <p:cNvPicPr/>
          <p:nvPr/>
        </p:nvPicPr>
        <p:blipFill>
          <a:blip r:embed="rId1"/>
          <a:stretch/>
        </p:blipFill>
        <p:spPr>
          <a:xfrm>
            <a:off x="533412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ANd9GcSsw5uH8P5jBWCdWGpn5dRObU7Vi1bGnGy8X7d_qkYU8jHMpYcI"/>
          <p:cNvPicPr/>
          <p:nvPr/>
        </p:nvPicPr>
        <p:blipFill>
          <a:blip r:embed="rId2"/>
          <a:stretch/>
        </p:blipFill>
        <p:spPr>
          <a:xfrm>
            <a:off x="5334120" y="1828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Sfgi-4zLaiHb3IJZgzmzyRICcjro1nqhXsA3D-xjodt9eewpxyVg"/>
          <p:cNvPicPr/>
          <p:nvPr/>
        </p:nvPicPr>
        <p:blipFill>
          <a:blip r:embed="rId3"/>
          <a:stretch/>
        </p:blipFill>
        <p:spPr>
          <a:xfrm>
            <a:off x="1676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KhRwCqRUo5h-_ciqyEr5vGXaY7aLW0zUuK__455OKVffPGyYllA"/>
          <p:cNvPicPr/>
          <p:nvPr/>
        </p:nvPicPr>
        <p:blipFill>
          <a:blip r:embed="rId1"/>
          <a:stretch/>
        </p:blipFill>
        <p:spPr>
          <a:xfrm>
            <a:off x="457200" y="160020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Nd9GcTY7VZYbrtuwGluuy2bHe7zMywMBSbHZ-6ahTTPeihvF9uCGIueNQ"/>
          <p:cNvPicPr/>
          <p:nvPr/>
        </p:nvPicPr>
        <p:blipFill>
          <a:blip r:embed="rId2"/>
          <a:stretch/>
        </p:blipFill>
        <p:spPr>
          <a:xfrm>
            <a:off x="3886200" y="2819520"/>
            <a:ext cx="4648320" cy="321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ystegia sep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w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Nd9GcQPTnXckXnBD6x_fJDWlVfBAhbG_oW5qH0EEZxCCgmtWG9NDvgy"/>
          <p:cNvPicPr/>
          <p:nvPr/>
        </p:nvPicPr>
        <p:blipFill>
          <a:blip r:embed="rId1"/>
          <a:stretch/>
        </p:blipFill>
        <p:spPr>
          <a:xfrm>
            <a:off x="594360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Nd9GcSG_bE01nphP25e9-CJZRX29YvxvorqUk8j4Eyjtd75nKWGA3Dy"/>
          <p:cNvPicPr/>
          <p:nvPr/>
        </p:nvPicPr>
        <p:blipFill>
          <a:blip r:embed="rId2"/>
          <a:stretch/>
        </p:blipFill>
        <p:spPr>
          <a:xfrm>
            <a:off x="6248520" y="1295280"/>
            <a:ext cx="2076480" cy="27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eo-mic-Calystegia-sepium-152"/>
          <p:cNvPicPr/>
          <p:nvPr/>
        </p:nvPicPr>
        <p:blipFill>
          <a:blip r:embed="rId3"/>
          <a:stretch/>
        </p:blipFill>
        <p:spPr>
          <a:xfrm>
            <a:off x="1219320" y="1676520"/>
            <a:ext cx="3867120" cy="3857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psella bursa-pasto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ANd9GcTxOPd3_p7JXwq-sl2tqcB_AqmzTuCtNksrCaGieqNQvHHxFPXk"/>
          <p:cNvPicPr/>
          <p:nvPr/>
        </p:nvPicPr>
        <p:blipFill>
          <a:blip r:embed="rId1"/>
          <a:stretch/>
        </p:blipFill>
        <p:spPr>
          <a:xfrm>
            <a:off x="5943600" y="1371600"/>
            <a:ext cx="2381400" cy="191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ANd9GcSwrVXxPTmwAY42-2X5Upq1NSGNbD0rYnZsGNz6ZngB-en6rTNQVg"/>
          <p:cNvPicPr/>
          <p:nvPr/>
        </p:nvPicPr>
        <p:blipFill>
          <a:blip r:embed="rId2"/>
          <a:stretch/>
        </p:blipFill>
        <p:spPr>
          <a:xfrm>
            <a:off x="6477120" y="350532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d9GcRtVDiub_y57MndwuFWMWFn8nDXo75jF0FeA7AEv7rPgJZ2rFNZ"/>
          <p:cNvPicPr/>
          <p:nvPr/>
        </p:nvPicPr>
        <p:blipFill>
          <a:blip r:embed="rId3"/>
          <a:stretch/>
        </p:blipFill>
        <p:spPr>
          <a:xfrm>
            <a:off x="914400" y="1981080"/>
            <a:ext cx="4419720" cy="331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damine hirsu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veld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ANd9GcSle0B-MNEONuHbgl7Ok_rIvyE6nxPjIvlrb2pCTQqWbMurtFji"/>
          <p:cNvPicPr/>
          <p:nvPr/>
        </p:nvPicPr>
        <p:blipFill>
          <a:blip r:embed="rId1"/>
          <a:stretch/>
        </p:blipFill>
        <p:spPr>
          <a:xfrm>
            <a:off x="5715000" y="17524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Nd9GcTQOfZ7ssO28CJTIE7Haiek4LVUKJRT3cW0NgwhcKgRqq_8gfwN"/>
          <p:cNvPicPr/>
          <p:nvPr/>
        </p:nvPicPr>
        <p:blipFill>
          <a:blip r:embed="rId2"/>
          <a:stretch/>
        </p:blipFill>
        <p:spPr>
          <a:xfrm>
            <a:off x="640080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ANd9GcRBiFLz0MPnNq10CM87ePFuO8bZBJod1HUWOEvVWT_qcpEud2Je"/>
          <p:cNvPicPr/>
          <p:nvPr/>
        </p:nvPicPr>
        <p:blipFill>
          <a:blip r:embed="rId3"/>
          <a:stretch/>
        </p:blipFill>
        <p:spPr>
          <a:xfrm>
            <a:off x="1066680" y="2286000"/>
            <a:ext cx="4114800" cy="30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8:0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