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  <p:custShowLst>
    <p:custShow name="Aangepaste voorstelling 1" id="0">
      <p:sldLst>
        <p:sld r:id="rId5"/>
        <p:sld r:id="rId9"/>
        <p:sld r:id="rId11"/>
        <p:sld r:id="rId4"/>
        <p:sld r:id="rId12"/>
        <p:sld r:id="rId19"/>
        <p:sld r:id="rId15"/>
        <p:sld r:id="rId13"/>
        <p:sld r:id="rId22"/>
        <p:sld r:id="rId8"/>
      </p:sldLst>
    </p:custShow>
    <p:custShow name="Aangepaste voorstelling 2" id="1">
      <p:sldLst>
        <p:sld r:id="rId4"/>
        <p:sld r:id="rId6"/>
        <p:sld r:id="rId9"/>
        <p:sld r:id="rId13"/>
        <p:sld r:id="rId16"/>
        <p:sld r:id="rId23"/>
        <p:sld r:id="rId20"/>
        <p:sld r:id="rId17"/>
        <p:sld r:id="rId14"/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A71-DC64-4FBA-954B-3012DE25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553-EEAC-409B-B8D5-34220661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E026-9254-4FD1-A3C5-E5417202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BA8-1E4D-4CDF-AEC7-EA4B88F7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3143-1E09-495F-A638-A3ACF7B6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799-D784-41E2-9F8A-065BEEB1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7C3-7AAC-44A6-B6D5-86DBF5F0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7924-8447-43F7-9E17-5EA74304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FB88-37F4-4437-9A0E-60D66C7D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A71-53C0-4CAA-AD14-0FE73117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6BE-2003-423C-9148-10BF3F10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8291-865D-4300-B2E3-6D004064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E599-70AE-4AB4-98E7-2EAB4377389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verliezende he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plants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gustrum vulgar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lig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ANd9GcQ69QHtjui_wjntdxDbn1xEkmyvpSyhRa-U_gp1iV25tffCBHIdjw"/>
          <p:cNvPicPr/>
          <p:nvPr/>
        </p:nvPicPr>
        <p:blipFill>
          <a:blip r:embed="rId1"/>
          <a:stretch/>
        </p:blipFill>
        <p:spPr>
          <a:xfrm>
            <a:off x="468360" y="2060640"/>
            <a:ext cx="2104920" cy="2171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ANd9GcSgCehBBVvxn6SA51APHZ3cXewosrKbcpiH19gCuT9YJ8kkFd19"/>
          <p:cNvPicPr/>
          <p:nvPr/>
        </p:nvPicPr>
        <p:blipFill>
          <a:blip r:embed="rId2"/>
          <a:stretch/>
        </p:blipFill>
        <p:spPr>
          <a:xfrm>
            <a:off x="6227640" y="2060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ANd9GcRSgDE6raoqdDVCz4EoBSykisR9O9PTus_RGddsdHfidvhv8tHRfg"/>
          <p:cNvPicPr/>
          <p:nvPr/>
        </p:nvPicPr>
        <p:blipFill>
          <a:blip r:embed="rId3"/>
          <a:stretch/>
        </p:blipFill>
        <p:spPr>
          <a:xfrm>
            <a:off x="2987640" y="206064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ANd9GcSBVLQHQ8KFI3K7lnyDlBUyj1cfr4JbJ-tORciqCwDGYsG7U7kjbA"/>
          <p:cNvPicPr/>
          <p:nvPr/>
        </p:nvPicPr>
        <p:blipFill>
          <a:blip r:embed="rId4"/>
          <a:stretch/>
        </p:blipFill>
        <p:spPr>
          <a:xfrm>
            <a:off x="3203640" y="40053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pad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vogel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ANd9GcSwbeUM0S2li-85TxfcIY24qRhcGeZ4p-a1xbpLG-fV1xm9xxJMjg"/>
          <p:cNvPicPr/>
          <p:nvPr/>
        </p:nvPicPr>
        <p:blipFill>
          <a:blip r:embed="rId1"/>
          <a:stretch/>
        </p:blipFill>
        <p:spPr>
          <a:xfrm>
            <a:off x="468360" y="1989000"/>
            <a:ext cx="259092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ANd9GcR7xHCZ1XxdKZhbZverPWqdhmWicvYULMWWfCa3qrN3vXjwVCZd"/>
          <p:cNvPicPr/>
          <p:nvPr/>
        </p:nvPicPr>
        <p:blipFill>
          <a:blip r:embed="rId2"/>
          <a:stretch/>
        </p:blipFill>
        <p:spPr>
          <a:xfrm>
            <a:off x="6156360" y="1989000"/>
            <a:ext cx="2525760" cy="2311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ANd9GcTMqZ1YxXzP9R8uZziAcveHQnsIO3NUqqT-BtW4rpipDknNeAT6"/>
          <p:cNvPicPr/>
          <p:nvPr/>
        </p:nvPicPr>
        <p:blipFill>
          <a:blip r:embed="rId3"/>
          <a:stretch/>
        </p:blipFill>
        <p:spPr>
          <a:xfrm>
            <a:off x="3203640" y="4037040"/>
            <a:ext cx="2808360" cy="2103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seroti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erikaanse vogel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ANd9GcTxVL3lMPMdbR3oixnQE5MnI3fOO0dJpOAnvaEfsPc_ZnNb4WFr-Q"/>
          <p:cNvPicPr/>
          <p:nvPr/>
        </p:nvPicPr>
        <p:blipFill>
          <a:blip r:embed="rId1"/>
          <a:stretch/>
        </p:blipFill>
        <p:spPr>
          <a:xfrm>
            <a:off x="468360" y="364500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Nd9GcRtLSSIYKiICpNAqB-OH5SeesJ9RQPLN1R7h1y7_Kt7J5FrtVrJxQ"/>
          <p:cNvPicPr/>
          <p:nvPr/>
        </p:nvPicPr>
        <p:blipFill>
          <a:blip r:embed="rId2"/>
          <a:stretch/>
        </p:blipFill>
        <p:spPr>
          <a:xfrm>
            <a:off x="3203640" y="1916280"/>
            <a:ext cx="3128760" cy="417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ANd9GcTBAsMYQ3uLG8ZkelASrwg-Drg-IJBpNBDhPIttVPItjOuIITU9"/>
          <p:cNvPicPr/>
          <p:nvPr/>
        </p:nvPicPr>
        <p:blipFill>
          <a:blip r:embed="rId3"/>
          <a:stretch/>
        </p:blipFill>
        <p:spPr>
          <a:xfrm>
            <a:off x="6948360" y="350028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spinos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ANd9GcSNio21QIIWTvTxq5QpJfq0hK9cpn-4RFrAnXqBFTBxGxY3pM-Z"/>
          <p:cNvPicPr/>
          <p:nvPr/>
        </p:nvPicPr>
        <p:blipFill>
          <a:blip r:embed="rId1"/>
          <a:stretch/>
        </p:blipFill>
        <p:spPr>
          <a:xfrm>
            <a:off x="468360" y="3768840"/>
            <a:ext cx="3166920" cy="2371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ANd9GcRUkVRYNU2txsn0I8_PpEMxCyQITj9SYAoTWVpDSc_zURqbORG76w"/>
          <p:cNvPicPr/>
          <p:nvPr/>
        </p:nvPicPr>
        <p:blipFill>
          <a:blip r:embed="rId2"/>
          <a:stretch/>
        </p:blipFill>
        <p:spPr>
          <a:xfrm>
            <a:off x="6300720" y="3718080"/>
            <a:ext cx="2408400" cy="240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ANd9GcQcYmkR7fcRuma7SSggge8Vo1xKY5tQXSFre9iP-z0t6VVeRRM0"/>
          <p:cNvPicPr/>
          <p:nvPr/>
        </p:nvPicPr>
        <p:blipFill>
          <a:blip r:embed="rId3"/>
          <a:stretch/>
        </p:blipFill>
        <p:spPr>
          <a:xfrm>
            <a:off x="3635280" y="1989000"/>
            <a:ext cx="2665440" cy="1997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sa cani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nds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ANd9GcQF27jBllDV9QDsNC0AVCh8EkRQAyaVDWIaY-4xYY3D9ud-m1xucA"/>
          <p:cNvPicPr/>
          <p:nvPr/>
        </p:nvPicPr>
        <p:blipFill>
          <a:blip r:embed="rId1"/>
          <a:stretch/>
        </p:blipFill>
        <p:spPr>
          <a:xfrm>
            <a:off x="2916360" y="2060640"/>
            <a:ext cx="3024000" cy="2255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ANd9GcQ30iVgAIfjz0sY1D4sCEWM-ym9wBovG5T5Q2PkaRRZqn0UbRy_Vg"/>
          <p:cNvPicPr/>
          <p:nvPr/>
        </p:nvPicPr>
        <p:blipFill>
          <a:blip r:embed="rId2"/>
          <a:stretch/>
        </p:blipFill>
        <p:spPr>
          <a:xfrm>
            <a:off x="468360" y="3860640"/>
            <a:ext cx="2047680" cy="2238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ANd9GcTnflFaynmXgWh4iDMLZisdrSNIvbtuZbVu8eifkq5z2COZFkin"/>
          <p:cNvPicPr/>
          <p:nvPr/>
        </p:nvPicPr>
        <p:blipFill>
          <a:blip r:embed="rId3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sa multiflo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bloemige 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ANd9GcQTVBJcdldl1jGjTC6peqlkTC7LM7zxOwV_Wv0hDUum1WEQYuwO"/>
          <p:cNvPicPr/>
          <p:nvPr/>
        </p:nvPicPr>
        <p:blipFill>
          <a:blip r:embed="rId1"/>
          <a:stretch/>
        </p:blipFill>
        <p:spPr>
          <a:xfrm>
            <a:off x="2124000" y="4302000"/>
            <a:ext cx="2664000" cy="1835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ANd9GcS7iFShFODPIJKW-FLIDcvJeKc5eVqX4YZmWSPDB0ZK6ss6NvYW"/>
          <p:cNvPicPr/>
          <p:nvPr/>
        </p:nvPicPr>
        <p:blipFill>
          <a:blip r:embed="rId2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ANd9GcT_4JYoLq2foLkuP0tsJuau3Mv1Dv1yhA4UebvID2700VWLcfGn"/>
          <p:cNvPicPr/>
          <p:nvPr/>
        </p:nvPicPr>
        <p:blipFill>
          <a:blip r:embed="rId3"/>
          <a:stretch/>
        </p:blipFill>
        <p:spPr>
          <a:xfrm>
            <a:off x="4284720" y="2060640"/>
            <a:ext cx="3025800" cy="226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ANd9GcSrXnr0mv1yryljaZv6FhdXjTm7BWlEofJBVytHSUODKqdgyyXA"/>
          <p:cNvPicPr/>
          <p:nvPr/>
        </p:nvPicPr>
        <p:blipFill>
          <a:blip r:embed="rId4"/>
          <a:stretch/>
        </p:blipFill>
        <p:spPr>
          <a:xfrm>
            <a:off x="468360" y="2060640"/>
            <a:ext cx="2600280" cy="1762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sa rugos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bottel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ANd9GcRADYUSbNxCLMa8PIVZONKbv_h3LH9FhRL1M9lfANuEtVNN9tbc"/>
          <p:cNvPicPr/>
          <p:nvPr/>
        </p:nvPicPr>
        <p:blipFill>
          <a:blip r:embed="rId1"/>
          <a:stretch/>
        </p:blipFill>
        <p:spPr>
          <a:xfrm>
            <a:off x="2843280" y="2060640"/>
            <a:ext cx="3529080" cy="2347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ANd9GcSy61R-OUK0CkfIRs9MHus18v5L638vsVQV4QQjdgEpzwPn5Hua"/>
          <p:cNvPicPr/>
          <p:nvPr/>
        </p:nvPicPr>
        <p:blipFill>
          <a:blip r:embed="rId2"/>
          <a:stretch/>
        </p:blipFill>
        <p:spPr>
          <a:xfrm>
            <a:off x="468360" y="3933720"/>
            <a:ext cx="2085840" cy="219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ANd9GcTF07c_tGvQF4O5Vqy1W2GDauvLHgsRIqOPivoVLWyMGJNXwAMnpQ"/>
          <p:cNvPicPr/>
          <p:nvPr/>
        </p:nvPicPr>
        <p:blipFill>
          <a:blip r:embed="rId3"/>
          <a:stretch/>
        </p:blipFill>
        <p:spPr>
          <a:xfrm>
            <a:off x="6877080" y="3573360"/>
            <a:ext cx="1800360" cy="2543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cap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ANd9GcSUJnEil5EiKroeUcr0yInHFlUhnwOacntQTJUozi4NyV1yewSo9A"/>
          <p:cNvPicPr/>
          <p:nvPr/>
        </p:nvPicPr>
        <p:blipFill>
          <a:blip r:embed="rId1"/>
          <a:stretch/>
        </p:blipFill>
        <p:spPr>
          <a:xfrm>
            <a:off x="3564000" y="2060640"/>
            <a:ext cx="2757600" cy="410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ANd9GcRUt_p1i_ziRiThovzObkuFV04A8R5Lxt4zwUbN-FEefUcwOiLXXA"/>
          <p:cNvPicPr/>
          <p:nvPr/>
        </p:nvPicPr>
        <p:blipFill>
          <a:blip r:embed="rId2"/>
          <a:stretch/>
        </p:blipFill>
        <p:spPr>
          <a:xfrm>
            <a:off x="468360" y="3357720"/>
            <a:ext cx="2324160" cy="1971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ANd9GcSzPa4u_1AUCEg5hWGejyA2HH_mbWnF1-L8nKCJhnFRF2JN4vqA9g"/>
          <p:cNvPicPr/>
          <p:nvPr/>
        </p:nvPicPr>
        <p:blipFill>
          <a:blip r:embed="rId3"/>
          <a:stretch/>
        </p:blipFill>
        <p:spPr>
          <a:xfrm>
            <a:off x="6804000" y="292428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cine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uwe 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ANd9GcS7txpQnXF0v0enj98MRp_DCpfvMsicAP6Sm78m6pgbY5JHUkTVTA"/>
          <p:cNvPicPr/>
          <p:nvPr/>
        </p:nvPicPr>
        <p:blipFill>
          <a:blip r:embed="rId1"/>
          <a:stretch/>
        </p:blipFill>
        <p:spPr>
          <a:xfrm>
            <a:off x="468360" y="4054320"/>
            <a:ext cx="2808360" cy="2076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ANd9GcQPWo47KsTsm2i11wQFOETRYBArodQHFBUhyuwdfphSYqe5Bk4rYw"/>
          <p:cNvPicPr/>
          <p:nvPr/>
        </p:nvPicPr>
        <p:blipFill>
          <a:blip r:embed="rId2"/>
          <a:stretch/>
        </p:blipFill>
        <p:spPr>
          <a:xfrm>
            <a:off x="4859280" y="4008600"/>
            <a:ext cx="2376720" cy="2112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ANd9GcRKvT7n5pIuK94GEj5aMUhvEohwZ6FpwDpHn1DhPGbAGxE9rMRj"/>
          <p:cNvPicPr/>
          <p:nvPr/>
        </p:nvPicPr>
        <p:blipFill>
          <a:blip r:embed="rId3"/>
          <a:stretch/>
        </p:blipFill>
        <p:spPr>
          <a:xfrm>
            <a:off x="2484360" y="1916280"/>
            <a:ext cx="2808360" cy="210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ANd9GcSjBJ-WHvpO8MHAUQP7Yw85cECtV12NAX5IaDlt0UwtSPI_MDf9Ig"/>
          <p:cNvPicPr/>
          <p:nvPr/>
        </p:nvPicPr>
        <p:blipFill>
          <a:blip r:embed="rId4"/>
          <a:stretch/>
        </p:blipFill>
        <p:spPr>
          <a:xfrm>
            <a:off x="6012000" y="1916280"/>
            <a:ext cx="268920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rep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uip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ANd9GcRrWizUcvcqTyuBZI9UBy7gQuk_BcEBSiZ_TcuJ4td48CaaErfx"/>
          <p:cNvPicPr/>
          <p:nvPr/>
        </p:nvPicPr>
        <p:blipFill>
          <a:blip r:embed="rId1"/>
          <a:stretch/>
        </p:blipFill>
        <p:spPr>
          <a:xfrm>
            <a:off x="468360" y="1916280"/>
            <a:ext cx="2467080" cy="1847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ANd9GcSKI0n4Z-tA62UXKXc0mWQ312s8E85FbqTNm3eFasMHEDqkuEfiiQ"/>
          <p:cNvPicPr/>
          <p:nvPr/>
        </p:nvPicPr>
        <p:blipFill>
          <a:blip r:embed="rId2"/>
          <a:stretch/>
        </p:blipFill>
        <p:spPr>
          <a:xfrm>
            <a:off x="6516720" y="1916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ANd9GcQuhSrVvpVkDIDQhWdP9EhnVNIxRyuo-YnybUjEaXNSp-RUf_0-qw"/>
          <p:cNvPicPr/>
          <p:nvPr/>
        </p:nvPicPr>
        <p:blipFill>
          <a:blip r:embed="rId3"/>
          <a:stretch/>
        </p:blipFill>
        <p:spPr>
          <a:xfrm>
            <a:off x="3059280" y="3789360"/>
            <a:ext cx="3095280" cy="231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Camperstre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ldesdoorn, Spaanse 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Nd9GcRO1mCfVWwXQtD4Ju078ePwHjPTyiqJOtYjKd-IlbE4Sg2xclzo"/>
          <p:cNvPicPr/>
          <p:nvPr/>
        </p:nvPicPr>
        <p:blipFill>
          <a:blip r:embed="rId1"/>
          <a:stretch/>
        </p:blipFill>
        <p:spPr>
          <a:xfrm>
            <a:off x="539640" y="1628640"/>
            <a:ext cx="3240360" cy="224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ANd9GcSdhL6nt_nrD1l-p_MPEIk1JUzlq7zWpjruyfk4SnjABAVoL4MB"/>
          <p:cNvPicPr/>
          <p:nvPr/>
        </p:nvPicPr>
        <p:blipFill>
          <a:blip r:embed="rId2"/>
          <a:stretch/>
        </p:blipFill>
        <p:spPr>
          <a:xfrm>
            <a:off x="2987640" y="3863880"/>
            <a:ext cx="3313080" cy="2273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ANd9GcSyqxCdjkTNSPhhO2-ic5uMbIOZwHWLBk4nfocoXVI1ZawGw4YE7w"/>
          <p:cNvPicPr/>
          <p:nvPr/>
        </p:nvPicPr>
        <p:blipFill>
          <a:blip r:embed="rId3"/>
          <a:stretch/>
        </p:blipFill>
        <p:spPr>
          <a:xfrm>
            <a:off x="6332400" y="1628640"/>
            <a:ext cx="231948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mbucus nig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v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ANd9GcQKAopGBJVpj7uAhwi9hGz6Zn0bHlD-uFzIjJW7XxnrqC0P_60bGQ"/>
          <p:cNvPicPr/>
          <p:nvPr/>
        </p:nvPicPr>
        <p:blipFill>
          <a:blip r:embed="rId1"/>
          <a:stretch/>
        </p:blipFill>
        <p:spPr>
          <a:xfrm>
            <a:off x="468360" y="20606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ANd9GcQXBQIG6yKZNaXZFCV2KRNOt8d4dCkw4MRSCbGohR19ScOzTgk3"/>
          <p:cNvPicPr/>
          <p:nvPr/>
        </p:nvPicPr>
        <p:blipFill>
          <a:blip r:embed="rId2"/>
          <a:stretch/>
        </p:blipFill>
        <p:spPr>
          <a:xfrm>
            <a:off x="6227640" y="2060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ANd9GcRCRDI7VvFKKPsT8opGFY5Lcg0_1FtsDCTqktdVi7h41224Cc6qiw"/>
          <p:cNvPicPr/>
          <p:nvPr/>
        </p:nvPicPr>
        <p:blipFill>
          <a:blip r:embed="rId3"/>
          <a:stretch/>
        </p:blipFill>
        <p:spPr>
          <a:xfrm>
            <a:off x="3059280" y="3821040"/>
            <a:ext cx="3097080" cy="231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opul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erse 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ANd9GcSNhEwGNvB0kZPjfu1mGO6n1SBMTnW2WGMDVmrHq6aPiBVt6T8U"/>
          <p:cNvPicPr/>
          <p:nvPr/>
        </p:nvPicPr>
        <p:blipFill>
          <a:blip r:embed="rId1"/>
          <a:stretch/>
        </p:blipFill>
        <p:spPr>
          <a:xfrm>
            <a:off x="468360" y="1989000"/>
            <a:ext cx="2951280" cy="253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ANd9GcQLWb3K5Ci5u5EfxB7taEySBqR4zwRIz0q80IXuz9ysOCl6bHpQ"/>
          <p:cNvPicPr/>
          <p:nvPr/>
        </p:nvPicPr>
        <p:blipFill>
          <a:blip r:embed="rId2"/>
          <a:stretch/>
        </p:blipFill>
        <p:spPr>
          <a:xfrm>
            <a:off x="5651640" y="1989000"/>
            <a:ext cx="3030480" cy="2436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ANd9GcTSlAHVv4WPhphUyWQLlPZ8ZDjTNELoGR5W721uqsb0v9X5CMEy"/>
          <p:cNvPicPr/>
          <p:nvPr/>
        </p:nvPicPr>
        <p:blipFill>
          <a:blip r:embed="rId3"/>
          <a:stretch/>
        </p:blipFill>
        <p:spPr>
          <a:xfrm>
            <a:off x="3419640" y="3141720"/>
            <a:ext cx="2224080" cy="2970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melanchier lamarckii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entenboom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Tiqv_BRKy-ym5IdIBBAKPk-y5ux1MBygibZUeMrw6-1gqLiPNW"/>
          <p:cNvPicPr/>
          <p:nvPr/>
        </p:nvPicPr>
        <p:blipFill>
          <a:blip r:embed="rId1"/>
          <a:stretch/>
        </p:blipFill>
        <p:spPr>
          <a:xfrm>
            <a:off x="468360" y="1557360"/>
            <a:ext cx="2448000" cy="226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Nd9GcTmY_Cy_YJuDVzACybELEwSnFt5GfrRAVM90ej9QgOe3yL1U0hXZA"/>
          <p:cNvPicPr/>
          <p:nvPr/>
        </p:nvPicPr>
        <p:blipFill>
          <a:blip r:embed="rId2"/>
          <a:stretch/>
        </p:blipFill>
        <p:spPr>
          <a:xfrm>
            <a:off x="2411280" y="3843360"/>
            <a:ext cx="3600720" cy="225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ANd9GcQoHdvQJyNqfzPGUOl7v8rc4sRmDYRj9dlFzoEOBO9cljRA8oi2"/>
          <p:cNvPicPr/>
          <p:nvPr/>
        </p:nvPicPr>
        <p:blipFill>
          <a:blip r:embed="rId3"/>
          <a:stretch/>
        </p:blipFill>
        <p:spPr>
          <a:xfrm>
            <a:off x="6012000" y="1557360"/>
            <a:ext cx="2643120" cy="352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ANd9GcT8117cGPbBcxKDRKVAZKf08IMp3MR-a0aXyD-sQ0IjUnsZNv299A"/>
          <p:cNvPicPr/>
          <p:nvPr/>
        </p:nvPicPr>
        <p:blipFill>
          <a:blip r:embed="rId4"/>
          <a:stretch/>
        </p:blipFill>
        <p:spPr>
          <a:xfrm>
            <a:off x="2916360" y="1557360"/>
            <a:ext cx="3095640" cy="2309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ma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ANd9GcRpQ7VLkYyl3IR0e9ssULFluc2BMgs3ti5-FbmHZllJkxctH3rl"/>
          <p:cNvPicPr/>
          <p:nvPr/>
        </p:nvPicPr>
        <p:blipFill>
          <a:blip r:embed="rId1"/>
          <a:stretch/>
        </p:blipFill>
        <p:spPr>
          <a:xfrm>
            <a:off x="468360" y="2060640"/>
            <a:ext cx="3024000" cy="200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ANd9GcQqrvFXkhv6fUkGWTaLoFVJ3YP-HxAHtbdQvAHNA7KRb4jwTHXKjg"/>
          <p:cNvPicPr/>
          <p:nvPr/>
        </p:nvPicPr>
        <p:blipFill>
          <a:blip r:embed="rId2"/>
          <a:stretch/>
        </p:blipFill>
        <p:spPr>
          <a:xfrm>
            <a:off x="5580000" y="2060640"/>
            <a:ext cx="3114720" cy="233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ANd9GcQ0VMFuP-pxGSx_2e0KCFSDW1NR83jhs0_uYOolABAVnxroLWyOhw"/>
          <p:cNvPicPr/>
          <p:nvPr/>
        </p:nvPicPr>
        <p:blipFill>
          <a:blip r:embed="rId3"/>
          <a:stretch/>
        </p:blipFill>
        <p:spPr>
          <a:xfrm>
            <a:off x="2843280" y="4076640"/>
            <a:ext cx="2735280" cy="204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sanguin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ANd9GcTnC0XEKQMzlYnI0FN7EnSoXe80VZJIyCp47Nsh1M3SSWb_lk7t"/>
          <p:cNvPicPr/>
          <p:nvPr/>
        </p:nvPicPr>
        <p:blipFill>
          <a:blip r:embed="rId1"/>
          <a:stretch/>
        </p:blipFill>
        <p:spPr>
          <a:xfrm>
            <a:off x="468360" y="2205000"/>
            <a:ext cx="2671560" cy="302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ANd9GcSg_U5dZ_cqDiF4ZNNoAEiCJU-T-Sr-IPA1FpIp4tI8MVnI8jhn5w"/>
          <p:cNvPicPr/>
          <p:nvPr/>
        </p:nvPicPr>
        <p:blipFill>
          <a:blip r:embed="rId2"/>
          <a:stretch/>
        </p:blipFill>
        <p:spPr>
          <a:xfrm>
            <a:off x="4716360" y="2205000"/>
            <a:ext cx="3978360" cy="297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ANd9GcTaOA-syPeuSzqB9SbEvzVbohC3Qk7HDAAA0E_2ilPpj4q_ChZXbQ"/>
          <p:cNvPicPr/>
          <p:nvPr/>
        </p:nvPicPr>
        <p:blipFill>
          <a:blip r:embed="rId3"/>
          <a:stretch/>
        </p:blipFill>
        <p:spPr>
          <a:xfrm>
            <a:off x="262728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ylus avell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hazelaar, hazeln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Nd9GcQazkrf0-QzAkgFtvVO5qfNxO8eCVWP8DgjFUC8dY2jyZ9suzmE"/>
          <p:cNvPicPr/>
          <p:nvPr/>
        </p:nvPicPr>
        <p:blipFill>
          <a:blip r:embed="rId1"/>
          <a:stretch/>
        </p:blipFill>
        <p:spPr>
          <a:xfrm>
            <a:off x="468360" y="1989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ANd9GcRLeUPhR2DSr-4I2_4mq-xKCRdKNIjlSjC19Uas3DSI75i1GHL0vg"/>
          <p:cNvPicPr/>
          <p:nvPr/>
        </p:nvPicPr>
        <p:blipFill>
          <a:blip r:embed="rId2"/>
          <a:stretch/>
        </p:blipFill>
        <p:spPr>
          <a:xfrm>
            <a:off x="6804000" y="1989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ANd9GcTERofZpVJuJKUTyWnIPeEz4fBPU1CykPSYBPN9Ojzex-2iraaJOw"/>
          <p:cNvPicPr/>
          <p:nvPr/>
        </p:nvPicPr>
        <p:blipFill>
          <a:blip r:embed="rId3"/>
          <a:stretch/>
        </p:blipFill>
        <p:spPr>
          <a:xfrm>
            <a:off x="3203640" y="1989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ANd9GcRoHMnQxnAerPWDRlVV490MEN9kSo0EFOmt3AZ5PWaBTM781oxO"/>
          <p:cNvPicPr/>
          <p:nvPr/>
        </p:nvPicPr>
        <p:blipFill>
          <a:blip r:embed="rId4"/>
          <a:stretch/>
        </p:blipFill>
        <p:spPr>
          <a:xfrm>
            <a:off x="3276720" y="3782880"/>
            <a:ext cx="251604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rataegus monogy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stijlige mei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ANd9GcSvH7nff3c151jYqYtvnrFBWdgxdAlgbY0IRrcfdorOdjRRr4N6Zw"/>
          <p:cNvPicPr/>
          <p:nvPr/>
        </p:nvPicPr>
        <p:blipFill>
          <a:blip r:embed="rId1"/>
          <a:stretch/>
        </p:blipFill>
        <p:spPr>
          <a:xfrm>
            <a:off x="468360" y="206064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ANd9GcTSlMcuNlKuhTfpHFKxkiabC4wZu1OfgR9Kz6HLEHvZpKPo1dRYqg"/>
          <p:cNvPicPr/>
          <p:nvPr/>
        </p:nvPicPr>
        <p:blipFill>
          <a:blip r:embed="rId2"/>
          <a:stretch/>
        </p:blipFill>
        <p:spPr>
          <a:xfrm>
            <a:off x="5867280" y="2060640"/>
            <a:ext cx="2837160" cy="1887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ANd9GcT6WNpTvSO9khYIsS5VSHsvxbl9oc7Bcn8zd8l3lHFhYv9mTVXn"/>
          <p:cNvPicPr/>
          <p:nvPr/>
        </p:nvPicPr>
        <p:blipFill>
          <a:blip r:embed="rId3"/>
          <a:stretch/>
        </p:blipFill>
        <p:spPr>
          <a:xfrm>
            <a:off x="2916360" y="3716280"/>
            <a:ext cx="3168360" cy="2386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uonymus europaeus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ardinaalsho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ANd9GcRsENsrwsx7uojAfoccwYAHd2FAP2N-JhS3mExVk4JqPwdkldSJ"/>
          <p:cNvPicPr/>
          <p:nvPr/>
        </p:nvPicPr>
        <p:blipFill>
          <a:blip r:embed="rId1"/>
          <a:stretch/>
        </p:blipFill>
        <p:spPr>
          <a:xfrm>
            <a:off x="468360" y="1989000"/>
            <a:ext cx="2552760" cy="179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ANd9GcTauwAsF0c6hZQZ2z3KyQI1VBv7BsAmQ-J_PePCqVJNHknFJcBA7g"/>
          <p:cNvPicPr/>
          <p:nvPr/>
        </p:nvPicPr>
        <p:blipFill>
          <a:blip r:embed="rId2"/>
          <a:stretch/>
        </p:blipFill>
        <p:spPr>
          <a:xfrm>
            <a:off x="6156360" y="1989000"/>
            <a:ext cx="2552760" cy="179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ANd9GcQuw5aTeLjDJD8oXKYNnZzWFQxgpYbVoY1zYhYpwNL0TeW3T0C9KQ"/>
          <p:cNvPicPr/>
          <p:nvPr/>
        </p:nvPicPr>
        <p:blipFill>
          <a:blip r:embed="rId3"/>
          <a:stretch/>
        </p:blipFill>
        <p:spPr>
          <a:xfrm>
            <a:off x="3419640" y="198900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ANd9GcSjulBkjSHyCwHe8KIMS6VajwhcY3oGhoeH-TvSZ5Loh8uQNvgU"/>
          <p:cNvPicPr/>
          <p:nvPr/>
        </p:nvPicPr>
        <p:blipFill>
          <a:blip r:embed="rId4"/>
          <a:stretch/>
        </p:blipFill>
        <p:spPr>
          <a:xfrm>
            <a:off x="3059280" y="3789360"/>
            <a:ext cx="304308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ippophea rhamn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n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ANd9GcQ_0NWKkvieg7jBuS8-4Au3VkZ39IGSQFXe2wGO2xw_iwqpggxw"/>
          <p:cNvPicPr/>
          <p:nvPr/>
        </p:nvPicPr>
        <p:blipFill>
          <a:blip r:embed="rId1"/>
          <a:stretch/>
        </p:blipFill>
        <p:spPr>
          <a:xfrm>
            <a:off x="468360" y="1989000"/>
            <a:ext cx="2735280" cy="2049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Nd9GcSZbKyBWGjhYmPWsxvU6YL3pEXPieUc_VBAHI8scMUgvvxgVZF9Ng"/>
          <p:cNvPicPr/>
          <p:nvPr/>
        </p:nvPicPr>
        <p:blipFill>
          <a:blip r:embed="rId2"/>
          <a:stretch/>
        </p:blipFill>
        <p:spPr>
          <a:xfrm>
            <a:off x="5867280" y="1989000"/>
            <a:ext cx="2827440" cy="211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ANd9GcTdUsI8ZkL_OCrVMEPy2F3FLDpKBUTC4nKfIfNTVLMZ9toiEdvn"/>
          <p:cNvPicPr/>
          <p:nvPr/>
        </p:nvPicPr>
        <p:blipFill>
          <a:blip r:embed="rId3"/>
          <a:stretch/>
        </p:blipFill>
        <p:spPr>
          <a:xfrm>
            <a:off x="3419640" y="3141720"/>
            <a:ext cx="2260440" cy="3012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13:32Z</dcterms:created>
  <dc:creator>PHO</dc:creator>
  <dc:description/>
  <dc:language>en-US</dc:language>
  <cp:lastModifiedBy>Peter Houdijk</cp:lastModifiedBy>
  <dcterms:modified xsi:type="dcterms:W3CDTF">2011-11-28T08:34:47Z</dcterms:modified>
  <cp:revision>6</cp:revision>
  <dc:subject/>
  <dc:title>Dia 1</dc:title>
</cp:coreProperties>
</file>