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Aangepaste voorstelling 1" id="0">
      <p:sldLst>
        <p:sld r:id="rId3"/>
        <p:sld r:id="rId4"/>
        <p:sld r:id="rId5"/>
        <p:sld r:id="rId6"/>
        <p:sld r:id="rId7"/>
        <p:sld r:id="rId8"/>
        <p:sld r:id="rId9"/>
        <p:sld r:id="rId10"/>
      </p:sldLst>
    </p:custShow>
    <p:custShow name="Aangepaste voorstelling 2" id="1">
      <p:sldLst>
        <p:sld r:id="rId10"/>
        <p:sld r:id="rId9"/>
        <p:sld r:id="rId8"/>
        <p:sld r:id="rId7"/>
        <p:sld r:id="rId6"/>
        <p:sld r:id="rId5"/>
        <p:sld r:id="rId4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2B1-FB39-4524-B067-4FF0511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157-54CD-4704-8A9C-A633793E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32F-7656-40A1-AB20-7FEC4FF3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11C-F1E0-42A6-AD73-DB56BD04C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692-7F39-4DBE-A048-2731E20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356-F19D-4E5A-9F62-3A4690D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D22-D26C-48B1-AE5C-980847E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0B6-3F8B-4461-8D26-7DDE70C7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24E-361C-460E-981B-98518849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B90-8A4F-4B10-A0B2-CF34D80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219-E812-4FEF-95A1-00AF1B7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5AF-F0DE-49B9-B635-3E091F6C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2131-486B-4807-833F-C425F94A75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ric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una vulga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Q-K9r7oyvg9UTQelYM6il2F9MG2H_z1O1P9gzW8gSdLn4VKJtR"/>
          <p:cNvPicPr/>
          <p:nvPr/>
        </p:nvPicPr>
        <p:blipFill>
          <a:blip r:embed="rId1"/>
          <a:stretch/>
        </p:blipFill>
        <p:spPr>
          <a:xfrm>
            <a:off x="914400" y="1905120"/>
            <a:ext cx="4038480" cy="3431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d9GcSl17dTY5_iAoIJzNOBSKXpVvEfwqxwvW4dxmTryKlOR9QFVe0MTg"/>
          <p:cNvPicPr/>
          <p:nvPr/>
        </p:nvPicPr>
        <p:blipFill>
          <a:blip r:embed="rId2"/>
          <a:stretch/>
        </p:blipFill>
        <p:spPr>
          <a:xfrm>
            <a:off x="5638680" y="1905120"/>
            <a:ext cx="2568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car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Nd9GcQcSle9NbQ3XsroHFBEuCup2I3JpnkPxgxzpwgHcnKafVKzVcOZ2Q"/>
          <p:cNvPicPr/>
          <p:nvPr/>
        </p:nvPicPr>
        <p:blipFill>
          <a:blip r:embed="rId1"/>
          <a:stretch/>
        </p:blipFill>
        <p:spPr>
          <a:xfrm>
            <a:off x="59436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ANd9GcTIcrTzVgxIZZpKBYdQB_3KjbxO7ZTO4jlSfl8BE9R1_d0hsY6A"/>
          <p:cNvPicPr/>
          <p:nvPr/>
        </p:nvPicPr>
        <p:blipFill>
          <a:blip r:embed="rId2"/>
          <a:stretch/>
        </p:blipFill>
        <p:spPr>
          <a:xfrm>
            <a:off x="5943600" y="3832200"/>
            <a:ext cx="2523960" cy="23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d9GcQD8YV44FNpLzWKf-F42ECMZZvzOsHNKaSEaBP2K7uPqbI3lsbMFQ"/>
          <p:cNvPicPr/>
          <p:nvPr/>
        </p:nvPicPr>
        <p:blipFill>
          <a:blip r:embed="rId3"/>
          <a:stretch/>
        </p:blipFill>
        <p:spPr>
          <a:xfrm>
            <a:off x="1447920" y="2438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ica Tetrali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doph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3681360" y="2143080"/>
            <a:ext cx="1781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40801-erica-tetralix-1"/>
          <p:cNvPicPr/>
          <p:nvPr/>
        </p:nvPicPr>
        <p:blipFill>
          <a:blip r:embed="rId1"/>
          <a:stretch/>
        </p:blipFill>
        <p:spPr>
          <a:xfrm>
            <a:off x="6553080" y="685800"/>
            <a:ext cx="1725840" cy="249084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Erica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3382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/>
          <p:cNvSpPr/>
          <p:nvPr/>
        </p:nvSpPr>
        <p:spPr>
          <a:xfrm>
            <a:off x="3648240" y="2190600"/>
            <a:ext cx="184752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3457440" y="2405160"/>
            <a:ext cx="222912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EricaTetralix"/>
          <p:cNvPicPr/>
          <p:nvPr/>
        </p:nvPicPr>
        <p:blipFill>
          <a:blip r:embed="rId3"/>
          <a:stretch/>
        </p:blipFill>
        <p:spPr>
          <a:xfrm>
            <a:off x="762120" y="1752480"/>
            <a:ext cx="3396960" cy="4562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ultheria procumb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ulth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ANd9GcRwbht6BYZ8gEj85mVIKfQBCM2nYoa_oEOeaUQwADJ1zNWKyths"/>
          <p:cNvPicPr/>
          <p:nvPr/>
        </p:nvPicPr>
        <p:blipFill>
          <a:blip r:embed="rId1"/>
          <a:stretch/>
        </p:blipFill>
        <p:spPr>
          <a:xfrm>
            <a:off x="609480" y="2057400"/>
            <a:ext cx="4419720" cy="33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ANd9GcRFT8sgHO2XY3Mxsb3zSERs4TdJ5f1mIsCfwD7-QGlkZH4BGQa87Q"/>
          <p:cNvPicPr/>
          <p:nvPr/>
        </p:nvPicPr>
        <p:blipFill>
          <a:blip r:embed="rId2"/>
          <a:stretch/>
        </p:blipFill>
        <p:spPr>
          <a:xfrm>
            <a:off x="5486400" y="251460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nettya mucron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net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QzmIl3xf8og3fNZ7LG50UqEKQOkQOviIvW_HR2K1MFltJ5d8Yq"/>
          <p:cNvPicPr/>
          <p:nvPr/>
        </p:nvPicPr>
        <p:blipFill>
          <a:blip r:embed="rId1"/>
          <a:stretch/>
        </p:blipFill>
        <p:spPr>
          <a:xfrm>
            <a:off x="4724280" y="1828800"/>
            <a:ext cx="2847960" cy="18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ANd9GcR82xHO5UPssocoQqwriW_mLRIOXotQHw2uJ8PPFCCHIWeX_Rxx"/>
          <p:cNvPicPr/>
          <p:nvPr/>
        </p:nvPicPr>
        <p:blipFill>
          <a:blip r:embed="rId2"/>
          <a:stretch/>
        </p:blipFill>
        <p:spPr>
          <a:xfrm>
            <a:off x="4724280" y="38098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SZIKJjIOQphzDZPqpF2zn0IlXSzm4mOL_2CYZe4UweKta6xL_m"/>
          <p:cNvPicPr/>
          <p:nvPr/>
        </p:nvPicPr>
        <p:blipFill>
          <a:blip r:embed="rId3"/>
          <a:stretch/>
        </p:blipFill>
        <p:spPr>
          <a:xfrm>
            <a:off x="1905120" y="1828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ANd9GcRuMF-Zca8UsyZNrLIc9fgPDGX-Fop0vDhSfMb52tYONG7XBvji"/>
          <p:cNvPicPr/>
          <p:nvPr/>
        </p:nvPicPr>
        <p:blipFill>
          <a:blip r:embed="rId4"/>
          <a:stretch/>
        </p:blipFill>
        <p:spPr>
          <a:xfrm>
            <a:off x="1981080" y="38098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eris floribu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e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Nd9GcTiQgtlkp1IzTRntMNo_5rqFbEaFyDUqwgt2sjnRzIPobtes3WK"/>
          <p:cNvPicPr/>
          <p:nvPr/>
        </p:nvPicPr>
        <p:blipFill>
          <a:blip r:embed="rId1"/>
          <a:stretch/>
        </p:blipFill>
        <p:spPr>
          <a:xfrm>
            <a:off x="5410080" y="1752480"/>
            <a:ext cx="2695680" cy="179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SavVPMn_1vJbS3mIb2QmYLnn2Rc-p3K3dU3VTfvGah26g9F98HAw"/>
          <p:cNvPicPr/>
          <p:nvPr/>
        </p:nvPicPr>
        <p:blipFill>
          <a:blip r:embed="rId2"/>
          <a:stretch/>
        </p:blipFill>
        <p:spPr>
          <a:xfrm>
            <a:off x="990720" y="2286000"/>
            <a:ext cx="3733560" cy="278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ANd9GcSndOyo6pc6Ld6vZF-ejulQ0ybXXNgY-6BjFmdRAVZ4EQEZVFiMYg"/>
          <p:cNvPicPr/>
          <p:nvPr/>
        </p:nvPicPr>
        <p:blipFill>
          <a:blip r:embed="rId3"/>
          <a:stretch/>
        </p:blipFill>
        <p:spPr>
          <a:xfrm>
            <a:off x="5410080" y="3809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ododendron (Catawbiense Groep) ‘Catawbien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bladige rhododen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S-O7m57E1FTomNyNC4-nJwZwYh8pxCrmJIQWBVeEW-yv5iD9aHXg"/>
          <p:cNvPicPr/>
          <p:nvPr/>
        </p:nvPicPr>
        <p:blipFill>
          <a:blip r:embed="rId1"/>
          <a:stretch/>
        </p:blipFill>
        <p:spPr>
          <a:xfrm>
            <a:off x="6172200" y="4343400"/>
            <a:ext cx="2133720" cy="1604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Nd9GcRhjoO97Ow6YfwAu1wUg6UzPlESOum2pME-im3YwBNEWqYMO-3e"/>
          <p:cNvPicPr/>
          <p:nvPr/>
        </p:nvPicPr>
        <p:blipFill>
          <a:blip r:embed="rId2"/>
          <a:stretch/>
        </p:blipFill>
        <p:spPr>
          <a:xfrm>
            <a:off x="5638680" y="2209680"/>
            <a:ext cx="2581560" cy="177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ANd9GcSmgt9Nyx4Esnp03rdEPB2Yo0bvSFFHij5UaR49Ghi2O3ngfF_cIw"/>
          <p:cNvPicPr/>
          <p:nvPr/>
        </p:nvPicPr>
        <p:blipFill>
          <a:blip r:embed="rId3"/>
          <a:stretch/>
        </p:blipFill>
        <p:spPr>
          <a:xfrm>
            <a:off x="1295280" y="251460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51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