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Aangepaste voorstelling 1" id="0">
      <p:sldLst>
        <p:sld r:id="rId6"/>
        <p:sld r:id="rId10"/>
        <p:sld r:id="rId14"/>
        <p:sld r:id="rId18"/>
        <p:sld r:id="rId22"/>
        <p:sld r:id="rId26"/>
        <p:sld r:id="rId8"/>
        <p:sld r:id="rId12"/>
        <p:sld r:id="rId16"/>
        <p:sld r:id="rId20"/>
      </p:sldLst>
    </p:custShow>
    <p:custShow name="Aangepaste voorstelling 2" id="1">
      <p:sldLst>
        <p:sld r:id="rId7"/>
        <p:sld r:id="rId11"/>
        <p:sld r:id="rId15"/>
        <p:sld r:id="rId19"/>
        <p:sld r:id="rId23"/>
        <p:sld r:id="rId27"/>
        <p:sld r:id="rId9"/>
        <p:sld r:id="rId13"/>
        <p:sld r:id="rId17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8F7-118E-43B3-AAB9-4FACAD43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33D-9F4A-45FE-9FB2-A980925A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F97-784D-407E-83E8-D91BBFC6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05F-EAC6-4559-815A-71A867D4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078-1B0C-4713-A85C-650C7629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8C0-FF99-42AC-B28F-A50D1109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998-04BC-4EB2-B5B0-11C10C98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F5D-F17C-488C-850D-9CA8C62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749-1F32-43AB-A742-009D0F2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7F2-E576-431F-92A7-F760ADE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9AE-FD34-42F7-AAD4-9DF11F1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11A-7D24-4598-8820-FEB87856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05EC-F74A-48E6-8892-454E3DDA2F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l- en knolgew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alanthus niv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3333600" y="2505240"/>
            <a:ext cx="24768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6" descr="galanthus_nivalis_close-up_aka"/>
          <p:cNvPicPr/>
          <p:nvPr/>
        </p:nvPicPr>
        <p:blipFill>
          <a:blip r:embed="rId1"/>
          <a:stretch/>
        </p:blipFill>
        <p:spPr>
          <a:xfrm>
            <a:off x="685800" y="1752480"/>
            <a:ext cx="3247920" cy="32482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1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Galanthus_nivalis"/>
          <p:cNvPicPr/>
          <p:nvPr/>
        </p:nvPicPr>
        <p:blipFill>
          <a:blip r:embed="rId2"/>
          <a:stretch/>
        </p:blipFill>
        <p:spPr>
          <a:xfrm>
            <a:off x="4114800" y="1828800"/>
            <a:ext cx="41115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oides hispa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hyacint; bos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Q740-0401040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acint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ANd9GcQVsnHzC6Y3HMFCnFuTIIWzvWGoqHPfdv1pbBIQz5FdLnW-N0bMTw"/>
          <p:cNvPicPr/>
          <p:nvPr/>
        </p:nvPicPr>
        <p:blipFill>
          <a:blip r:embed="rId1"/>
          <a:stretch/>
        </p:blipFill>
        <p:spPr>
          <a:xfrm>
            <a:off x="5029200" y="1905120"/>
            <a:ext cx="3205080" cy="3205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Nd9GcR0ue48xDYoQXknZ9WFW2FmsXYfbimi10x3snwBAbrh0GdAYxKaiQ"/>
          <p:cNvPicPr/>
          <p:nvPr/>
        </p:nvPicPr>
        <p:blipFill>
          <a:blip r:embed="rId2"/>
          <a:stretch/>
        </p:blipFill>
        <p:spPr>
          <a:xfrm>
            <a:off x="152388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ris reticulat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i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ANd9GcQ7rzokSdoz1nUPOb1t9S5OGPXxZ5IGMbw1gEKB0VNwBeyTtQey"/>
          <p:cNvPicPr/>
          <p:nvPr/>
        </p:nvPicPr>
        <p:blipFill>
          <a:blip r:embed="rId1"/>
          <a:stretch/>
        </p:blipFill>
        <p:spPr>
          <a:xfrm>
            <a:off x="1447920" y="220968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ANd9GcS-sfw-EnPfkMUewiPI6M3EkOD-Jb26tBqqoEGag0b0MRHalJ2g"/>
          <p:cNvPicPr/>
          <p:nvPr/>
        </p:nvPicPr>
        <p:blipFill>
          <a:blip r:embed="rId2"/>
          <a:stretch/>
        </p:blipFill>
        <p:spPr>
          <a:xfrm>
            <a:off x="4724280" y="2198520"/>
            <a:ext cx="3133800" cy="255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uscari botry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 druif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3648240" y="2195640"/>
            <a:ext cx="1847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Nd9GcTkwyiyxx2Il3-2xo_mcHYZvZirVQzmQ8Oz0JV1GUD0V5H73bEWUA"/>
          <p:cNvPicPr/>
          <p:nvPr/>
        </p:nvPicPr>
        <p:blipFill>
          <a:blip r:embed="rId1"/>
          <a:stretch/>
        </p:blipFill>
        <p:spPr>
          <a:xfrm>
            <a:off x="5715000" y="2286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Nd9GcQzFWlJ12vzxC0lM_vF5eHVgRl6gYySvUYAIjdErbp3QVe-SLAN"/>
          <p:cNvPicPr/>
          <p:nvPr/>
        </p:nvPicPr>
        <p:blipFill>
          <a:blip r:embed="rId2"/>
          <a:stretch/>
        </p:blipFill>
        <p:spPr>
          <a:xfrm>
            <a:off x="1600200" y="2286000"/>
            <a:ext cx="320040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rcissu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rc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328920" y="250992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Narcissus_Jetfire_JAY"/>
          <p:cNvPicPr/>
          <p:nvPr/>
        </p:nvPicPr>
        <p:blipFill>
          <a:blip r:embed="rId1"/>
          <a:stretch/>
        </p:blipFill>
        <p:spPr>
          <a:xfrm>
            <a:off x="990720" y="1905120"/>
            <a:ext cx="3743280" cy="2781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ANd9GcT84_hDXa9Ck9Vhw9SkM-TM81_-pUH9mc4bRA9xxQh3f9oTkfM87w"/>
          <p:cNvPicPr/>
          <p:nvPr/>
        </p:nvPicPr>
        <p:blipFill>
          <a:blip r:embed="rId2"/>
          <a:stretch/>
        </p:blipFill>
        <p:spPr>
          <a:xfrm>
            <a:off x="4800600" y="1752480"/>
            <a:ext cx="289080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rnithogalum umbellat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m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ornithogalum_umbellatum"/>
          <p:cNvPicPr/>
          <p:nvPr/>
        </p:nvPicPr>
        <p:blipFill>
          <a:blip r:embed="rId1"/>
          <a:stretch/>
        </p:blipFill>
        <p:spPr>
          <a:xfrm>
            <a:off x="2209680" y="2057400"/>
            <a:ext cx="4743720" cy="355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cilla siber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hyac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629160" y="2219400"/>
            <a:ext cx="18856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Nd9GcQ4jEVu_N3cErExNtuEtd6u7JaYI4-Ptm2ro8eFzw7z1niskiwW"/>
          <p:cNvPicPr/>
          <p:nvPr/>
        </p:nvPicPr>
        <p:blipFill>
          <a:blip r:embed="rId1"/>
          <a:stretch/>
        </p:blipFill>
        <p:spPr>
          <a:xfrm>
            <a:off x="1295280" y="1981080"/>
            <a:ext cx="2373480" cy="33530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2"/>
          <p:cNvSpPr/>
          <p:nvPr/>
        </p:nvSpPr>
        <p:spPr>
          <a:xfrm>
            <a:off x="3581280" y="2276640"/>
            <a:ext cx="1981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Scilla_siberica_flower"/>
          <p:cNvPicPr/>
          <p:nvPr/>
        </p:nvPicPr>
        <p:blipFill>
          <a:blip r:embed="rId2"/>
          <a:stretch/>
        </p:blipFill>
        <p:spPr>
          <a:xfrm>
            <a:off x="4935600" y="2057400"/>
            <a:ext cx="294156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ulip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ANd9GcTatnCzbQDzizXaIqZ1VnA6qUxuk43IjCGc2f9NcR3B390P4auc"/>
          <p:cNvPicPr/>
          <p:nvPr/>
        </p:nvPicPr>
        <p:blipFill>
          <a:blip r:embed="rId1"/>
          <a:stretch/>
        </p:blipFill>
        <p:spPr>
          <a:xfrm>
            <a:off x="1828800" y="1523880"/>
            <a:ext cx="5424480" cy="406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mer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jaarsbloe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coron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ANd9GcR6f2-OTxbWxHsJ8If5YN9sMukMo6XlxbDww0radxthXW8m4KZ-"/>
          <p:cNvPicPr/>
          <p:nvPr/>
        </p:nvPicPr>
        <p:blipFill>
          <a:blip r:embed="rId1"/>
          <a:stretch/>
        </p:blipFill>
        <p:spPr>
          <a:xfrm>
            <a:off x="1981080" y="1752480"/>
            <a:ext cx="4876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gonia tuberhybrid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lbeg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3505320" y="2362320"/>
            <a:ext cx="2133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6885"/>
          <p:cNvPicPr/>
          <p:nvPr/>
        </p:nvPicPr>
        <p:blipFill>
          <a:blip r:embed="rId1"/>
          <a:stretch/>
        </p:blipFill>
        <p:spPr>
          <a:xfrm>
            <a:off x="21337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nna ind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sch bloemr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ANd9GcSq334ywSX4dhidhUQTdKM7mi3O9KDKBHkUsS7jPftaFhKGu9_Z"/>
          <p:cNvPicPr/>
          <p:nvPr/>
        </p:nvPicPr>
        <p:blipFill>
          <a:blip r:embed="rId1"/>
          <a:stretch/>
        </p:blipFill>
        <p:spPr>
          <a:xfrm>
            <a:off x="1295280" y="1752480"/>
            <a:ext cx="287676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ANd9GcTDPmXR4NP2--i2ANTgS28Za18MSruEooWivNgDD_Cswwj5HyBo"/>
          <p:cNvPicPr/>
          <p:nvPr/>
        </p:nvPicPr>
        <p:blipFill>
          <a:blip r:embed="rId2"/>
          <a:stretch/>
        </p:blipFill>
        <p:spPr>
          <a:xfrm>
            <a:off x="4952880" y="2286000"/>
            <a:ext cx="3581640" cy="268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ah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h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376440" y="2471760"/>
            <a:ext cx="239112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471840" y="2390760"/>
            <a:ext cx="2200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ANd9GcTb-bdSN0myOzuIjAr3SnAzeahHEuYfOFRxLTm-9Tu_XxN68VsJ"/>
          <p:cNvPicPr/>
          <p:nvPr/>
        </p:nvPicPr>
        <p:blipFill>
          <a:blip r:embed="rId1"/>
          <a:stretch/>
        </p:blipFill>
        <p:spPr>
          <a:xfrm>
            <a:off x="914400" y="1828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ANd9GcQ3RpA0ZS93IkgMI5gJF8z1qa17oEDHT4NtWgyuEjxg57qdZmUW"/>
          <p:cNvPicPr/>
          <p:nvPr/>
        </p:nvPicPr>
        <p:blipFill>
          <a:blip r:embed="rId2"/>
          <a:stretch/>
        </p:blipFill>
        <p:spPr>
          <a:xfrm>
            <a:off x="5486400" y="18288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8"/>
          <p:cNvSpPr/>
          <p:nvPr/>
        </p:nvSpPr>
        <p:spPr>
          <a:xfrm>
            <a:off x="4114800" y="2971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ANd9GcSGNfbVgP8NESZc0UJ-EqIahhWQJFHoMd3fKZToQa2cLaxiU5w4pQ"/>
          <p:cNvPicPr/>
          <p:nvPr/>
        </p:nvPicPr>
        <p:blipFill>
          <a:blip r:embed="rId3"/>
          <a:stretch/>
        </p:blipFill>
        <p:spPr>
          <a:xfrm>
            <a:off x="914400" y="41911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ANd9GcT25X7JQXx78KaOXrNTYRqEOkvIjmxChhiLob1_BI6sGD-RlLW7"/>
          <p:cNvPicPr/>
          <p:nvPr/>
        </p:nvPicPr>
        <p:blipFill>
          <a:blip r:embed="rId4"/>
          <a:stretch/>
        </p:blipFill>
        <p:spPr>
          <a:xfrm>
            <a:off x="5943600" y="38862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ANd9GcSCgJMJ4UUuDtE0jmIomM280MbuNL0fIJUMmn-kp7fPJHph1cWOgQ"/>
          <p:cNvPicPr/>
          <p:nvPr/>
        </p:nvPicPr>
        <p:blipFill>
          <a:blip r:embed="rId5"/>
          <a:stretch/>
        </p:blipFill>
        <p:spPr>
          <a:xfrm>
            <a:off x="3276720" y="320040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ladiole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di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352680" y="2514600"/>
            <a:ext cx="2438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gladiole04_p1"/>
          <p:cNvPicPr/>
          <p:nvPr/>
        </p:nvPicPr>
        <p:blipFill>
          <a:blip r:embed="rId1"/>
          <a:stretch/>
        </p:blipFill>
        <p:spPr>
          <a:xfrm>
            <a:off x="1143000" y="1905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2"/>
          <p:cNvSpPr/>
          <p:nvPr/>
        </p:nvSpPr>
        <p:spPr>
          <a:xfrm>
            <a:off x="3519360" y="2471760"/>
            <a:ext cx="210528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Gladiolus_cultivar"/>
          <p:cNvPicPr/>
          <p:nvPr/>
        </p:nvPicPr>
        <p:blipFill>
          <a:blip r:embed="rId2"/>
          <a:stretch/>
        </p:blipFill>
        <p:spPr>
          <a:xfrm>
            <a:off x="525780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lium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ANd9GcTPS4lON7her503vMmmyuWRQJQtGjuH4N1reUYCUZf_Qrn-JntIWQ"/>
          <p:cNvPicPr/>
          <p:nvPr/>
        </p:nvPicPr>
        <p:blipFill>
          <a:blip r:embed="rId1"/>
          <a:stretch/>
        </p:blipFill>
        <p:spPr>
          <a:xfrm>
            <a:off x="1523880" y="18288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d9GcSrGuEHbDZRz0rqIdqY2Qy_VKgU_yQtcnPz8fAGmoH8bUOSKTEb_g"/>
          <p:cNvPicPr/>
          <p:nvPr/>
        </p:nvPicPr>
        <p:blipFill>
          <a:blip r:embed="rId2"/>
          <a:stretch/>
        </p:blipFill>
        <p:spPr>
          <a:xfrm>
            <a:off x="5410080" y="1676520"/>
            <a:ext cx="2352960" cy="1942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ANd9GcQhFzPLYM_lxsUP-GQ4_Zw7ataKK5R15VC0OjG7TLh_AimQoBnmug"/>
          <p:cNvPicPr/>
          <p:nvPr/>
        </p:nvPicPr>
        <p:blipFill>
          <a:blip r:embed="rId3"/>
          <a:stretch/>
        </p:blipFill>
        <p:spPr>
          <a:xfrm>
            <a:off x="586728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d9GcRs9WlWaBa4d9esikEKqdKboeBhCYKNng2thGZ9ut7VLE_nBGK7"/>
          <p:cNvPicPr/>
          <p:nvPr/>
        </p:nvPicPr>
        <p:blipFill>
          <a:blip r:embed="rId4"/>
          <a:stretch/>
        </p:blipFill>
        <p:spPr>
          <a:xfrm>
            <a:off x="3505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lium moly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ANd9GcRfS8YfudDTFO0W6XVGDL41HtWpQa3eQviHPyu1s7WmNNmgEJfR"/>
          <p:cNvPicPr/>
          <p:nvPr/>
        </p:nvPicPr>
        <p:blipFill>
          <a:blip r:embed="rId1"/>
          <a:stretch/>
        </p:blipFill>
        <p:spPr>
          <a:xfrm>
            <a:off x="2286000" y="2362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ANd9GcTjPr_5U2dn0kqvmFybvz4_UhqJWXEfz9WDc-B4KGbgJP1nibX6"/>
          <p:cNvPicPr/>
          <p:nvPr/>
        </p:nvPicPr>
        <p:blipFill>
          <a:blip r:embed="rId2"/>
          <a:stretch/>
        </p:blipFill>
        <p:spPr>
          <a:xfrm>
            <a:off x="5486400" y="297180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emone bland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uwe ane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3809880" y="2666880"/>
            <a:ext cx="1524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anemone%20blanda"/>
          <p:cNvPicPr/>
          <p:nvPr/>
        </p:nvPicPr>
        <p:blipFill>
          <a:blip r:embed="rId1"/>
          <a:stretch/>
        </p:blipFill>
        <p:spPr>
          <a:xfrm>
            <a:off x="1219320" y="1752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Nd9GcRcZFuH09r2a-OJiGajZ8duBkMCskKw6nlu3AQhdrxubmSx7jhy"/>
          <p:cNvPicPr/>
          <p:nvPr/>
        </p:nvPicPr>
        <p:blipFill>
          <a:blip r:embed="rId2"/>
          <a:stretch/>
        </p:blipFill>
        <p:spPr>
          <a:xfrm>
            <a:off x="5562720" y="1752480"/>
            <a:ext cx="260964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ionodoxa lucilia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r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30Z1RoB2Te-DJzu9S1SlJkGbXPnHlqXebO-GfkknYJqxD7Vq4"/>
          <p:cNvPicPr/>
          <p:nvPr/>
        </p:nvPicPr>
        <p:blipFill>
          <a:blip r:embed="rId1"/>
          <a:stretch/>
        </p:blipFill>
        <p:spPr>
          <a:xfrm>
            <a:off x="838080" y="22860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Nd9GcRQKuSjtFv-UPnNkGlvgp3sT9Q8E7fpUPVOK0HzSLCwAgs-1hPZ"/>
          <p:cNvPicPr/>
          <p:nvPr/>
        </p:nvPicPr>
        <p:blipFill>
          <a:blip r:embed="rId2"/>
          <a:stretch/>
        </p:blipFill>
        <p:spPr>
          <a:xfrm>
            <a:off x="4724280" y="1905120"/>
            <a:ext cx="3505320" cy="28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ocus vern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ANd9GcRdtY6UqDs0uOx2FEwLaKXvfQ2ENnoZG-wSrQjS2nrz7q9ZD3aWmw"/>
          <p:cNvPicPr/>
          <p:nvPr/>
        </p:nvPicPr>
        <p:blipFill>
          <a:blip r:embed="rId1"/>
          <a:stretch/>
        </p:blipFill>
        <p:spPr>
          <a:xfrm>
            <a:off x="1447920" y="228600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T16wBIvssYsbJ9Awe7MBmfzOwFMP1yDkO9qM8ipMWSZLEnu-_2dg"/>
          <p:cNvPicPr/>
          <p:nvPr/>
        </p:nvPicPr>
        <p:blipFill>
          <a:blip r:embed="rId2"/>
          <a:stretch/>
        </p:blipFill>
        <p:spPr>
          <a:xfrm>
            <a:off x="5486400" y="2286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ranthis hyem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nterako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Nd9GcQCDQ0oRhRqDQ6e2GNNv3oa1KMxBYqcUlRtHFGzP58XLRJMhO74"/>
          <p:cNvPicPr/>
          <p:nvPr/>
        </p:nvPicPr>
        <p:blipFill>
          <a:blip r:embed="rId1"/>
          <a:stretch/>
        </p:blipFill>
        <p:spPr>
          <a:xfrm>
            <a:off x="1371600" y="198108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ANd9GcTkHTYDWhhNL8dppiC8QBZB2Y98Zp-EpZyweDt15gniW3p8ya43jA"/>
          <p:cNvPicPr/>
          <p:nvPr/>
        </p:nvPicPr>
        <p:blipFill>
          <a:blip r:embed="rId2"/>
          <a:stretch/>
        </p:blipFill>
        <p:spPr>
          <a:xfrm>
            <a:off x="4800600" y="3333600"/>
            <a:ext cx="300024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imperia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izerskr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Nd9GcSfT9-yQ9KUMyrCB3b9USIyt8es5aaynGFtzDMbXjpG_KiucVBY"/>
          <p:cNvPicPr/>
          <p:nvPr/>
        </p:nvPicPr>
        <p:blipFill>
          <a:blip r:embed="rId1"/>
          <a:stretch/>
        </p:blipFill>
        <p:spPr>
          <a:xfrm>
            <a:off x="4952880" y="1905120"/>
            <a:ext cx="2971800" cy="222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ANd9GcTQI9ZY448Aqro__RsD9O6SL3ecuGfmsLM3ZAwah6pCO_AB22uahg"/>
          <p:cNvPicPr/>
          <p:nvPr/>
        </p:nvPicPr>
        <p:blipFill>
          <a:blip r:embed="rId2"/>
          <a:stretch/>
        </p:blipFill>
        <p:spPr>
          <a:xfrm>
            <a:off x="990720" y="19810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ANd9GcRddvDY8OuvhwfMj6jQ1Ad6EXzYGGCMIVA_UqNpTm9om40Y30_fcA"/>
          <p:cNvPicPr/>
          <p:nvPr/>
        </p:nvPicPr>
        <p:blipFill>
          <a:blip r:embed="rId3"/>
          <a:stretch/>
        </p:blipFill>
        <p:spPr>
          <a:xfrm>
            <a:off x="3733920" y="4419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ritillaria meleag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vitsei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ANd9GcQcUZNyG2_ozu1v4lJuEnsF40QKrJCEYOXDUM_-fJxgR3hYlFdi"/>
          <p:cNvPicPr/>
          <p:nvPr/>
        </p:nvPicPr>
        <p:blipFill>
          <a:blip r:embed="rId1"/>
          <a:stretch/>
        </p:blipFill>
        <p:spPr>
          <a:xfrm>
            <a:off x="1523880" y="2286000"/>
            <a:ext cx="2286000" cy="18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RIT146kVXuPSvQV91nIsd5rqG188pa5j70Ncnfy_Fkm6Ehd2-oIg"/>
          <p:cNvPicPr/>
          <p:nvPr/>
        </p:nvPicPr>
        <p:blipFill>
          <a:blip r:embed="rId2"/>
          <a:stretch/>
        </p:blipFill>
        <p:spPr>
          <a:xfrm>
            <a:off x="3276720" y="42670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ANd9GcReVwigzOu0-7M7KG7C4tv3C6FvpuhIrrK9bGdYxX6O0Yo_guRr"/>
          <p:cNvPicPr/>
          <p:nvPr/>
        </p:nvPicPr>
        <p:blipFill>
          <a:blip r:embed="rId3"/>
          <a:stretch/>
        </p:blipFill>
        <p:spPr>
          <a:xfrm>
            <a:off x="6019920" y="2133720"/>
            <a:ext cx="2019240" cy="2238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Houdijk</cp:lastModifiedBy>
  <dcterms:modified xsi:type="dcterms:W3CDTF">2011-10-11T11:57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