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  <p:custShowLst>
    <p:custShow name="Aangepaste voorstelling 1" id="0">
      <p:sldLst>
        <p:sld r:id="rId6"/>
        <p:sld r:id="rId10"/>
        <p:sld r:id="rId14"/>
        <p:sld r:id="rId18"/>
        <p:sld r:id="rId22"/>
        <p:sld r:id="rId26"/>
        <p:sld r:id="rId8"/>
        <p:sld r:id="rId12"/>
        <p:sld r:id="rId16"/>
        <p:sld r:id="rId20"/>
      </p:sldLst>
    </p:custShow>
    <p:custShow name="Aangepaste voorstelling 2" id="1">
      <p:sldLst>
        <p:sld r:id="rId7"/>
        <p:sld r:id="rId11"/>
        <p:sld r:id="rId15"/>
        <p:sld r:id="rId19"/>
        <p:sld r:id="rId23"/>
        <p:sld r:id="rId27"/>
        <p:sld r:id="rId9"/>
        <p:sld r:id="rId13"/>
        <p:sld r:id="rId17"/>
        <p:sld r:id="rId2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FE5C-5430-4C12-ACD0-21E9BA47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7667-708B-46AC-8707-D4F494E3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AB0B-0CEA-4C12-95B5-C2D5EDF1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C22-98B0-4303-836E-7C44FB81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5800-46FB-4D21-A68E-001298D1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517B-9B56-4581-85A1-1CF7B1CF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0D6F-B8DB-4739-9A9C-A130EE6A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88B0-EF33-4248-AD03-ADEE5CA1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7A18-DB59-4360-B333-F2E7BE3C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44E7-58C1-4536-84FE-028ED738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ADFE-9B8D-4B8B-99CF-A2EECF2C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513E-DF54-43F4-A56B-D9702464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E128-D8EC-4958-83FC-2E279B572CB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l- en knolgew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jaarsbloe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merbloe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alanthus niv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klo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3333600" y="2505240"/>
            <a:ext cx="24768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3333600" y="2505240"/>
            <a:ext cx="24768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3333600" y="2505240"/>
            <a:ext cx="24768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4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6" descr="galanthus_nivalis_close-up_aka"/>
          <p:cNvPicPr/>
          <p:nvPr/>
        </p:nvPicPr>
        <p:blipFill>
          <a:blip r:embed="rId1"/>
          <a:stretch/>
        </p:blipFill>
        <p:spPr>
          <a:xfrm>
            <a:off x="685800" y="1752480"/>
            <a:ext cx="3247920" cy="324828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1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2" descr="Galanthus_nivalis"/>
          <p:cNvPicPr/>
          <p:nvPr/>
        </p:nvPicPr>
        <p:blipFill>
          <a:blip r:embed="rId2"/>
          <a:stretch/>
        </p:blipFill>
        <p:spPr>
          <a:xfrm>
            <a:off x="4114800" y="1828800"/>
            <a:ext cx="4111560" cy="307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acinthoides hispan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de hyacint; boshyac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Q740-0401040"/>
          <p:cNvPicPr/>
          <p:nvPr/>
        </p:nvPicPr>
        <p:blipFill>
          <a:blip r:embed="rId1"/>
          <a:stretch/>
        </p:blipFill>
        <p:spPr>
          <a:xfrm>
            <a:off x="1447920" y="18288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acinthus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ac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ANd9GcQVsnHzC6Y3HMFCnFuTIIWzvWGoqHPfdv1pbBIQz5FdLnW-N0bMTw"/>
          <p:cNvPicPr/>
          <p:nvPr/>
        </p:nvPicPr>
        <p:blipFill>
          <a:blip r:embed="rId1"/>
          <a:stretch/>
        </p:blipFill>
        <p:spPr>
          <a:xfrm>
            <a:off x="5029200" y="1905120"/>
            <a:ext cx="3205080" cy="3205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ANd9GcR0ue48xDYoQXknZ9WFW2FmsXYfbimi10x3snwBAbrh0GdAYxKaiQ"/>
          <p:cNvPicPr/>
          <p:nvPr/>
        </p:nvPicPr>
        <p:blipFill>
          <a:blip r:embed="rId2"/>
          <a:stretch/>
        </p:blipFill>
        <p:spPr>
          <a:xfrm>
            <a:off x="1523880" y="2971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ris reticul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i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ANd9GcQ7rzokSdoz1nUPOb1t9S5OGPXxZ5IGMbw1gEKB0VNwBeyTtQey"/>
          <p:cNvPicPr/>
          <p:nvPr/>
        </p:nvPicPr>
        <p:blipFill>
          <a:blip r:embed="rId1"/>
          <a:stretch/>
        </p:blipFill>
        <p:spPr>
          <a:xfrm>
            <a:off x="1447920" y="2209680"/>
            <a:ext cx="2181240" cy="2095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ANd9GcS-sfw-EnPfkMUewiPI6M3EkOD-Jb26tBqqoEGag0b0MRHalJ2g"/>
          <p:cNvPicPr/>
          <p:nvPr/>
        </p:nvPicPr>
        <p:blipFill>
          <a:blip r:embed="rId2"/>
          <a:stretch/>
        </p:blipFill>
        <p:spPr>
          <a:xfrm>
            <a:off x="4724280" y="2198520"/>
            <a:ext cx="3133800" cy="255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uscari botry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 drui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ANd9GcTkwyiyxx2Il3-2xo_mcHYZvZirVQzmQ8Oz0JV1GUD0V5H73bEWUA"/>
          <p:cNvPicPr/>
          <p:nvPr/>
        </p:nvPicPr>
        <p:blipFill>
          <a:blip r:embed="rId1"/>
          <a:stretch/>
        </p:blipFill>
        <p:spPr>
          <a:xfrm>
            <a:off x="5715000" y="2286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ANd9GcQzFWlJ12vzxC0lM_vF5eHVgRl6gYySvUYAIjdErbp3QVe-SLAN"/>
          <p:cNvPicPr/>
          <p:nvPr/>
        </p:nvPicPr>
        <p:blipFill>
          <a:blip r:embed="rId2"/>
          <a:stretch/>
        </p:blipFill>
        <p:spPr>
          <a:xfrm>
            <a:off x="1600200" y="2286000"/>
            <a:ext cx="3200400" cy="2397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arcissus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rc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3328920" y="2509920"/>
            <a:ext cx="248616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Narcissus_Jetfire_JAY"/>
          <p:cNvPicPr/>
          <p:nvPr/>
        </p:nvPicPr>
        <p:blipFill>
          <a:blip r:embed="rId1"/>
          <a:stretch/>
        </p:blipFill>
        <p:spPr>
          <a:xfrm>
            <a:off x="990720" y="1905120"/>
            <a:ext cx="3743280" cy="2781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ANd9GcT84_hDXa9Ck9Vhw9SkM-TM81_-pUH9mc4bRA9xxQh3f9oTkfM87w"/>
          <p:cNvPicPr/>
          <p:nvPr/>
        </p:nvPicPr>
        <p:blipFill>
          <a:blip r:embed="rId2"/>
          <a:stretch/>
        </p:blipFill>
        <p:spPr>
          <a:xfrm>
            <a:off x="4800600" y="1752480"/>
            <a:ext cx="289080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rnithogalum umbellat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me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ornithogalum_umbellatum"/>
          <p:cNvPicPr/>
          <p:nvPr/>
        </p:nvPicPr>
        <p:blipFill>
          <a:blip r:embed="rId1"/>
          <a:stretch/>
        </p:blipFill>
        <p:spPr>
          <a:xfrm>
            <a:off x="2209680" y="2057400"/>
            <a:ext cx="4743720" cy="3557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cilla siber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rhyac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3629160" y="2219400"/>
            <a:ext cx="1885680" cy="24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ANd9GcQ4jEVu_N3cErExNtuEtd6u7JaYI4-Ptm2ro8eFzw7z1niskiwW"/>
          <p:cNvPicPr/>
          <p:nvPr/>
        </p:nvPicPr>
        <p:blipFill>
          <a:blip r:embed="rId1"/>
          <a:stretch/>
        </p:blipFill>
        <p:spPr>
          <a:xfrm>
            <a:off x="1295280" y="1981080"/>
            <a:ext cx="2373480" cy="33530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2"/>
          <p:cNvSpPr/>
          <p:nvPr/>
        </p:nvSpPr>
        <p:spPr>
          <a:xfrm>
            <a:off x="3581280" y="2276640"/>
            <a:ext cx="198144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Scilla_siberica_flower"/>
          <p:cNvPicPr/>
          <p:nvPr/>
        </p:nvPicPr>
        <p:blipFill>
          <a:blip r:embed="rId2"/>
          <a:stretch/>
        </p:blipFill>
        <p:spPr>
          <a:xfrm>
            <a:off x="4935600" y="2057400"/>
            <a:ext cx="2941560" cy="3409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ulipa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u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ANd9GcTatnCzbQDzizXaIqZ1VnA6qUxuk43IjCGc2f9NcR3B390P4auc"/>
          <p:cNvPicPr/>
          <p:nvPr/>
        </p:nvPicPr>
        <p:blipFill>
          <a:blip r:embed="rId1"/>
          <a:stretch/>
        </p:blipFill>
        <p:spPr>
          <a:xfrm>
            <a:off x="1828800" y="1523880"/>
            <a:ext cx="5424480" cy="4062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omerbloe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jaarsbloe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emone coronar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em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ANd9GcR6f2-OTxbWxHsJ8If5YN9sMukMo6XlxbDww0radxthXW8m4KZ-"/>
          <p:cNvPicPr/>
          <p:nvPr/>
        </p:nvPicPr>
        <p:blipFill>
          <a:blip r:embed="rId1"/>
          <a:stretch/>
        </p:blipFill>
        <p:spPr>
          <a:xfrm>
            <a:off x="1981080" y="1752480"/>
            <a:ext cx="4876920" cy="3652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gonia tuberhybrid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nolbeg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3505320" y="2362320"/>
            <a:ext cx="21333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6885"/>
          <p:cNvPicPr/>
          <p:nvPr/>
        </p:nvPicPr>
        <p:blipFill>
          <a:blip r:embed="rId1"/>
          <a:stretch/>
        </p:blipFill>
        <p:spPr>
          <a:xfrm>
            <a:off x="2133720" y="1676520"/>
            <a:ext cx="4647960" cy="464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nna ind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isch bloem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ANd9GcSq334ywSX4dhidhUQTdKM7mi3O9KDKBHkUsS7jPftaFhKGu9_Z"/>
          <p:cNvPicPr/>
          <p:nvPr/>
        </p:nvPicPr>
        <p:blipFill>
          <a:blip r:embed="rId1"/>
          <a:stretch/>
        </p:blipFill>
        <p:spPr>
          <a:xfrm>
            <a:off x="1295280" y="1752480"/>
            <a:ext cx="2876760" cy="4191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ANd9GcTDPmXR4NP2--i2ANTgS28Za18MSruEooWivNgDD_Cswwj5HyBo"/>
          <p:cNvPicPr/>
          <p:nvPr/>
        </p:nvPicPr>
        <p:blipFill>
          <a:blip r:embed="rId2"/>
          <a:stretch/>
        </p:blipFill>
        <p:spPr>
          <a:xfrm>
            <a:off x="4952880" y="2286000"/>
            <a:ext cx="3581640" cy="268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ahlia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h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3376440" y="2471760"/>
            <a:ext cx="239112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471840" y="2390760"/>
            <a:ext cx="2200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3471840" y="2390760"/>
            <a:ext cx="2200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3471840" y="2390760"/>
            <a:ext cx="2200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4" descr="ANd9GcTb-bdSN0myOzuIjAr3SnAzeahHEuYfOFRxLTm-9Tu_XxN68VsJ"/>
          <p:cNvPicPr/>
          <p:nvPr/>
        </p:nvPicPr>
        <p:blipFill>
          <a:blip r:embed="rId1"/>
          <a:stretch/>
        </p:blipFill>
        <p:spPr>
          <a:xfrm>
            <a:off x="914400" y="1828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ANd9GcQ3RpA0ZS93IkgMI5gJF8z1qa17oEDHT4NtWgyuEjxg57qdZmUW"/>
          <p:cNvPicPr/>
          <p:nvPr/>
        </p:nvPicPr>
        <p:blipFill>
          <a:blip r:embed="rId2"/>
          <a:stretch/>
        </p:blipFill>
        <p:spPr>
          <a:xfrm>
            <a:off x="5486400" y="182880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8"/>
          <p:cNvSpPr/>
          <p:nvPr/>
        </p:nvSpPr>
        <p:spPr>
          <a:xfrm>
            <a:off x="4114800" y="2971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0" descr="ANd9GcSGNfbVgP8NESZc0UJ-EqIahhWQJFHoMd3fKZToQa2cLaxiU5w4pQ"/>
          <p:cNvPicPr/>
          <p:nvPr/>
        </p:nvPicPr>
        <p:blipFill>
          <a:blip r:embed="rId3"/>
          <a:stretch/>
        </p:blipFill>
        <p:spPr>
          <a:xfrm>
            <a:off x="914400" y="41911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2" descr="ANd9GcT25X7JQXx78KaOXrNTYRqEOkvIjmxChhiLob1_BI6sGD-RlLW7"/>
          <p:cNvPicPr/>
          <p:nvPr/>
        </p:nvPicPr>
        <p:blipFill>
          <a:blip r:embed="rId4"/>
          <a:stretch/>
        </p:blipFill>
        <p:spPr>
          <a:xfrm>
            <a:off x="5943600" y="388620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4" descr="ANd9GcSCgJMJ4UUuDtE0jmIomM280MbuNL0fIJUMmn-kp7fPJHph1cWOgQ"/>
          <p:cNvPicPr/>
          <p:nvPr/>
        </p:nvPicPr>
        <p:blipFill>
          <a:blip r:embed="rId5"/>
          <a:stretch/>
        </p:blipFill>
        <p:spPr>
          <a:xfrm>
            <a:off x="3276720" y="320040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ladioles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ladi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352680" y="2514600"/>
            <a:ext cx="2438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3352680" y="2514600"/>
            <a:ext cx="2438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gladiole04_p1"/>
          <p:cNvPicPr/>
          <p:nvPr/>
        </p:nvPicPr>
        <p:blipFill>
          <a:blip r:embed="rId1"/>
          <a:stretch/>
        </p:blipFill>
        <p:spPr>
          <a:xfrm>
            <a:off x="1143000" y="19051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2"/>
          <p:cNvSpPr/>
          <p:nvPr/>
        </p:nvSpPr>
        <p:spPr>
          <a:xfrm>
            <a:off x="3519360" y="2471760"/>
            <a:ext cx="210528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4" descr="Gladiolus_cultivar"/>
          <p:cNvPicPr/>
          <p:nvPr/>
        </p:nvPicPr>
        <p:blipFill>
          <a:blip r:embed="rId2"/>
          <a:stretch/>
        </p:blipFill>
        <p:spPr>
          <a:xfrm>
            <a:off x="5257800" y="14479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lium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ANd9GcTPS4lON7her503vMmmyuWRQJQtGjuH4N1reUYCUZf_Qrn-JntIWQ"/>
          <p:cNvPicPr/>
          <p:nvPr/>
        </p:nvPicPr>
        <p:blipFill>
          <a:blip r:embed="rId1"/>
          <a:stretch/>
        </p:blipFill>
        <p:spPr>
          <a:xfrm>
            <a:off x="1523880" y="18288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ANd9GcSrGuEHbDZRz0rqIdqY2Qy_VKgU_yQtcnPz8fAGmoH8bUOSKTEb_g"/>
          <p:cNvPicPr/>
          <p:nvPr/>
        </p:nvPicPr>
        <p:blipFill>
          <a:blip r:embed="rId2"/>
          <a:stretch/>
        </p:blipFill>
        <p:spPr>
          <a:xfrm>
            <a:off x="5410080" y="1676520"/>
            <a:ext cx="2352960" cy="1942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ANd9GcQhFzPLYM_lxsUP-GQ4_Zw7ataKK5R15VC0OjG7TLh_AimQoBnmug"/>
          <p:cNvPicPr/>
          <p:nvPr/>
        </p:nvPicPr>
        <p:blipFill>
          <a:blip r:embed="rId3"/>
          <a:stretch/>
        </p:blipFill>
        <p:spPr>
          <a:xfrm>
            <a:off x="5867280" y="38098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ANd9GcRs9WlWaBa4d9esikEKqdKboeBhCYKNng2thGZ9ut7VLE_nBGK7"/>
          <p:cNvPicPr/>
          <p:nvPr/>
        </p:nvPicPr>
        <p:blipFill>
          <a:blip r:embed="rId4"/>
          <a:stretch/>
        </p:blipFill>
        <p:spPr>
          <a:xfrm>
            <a:off x="3505320" y="37339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lium moly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ANd9GcRfS8YfudDTFO0W6XVGDL41HtWpQa3eQviHPyu1s7WmNNmgEJfR"/>
          <p:cNvPicPr/>
          <p:nvPr/>
        </p:nvPicPr>
        <p:blipFill>
          <a:blip r:embed="rId1"/>
          <a:stretch/>
        </p:blipFill>
        <p:spPr>
          <a:xfrm>
            <a:off x="2286000" y="2362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ANd9GcTjPr_5U2dn0kqvmFybvz4_UhqJWXEfz9WDc-B4KGbgJP1nibX6"/>
          <p:cNvPicPr/>
          <p:nvPr/>
        </p:nvPicPr>
        <p:blipFill>
          <a:blip r:embed="rId2"/>
          <a:stretch/>
        </p:blipFill>
        <p:spPr>
          <a:xfrm>
            <a:off x="5486400" y="2971800"/>
            <a:ext cx="262908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emone bland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e anem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3809880" y="2666880"/>
            <a:ext cx="15242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anemone%20blanda"/>
          <p:cNvPicPr/>
          <p:nvPr/>
        </p:nvPicPr>
        <p:blipFill>
          <a:blip r:embed="rId1"/>
          <a:stretch/>
        </p:blipFill>
        <p:spPr>
          <a:xfrm>
            <a:off x="1219320" y="17524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ANd9GcRcZFuH09r2a-OJiGajZ8duBkMCskKw6nlu3AQhdrxubmSx7jhy"/>
          <p:cNvPicPr/>
          <p:nvPr/>
        </p:nvPicPr>
        <p:blipFill>
          <a:blip r:embed="rId2"/>
          <a:stretch/>
        </p:blipFill>
        <p:spPr>
          <a:xfrm>
            <a:off x="5562720" y="1752480"/>
            <a:ext cx="2609640" cy="1752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ionodoxa luciliae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r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ANd9GcT30Z1RoB2Te-DJzu9S1SlJkGbXPnHlqXebO-GfkknYJqxD7Vq4"/>
          <p:cNvPicPr/>
          <p:nvPr/>
        </p:nvPicPr>
        <p:blipFill>
          <a:blip r:embed="rId1"/>
          <a:stretch/>
        </p:blipFill>
        <p:spPr>
          <a:xfrm>
            <a:off x="838080" y="228600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ANd9GcRQKuSjtFv-UPnNkGlvgp3sT9Q8E7fpUPVOK0HzSLCwAgs-1hPZ"/>
          <p:cNvPicPr/>
          <p:nvPr/>
        </p:nvPicPr>
        <p:blipFill>
          <a:blip r:embed="rId2"/>
          <a:stretch/>
        </p:blipFill>
        <p:spPr>
          <a:xfrm>
            <a:off x="4724280" y="1905120"/>
            <a:ext cx="3505320" cy="2806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rocus vern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o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ANd9GcRdtY6UqDs0uOx2FEwLaKXvfQ2ENnoZG-wSrQjS2nrz7q9ZD3aWmw"/>
          <p:cNvPicPr/>
          <p:nvPr/>
        </p:nvPicPr>
        <p:blipFill>
          <a:blip r:embed="rId1"/>
          <a:stretch/>
        </p:blipFill>
        <p:spPr>
          <a:xfrm>
            <a:off x="1447920" y="228600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ANd9GcT16wBIvssYsbJ9Awe7MBmfzOwFMP1yDkO9qM8ipMWSZLEnu-_2dg"/>
          <p:cNvPicPr/>
          <p:nvPr/>
        </p:nvPicPr>
        <p:blipFill>
          <a:blip r:embed="rId2"/>
          <a:stretch/>
        </p:blipFill>
        <p:spPr>
          <a:xfrm>
            <a:off x="5486400" y="2286000"/>
            <a:ext cx="1981080" cy="230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ranthis hyemal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nterakon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ANd9GcQCDQ0oRhRqDQ6e2GNNv3oa1KMxBYqcUlRtHFGzP58XLRJMhO74"/>
          <p:cNvPicPr/>
          <p:nvPr/>
        </p:nvPicPr>
        <p:blipFill>
          <a:blip r:embed="rId1"/>
          <a:stretch/>
        </p:blipFill>
        <p:spPr>
          <a:xfrm>
            <a:off x="1371600" y="1981080"/>
            <a:ext cx="3200400" cy="2122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ANd9GcTkHTYDWhhNL8dppiC8QBZB2Y98Zp-EpZyweDt15gniW3p8ya43jA"/>
          <p:cNvPicPr/>
          <p:nvPr/>
        </p:nvPicPr>
        <p:blipFill>
          <a:blip r:embed="rId2"/>
          <a:stretch/>
        </p:blipFill>
        <p:spPr>
          <a:xfrm>
            <a:off x="4800600" y="3333600"/>
            <a:ext cx="300024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ritillaria imperial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izerskr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Nd9GcSfT9-yQ9KUMyrCB3b9USIyt8es5aaynGFtzDMbXjpG_KiucVBY"/>
          <p:cNvPicPr/>
          <p:nvPr/>
        </p:nvPicPr>
        <p:blipFill>
          <a:blip r:embed="rId1"/>
          <a:stretch/>
        </p:blipFill>
        <p:spPr>
          <a:xfrm>
            <a:off x="4952880" y="1905120"/>
            <a:ext cx="2971800" cy="222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ANd9GcTQI9ZY448Aqro__RsD9O6SL3ecuGfmsLM3ZAwah6pCO_AB22uahg"/>
          <p:cNvPicPr/>
          <p:nvPr/>
        </p:nvPicPr>
        <p:blipFill>
          <a:blip r:embed="rId2"/>
          <a:stretch/>
        </p:blipFill>
        <p:spPr>
          <a:xfrm>
            <a:off x="990720" y="198108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ANd9GcRddvDY8OuvhwfMj6jQ1Ad6EXzYGGCMIVA_UqNpTm9om40Y30_fcA"/>
          <p:cNvPicPr/>
          <p:nvPr/>
        </p:nvPicPr>
        <p:blipFill>
          <a:blip r:embed="rId3"/>
          <a:stretch/>
        </p:blipFill>
        <p:spPr>
          <a:xfrm>
            <a:off x="3733920" y="44197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ritillaria meleagr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ievitsei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ANd9GcQcUZNyG2_ozu1v4lJuEnsF40QKrJCEYOXDUM_-fJxgR3hYlFdi"/>
          <p:cNvPicPr/>
          <p:nvPr/>
        </p:nvPicPr>
        <p:blipFill>
          <a:blip r:embed="rId1"/>
          <a:stretch/>
        </p:blipFill>
        <p:spPr>
          <a:xfrm>
            <a:off x="1523880" y="2286000"/>
            <a:ext cx="2286000" cy="1866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ANd9GcRIT146kVXuPSvQV91nIsd5rqG188pa5j70Ncnfy_Fkm6Ehd2-oIg"/>
          <p:cNvPicPr/>
          <p:nvPr/>
        </p:nvPicPr>
        <p:blipFill>
          <a:blip r:embed="rId2"/>
          <a:stretch/>
        </p:blipFill>
        <p:spPr>
          <a:xfrm>
            <a:off x="3276720" y="42670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ANd9GcReVwigzOu0-7M7KG7C4tv3C6FvpuhIrrK9bGdYxX6O0Yo_guRr"/>
          <p:cNvPicPr/>
          <p:nvPr/>
        </p:nvPicPr>
        <p:blipFill>
          <a:blip r:embed="rId3"/>
          <a:stretch/>
        </p:blipFill>
        <p:spPr>
          <a:xfrm>
            <a:off x="6019920" y="2133720"/>
            <a:ext cx="2019240" cy="2238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0-11T11:57:5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