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Aangepaste voorstelling 1" id="0">
      <p:sldLst>
        <p:sld r:id="rId4"/>
        <p:sld r:id="rId6"/>
        <p:sld r:id="rId8"/>
        <p:sld r:id="rId10"/>
        <p:sld r:id="rId12"/>
        <p:sld r:id="rId14"/>
        <p:sld r:id="rId16"/>
        <p:sld r:id="rId18"/>
        <p:sld r:id="rId20"/>
        <p:sld r:id="rId22"/>
      </p:sldLst>
    </p:custShow>
    <p:custShow name="Aangepaste voorstelling 2" id="1">
      <p:sldLst>
        <p:sld r:id="rId5"/>
        <p:sld r:id="rId7"/>
        <p:sld r:id="rId9"/>
        <p:sld r:id="rId11"/>
        <p:sld r:id="rId13"/>
        <p:sld r:id="rId15"/>
        <p:sld r:id="rId17"/>
        <p:sld r:id="rId19"/>
        <p:sld r:id="rId21"/>
        <p:sld r:id="rId2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77E0-6B4E-49A3-82AA-ABA026A2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9EF-EDBE-4ACD-9004-29333CD1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F29-7553-4960-9799-C93F6594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9FB4-185C-414A-A2B4-635AF338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06A-3FF4-4743-9F41-6BB1BC24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BE0E-3F01-4335-A519-324572FD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57C-0672-49B3-944B-68894861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7BD-D10F-49EF-A8F8-C525EAFE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376A-FF82-490C-B9B6-11EF7D12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F19-3B71-48A9-A4C5-0EF68A6A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7EB-5005-4FAC-A951-5DA02933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A57-C219-4551-A78E-34E49259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BE6F-5EDB-4B7F-BD59-2CB253F733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image" Target="../media/image8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image" Target="../media/image87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image" Target="../media/image99.jpeg"/><Relationship Id="rId3" Type="http://schemas.openxmlformats.org/officeDocument/2006/relationships/image" Target="../media/image100.jpeg"/><Relationship Id="rId4" Type="http://schemas.openxmlformats.org/officeDocument/2006/relationships/image" Target="../media/image101.jpeg"/><Relationship Id="rId5" Type="http://schemas.openxmlformats.org/officeDocument/2006/relationships/image" Target="../media/image10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image" Target="../media/image10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plants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agus sylvat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fagus-sylvatica-5"/>
          <p:cNvPicPr/>
          <p:nvPr/>
        </p:nvPicPr>
        <p:blipFill>
          <a:blip r:embed="rId1"/>
          <a:stretch/>
        </p:blipFill>
        <p:spPr>
          <a:xfrm>
            <a:off x="990720" y="1600200"/>
            <a:ext cx="2438280" cy="1832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ANd9GcS8GKmgyiDYeuj51HZROHYOHPqi-38z6MaP_D6AIFtfR9qNLkqjpw"/>
          <p:cNvPicPr/>
          <p:nvPr/>
        </p:nvPicPr>
        <p:blipFill>
          <a:blip r:embed="rId2"/>
          <a:stretch/>
        </p:blipFill>
        <p:spPr>
          <a:xfrm>
            <a:off x="990720" y="4572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ANd9GcTpyc62wjSbBjwmKrqZKzeUIEZre3H4cRrJUSeDpYTxg6iQQQuk"/>
          <p:cNvPicPr/>
          <p:nvPr/>
        </p:nvPicPr>
        <p:blipFill>
          <a:blip r:embed="rId3"/>
          <a:stretch/>
        </p:blipFill>
        <p:spPr>
          <a:xfrm>
            <a:off x="3505320" y="4419720"/>
            <a:ext cx="2238120" cy="1676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ANd9GcTaKFtpkVvTReswn6VgDhehC7CaD0iVUL833wWsJNUf_RBKmsTZ"/>
          <p:cNvPicPr/>
          <p:nvPr/>
        </p:nvPicPr>
        <p:blipFill>
          <a:blip r:embed="rId4"/>
          <a:stretch/>
        </p:blipFill>
        <p:spPr>
          <a:xfrm>
            <a:off x="3581280" y="16002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ANd9GcQUPl2WMdIWQP5471I6Na3odZ8nG9UjS0roe-ILceSArKwkMmBq"/>
          <p:cNvPicPr/>
          <p:nvPr/>
        </p:nvPicPr>
        <p:blipFill>
          <a:blip r:embed="rId5"/>
          <a:stretch/>
        </p:blipFill>
        <p:spPr>
          <a:xfrm>
            <a:off x="6553080" y="3657600"/>
            <a:ext cx="1719360" cy="2514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ANd9GcQXWHFGXB6mgOuYKXXsFljtztF9Vn-NbiWtsW6nTPZOMJf-cAI0ow"/>
          <p:cNvPicPr/>
          <p:nvPr/>
        </p:nvPicPr>
        <p:blipFill>
          <a:blip r:embed="rId6"/>
          <a:stretch/>
        </p:blipFill>
        <p:spPr>
          <a:xfrm>
            <a:off x="6477120" y="762120"/>
            <a:ext cx="17748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axinus excelsio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ANd9GcQonzGbUaMT0wzeFZ4daE4T5Rmn7fnAZv_62dyEylnpg640Uu7U"/>
          <p:cNvPicPr/>
          <p:nvPr/>
        </p:nvPicPr>
        <p:blipFill>
          <a:blip r:embed="rId1"/>
          <a:stretch/>
        </p:blipFill>
        <p:spPr>
          <a:xfrm>
            <a:off x="1143000" y="152388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ANd9GcS4o9TQGBuKQ0LmLPJInnOnt2u3v4SCUpQyFwN_1DimrDfTQGkO"/>
          <p:cNvPicPr/>
          <p:nvPr/>
        </p:nvPicPr>
        <p:blipFill>
          <a:blip r:embed="rId2"/>
          <a:stretch/>
        </p:blipFill>
        <p:spPr>
          <a:xfrm>
            <a:off x="1143000" y="3733920"/>
            <a:ext cx="1754280" cy="233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ANd9GcT6cKKD4jx9EuEOdTIYJ5mACnYuxNsKyaPWQt338yyxyUmjV44K"/>
          <p:cNvPicPr/>
          <p:nvPr/>
        </p:nvPicPr>
        <p:blipFill>
          <a:blip r:embed="rId3"/>
          <a:stretch/>
        </p:blipFill>
        <p:spPr>
          <a:xfrm>
            <a:off x="609588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Nd9GcSkX_0FeECvrCjOYmDtpr87CyVpuro-XlqfVcd0LR0EBZSyKWRS"/>
          <p:cNvPicPr/>
          <p:nvPr/>
        </p:nvPicPr>
        <p:blipFill>
          <a:blip r:embed="rId4"/>
          <a:stretch/>
        </p:blipFill>
        <p:spPr>
          <a:xfrm>
            <a:off x="32767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ANd9GcSf4E9SMkl4qbSeIkHXVJFSqcvK2qq3rzobwmhKx38woXfBzF4dvg"/>
          <p:cNvPicPr/>
          <p:nvPr/>
        </p:nvPicPr>
        <p:blipFill>
          <a:blip r:embed="rId5"/>
          <a:stretch/>
        </p:blipFill>
        <p:spPr>
          <a:xfrm>
            <a:off x="5562720" y="1447920"/>
            <a:ext cx="292392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al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eel; witt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3747960" y="2809800"/>
            <a:ext cx="1648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ANd9GcSJqqqsLj00OGlhNtvoclLaOnqGr8dh7WtDlZ6NE0116516YeWA9A"/>
          <p:cNvPicPr/>
          <p:nvPr/>
        </p:nvPicPr>
        <p:blipFill>
          <a:blip r:embed="rId1"/>
          <a:stretch/>
        </p:blipFill>
        <p:spPr>
          <a:xfrm>
            <a:off x="647712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Populus_alba_trunk"/>
          <p:cNvPicPr/>
          <p:nvPr/>
        </p:nvPicPr>
        <p:blipFill>
          <a:blip r:embed="rId2"/>
          <a:stretch/>
        </p:blipFill>
        <p:spPr>
          <a:xfrm>
            <a:off x="5943600" y="42670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ANd9GcT8roO4TgydGKjYIo-Jb-ovSNUNqYQjXoEbSuG8Hv-rnlXwTN42"/>
          <p:cNvPicPr/>
          <p:nvPr/>
        </p:nvPicPr>
        <p:blipFill>
          <a:blip r:embed="rId3"/>
          <a:stretch/>
        </p:blipFill>
        <p:spPr>
          <a:xfrm>
            <a:off x="3657600" y="2133720"/>
            <a:ext cx="2089080" cy="3138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ANd9GcRB0asRiKO9tX-oQKDzQlSpZ3OlDOZc4Orj-pPeLggRkFYJMleX"/>
          <p:cNvPicPr/>
          <p:nvPr/>
        </p:nvPicPr>
        <p:blipFill>
          <a:blip r:embed="rId4"/>
          <a:stretch/>
        </p:blipFill>
        <p:spPr>
          <a:xfrm>
            <a:off x="914400" y="1295280"/>
            <a:ext cx="223524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ANd9GcTWqoyE2TMwKjnee7o143G28-LEKGooiPu6woB7I-vNdoQHZasO"/>
          <p:cNvPicPr/>
          <p:nvPr/>
        </p:nvPicPr>
        <p:blipFill>
          <a:blip r:embed="rId5"/>
          <a:stretch/>
        </p:blipFill>
        <p:spPr>
          <a:xfrm>
            <a:off x="838080" y="43434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canadens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nades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ANd9GcQIGZhyVU-jiKqUup3cRrX5Q4ugps5CylLBxnTZyKlsz7CYuYWDKg"/>
          <p:cNvPicPr/>
          <p:nvPr/>
        </p:nvPicPr>
        <p:blipFill>
          <a:blip r:embed="rId1"/>
          <a:stretch/>
        </p:blipFill>
        <p:spPr>
          <a:xfrm>
            <a:off x="1295280" y="144792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ANd9GcSAQ0dCHSUSlLNNtpCES0weiJXyDcVqbzLV_tkfw4Pbh7qzDJkD"/>
          <p:cNvPicPr/>
          <p:nvPr/>
        </p:nvPicPr>
        <p:blipFill>
          <a:blip r:embed="rId2"/>
          <a:stretch/>
        </p:blipFill>
        <p:spPr>
          <a:xfrm>
            <a:off x="4038480" y="2362320"/>
            <a:ext cx="2283120" cy="3047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ANd9GcSlA3MhyTftdBaWEky7iTFpFHv_eURoBRe1dX2KwaEhcOK6T_LGNQ"/>
          <p:cNvPicPr/>
          <p:nvPr/>
        </p:nvPicPr>
        <p:blipFill>
          <a:blip r:embed="rId3"/>
          <a:stretch/>
        </p:blipFill>
        <p:spPr>
          <a:xfrm>
            <a:off x="1295280" y="3429000"/>
            <a:ext cx="1752840" cy="261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ANd9GcQsG58NWMs6HEZAck-fFe7_5biAlD6cEpiT9ZIFCTbDkkXL_HRu"/>
          <p:cNvPicPr/>
          <p:nvPr/>
        </p:nvPicPr>
        <p:blipFill>
          <a:blip r:embed="rId4"/>
          <a:stretch/>
        </p:blipFill>
        <p:spPr>
          <a:xfrm>
            <a:off x="6705720" y="1447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d9GcRWRtdCvTHJx8VRyNJFcSsWEDsrhzymZG59XnWdXytaLGXcHFjVdg"/>
          <p:cNvPicPr/>
          <p:nvPr/>
        </p:nvPicPr>
        <p:blipFill>
          <a:blip r:embed="rId5"/>
          <a:stretch/>
        </p:blipFill>
        <p:spPr>
          <a:xfrm>
            <a:off x="6477120" y="4191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avi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kers+ boskr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3676680" y="2833560"/>
            <a:ext cx="1790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Prunus_avium"/>
          <p:cNvPicPr/>
          <p:nvPr/>
        </p:nvPicPr>
        <p:blipFill>
          <a:blip r:embed="rId1"/>
          <a:stretch/>
        </p:blipFill>
        <p:spPr>
          <a:xfrm>
            <a:off x="3124080" y="2362320"/>
            <a:ext cx="3124440" cy="2082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ANd9GcSLepjISdWXmcZFMCxN0pa0uAJkzXnjNeZu8KBHyUKuTrNlOVy5"/>
          <p:cNvPicPr/>
          <p:nvPr/>
        </p:nvPicPr>
        <p:blipFill>
          <a:blip r:embed="rId2"/>
          <a:stretch/>
        </p:blipFill>
        <p:spPr>
          <a:xfrm>
            <a:off x="838080" y="36576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Nd9GcSzCuGkyP8zWlXok3lm7EhdzKnhduVWQ2pqxJZ33iZNIzCkH566"/>
          <p:cNvPicPr/>
          <p:nvPr/>
        </p:nvPicPr>
        <p:blipFill>
          <a:blip r:embed="rId3"/>
          <a:stretch/>
        </p:blipFill>
        <p:spPr>
          <a:xfrm>
            <a:off x="6324480" y="4267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ANd9GcTGLoI7lmt92mBrDjXETNiTP2_Ly72uHMZ3GIF9QT-14134U0c"/>
          <p:cNvPicPr/>
          <p:nvPr/>
        </p:nvPicPr>
        <p:blipFill>
          <a:blip r:embed="rId4"/>
          <a:stretch/>
        </p:blipFill>
        <p:spPr>
          <a:xfrm>
            <a:off x="838080" y="9144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ANd9GcQg2mGZtHEaCK9_DRLTND43h3GW7nMpg9Dn1IRlxMAxC7uO4Een"/>
          <p:cNvPicPr/>
          <p:nvPr/>
        </p:nvPicPr>
        <p:blipFill>
          <a:blip r:embed="rId5"/>
          <a:stretch/>
        </p:blipFill>
        <p:spPr>
          <a:xfrm>
            <a:off x="6858000" y="1371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robu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quercus-robur-tree-traditional"/>
          <p:cNvPicPr/>
          <p:nvPr/>
        </p:nvPicPr>
        <p:blipFill>
          <a:blip r:embed="rId1"/>
          <a:stretch/>
        </p:blipFill>
        <p:spPr>
          <a:xfrm>
            <a:off x="3200400" y="2438280"/>
            <a:ext cx="2981160" cy="2738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ANd9GcTGXEYGzyGL-S7EScLsHrFWyyLyifdXAoJq4sJ6zLN2PLazuSQI"/>
          <p:cNvPicPr/>
          <p:nvPr/>
        </p:nvPicPr>
        <p:blipFill>
          <a:blip r:embed="rId2"/>
          <a:stretch/>
        </p:blipFill>
        <p:spPr>
          <a:xfrm>
            <a:off x="533520" y="39625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ANd9GcRRUhzZGci2WMX-HDeiBiQsxYoj0NF_PL5ZEF6g0JFbDkb5Aznv"/>
          <p:cNvPicPr/>
          <p:nvPr/>
        </p:nvPicPr>
        <p:blipFill>
          <a:blip r:embed="rId3"/>
          <a:stretch/>
        </p:blipFill>
        <p:spPr>
          <a:xfrm>
            <a:off x="609480" y="1143000"/>
            <a:ext cx="1828800" cy="2476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ANd9GcQIleWIXcCOsujsh-dA7FSc045QSeksWni3U210GANE-y__3w5P0w"/>
          <p:cNvPicPr/>
          <p:nvPr/>
        </p:nvPicPr>
        <p:blipFill>
          <a:blip r:embed="rId4"/>
          <a:stretch/>
        </p:blipFill>
        <p:spPr>
          <a:xfrm>
            <a:off x="6248520" y="1295280"/>
            <a:ext cx="2485800" cy="1838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ANd9GcSp8EBCGmePbQKu6E70FAC3GPFYi1f4wD3zoIt2aDmvFKBZe81VFw"/>
          <p:cNvPicPr/>
          <p:nvPr/>
        </p:nvPicPr>
        <p:blipFill>
          <a:blip r:embed="rId5"/>
          <a:stretch/>
        </p:blipFill>
        <p:spPr>
          <a:xfrm>
            <a:off x="6248520" y="4133880"/>
            <a:ext cx="2361960" cy="177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rubr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erikaanse 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ANd9GcTsXtR7rmzsHQzXvfBSo268x0RjGQqwaboBTmxeapDbapUFqq9r"/>
          <p:cNvPicPr/>
          <p:nvPr/>
        </p:nvPicPr>
        <p:blipFill>
          <a:blip r:embed="rId1"/>
          <a:stretch/>
        </p:blipFill>
        <p:spPr>
          <a:xfrm>
            <a:off x="3048120" y="2438280"/>
            <a:ext cx="3214440" cy="24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ANd9GcQP_bXH5lwXB-cTjuNITsqpKkG1i3lFgYnv5c3d0rdwJu9epfLy"/>
          <p:cNvPicPr/>
          <p:nvPr/>
        </p:nvPicPr>
        <p:blipFill>
          <a:blip r:embed="rId2"/>
          <a:stretch/>
        </p:blipFill>
        <p:spPr>
          <a:xfrm>
            <a:off x="609480" y="3962520"/>
            <a:ext cx="2266920" cy="2019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ANd9GcTIe8LT9R3brcHw-C7X0v4bXiU8d3Rt6eTdLmHFrYvdtUNtqbM-kg"/>
          <p:cNvPicPr/>
          <p:nvPr/>
        </p:nvPicPr>
        <p:blipFill>
          <a:blip r:embed="rId3"/>
          <a:stretch/>
        </p:blipFill>
        <p:spPr>
          <a:xfrm>
            <a:off x="685800" y="1447920"/>
            <a:ext cx="2124000" cy="2152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ANd9GcS41wxNKUUojt91Cm01OXpKULVEd64tXxW9acde9iEQ3zA57MYU6A"/>
          <p:cNvPicPr/>
          <p:nvPr/>
        </p:nvPicPr>
        <p:blipFill>
          <a:blip r:embed="rId4"/>
          <a:stretch/>
        </p:blipFill>
        <p:spPr>
          <a:xfrm>
            <a:off x="6248520" y="13716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ANd9GcTv0hnE3q594ICJ02tFmMRphDY-VzNtAUlCH8uTP47oMTt8Qyh1"/>
          <p:cNvPicPr/>
          <p:nvPr/>
        </p:nvPicPr>
        <p:blipFill>
          <a:blip r:embed="rId5"/>
          <a:stretch/>
        </p:blipFill>
        <p:spPr>
          <a:xfrm>
            <a:off x="6400800" y="4267080"/>
            <a:ext cx="2190600" cy="1679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binia pseudoacac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lse ac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ANd9GcSdF4bbCF6jGOdnJbIj790ev8gd0PhYl_z0uqaPYN5H8_bqpkEt"/>
          <p:cNvPicPr/>
          <p:nvPr/>
        </p:nvPicPr>
        <p:blipFill>
          <a:blip r:embed="rId1"/>
          <a:stretch/>
        </p:blipFill>
        <p:spPr>
          <a:xfrm>
            <a:off x="1066680" y="114300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8"/>
          <p:cNvSpPr/>
          <p:nvPr/>
        </p:nvSpPr>
        <p:spPr>
          <a:xfrm>
            <a:off x="4000680" y="2666880"/>
            <a:ext cx="1143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Witte_acacia__Robinia_pseudoacacia__Black_locustimg_4231"/>
          <p:cNvPicPr/>
          <p:nvPr/>
        </p:nvPicPr>
        <p:blipFill>
          <a:blip r:embed="rId2"/>
          <a:stretch/>
        </p:blipFill>
        <p:spPr>
          <a:xfrm>
            <a:off x="1066680" y="3733920"/>
            <a:ext cx="1881360" cy="2514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ANd9GcSvvzmr4NDS1IeiSLYYOa235-0kyj1Y_8-SPS5trlQNW8uBAuom"/>
          <p:cNvPicPr/>
          <p:nvPr/>
        </p:nvPicPr>
        <p:blipFill>
          <a:blip r:embed="rId3"/>
          <a:stretch/>
        </p:blipFill>
        <p:spPr>
          <a:xfrm>
            <a:off x="6172200" y="1066680"/>
            <a:ext cx="2324160" cy="1971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ANd9GcSs-IVyA7UwGyXCReb3F2MfGu7Mcc39OIRQNwlCsw3EAyDNrE1mZA"/>
          <p:cNvPicPr/>
          <p:nvPr/>
        </p:nvPicPr>
        <p:blipFill>
          <a:blip r:embed="rId4"/>
          <a:stretch/>
        </p:blipFill>
        <p:spPr>
          <a:xfrm>
            <a:off x="3429000" y="1371600"/>
            <a:ext cx="2543040" cy="27432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6"/>
          <p:cNvSpPr/>
          <p:nvPr/>
        </p:nvSpPr>
        <p:spPr>
          <a:xfrm>
            <a:off x="3452760" y="2405160"/>
            <a:ext cx="223848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8" descr="Robinia"/>
          <p:cNvPicPr/>
          <p:nvPr/>
        </p:nvPicPr>
        <p:blipFill>
          <a:blip r:embed="rId5"/>
          <a:stretch/>
        </p:blipFill>
        <p:spPr>
          <a:xfrm>
            <a:off x="3657600" y="4419720"/>
            <a:ext cx="1995480" cy="1825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ANd9GcTYZ2-Txn2nOXZRGS3QyZvMdmx1I_mQMK8vynFfMssh5Sd1t9gN"/>
          <p:cNvPicPr/>
          <p:nvPr/>
        </p:nvPicPr>
        <p:blipFill>
          <a:blip r:embed="rId6"/>
          <a:stretch/>
        </p:blipFill>
        <p:spPr>
          <a:xfrm>
            <a:off x="6362640" y="3352680"/>
            <a:ext cx="219096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al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et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ANd9GcTYG7vfUMLFXHwU1WW397Nou0-cKkd9cqvkNYHeW5JCkloiXxFh"/>
          <p:cNvPicPr/>
          <p:nvPr/>
        </p:nvPicPr>
        <p:blipFill>
          <a:blip r:embed="rId1"/>
          <a:stretch/>
        </p:blipFill>
        <p:spPr>
          <a:xfrm>
            <a:off x="3581280" y="2209680"/>
            <a:ext cx="2351160" cy="3138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ANd9GcQvfYfP5-K62IvyfXxIyvD4rBgAZ5cCpZYqasGnF9MpDP_GwtMDpw"/>
          <p:cNvPicPr/>
          <p:nvPr/>
        </p:nvPicPr>
        <p:blipFill>
          <a:blip r:embed="rId2"/>
          <a:stretch/>
        </p:blipFill>
        <p:spPr>
          <a:xfrm>
            <a:off x="6324480" y="3962520"/>
            <a:ext cx="2276640" cy="20095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ANd9GcTjzx3qOS_gARQY21PhWZY37hNLw6zcUQ5Yon6kgiOUzLtstYpf0A"/>
          <p:cNvPicPr/>
          <p:nvPr/>
        </p:nvPicPr>
        <p:blipFill>
          <a:blip r:embed="rId3"/>
          <a:stretch/>
        </p:blipFill>
        <p:spPr>
          <a:xfrm>
            <a:off x="1143000" y="9907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ANd9GcQVchnfEgD0dkzzE35aXZFQjFxcIRsH5nFeHTbkC1NvSZu-iD-B"/>
          <p:cNvPicPr/>
          <p:nvPr/>
        </p:nvPicPr>
        <p:blipFill>
          <a:blip r:embed="rId4"/>
          <a:stretch/>
        </p:blipFill>
        <p:spPr>
          <a:xfrm>
            <a:off x="685800" y="4191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ANd9GcQy1R5k-PaK2rgm8_ldGBj0UByJNbcBvyRJPlfESZUhUT1YKJP-"/>
          <p:cNvPicPr/>
          <p:nvPr/>
        </p:nvPicPr>
        <p:blipFill>
          <a:blip r:embed="rId5"/>
          <a:stretch/>
        </p:blipFill>
        <p:spPr>
          <a:xfrm>
            <a:off x="6477120" y="838080"/>
            <a:ext cx="18763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aucup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jste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ANd9GcTBJ2GvrKH_4X-wuF99yLOjOvQ6jBLNEDoMMPe7fzIp2L4M9Dd1Lw"/>
          <p:cNvPicPr/>
          <p:nvPr/>
        </p:nvPicPr>
        <p:blipFill>
          <a:blip r:embed="rId1"/>
          <a:stretch/>
        </p:blipFill>
        <p:spPr>
          <a:xfrm>
            <a:off x="914400" y="3886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8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ANd9GcSkQqUEj15s_PYQSpfehNYgdy1LDFdeVHrpReUEizKFafhnqtWl"/>
          <p:cNvPicPr/>
          <p:nvPr/>
        </p:nvPicPr>
        <p:blipFill>
          <a:blip r:embed="rId2"/>
          <a:stretch/>
        </p:blipFill>
        <p:spPr>
          <a:xfrm>
            <a:off x="3581280" y="1981080"/>
            <a:ext cx="2444760" cy="28195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0" descr="sorbus_aucuparia_wilde_lijsterbes_bloeiwijze"/>
          <p:cNvPicPr/>
          <p:nvPr/>
        </p:nvPicPr>
        <p:blipFill>
          <a:blip r:embed="rId3"/>
          <a:stretch/>
        </p:blipFill>
        <p:spPr>
          <a:xfrm>
            <a:off x="304920" y="13716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ANd9GcQug4z02VB8kamysKZLxUQX9snrM7XEsYnmrue4KJ5Yh7uDEpS_"/>
          <p:cNvPicPr/>
          <p:nvPr/>
        </p:nvPicPr>
        <p:blipFill>
          <a:blip r:embed="rId4"/>
          <a:stretch/>
        </p:blipFill>
        <p:spPr>
          <a:xfrm>
            <a:off x="6248520" y="3733920"/>
            <a:ext cx="2124000" cy="2152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ANd9GcRQ1IGmXZ-2zUVhpHyn0Q-UeEr2U8l_JbSXGID9cBjGM7UAJfVmkg"/>
          <p:cNvPicPr/>
          <p:nvPr/>
        </p:nvPicPr>
        <p:blipFill>
          <a:blip r:embed="rId5"/>
          <a:stretch/>
        </p:blipFill>
        <p:spPr>
          <a:xfrm>
            <a:off x="6172200" y="1371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lantanoide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ANd9GcTmJ3B22sId9be8QL5ULn8TzNDd41rkffqph71DaIvLVLEnQ0Zx"/>
          <p:cNvPicPr/>
          <p:nvPr/>
        </p:nvPicPr>
        <p:blipFill>
          <a:blip r:embed="rId1"/>
          <a:stretch/>
        </p:blipFill>
        <p:spPr>
          <a:xfrm>
            <a:off x="1219320" y="190512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ANd9GcQrfOZZJ9c5W5CY2TSHLWmJ7moYlnLRVBT0MsjuEImouyCjoTIw"/>
          <p:cNvPicPr/>
          <p:nvPr/>
        </p:nvPicPr>
        <p:blipFill>
          <a:blip r:embed="rId2"/>
          <a:stretch/>
        </p:blipFill>
        <p:spPr>
          <a:xfrm>
            <a:off x="6781680" y="1676520"/>
            <a:ext cx="152424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ANd9GcTQE-fbS-duHhuCFt5jzH25vDnApYVr-Me8QgmkdDBot__UV8oB"/>
          <p:cNvPicPr/>
          <p:nvPr/>
        </p:nvPicPr>
        <p:blipFill>
          <a:blip r:embed="rId3"/>
          <a:stretch/>
        </p:blipFill>
        <p:spPr>
          <a:xfrm>
            <a:off x="4038480" y="2514600"/>
            <a:ext cx="2333880" cy="2800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ANd9GcQJjX_gSX4de6XWLUg0Vnmeie0DOB9yT5AlwaZSA16ht26EcUFRNA"/>
          <p:cNvPicPr/>
          <p:nvPr/>
        </p:nvPicPr>
        <p:blipFill>
          <a:blip r:embed="rId4"/>
          <a:stretch/>
        </p:blipFill>
        <p:spPr>
          <a:xfrm>
            <a:off x="1143000" y="41148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ANd9GcTyUEz5mbBvWLmQ8QOEO5hJGXYdtIbeJqMVE4huMr89PtolxBe2"/>
          <p:cNvPicPr/>
          <p:nvPr/>
        </p:nvPicPr>
        <p:blipFill>
          <a:blip r:embed="rId5"/>
          <a:stretch/>
        </p:blipFill>
        <p:spPr>
          <a:xfrm>
            <a:off x="647712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cor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ANd9GcTXiAFbc6ys3wVpTifypoAtwqobtSd7FaZ8Hhuo94jYLOvJOMES"/>
          <p:cNvPicPr/>
          <p:nvPr/>
        </p:nvPicPr>
        <p:blipFill>
          <a:blip r:embed="rId1"/>
          <a:stretch/>
        </p:blipFill>
        <p:spPr>
          <a:xfrm>
            <a:off x="1066680" y="1523880"/>
            <a:ext cx="2276640" cy="2009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ANd9GcTw0ALicTnkWvfAm6n1cMP2b0tezRho7Qid1g_b826UZ4ARMYtoCA"/>
          <p:cNvPicPr/>
          <p:nvPr/>
        </p:nvPicPr>
        <p:blipFill>
          <a:blip r:embed="rId2"/>
          <a:stretch/>
        </p:blipFill>
        <p:spPr>
          <a:xfrm>
            <a:off x="1219320" y="3886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ANd9GcTFHyqnlW9aAVc84QxXwQ1C9iw0t7bx6jOGkCdC4pEWrpdPzraI"/>
          <p:cNvPicPr/>
          <p:nvPr/>
        </p:nvPicPr>
        <p:blipFill>
          <a:blip r:embed="rId3"/>
          <a:stretch/>
        </p:blipFill>
        <p:spPr>
          <a:xfrm>
            <a:off x="3505320" y="2590920"/>
            <a:ext cx="2555640" cy="2590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ANd9GcS-lGcJ8hqZla4mIblx9b6HnXV1NBWkaaQsUbbAkIJyceXJes-Kcw"/>
          <p:cNvPicPr/>
          <p:nvPr/>
        </p:nvPicPr>
        <p:blipFill>
          <a:blip r:embed="rId4"/>
          <a:stretch/>
        </p:blipFill>
        <p:spPr>
          <a:xfrm>
            <a:off x="6095880" y="15238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ANd9GcQ9mKyEUNZeZ9tOVBdPcSLzHoANfOuInZrF671WJytZC738kRsI"/>
          <p:cNvPicPr/>
          <p:nvPr/>
        </p:nvPicPr>
        <p:blipFill>
          <a:blip r:embed="rId5"/>
          <a:stretch/>
        </p:blipFill>
        <p:spPr>
          <a:xfrm>
            <a:off x="6248520" y="4114800"/>
            <a:ext cx="2485800" cy="183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platyphyllo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ANd9GcQkXdOmsXT5quPuIPjNgQ_GQsJi1ZzngzAnVCqAFv_-z6cmgXPo"/>
          <p:cNvPicPr/>
          <p:nvPr/>
        </p:nvPicPr>
        <p:blipFill>
          <a:blip r:embed="rId1"/>
          <a:stretch/>
        </p:blipFill>
        <p:spPr>
          <a:xfrm>
            <a:off x="990720" y="15238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ANd9GcS9GmXX0n5Ocdtbu1iOPsBYqy329KCO0FhlZ4059qIl6oOCEcXjQA"/>
          <p:cNvPicPr/>
          <p:nvPr/>
        </p:nvPicPr>
        <p:blipFill>
          <a:blip r:embed="rId2"/>
          <a:stretch/>
        </p:blipFill>
        <p:spPr>
          <a:xfrm>
            <a:off x="3581280" y="25146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ANd9GcR55gzGnjgg0KpYRKxQtrHSuxrwdnbqtcnmuUvzE_w9lGEa5Liu"/>
          <p:cNvPicPr/>
          <p:nvPr/>
        </p:nvPicPr>
        <p:blipFill>
          <a:blip r:embed="rId3"/>
          <a:stretch/>
        </p:blipFill>
        <p:spPr>
          <a:xfrm>
            <a:off x="990720" y="3505320"/>
            <a:ext cx="2438280" cy="2328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ANd9GcSN-oBCqwDhq90ubFTiu7U46BOT3WlZt8k5ERpgOt0-nAK0dcQCmA"/>
          <p:cNvPicPr/>
          <p:nvPr/>
        </p:nvPicPr>
        <p:blipFill>
          <a:blip r:embed="rId4"/>
          <a:stretch/>
        </p:blipFill>
        <p:spPr>
          <a:xfrm>
            <a:off x="6865920" y="3962520"/>
            <a:ext cx="148752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ANd9GcRgXzdN4QcYA_UaIsJ1SZzufCrYzdBCrfgkcYpwES7VSONiXnwp"/>
          <p:cNvPicPr/>
          <p:nvPr/>
        </p:nvPicPr>
        <p:blipFill>
          <a:blip r:embed="rId5"/>
          <a:stretch/>
        </p:blipFill>
        <p:spPr>
          <a:xfrm>
            <a:off x="6248520" y="14479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minor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ldiep; kleinbladige 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Gladde_iep__Ulmus_minor__Smooth-leaved_elm@img_2243blad"/>
          <p:cNvPicPr/>
          <p:nvPr/>
        </p:nvPicPr>
        <p:blipFill>
          <a:blip r:embed="rId1"/>
          <a:stretch/>
        </p:blipFill>
        <p:spPr>
          <a:xfrm>
            <a:off x="685800" y="1523880"/>
            <a:ext cx="3195720" cy="2400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ANd9GcT8iAv0cQjhQ4_aHv22htgQKONxEH6JOCx1TtB-WNr3TniYf5irPw"/>
          <p:cNvPicPr/>
          <p:nvPr/>
        </p:nvPicPr>
        <p:blipFill>
          <a:blip r:embed="rId2"/>
          <a:stretch/>
        </p:blipFill>
        <p:spPr>
          <a:xfrm>
            <a:off x="4038480" y="2971800"/>
            <a:ext cx="1895760" cy="2409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ANd9GcQbtQ2ygsLQJzhtvehdbnLvpya1eJWMwr5yy4vjb_UV_frPMdk_TQ"/>
          <p:cNvPicPr/>
          <p:nvPr/>
        </p:nvPicPr>
        <p:blipFill>
          <a:blip r:embed="rId3"/>
          <a:stretch/>
        </p:blipFill>
        <p:spPr>
          <a:xfrm>
            <a:off x="6172200" y="42670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ANd9GcQs8VuAiPkYlAGSpldRmLUVezyocQaBsEQf9I9P4RNanO7d04Ck"/>
          <p:cNvPicPr/>
          <p:nvPr/>
        </p:nvPicPr>
        <p:blipFill>
          <a:blip r:embed="rId4"/>
          <a:stretch/>
        </p:blipFill>
        <p:spPr>
          <a:xfrm>
            <a:off x="7621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ANd9GcQFkJZpwpu1OZJwYK-1jE2ADJnilj_XmK5hMgmuW_X2XZHv-Fq-7g"/>
          <p:cNvPicPr/>
          <p:nvPr/>
        </p:nvPicPr>
        <p:blipFill>
          <a:blip r:embed="rId5"/>
          <a:stretch/>
        </p:blipFill>
        <p:spPr>
          <a:xfrm>
            <a:off x="6019920" y="1447920"/>
            <a:ext cx="2895480" cy="192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seudoplatan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Nd9GcR8i3b5ubOhrjHkbThrF-JD4LocRUvf-R9mvC8uDNtdGQ880T2NIA"/>
          <p:cNvPicPr/>
          <p:nvPr/>
        </p:nvPicPr>
        <p:blipFill>
          <a:blip r:embed="rId1"/>
          <a:stretch/>
        </p:blipFill>
        <p:spPr>
          <a:xfrm>
            <a:off x="3643200" y="2200320"/>
            <a:ext cx="2311560" cy="3057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ANd9GcTsdS6huCUuiXA86ichqjpJtAiCYfM2dNAKjWfKRcUHYMAzysy2"/>
          <p:cNvPicPr/>
          <p:nvPr/>
        </p:nvPicPr>
        <p:blipFill>
          <a:blip r:embed="rId2"/>
          <a:stretch/>
        </p:blipFill>
        <p:spPr>
          <a:xfrm>
            <a:off x="838080" y="1828800"/>
            <a:ext cx="2695680" cy="1695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ANd9GcRx3JwDY6SyNzFEdaElyLaf1eURDcsVZqv8ZpFIKO0DnTGrpfNrPw"/>
          <p:cNvPicPr/>
          <p:nvPr/>
        </p:nvPicPr>
        <p:blipFill>
          <a:blip r:embed="rId3"/>
          <a:stretch/>
        </p:blipFill>
        <p:spPr>
          <a:xfrm>
            <a:off x="838080" y="365760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ANd9GcQk9S8Hwh5P90G5-MND4TGSX1CK1CM5etIqXhAX3BqwMfvFghNvOQ"/>
          <p:cNvPicPr/>
          <p:nvPr/>
        </p:nvPicPr>
        <p:blipFill>
          <a:blip r:embed="rId4"/>
          <a:stretch/>
        </p:blipFill>
        <p:spPr>
          <a:xfrm>
            <a:off x="6477120" y="1600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ANd9GcTIsaD0IfJsUkOydTCsdJzNZZTftpeb-1IQ38hWosTxzOzTi2SV"/>
          <p:cNvPicPr/>
          <p:nvPr/>
        </p:nvPicPr>
        <p:blipFill>
          <a:blip r:embed="rId5"/>
          <a:stretch/>
        </p:blipFill>
        <p:spPr>
          <a:xfrm>
            <a:off x="6781680" y="4191120"/>
            <a:ext cx="148608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glutinos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art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ANd9GcSTvZ6oVDCv-CqzTmWp7gNiTnWXVcQU2DKSih1I3Y_Cp9vYoIZaZw"/>
          <p:cNvPicPr/>
          <p:nvPr/>
        </p:nvPicPr>
        <p:blipFill>
          <a:blip r:embed="rId1"/>
          <a:stretch/>
        </p:blipFill>
        <p:spPr>
          <a:xfrm>
            <a:off x="990720" y="1752480"/>
            <a:ext cx="2257200" cy="2028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Nd9GcR1VRnpF4K4GkJhk-AuyJsF_j105zn3fUIP0MIC8qugSAcTVkpg"/>
          <p:cNvPicPr/>
          <p:nvPr/>
        </p:nvPicPr>
        <p:blipFill>
          <a:blip r:embed="rId2"/>
          <a:stretch/>
        </p:blipFill>
        <p:spPr>
          <a:xfrm>
            <a:off x="914400" y="4191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ANd9GcRh9aNJPp8Xfo4zOxKfE6MtKGFHkKrYxQrHJZ8Tjt3MpEdWkuNRMw"/>
          <p:cNvPicPr/>
          <p:nvPr/>
        </p:nvPicPr>
        <p:blipFill>
          <a:blip r:embed="rId3"/>
          <a:stretch/>
        </p:blipFill>
        <p:spPr>
          <a:xfrm>
            <a:off x="3581280" y="28954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ANd9GcRyAti8XxddirvztrR78GEjAPQpgXPo_8rvetJ6bsjBqVGerDhaXw"/>
          <p:cNvPicPr/>
          <p:nvPr/>
        </p:nvPicPr>
        <p:blipFill>
          <a:blip r:embed="rId4"/>
          <a:stretch/>
        </p:blipFill>
        <p:spPr>
          <a:xfrm>
            <a:off x="6553080" y="2286000"/>
            <a:ext cx="1657440" cy="276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inc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Nd9GcTbT0xzeM4UgNJkc6FyEO4XHpayKLerkTgykHX78u10vjeDsoRD"/>
          <p:cNvPicPr/>
          <p:nvPr/>
        </p:nvPicPr>
        <p:blipFill>
          <a:blip r:embed="rId1"/>
          <a:stretch/>
        </p:blipFill>
        <p:spPr>
          <a:xfrm>
            <a:off x="3200400" y="2590920"/>
            <a:ext cx="3124080" cy="2079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3352680" y="249084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ANd9GcTTQLbJYdQsEpccdlUFRwMGheG6h3Ntp-xdL11w8quxMUED2mGf"/>
          <p:cNvPicPr/>
          <p:nvPr/>
        </p:nvPicPr>
        <p:blipFill>
          <a:blip r:embed="rId2"/>
          <a:stretch/>
        </p:blipFill>
        <p:spPr>
          <a:xfrm>
            <a:off x="6095880" y="114300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ANd9GcRUYftMZ3cCxdTN-_E1cDnQU9ItX7An0R4QbhdD4ljs3K7gYMwS"/>
          <p:cNvPicPr/>
          <p:nvPr/>
        </p:nvPicPr>
        <p:blipFill>
          <a:blip r:embed="rId3"/>
          <a:stretch/>
        </p:blipFill>
        <p:spPr>
          <a:xfrm>
            <a:off x="990720" y="3581280"/>
            <a:ext cx="2170080" cy="2362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ANd9GcQLYuqFQXQ_CKGeLA9cJ_xpSHkxfMGsiezhAEk9vgDl8VLjOgp1"/>
          <p:cNvPicPr/>
          <p:nvPr/>
        </p:nvPicPr>
        <p:blipFill>
          <a:blip r:embed="rId4"/>
          <a:stretch/>
        </p:blipFill>
        <p:spPr>
          <a:xfrm>
            <a:off x="1066680" y="9144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ANd9GcRdHlCoQ0cp1VcQap9cQ8Fz1J8WkMlFJuv1KUau9xuTVmmd6iuSKRjpDRkZ"/>
          <p:cNvPicPr/>
          <p:nvPr/>
        </p:nvPicPr>
        <p:blipFill>
          <a:blip r:embed="rId5"/>
          <a:stretch/>
        </p:blipFill>
        <p:spPr>
          <a:xfrm>
            <a:off x="7010280" y="3962520"/>
            <a:ext cx="157176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we 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ANd9GcRC70n4Ai_SVso_StEWuhpytY9jpLMBOJ1-lH35YPxuZaB6t9Bw"/>
          <p:cNvPicPr/>
          <p:nvPr/>
        </p:nvPicPr>
        <p:blipFill>
          <a:blip r:embed="rId1"/>
          <a:stretch/>
        </p:blipFill>
        <p:spPr>
          <a:xfrm>
            <a:off x="5791320" y="1905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ANd9GcTXfNJCbEknKHh2CMSBpENF0OwtxoZbquM1YMilMm55N1x6E6timQ"/>
          <p:cNvPicPr/>
          <p:nvPr/>
        </p:nvPicPr>
        <p:blipFill>
          <a:blip r:embed="rId2"/>
          <a:stretch/>
        </p:blipFill>
        <p:spPr>
          <a:xfrm>
            <a:off x="3505320" y="2362320"/>
            <a:ext cx="1724040" cy="2657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ANd9GcQSH1V2-f5p6pOI6YKdgilcgPJef5_l0fLgb1-X1WnjRxExWHXfUw"/>
          <p:cNvPicPr/>
          <p:nvPr/>
        </p:nvPicPr>
        <p:blipFill>
          <a:blip r:embed="rId3"/>
          <a:stretch/>
        </p:blipFill>
        <p:spPr>
          <a:xfrm>
            <a:off x="594360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ANd9GcSxkv2Fuocrm78nriyVkf-mwV2oOdv0IRnh8FEX31fv7jCeXauh5w"/>
          <p:cNvPicPr/>
          <p:nvPr/>
        </p:nvPicPr>
        <p:blipFill>
          <a:blip r:embed="rId4"/>
          <a:stretch/>
        </p:blipFill>
        <p:spPr>
          <a:xfrm>
            <a:off x="914400" y="3352680"/>
            <a:ext cx="1809720" cy="252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ANd9GcSG5m2oWQ2eUh6P8c0wqCEE_OD29FpUflx8azLEH9uVto-xG1be"/>
          <p:cNvPicPr/>
          <p:nvPr/>
        </p:nvPicPr>
        <p:blipFill>
          <a:blip r:embed="rId5"/>
          <a:stretch/>
        </p:blipFill>
        <p:spPr>
          <a:xfrm>
            <a:off x="914400" y="1295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ubescen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chte 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ANd9GcRdRJWmUCGW6nJqpMFlRk1Q3QKtchFJeHY9MJIQODDDqyrpxF-dhg"/>
          <p:cNvPicPr/>
          <p:nvPr/>
        </p:nvPicPr>
        <p:blipFill>
          <a:blip r:embed="rId1"/>
          <a:stretch/>
        </p:blipFill>
        <p:spPr>
          <a:xfrm>
            <a:off x="3429000" y="2057400"/>
            <a:ext cx="2220840" cy="2762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Nd9GcSNTnofAOtPqwyB08okqYOV2UHY9SpjaLxydaPTXMXleEZoMTLC_Q"/>
          <p:cNvPicPr/>
          <p:nvPr/>
        </p:nvPicPr>
        <p:blipFill>
          <a:blip r:embed="rId2"/>
          <a:stretch/>
        </p:blipFill>
        <p:spPr>
          <a:xfrm>
            <a:off x="1066680" y="3886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ANd9GcTRQRVP3gEO8o7LS9eYpAvbOPRFKqxgGMAnkIylhUhp-5JkwFyGag"/>
          <p:cNvPicPr/>
          <p:nvPr/>
        </p:nvPicPr>
        <p:blipFill>
          <a:blip r:embed="rId3"/>
          <a:stretch/>
        </p:blipFill>
        <p:spPr>
          <a:xfrm>
            <a:off x="1066680" y="914400"/>
            <a:ext cx="1771920" cy="2571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ANd9GcR5ikPtNZucNUok3zRO0xpcPcssMSXwicrlralkzDADMjQNtjiA"/>
          <p:cNvPicPr/>
          <p:nvPr/>
        </p:nvPicPr>
        <p:blipFill>
          <a:blip r:embed="rId4"/>
          <a:stretch/>
        </p:blipFill>
        <p:spPr>
          <a:xfrm>
            <a:off x="60958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ANd9GcT82ee1ndBiG2OhBDPOIAuPNw4Ivr9O_Y29Y-uQvPOqmjWAEx9s"/>
          <p:cNvPicPr/>
          <p:nvPr/>
        </p:nvPicPr>
        <p:blipFill>
          <a:blip r:embed="rId5"/>
          <a:stretch/>
        </p:blipFill>
        <p:spPr>
          <a:xfrm>
            <a:off x="6095880" y="1143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pinus betul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g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ANd9GcQVe4aVTDkRfIyHLZaI_yX7JZP3_eYFNDfAnhEL-B2gQOz9lEJkmw"/>
          <p:cNvPicPr/>
          <p:nvPr/>
        </p:nvPicPr>
        <p:blipFill>
          <a:blip r:embed="rId1"/>
          <a:stretch/>
        </p:blipFill>
        <p:spPr>
          <a:xfrm>
            <a:off x="11430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ANd9GcRw53rxVso8Ueh1vTNxYyPWnqpkfYdAh-7xvcITOwr8n3jv2QGW"/>
          <p:cNvPicPr/>
          <p:nvPr/>
        </p:nvPicPr>
        <p:blipFill>
          <a:blip r:embed="rId2"/>
          <a:stretch/>
        </p:blipFill>
        <p:spPr>
          <a:xfrm>
            <a:off x="5638680" y="1676520"/>
            <a:ext cx="2162160" cy="211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ANd9GcR5QLeyB1WLZrhj44dOQ1r-7tSyDxl7Bxw9g1SqMptNYxc-YIsm"/>
          <p:cNvPicPr/>
          <p:nvPr/>
        </p:nvPicPr>
        <p:blipFill>
          <a:blip r:embed="rId3"/>
          <a:stretch/>
        </p:blipFill>
        <p:spPr>
          <a:xfrm>
            <a:off x="55627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ANd9GcSynO3Vpat1TtS1xq47giRiQ3mrdMk7LYp4s0xMs4QmDv7ZDbqD"/>
          <p:cNvPicPr/>
          <p:nvPr/>
        </p:nvPicPr>
        <p:blipFill>
          <a:blip r:embed="rId4"/>
          <a:stretch/>
        </p:blipFill>
        <p:spPr>
          <a:xfrm>
            <a:off x="1143000" y="3809880"/>
            <a:ext cx="1905120" cy="2210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d9GcQrhvHA_qMI-b2OkuI_5i6LooljQS7yme1_uxsJrtQR0W2v05bWaw"/>
          <p:cNvPicPr/>
          <p:nvPr/>
        </p:nvPicPr>
        <p:blipFill>
          <a:blip r:embed="rId5"/>
          <a:stretch/>
        </p:blipFill>
        <p:spPr>
          <a:xfrm>
            <a:off x="3200400" y="4038480"/>
            <a:ext cx="2228760" cy="148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stanea sativ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mme 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castanea_sativa2"/>
          <p:cNvPicPr/>
          <p:nvPr/>
        </p:nvPicPr>
        <p:blipFill>
          <a:blip r:embed="rId1"/>
          <a:stretch/>
        </p:blipFill>
        <p:spPr>
          <a:xfrm>
            <a:off x="1219320" y="15238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Rd8-O03aD2-wbetHxp_8mrQaHVMql0lUCouBszyCCQQKBvgE_F"/>
          <p:cNvPicPr/>
          <p:nvPr/>
        </p:nvPicPr>
        <p:blipFill>
          <a:blip r:embed="rId2"/>
          <a:stretch/>
        </p:blipFill>
        <p:spPr>
          <a:xfrm>
            <a:off x="12193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ANd9GcRkHJwbYtI4DV9vhEkJL-Mp3ZbrQFN5vGEfxfViLe8mszbolLym"/>
          <p:cNvPicPr/>
          <p:nvPr/>
        </p:nvPicPr>
        <p:blipFill>
          <a:blip r:embed="rId3"/>
          <a:stretch/>
        </p:blipFill>
        <p:spPr>
          <a:xfrm>
            <a:off x="4114800" y="15238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ANd9GcRIEvkzzgmgSkgaBFsKKLG6VP_zuKLW4mM7CkJwuCNyxG9V-QiZAw"/>
          <p:cNvPicPr/>
          <p:nvPr/>
        </p:nvPicPr>
        <p:blipFill>
          <a:blip r:embed="rId4"/>
          <a:stretch/>
        </p:blipFill>
        <p:spPr>
          <a:xfrm>
            <a:off x="6629400" y="33526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ANd9GcQsiR7Cnmq7b4lsGSwApIYfbhvXJQCveKitqFSo4RCvThv_hG8o"/>
          <p:cNvPicPr/>
          <p:nvPr/>
        </p:nvPicPr>
        <p:blipFill>
          <a:blip r:embed="rId5"/>
          <a:stretch/>
        </p:blipFill>
        <p:spPr>
          <a:xfrm>
            <a:off x="3962520" y="41148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ANd9GcTE7_hMzNQniJdov2Cdh3g6tUXeh3--EbOtl3haOGa58SLKm28D"/>
          <p:cNvPicPr/>
          <p:nvPr/>
        </p:nvPicPr>
        <p:blipFill>
          <a:blip r:embed="rId6"/>
          <a:stretch/>
        </p:blipFill>
        <p:spPr>
          <a:xfrm>
            <a:off x="6172200" y="1523880"/>
            <a:ext cx="2209680" cy="165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2-12T12:02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