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4D8-8408-4A75-8D58-3D03AD6B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612-42C4-4585-8365-F383141F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01C-14F1-4EFD-98DC-0624C9FB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F61D-4833-41AF-B1FA-487CC80B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1CC4-BA17-46D9-B670-AA193405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28EA-7D9F-450B-8E19-6774CC04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0E3B-0DC6-4FD1-863E-79D62EE5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10C5-C360-45E1-B2BC-9D8C7B78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4225-E99D-43DF-8073-2442972A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4C13-068C-4A18-A0E9-8A97A07F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D1D3-762C-4F6D-B434-0A704F5F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A21D-F698-49B6-A042-204AA996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EB2F-B3AF-486A-938D-089E9C27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D3BE-B454-4620-8158-FA94BC9D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1FF3-6041-4F78-A858-982F0E7E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9FFC-4A03-4570-92C6-0B8C5E45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2DBB-D606-43AA-82C5-E0371B68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A464D-9365-4B11-8D67-49D5FA12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F7431-6003-4EAE-BD1A-B9BDD6C7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E096C-EC5D-4FD2-A9A1-19EA4B32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8052B-E082-4E4E-9F36-4EDAE65C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703CF-B5D5-4256-A576-70A29E29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C227-5DA3-421A-9C0E-906D24F6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21E4D-3BC9-45FE-9572-2E808DF5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B6055-F4F4-4410-8284-34D22456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46C4C-E07E-4DA2-9F52-F7A7242E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7049F-A4AE-4B25-8B2C-A304739A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69D4F-5EBE-4D06-B88A-92B97D4E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781E3-AD5D-430E-93F8-41C087CB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1611A-7D7C-429F-9DB4-2BB816FF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06C4E0-BCE0-461B-A020-288327C1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7E5018-8C87-4B5B-98EA-9D7DF018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527F8F-47C5-44DF-A0A1-604D116F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C29-3051-4B08-8659-F9BB071D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E25138-8014-4B8E-979D-23B8033D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2BB89A-B151-40EC-907F-A8AAC8DD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C57362-5E6C-4598-AC7D-7CA51AED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E39FB5-B79D-48AD-BBE3-C7C48EE1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52AA8F-F96A-4216-9C37-ADDB7FD3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CFF0C0-D37E-4D93-915A-2360681F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DC0D79-5B37-4F11-8123-897A6FCD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B1FD04-31D2-480D-95A6-D312E4FE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0D8FBC-7CA7-477A-AC16-501F369A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F4C5F3-AF0D-4040-B893-A8194B0E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1EB-B993-4CE6-9650-68AAC292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9CF35-CE63-4569-BB62-AD2E2A2A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B6EADC-8024-41F5-8723-C9156F0A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8605A-73CE-4963-AD73-B8E8750D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54F95F-BB8A-4CA9-AF82-3EC81C03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E0018B-4BD6-4DFC-B859-AF4CD4F1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B0D4F1-06A6-4137-B713-B561B702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98ADC-F3F7-40B8-A62C-7CF22E22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5F66D-D31C-4DA3-ACC3-F0019511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CEF801-3D1E-462B-BD13-5244C1E9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52E85A-95E2-4F6F-9602-EEE1D2A3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7DAD-DF74-4685-BC85-213146BB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691739-DAC2-4DC1-BF3F-ED54EDC6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5D376-63F3-469D-B42B-B22E1BF8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A0B52-01D1-4C9E-BB63-6BE68901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4F56A-6800-4843-9157-02FE680F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8EFCB-302E-477F-A164-65918A08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3BC7F-9646-495F-B14C-70BBF159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58874-FF53-4CA5-8C38-31304369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74D96-7383-4038-BBC4-52CF9460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F0AE9-97A6-426E-9A62-80BEE75E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53C04-4DC4-41C3-9872-B0281BE2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2E0-7ABE-484C-BBFE-A80DBB37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0C066-5BE0-41F2-8213-AC67EAA8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9BAF3-81A8-4E51-9F5E-7D4583EA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F35E3-F206-4944-B842-3897AAD1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A469A4-0463-4F04-9851-386D9C30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BC3907-6ECF-4668-AF00-5DAEFEE2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A8C452-5AFA-4EE7-BE9B-471406B4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ABC073-334C-4C11-AEDB-2E893B72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096AD0-DABE-4003-A4FD-A2B9C485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9E83F1-57FD-4A30-830D-BFC9833B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3D3B7D-5F0D-4EBF-9CC2-C78C5604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E532-88D1-4335-83CF-DB8A3C56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E89122-D95B-4DBA-93F4-9494DBBF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0A8AF4-75A2-4D5C-B4C9-434E967F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BB356A-1B39-4B0B-BFD7-28F060F2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5F247-B89C-4E9A-B41B-86FC7026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2BA0B0-1824-48AC-B7E0-4EE4BEF7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8AFB8-C6EB-4F04-BDD1-4FDBD5AA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775A9-ADBC-4C0B-BFDB-AC03ED95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7C357-E74E-4C63-88E3-60D9FA54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9BC7D-CEF0-4FF3-BA81-E2A03ABA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0653B-7264-4295-B01A-AE5F4FF9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23D2-248E-42A2-AFDB-4817B01D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1080E-AF1B-45B5-A059-6F6B06FE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F3BD0-988C-408B-A1B4-8217718A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D90FC-6F9D-4703-97D3-740A4532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265D7-CB35-474F-B95B-7010D4E8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7C23A-12BE-403A-AFD3-70AD4E4C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FCEF5-EFC1-4B58-9A1A-94E1FF3E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97B08-EE50-4157-A5D6-F4F0FA18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B526-A3CE-4DC5-8522-2DCE781A0AF0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7F2E-E50F-4BB5-833F-088D9999251A}" type="slidenum">
              <a:rPr b="1" lang="nl-N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A3F9-55B8-4291-884A-BFFED47A199D}" type="slidenum">
              <a:rPr b="1" lang="nl-N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1BA7-806E-4820-A892-0D2D479E2BE9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6913-EA92-4599-8086-531DBA446E36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A641-C088-4038-9991-7835530C56BE}" type="slidenum">
              <a:rPr b="1" lang="nl-N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CB92-0099-478D-B4A2-CB3C421CB8AA}" type="slidenum">
              <a:rPr b="1" lang="nl-N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07A2-77D7-4B6A-BEA6-2CFF952129BD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57280" y="5357880"/>
            <a:ext cx="647712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bddc3"/>
                </a:solidFill>
                <a:latin typeface="Tw Cen MT"/>
              </a:rPr>
              <a:t>8.3 POLITIEK &amp; VERZUILING</a:t>
            </a:r>
            <a:br>
              <a:rPr sz="4000"/>
            </a:b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ffffff"/>
                </a:solidFill>
                <a:latin typeface="Tw Cen MT"/>
              </a:rPr>
              <a:t>Oefening met verkiezingsaffich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5715000" y="928800"/>
            <a:ext cx="24782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Kijkwijz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760" y="1617840"/>
            <a:ext cx="3786120" cy="511956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4"/>
          <p:cNvSpPr/>
          <p:nvPr/>
        </p:nvSpPr>
        <p:spPr>
          <a:xfrm>
            <a:off x="214200" y="1571760"/>
            <a:ext cx="485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1. BESCHRIJ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partij / zu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anneer is  het affiche gemaakt / welke aanle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2. SYMBO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symbolen herken 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beteken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3. INTERPRE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550880" y="357120"/>
            <a:ext cx="4227480" cy="6000840"/>
          </a:xfrm>
          <a:prstGeom prst="rect">
            <a:avLst/>
          </a:prstGeom>
          <a:ln w="0">
            <a:noFill/>
          </a:ln>
        </p:spPr>
      </p:pic>
      <p:sp>
        <p:nvSpPr>
          <p:cNvPr id="357" name="Tijdelijke aanduiding voor tekst 4"/>
          <p:cNvSpPr/>
          <p:nvPr/>
        </p:nvSpPr>
        <p:spPr>
          <a:xfrm>
            <a:off x="5867280" y="1714680"/>
            <a:ext cx="299088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Beschrij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Symboli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Interpret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Confessionele partij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99760" y="1571400"/>
            <a:ext cx="628668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Tw Cen MT"/>
              </a:rPr>
              <a:t>Overeenkomsten en verschill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1500120" y="2286000"/>
            <a:ext cx="2952720" cy="4427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321480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Hahn over arbeidsverhouding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374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Welke symboliek herken je in de afbeelding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Welke visie geeft Hehn op de arbeidsverhoudingen in de tweede helft van de negentiende eeuw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5" descr="HAHNARB2"/>
          <p:cNvPicPr/>
          <p:nvPr/>
        </p:nvPicPr>
        <p:blipFill>
          <a:blip r:embed="rId1"/>
          <a:stretch/>
        </p:blipFill>
        <p:spPr>
          <a:xfrm>
            <a:off x="4356000" y="2060640"/>
            <a:ext cx="44434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6" name="Picture 5" descr="indus3"/>
          <p:cNvPicPr/>
          <p:nvPr/>
        </p:nvPicPr>
        <p:blipFill>
          <a:blip r:embed="rId1"/>
          <a:stretch/>
        </p:blipFill>
        <p:spPr>
          <a:xfrm>
            <a:off x="611280" y="1628640"/>
            <a:ext cx="4160880" cy="4537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indus2"/>
          <p:cNvPicPr/>
          <p:nvPr/>
        </p:nvPicPr>
        <p:blipFill>
          <a:blip r:embed="rId2"/>
          <a:stretch/>
        </p:blipFill>
        <p:spPr>
          <a:xfrm>
            <a:off x="5148360" y="1628640"/>
            <a:ext cx="34606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5" descr="kies1"/>
          <p:cNvPicPr/>
          <p:nvPr/>
        </p:nvPicPr>
        <p:blipFill>
          <a:blip r:embed="rId1"/>
          <a:stretch/>
        </p:blipFill>
        <p:spPr>
          <a:xfrm>
            <a:off x="684360" y="1413000"/>
            <a:ext cx="3573360" cy="5256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10" descr="Hahn13"/>
          <p:cNvPicPr/>
          <p:nvPr/>
        </p:nvPicPr>
        <p:blipFill>
          <a:blip r:embed="rId2"/>
          <a:stretch/>
        </p:blipFill>
        <p:spPr>
          <a:xfrm>
            <a:off x="5292720" y="260280"/>
            <a:ext cx="3533760" cy="388944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11"/>
          <p:cNvSpPr/>
          <p:nvPr/>
        </p:nvSpPr>
        <p:spPr>
          <a:xfrm>
            <a:off x="5003640" y="4508640"/>
            <a:ext cx="374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bert Hahn in de Notenkraker, 14-2-1914. De arbeider:'Alleen als zij er ook van zal profiteren, zijn wij bereid, u te helpen het vrouwenkiesrecht te veroveren.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8:13:56Z</dcterms:created>
  <dc:creator>Floor</dc:creator>
  <dc:description/>
  <dc:language>en-US</dc:language>
  <cp:lastModifiedBy>Franken S.T.</cp:lastModifiedBy>
  <dcterms:modified xsi:type="dcterms:W3CDTF">2012-09-09T12:41:48Z</dcterms:modified>
  <cp:revision>9</cp:revision>
  <dc:subject/>
  <dc:title>   H2. Politiek &amp; verzuiling </dc:title>
</cp:coreProperties>
</file>