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423A-F4EE-4656-B9C9-9BEC119F2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48F1-488B-4447-854C-709E8416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FD37-3224-45B1-AC4D-F48C0F602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5233-6F17-4778-AC27-E1EDC147B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C955-712E-49E1-B1EB-94E71CFDC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1059B-7163-43C6-A26D-EDA0435E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ADE5-B717-4E5D-93B0-BBBBD311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625DF-2300-4F5B-9F71-331FAB36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30109-0798-4C13-B71A-8621FDFC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5E33-A4A0-4904-9DF0-40D71EE1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3FFF8-50DB-45E7-9F6E-F889AED0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9592-1E30-432F-88D1-8D757AFB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38187-71CB-4D8C-86C3-B6F2E22F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FD38-3F03-4600-BC12-6FB44599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92E2-540E-45F9-A92A-57F224D8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3825-4295-4D97-81AD-28AC19ED4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F105-6AED-4D94-97C7-866D965E6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1FF0C4-479A-42EE-9212-E155ED8A8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C3C00B-A518-4B5A-B8C5-BC78A14B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7BB7EC-EBFE-46CB-A6E1-FE5421B4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D8E616-38B3-4984-83F5-C5CE4FFD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B5E0F5-7D58-437D-B202-0D190671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D616-00FB-419C-BA76-A5759F82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9E00C1-7040-47C4-B4C5-6A5DEE95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355CE8-C305-4361-9016-286F15C4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36319A-BC47-4EBB-84D3-F1C0A5D7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50AA72-CE70-4AB1-A188-B9ED0931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58C276-ADF4-45E4-9DC5-45DEB64D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101E7A-E114-4435-A6A6-7CBA321E9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823724-BCB5-436E-B3D4-B94E8E1D8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EF3A8E-511B-43EC-8AC0-67CCE890E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53EADC-A3C9-45B9-9F13-D01978F9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145226-5FAB-4712-8AFC-B780BA47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5083-8781-41AF-B39E-6B34D2A2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5E98A0-4663-4C9C-8AA1-B9459B51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CF0BFD-FF9C-43FC-ABC9-6D520FA6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E70410-02C4-4AAD-9743-EA7DF1DA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9BA75A-E096-4608-85FB-7AD3E92E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EADE69-A4E1-46F1-9E3E-D872BD87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BA7D7F-C24C-4D9A-8873-C9F1D347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424733-6065-420E-B426-BD34EED1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EB5867-76CF-4C6D-B9DD-9BFA8EED9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5331F3-AD51-4474-A7CA-43D8C4B3A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A0C4A9-0788-4918-9287-A3FFC2904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FA86-3D05-4341-8750-5E3809B9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09AD6C-B0B1-476C-981A-B3A431E2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B7B646-71D9-4A94-A882-9A5838F2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1F34CB-EE29-4A66-8237-F1A394DE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3276E8-EEF1-4782-8186-AF8634FE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696933-34B2-4AED-9196-2A30981E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C56F42-3781-429A-8BE6-3F5703E7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825B35-16E7-4ACC-B079-B49D4FC8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002DE8-EE81-4B40-8928-844F6CF5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F585E7-5D84-4A1A-AF5B-918BE719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097391-BE05-4DDB-BB45-4F838DF07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FB5E-80D9-4C8B-9DE4-5F8A8DE1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7A4017-6683-42B1-9D5E-68FA9F36E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94707-2847-4A1D-93D1-390A9A94F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011C8-60BA-4DD5-8A1F-BBF974C9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0DBD7-AE6F-4C16-876E-14675637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F066C-3493-454F-94B5-B753B883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1709A-3C22-4BE5-A614-5D41FB44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A73F6-D644-430B-A9E9-80E0F177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92E20-731F-465C-9789-15C80296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FB070-33BF-46D5-94A8-0337635E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C0D40-FEDC-4D08-B4D6-B9C27DBD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A701-B528-4D21-8C38-917224C5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8DCE3-4929-4236-AB7F-23FDA9F0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6302D-4A2C-497D-A382-66F4B9472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DBAD8-428D-4844-815A-A46569AEA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954865-8209-4A93-8026-710644CC2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2E662E-E62E-4500-89AA-98160665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B059D0-D90C-4C9F-85CE-3C982304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C04400-B6E5-4F37-8939-E96EB751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8267A3-9E7D-446A-9355-046F6FC5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2E6FBE-377C-4AD3-A9CB-9CF4ADEA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7D3711-75E1-4DE0-988B-A50ED9BA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6769-3E4B-42A9-BF2F-D1A4DB3D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CBF789-1EA1-4328-9B5F-701D0276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AB86F2-3929-47B0-960D-20DEA3F5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2F2487-F2AE-47BC-9C0E-6C81D749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2745D4-98E7-4818-9EBF-0D8C057F9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3093C2-4220-4C1D-91A2-730C86E07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63791-9562-40DB-A74E-4829E0796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58B2C-AE5A-4D40-9FA7-80359981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2F933-08E2-4A96-ADB1-723EB2DC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A6B03-5D71-4C41-B10E-DF668E2D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DC8C3-55C9-4706-9360-5B5CA491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3DCB-23D8-47F7-AB91-E65DA060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32146-C98C-4C40-98D0-1C269855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7A0AB-CBAA-41B0-B7A2-8C5E7312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BF4F2-FD91-4FE7-95DD-9FE20CC3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21F7C-1721-4AC1-8A7B-1FAAC367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FEF47-DB48-4505-930E-FF0BDCA2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6EF8B-984C-4B1E-ABA8-1C87A8556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FCE5B-29C0-4CA7-8025-3D2BB99A8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D976-B4DC-4FA1-8074-C989FC600634}" type="slidenum">
              <a:rPr b="1" lang="nl-N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hoek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hthoek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hthoek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EFE8-BA37-4CDF-8F66-A9E9500EB480}" type="slidenum">
              <a:rPr b="1" lang="nl-NL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hthoek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hthoek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hthoek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2991-B999-4BA5-9FE6-B42DF8D606BB}" type="slidenum">
              <a:rPr b="1" lang="nl-NL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D46B-65B4-4E4B-9FDB-7DCD450AB7A1}" type="slidenum">
              <a:rPr b="1" lang="nl-N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C52A-6F0F-4F52-8308-8FD7DABCDD47}" type="slidenum">
              <a:rPr b="1" lang="nl-N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DD3E-B180-49EE-95BD-E1E4FC748C3A}" type="slidenum">
              <a:rPr b="1" lang="nl-NL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hthoek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hthoek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hthoek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hthoek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D07F-1F6A-4D45-9FF4-775788B61607}" type="slidenum">
              <a:rPr b="1" lang="nl-NL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hthoek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8CE1-40AA-470E-8AC9-5F4ED463B740}" type="slidenum">
              <a:rPr b="1" lang="nl-N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57280" y="5357880"/>
            <a:ext cx="6477120" cy="35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ebddc3"/>
                </a:solidFill>
                <a:latin typeface="Tw Cen MT"/>
              </a:rPr>
              <a:t>8.3 POLITIEK &amp; VERZUILING</a:t>
            </a:r>
            <a:br>
              <a:rPr sz="4000"/>
            </a:b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600" spc="-1" strike="noStrike">
                <a:solidFill>
                  <a:srgbClr val="ffffff"/>
                </a:solidFill>
                <a:latin typeface="Tw Cen MT"/>
              </a:rPr>
              <a:t>Oefening met verkiezingsaffiche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2" name="Picture 3" descr=""/>
          <p:cNvPicPr/>
          <p:nvPr/>
        </p:nvPicPr>
        <p:blipFill>
          <a:blip r:embed="rId1"/>
          <a:stretch/>
        </p:blipFill>
        <p:spPr>
          <a:xfrm>
            <a:off x="5715000" y="928800"/>
            <a:ext cx="247824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Kijkwijze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5000760" y="1617840"/>
            <a:ext cx="3786120" cy="5119560"/>
          </a:xfrm>
          <a:prstGeom prst="rect">
            <a:avLst/>
          </a:prstGeom>
          <a:ln w="0">
            <a:noFill/>
          </a:ln>
        </p:spPr>
      </p:pic>
      <p:sp>
        <p:nvSpPr>
          <p:cNvPr id="355" name="Tekstvak 4"/>
          <p:cNvSpPr/>
          <p:nvPr/>
        </p:nvSpPr>
        <p:spPr>
          <a:xfrm>
            <a:off x="214200" y="1571760"/>
            <a:ext cx="4857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w Cen MT"/>
              </a:rPr>
              <a:t>1. BESCHRIJ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Welke partij / zui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Wanneer is  het affiche gemaakt / welke aanleid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w Cen MT"/>
              </a:rPr>
              <a:t>2. SYMBOLI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welke symbolen herken j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welke beteken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w Cen MT"/>
              </a:rPr>
              <a:t>3. INTERPRET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1550880" y="357120"/>
            <a:ext cx="4227480" cy="6000840"/>
          </a:xfrm>
          <a:prstGeom prst="rect">
            <a:avLst/>
          </a:prstGeom>
          <a:ln w="0">
            <a:noFill/>
          </a:ln>
        </p:spPr>
      </p:pic>
      <p:sp>
        <p:nvSpPr>
          <p:cNvPr id="357" name="Tijdelijke aanduiding voor tekst 4"/>
          <p:cNvSpPr/>
          <p:nvPr/>
        </p:nvSpPr>
        <p:spPr>
          <a:xfrm>
            <a:off x="5867280" y="1714680"/>
            <a:ext cx="2990880" cy="43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w Cen MT"/>
              </a:rPr>
              <a:t>Beschrij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w Cen MT"/>
              </a:rPr>
              <a:t>Symboli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w Cen MT"/>
              </a:rPr>
              <a:t>Interpret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Confessionele partije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499760" y="1571400"/>
            <a:ext cx="6286680" cy="639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ffffff"/>
                </a:solidFill>
                <a:latin typeface="Tw Cen MT"/>
              </a:rPr>
              <a:t>Overeenkomsten en verschill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1500120" y="2286000"/>
            <a:ext cx="2952720" cy="44276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2"/>
          <a:stretch/>
        </p:blipFill>
        <p:spPr>
          <a:xfrm>
            <a:off x="4572000" y="2286000"/>
            <a:ext cx="321480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Hahn over arbeidsverhoudinge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374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Tw Cen MT"/>
              </a:rPr>
              <a:t>Welke symboliek herken je in de afbeelding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Tw Cen MT"/>
              </a:rPr>
              <a:t>Welke visie geeft Hehn op de arbeidsverhoudingen in de tweede helft van de negentiende eeuw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4" name="Picture 5" descr="HAHNARB2"/>
          <p:cNvPicPr/>
          <p:nvPr/>
        </p:nvPicPr>
        <p:blipFill>
          <a:blip r:embed="rId1"/>
          <a:stretch/>
        </p:blipFill>
        <p:spPr>
          <a:xfrm>
            <a:off x="4356000" y="2060640"/>
            <a:ext cx="444348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6" name="Picture 5" descr="indus3"/>
          <p:cNvPicPr/>
          <p:nvPr/>
        </p:nvPicPr>
        <p:blipFill>
          <a:blip r:embed="rId1"/>
          <a:stretch/>
        </p:blipFill>
        <p:spPr>
          <a:xfrm>
            <a:off x="611280" y="1628640"/>
            <a:ext cx="4160880" cy="45370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indus2"/>
          <p:cNvPicPr/>
          <p:nvPr/>
        </p:nvPicPr>
        <p:blipFill>
          <a:blip r:embed="rId2"/>
          <a:stretch/>
        </p:blipFill>
        <p:spPr>
          <a:xfrm>
            <a:off x="5148360" y="1628640"/>
            <a:ext cx="34606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5" descr="kies1"/>
          <p:cNvPicPr/>
          <p:nvPr/>
        </p:nvPicPr>
        <p:blipFill>
          <a:blip r:embed="rId1"/>
          <a:stretch/>
        </p:blipFill>
        <p:spPr>
          <a:xfrm>
            <a:off x="684360" y="1413000"/>
            <a:ext cx="3573360" cy="52560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0" name="Picture 10" descr="Hahn13"/>
          <p:cNvPicPr/>
          <p:nvPr/>
        </p:nvPicPr>
        <p:blipFill>
          <a:blip r:embed="rId2"/>
          <a:stretch/>
        </p:blipFill>
        <p:spPr>
          <a:xfrm>
            <a:off x="5292720" y="260280"/>
            <a:ext cx="3533760" cy="388944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11"/>
          <p:cNvSpPr/>
          <p:nvPr/>
        </p:nvSpPr>
        <p:spPr>
          <a:xfrm>
            <a:off x="5003640" y="4508640"/>
            <a:ext cx="3745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lbert Hahn in de Notenkraker, 14-2-1914. De arbeider:'Alleen als zij er ook van zal profiteren, zijn wij bereid, u te helpen het vrouwenkiesrecht te veroveren.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8:13:56Z</dcterms:created>
  <dc:creator>Floor</dc:creator>
  <dc:description/>
  <dc:language>en-US</dc:language>
  <cp:lastModifiedBy>Franken S.T.</cp:lastModifiedBy>
  <dcterms:modified xsi:type="dcterms:W3CDTF">2012-09-09T12:41:48Z</dcterms:modified>
  <cp:revision>9</cp:revision>
  <dc:subject/>
  <dc:title>   H2. Politiek &amp; verzuiling </dc:title>
</cp:coreProperties>
</file>