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0EB-1DFC-4158-831B-47FC8538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EFB-8425-49FC-B019-7B5FFF33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A3A-6215-4F1C-86C9-4D61E99C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3ED-4F7B-4289-BB92-8D0AB839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0309-C3A6-4E65-A76E-A5711F94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5395-42BC-42E7-BEB6-D70BA3C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9621-8527-4B9C-9801-9CD80D4F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548C-C817-406B-B8F7-FA9371FA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A3F1-4732-4985-9A1D-4E3AFCC4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11C4-EC3F-482A-B45B-08348153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BF2A-2815-4F23-B47A-FAF7D09C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86E-1E15-4757-84A4-2FCF3E58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68BA-5563-4B9B-8810-C3CDAE1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B654-756B-4F51-BC1F-6EAC7451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722D-F2AC-435F-A295-73748B4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81AF-ED64-456F-933D-FD886278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B606-3CD0-4D90-A54B-40C9D6A4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F6304-3944-4D02-A91B-81426AFE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2057E-B0FC-49FB-8380-6F80885F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E42D3-73EB-42B3-AA8C-4F821B53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814DD-CC64-4090-94A5-8A0F589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6E4AD-D29F-4739-AC5C-9CF32B71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78E-4499-42BF-BE06-A5D77F5D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5E9D7-54D2-4764-9708-B203F7CE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0A0D9-7D1E-4020-AF34-AA22148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E7FB8-583F-465A-A2B4-8BF3DF9A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5B723-AA98-46AC-ADD6-891AEFB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5D67A-5C43-43C4-84AF-796B6402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6C091-4B8F-4BD2-A4AF-A5F5B8DC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EB3EE-C2A7-47BC-9BB7-B9BB3533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4304F-DA04-47AC-8FA0-0A92D920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98FA7-1518-43B3-8339-34E177AF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5C889-FD00-4781-9F1C-BDA77534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1A6-AEE9-44FF-9D6E-F593EB37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A0B60-7429-42AB-85FC-685E485A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4D189-3EDC-4EA6-83C2-8AAE2CE9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90E6F-112F-4AA2-A3DE-2EFC494B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DF0D3-211A-4B2A-96C8-9EC1D45C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3BF0A-618F-4662-A6D7-E6D11284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1750F-921A-42DF-9652-8AB922C6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A78D4-8985-410B-A2CB-98A3F1EB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B4962-95CD-4738-8030-062E00B6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72A63-AC61-44E4-85A7-C4F8519A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16B5D-D170-49F2-8B5B-75EE232E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804-7699-4D08-A226-607DA40D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74598-1476-4F4F-A301-D5629023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16A00-7EBA-41F4-BA39-A33ABF5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90557-0A67-4973-AEF0-309DA40E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9450A-E38F-4E11-A41E-11E86BA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0B290-A724-4745-B12C-68B5CF1E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DAB1F-F346-4552-B81B-3F0601D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61A3B-1DD0-4139-85CD-43D4F3E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8F0A6-0CBB-4E97-B308-A22066E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9E820-C10F-4BF5-BBF7-3CCD42CF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A57AF-9E33-4ADD-A50B-C22C59A5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0C6-157C-4C78-84AD-1CFAC1E8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C740B-A032-4787-B71E-2D93932A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7CEA4-8A97-47F2-9524-6ACDD840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271D-6DAB-4967-9B32-4EABBEFF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CA7C6-8654-4331-BA25-F1C4CF65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65CD6-E15A-4FD1-A4BA-26A8E9AF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797E8-65F7-41AF-BEC1-81CE243A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1D31A-0DDE-4C29-BD17-B700A0E1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9B988-71EA-4795-99B2-3D3AD69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F0D82-D984-42D2-9EC7-311AE6A9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66E6-5CC2-4C4B-AF6A-EE80E215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0C6-02DB-4383-9799-8A9FDDE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32B76-E565-4919-904D-FE91A74A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4DBDC-8993-4DB9-959A-2B5A2378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6C34C-41DF-453D-B45F-FE96A9D7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4C478-2C22-45A7-845E-36DF80AD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76ACF-F44A-485C-A3A1-E5D2EA2F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6D378E-D207-42A3-8634-D8A249E3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1A5D0D-93CF-4ACA-A66D-55B418B4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8ED95-F1C3-4CEC-9F40-94047DE7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728A4-3073-4EC6-AE83-377E9E12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11FDB-7402-4D99-8B71-B756FF95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038-F8BC-437A-A225-07D6FBE8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7B52F-59E5-4E59-B71A-02CAABFE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8E8DC-847F-4BF4-82A6-4CF0B7A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0A01B-BE27-4138-805F-81B8042F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2A416-BBD4-4302-95FC-AED0BC5E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4A63D-FDFE-4E00-B5E0-CDA07DD6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B079-06AF-438D-828C-33F35E4B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0F500-C7C8-4B15-9824-FFD066F7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5402-D165-4C86-BAC1-CD20A988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F6397-043D-4C11-9DDA-E8BFB3D1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247FF-3975-4B64-A677-32A493E5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409-73B5-4BD6-887B-1EE6C314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0EFA9-931A-4026-9ECD-5D11794A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78B8C-E08F-44BF-8573-794D0D6E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5DF10-13B4-4171-89B2-824B0458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8F444-7FCE-41FB-BF7B-00B49DC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D64D4-3F30-408D-B6A5-9F016C0D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E7E51-5A9E-43FB-9444-029E1A9F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C5525-2BEC-4C2B-9268-A387FDBA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B942-5394-40C6-8183-7B0341313932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7BBF-DC62-49C2-8698-1B084D1F58F0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31BC-F6D4-45AA-83C5-95E2F5FFFE71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5586-7D79-410A-A43C-8D52C802E3DF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B1BD-2350-46F6-AC4E-5F30F655A34C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D265-8AEC-4E94-88FE-CF7C0711A0B2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1AC8-51D6-4D5B-90BB-BFEBC7218480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20AA-C5B3-4382-B577-CED13994A33D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57280" y="5357880"/>
            <a:ext cx="64771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bddc3"/>
                </a:solidFill>
                <a:latin typeface="Tw Cen MT"/>
              </a:rPr>
              <a:t>8.3 POLITIEK &amp; VERZUILING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Oefening met verkiezingsaffich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715000" y="928800"/>
            <a:ext cx="2478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Kijkwijz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760" y="1617840"/>
            <a:ext cx="3786120" cy="511956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>
            <a:off x="214200" y="157176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1. BESCH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partij / zu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anneer is  het affiche gemaakt / welke aanl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2. SYMB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symbolen herken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betek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3. INTERPR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50880" y="357120"/>
            <a:ext cx="422748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ijdelijke aanduiding voor tekst 4"/>
          <p:cNvSpPr/>
          <p:nvPr/>
        </p:nvSpPr>
        <p:spPr>
          <a:xfrm>
            <a:off x="5867280" y="1714680"/>
            <a:ext cx="29908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Beschrij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Symbol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Interpret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Confessionele partij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99760" y="1571400"/>
            <a:ext cx="628668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Tw Cen MT"/>
              </a:rPr>
              <a:t>Overeenkomsten en verschil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2952720" cy="442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214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Hahn over arbeidsverhoudin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symboliek herken je in de afbeeld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visie geeft Hehn op de arbeidsverhoudingen in de tweede helft van de negentiende eeu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5" descr="HAHNARB2"/>
          <p:cNvPicPr/>
          <p:nvPr/>
        </p:nvPicPr>
        <p:blipFill>
          <a:blip r:embed="rId1"/>
          <a:stretch/>
        </p:blipFill>
        <p:spPr>
          <a:xfrm>
            <a:off x="4356000" y="2060640"/>
            <a:ext cx="4443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indus3"/>
          <p:cNvPicPr/>
          <p:nvPr/>
        </p:nvPicPr>
        <p:blipFill>
          <a:blip r:embed="rId1"/>
          <a:stretch/>
        </p:blipFill>
        <p:spPr>
          <a:xfrm>
            <a:off x="611280" y="1628640"/>
            <a:ext cx="4160880" cy="45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ndus2"/>
          <p:cNvPicPr/>
          <p:nvPr/>
        </p:nvPicPr>
        <p:blipFill>
          <a:blip r:embed="rId2"/>
          <a:stretch/>
        </p:blipFill>
        <p:spPr>
          <a:xfrm>
            <a:off x="5148360" y="1628640"/>
            <a:ext cx="3460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kies1"/>
          <p:cNvPicPr/>
          <p:nvPr/>
        </p:nvPicPr>
        <p:blipFill>
          <a:blip r:embed="rId1"/>
          <a:stretch/>
        </p:blipFill>
        <p:spPr>
          <a:xfrm>
            <a:off x="684360" y="1413000"/>
            <a:ext cx="3573360" cy="5256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10" descr="Hahn13"/>
          <p:cNvPicPr/>
          <p:nvPr/>
        </p:nvPicPr>
        <p:blipFill>
          <a:blip r:embed="rId2"/>
          <a:stretch/>
        </p:blipFill>
        <p:spPr>
          <a:xfrm>
            <a:off x="5292720" y="260280"/>
            <a:ext cx="3533760" cy="38894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"/>
          <p:cNvSpPr/>
          <p:nvPr/>
        </p:nvSpPr>
        <p:spPr>
          <a:xfrm>
            <a:off x="5003640" y="450864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bert Hahn in de Notenkraker, 14-2-1914. De arbeider:'Alleen als zij er ook van zal profiteren, zijn wij bereid, u te helpen het vrouwenkiesrecht te veroveren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13:56Z</dcterms:created>
  <dc:creator>Floor</dc:creator>
  <dc:description/>
  <dc:language>en-US</dc:language>
  <cp:lastModifiedBy>Franken S.T.</cp:lastModifiedBy>
  <dcterms:modified xsi:type="dcterms:W3CDTF">2012-09-09T12:41:48Z</dcterms:modified>
  <cp:revision>9</cp:revision>
  <dc:subject/>
  <dc:title>   H2. Politiek &amp; verzuiling </dc:title>
</cp:coreProperties>
</file>