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CC1-32C7-4537-B2E1-B8C193C7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DD6-0215-48FB-8677-A8BD7E90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4C1-C68C-4AF4-905C-2E8FFFDE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8273-80C9-40F7-9809-3634DC69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895A-201C-4CB0-8A04-1E082860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97FA-5B6D-447E-9612-26467006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9FA4-0C36-401A-9903-BA250FE4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ED5E-A079-47F4-A9B2-70833ABF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FAB6-98AF-4EDC-8847-D8D7894F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DA1F-9B9F-4602-B212-9118B747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8E9C-271F-47DB-8CD1-E623B195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6D2-742F-408E-8BE4-9F5E1550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B090-95E4-4285-8AED-22B12F38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E8F4-E4CD-49C3-897D-FEEFD7C8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CED9-7B0E-4E66-90C5-0D0D7CEA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DA6F-0C94-4E1E-95DC-F0E624F9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0F5A-DA89-43B5-98A2-4E1BC94F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1D9BF-188C-4F10-AB80-11F4F912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3E16E-09FD-456E-9B6A-C3E87AA90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37314-A7F8-4300-BCE1-3ED62698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57BD3-D701-4237-B89F-D240A7C9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98551-A9CA-4519-8835-9B8BC2AB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6E0-92E0-49C6-A98F-74A21EFA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FE860-FC5A-4943-91F8-880327DC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B692B-C47E-4830-B123-7D388416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F8F6B-6194-45B5-92A4-ACF304B7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BBB37-97BE-4345-91B2-878DDB4C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48A8D-8C49-4E62-9195-5B08E019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414EAA-C77F-41A5-8508-6D9E3C39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D8F1E-8F61-4AB5-B31A-7516A8D2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8DAF4-427E-4C35-8224-6CC4DA1F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83DA66-2E18-4507-97E4-C628DC4C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1F7F0-E84A-4FCE-8AB2-8EBBEDFB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53B-0497-491A-9C77-4EEB1937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E13F6-B543-452B-8C6B-98A19DF2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0846BC-C5E0-4A9F-A78D-882615F1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7F7D1-262A-4497-BEB5-B38A7DB6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F2FEBF-944D-456B-AAD0-B951E03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98AAF-2597-4D24-ADB4-D3C0135C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564ACE-F7FC-409D-B2EA-3B766A2F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0E0FB7-BDB4-4EC0-96B3-9038E79B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D699A-A05B-4761-9753-5770DE6C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D898B-A16F-4E00-B423-DF2036C7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2452B-5B2B-4A52-B606-10135186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7231-2232-464A-B443-637E9EDD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C54565-2661-4BBA-83A2-CBF66594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9BC60-8A5B-4697-829E-6DEBC944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3C5434-06EC-49B9-A24A-BA237B48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3079C0-2157-40BD-ADD6-14504628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609B03-2D4E-48E7-AF69-A4F0E982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64A20-B065-4F7B-9B2D-843885D5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3C992-8D5E-43E9-9D47-A4850338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64CD72-7B5B-4B44-9F77-381EC0F3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74E52-DEB9-47CE-A3BE-B222BC96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0A80AF-EDD1-4F39-B973-9820F68F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D08-72C3-46BA-A875-2CDB4DFE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38820-E94A-4580-964B-6DBD6E84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804A8-AECF-436F-B03E-10FEF6A5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756AE-BE67-4592-810E-82CF9942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28E74-16F8-47D6-81F6-1C50DD74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33191-B82A-401D-9191-A25E5172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6DB72-3036-4D4B-858A-A946DD218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48918-4046-45C8-9847-1554BE87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E9AC4-5328-44F8-85D4-D72201B7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C5A83-9983-4681-AFBB-AF6E9CA0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6AD68-FCCA-4E5D-94F8-E883123B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C16-9E48-4F72-8D10-0340E57F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85802-3CD8-4CD6-B347-1C2BCD4F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E3224-0979-4681-831A-5EF61CB4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04FD2-5DA1-4E3C-AFA0-78EB8F2EF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05DFD8-5010-46A5-9104-7B4B1669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063CA-4DEF-4CFA-8E66-7191BA17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CAF46-0F83-437A-B937-E4C200F8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55BB4-1804-4EF8-AB29-768BF631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F1E70-EF19-45A0-B083-37FE07CF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BA86C-03B8-4E7B-981D-48B4ADFE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319DD8-CF6C-486E-94AB-144FC4F9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F4D-2867-49AE-B668-BE3B5263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C21469-3012-4975-99C3-C997CE8A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EEFDA-B60F-41D4-A399-F3ACCCE9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17DC9-E368-4602-BE4B-3004CEC4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DD89D-3555-4CE7-AD6F-0969A8AFF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743574-53CB-4674-BC0F-E7F52B4A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F3B90-FC3E-4C1F-A2F9-F350B538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8CF80-AABC-4C86-830D-CD7E2E1B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4F4DF-9F3D-4F4E-94CA-2D4A12D1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31F96-E05F-4798-B9F2-996FDE87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A1B4E-69F8-4CB0-A0EF-44717C09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F3D-92EF-4E5B-A2F2-90D1086E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524A-9663-46D7-930B-0473D68D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79BF1-6AE1-4964-99A0-74157095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217DF-436E-481E-A4B2-BAE4323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E592A-3AC4-476F-9B5D-FF05DBD7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BE47F-1235-4D2E-B2A9-DCEC9C4A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A0B30-38F9-43B5-9C64-3B46E878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BB75F-086E-4708-8EE9-4A81BD6D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94F2-A08B-4C9D-B2A5-E3AFB774FC2E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hthoek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hthoek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hthoek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41C0-B538-4F82-A866-79AFEAF6186F}" type="slidenum">
              <a:rPr b="1" lang="nl-N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hthoek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hthoek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hoek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4DAE-9FEA-4677-8B09-81EF52C595E5}" type="slidenum">
              <a:rPr b="1" lang="nl-N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3C7B-A061-4245-ABA7-3FEA77464115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hthoek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hoek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hthoek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CC03-20EF-482A-A293-03C79D12E53D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4918-C1A0-4E8B-9273-CBA4E135D970}" type="slidenum">
              <a:rPr b="1" lang="nl-N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hthoek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hthoek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hthoek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hthoek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C298-BCAE-4D03-834F-96FA70F2BAC7}" type="slidenum">
              <a:rPr b="1" lang="nl-N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hthoek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0B4A-AC0A-4418-9DD8-7436CF51C93A}" type="slidenum">
              <a:rPr b="1" lang="nl-N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57280" y="5357880"/>
            <a:ext cx="6477120" cy="35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bddc3"/>
                </a:solidFill>
                <a:latin typeface="Tw Cen MT"/>
              </a:rPr>
              <a:t>8.3 POLITIEK &amp; VERZUILING</a:t>
            </a:r>
            <a:br>
              <a:rPr sz="4000"/>
            </a:b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600" spc="-1" strike="noStrike">
                <a:solidFill>
                  <a:srgbClr val="ffffff"/>
                </a:solidFill>
                <a:latin typeface="Tw Cen MT"/>
              </a:rPr>
              <a:t>Oefening met verkiezingsaffiches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3" descr=""/>
          <p:cNvPicPr/>
          <p:nvPr/>
        </p:nvPicPr>
        <p:blipFill>
          <a:blip r:embed="rId1"/>
          <a:stretch/>
        </p:blipFill>
        <p:spPr>
          <a:xfrm>
            <a:off x="5715000" y="928800"/>
            <a:ext cx="24782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Kijkwijz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760" y="1617840"/>
            <a:ext cx="3786120" cy="511956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4"/>
          <p:cNvSpPr/>
          <p:nvPr/>
        </p:nvSpPr>
        <p:spPr>
          <a:xfrm>
            <a:off x="214200" y="157176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1. BESCHRIJ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partij / zu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anneer is  het affiche gemaakt / welke aanlei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2. SYMBOL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symbolen herken 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w Cen MT"/>
              </a:rPr>
              <a:t>welke beteke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w Cen MT"/>
              </a:rPr>
              <a:t>3. INTERPRE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550880" y="357120"/>
            <a:ext cx="4227480" cy="6000840"/>
          </a:xfrm>
          <a:prstGeom prst="rect">
            <a:avLst/>
          </a:prstGeom>
          <a:ln w="0">
            <a:noFill/>
          </a:ln>
        </p:spPr>
      </p:pic>
      <p:sp>
        <p:nvSpPr>
          <p:cNvPr id="357" name="Tijdelijke aanduiding voor tekst 4"/>
          <p:cNvSpPr/>
          <p:nvPr/>
        </p:nvSpPr>
        <p:spPr>
          <a:xfrm>
            <a:off x="5867280" y="1714680"/>
            <a:ext cx="29908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Beschrij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Symboli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w Cen MT"/>
              </a:rPr>
              <a:t>Interpret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Confessionele partij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99760" y="1571400"/>
            <a:ext cx="6286680" cy="639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ffffff"/>
                </a:solidFill>
                <a:latin typeface="Tw Cen MT"/>
              </a:rPr>
              <a:t>Overeenkomsten en verschille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2952720" cy="44276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321480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775f55"/>
                </a:solidFill>
                <a:latin typeface="Tw Cen MT"/>
              </a:rPr>
              <a:t>Hahn over arbeidsverhoudinge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37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symboliek herken je in de afbeeld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Tw Cen MT"/>
              </a:rPr>
              <a:t>Welke visie geeft Hehn op de arbeidsverhoudingen in de tweede helft van de negentiende eeuw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4" name="Picture 5" descr="HAHNARB2"/>
          <p:cNvPicPr/>
          <p:nvPr/>
        </p:nvPicPr>
        <p:blipFill>
          <a:blip r:embed="rId1"/>
          <a:stretch/>
        </p:blipFill>
        <p:spPr>
          <a:xfrm>
            <a:off x="4356000" y="2060640"/>
            <a:ext cx="4443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6" name="Picture 5" descr="indus3"/>
          <p:cNvPicPr/>
          <p:nvPr/>
        </p:nvPicPr>
        <p:blipFill>
          <a:blip r:embed="rId1"/>
          <a:stretch/>
        </p:blipFill>
        <p:spPr>
          <a:xfrm>
            <a:off x="611280" y="1628640"/>
            <a:ext cx="4160880" cy="4537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indus2"/>
          <p:cNvPicPr/>
          <p:nvPr/>
        </p:nvPicPr>
        <p:blipFill>
          <a:blip r:embed="rId2"/>
          <a:stretch/>
        </p:blipFill>
        <p:spPr>
          <a:xfrm>
            <a:off x="5148360" y="1628640"/>
            <a:ext cx="34606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kies1"/>
          <p:cNvPicPr/>
          <p:nvPr/>
        </p:nvPicPr>
        <p:blipFill>
          <a:blip r:embed="rId1"/>
          <a:stretch/>
        </p:blipFill>
        <p:spPr>
          <a:xfrm>
            <a:off x="684360" y="1413000"/>
            <a:ext cx="3573360" cy="5256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10" descr="Hahn13"/>
          <p:cNvPicPr/>
          <p:nvPr/>
        </p:nvPicPr>
        <p:blipFill>
          <a:blip r:embed="rId2"/>
          <a:stretch/>
        </p:blipFill>
        <p:spPr>
          <a:xfrm>
            <a:off x="5292720" y="260280"/>
            <a:ext cx="3533760" cy="38894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11"/>
          <p:cNvSpPr/>
          <p:nvPr/>
        </p:nvSpPr>
        <p:spPr>
          <a:xfrm>
            <a:off x="5003640" y="4508640"/>
            <a:ext cx="374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lbert Hahn in de Notenkraker, 14-2-1914. De arbeider:'Alleen als zij er ook van zal profiteren, zijn wij bereid, u te helpen het vrouwenkiesrecht te veroveren.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8:13:56Z</dcterms:created>
  <dc:creator>Floor</dc:creator>
  <dc:description/>
  <dc:language>en-US</dc:language>
  <cp:lastModifiedBy>Franken S.T.</cp:lastModifiedBy>
  <dcterms:modified xsi:type="dcterms:W3CDTF">2012-09-09T12:41:48Z</dcterms:modified>
  <cp:revision>9</cp:revision>
  <dc:subject/>
  <dc:title>   H2. Politiek &amp; verzuiling </dc:title>
</cp:coreProperties>
</file>