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BA05-5E0D-44A7-9FA5-E340C5DF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E98-ADA6-48DC-8653-B0F78A1C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EA52-D0AC-4EF0-81F4-6F5E5837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AA1E-E228-45D1-A4AE-0B2FCF79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D1F0-40B9-47FC-9970-E41E8533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ECEE-18B1-48B9-8AE0-BBA3B84D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94C1-467A-48D5-9766-A00A0863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2475-576A-4A4C-95BC-10F59CAD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4653-5A34-465D-BB79-F1FE742A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BF3B-7DE8-4B7D-8025-CFCEB41A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F405-AECF-415E-808D-42F8991E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737-0558-4DF4-A894-DCC44676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077E-9D09-428A-86B9-9BB98D1D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BF28-EB16-495F-A59D-5C0C2C0A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8BD7-72CC-4E54-954F-080E6BD0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1ACE-D5B3-4A72-B44C-A372E6AE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CB24-C19E-4414-B413-41AD4B9B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45D98-ADA6-411E-8A07-F6FD6258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8D163-2267-40EA-83D5-6154A44D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D1DD5C-3710-423A-95D7-B2D66C55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E12A4-4E47-4D72-88C1-0FBA7C21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2B35A-A70A-4748-92B9-497F9102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E6C-7BB0-4DB4-9FAE-66CBB451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AF4B46-8B8C-4A17-A771-0ADF93C6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F7E929-9051-4E9C-A125-933D2612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1A36BE-2386-46A4-835F-80A3B9FA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C6050-F6D0-4EC2-879B-F474ED42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A447B-EC3C-4538-B939-01EFC893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77082-EEF9-4BFC-BB49-D7EAEBD4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49A16-B750-44A1-962D-B1513DAB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747A88-D53F-449A-BE48-3D2D37CF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297354-519B-4D1D-A18C-BF2CEECA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C6BF34-21D1-4776-B315-353A86ED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F06-C11E-44F3-92A5-D5D1C6DA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9F0250-CD45-4B4B-9C74-29AF9D5D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312472-8A17-4C25-BFDB-3D3EB877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C8D042-CBDD-4CFB-A6DE-7D34A278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D40DDC-EC1E-4879-8BF6-234FC2A8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74AFFB-18D3-42AA-8628-07EA6F09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F207BC-C5AB-4C45-B1E7-80ECB942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22DEF5-7146-4401-9D6B-FF943C76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B78FB0-8977-4970-A872-FA12A108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64D07E-A1FF-4C84-8B5C-E9FCAFF7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44455-E277-470A-8BFD-6485B9AD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A9F-4669-4C62-A7E2-E4770725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B21366-7E10-4329-985F-20ACAF9C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E1E1CD-5519-481C-9683-7323C698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E16297-21A5-42F4-9DE6-84C30FAF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A74F16-297F-4D26-A37A-2B472397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7E8B98-CF1E-4BEE-ACBB-30B02428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A03DFB-1439-4AD4-8860-BC955158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DB7FE2-5BF2-471F-A5FD-BECE59B8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A6DAF0-52D7-4ED2-A4EE-80F5E901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823061-4303-4C70-A4BB-6EE9DF6D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9A660A-FB0B-4D77-A477-8F8996D2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E938-6177-4108-86F0-4DB2B29A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34A52B-4B91-4B9C-9351-D466AE64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2CC58-204E-478C-B4B3-E4C2F70A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DC348-0AF9-4ABC-A6A9-FC869170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87272-4C2B-443B-A27B-6074D2DD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1F9E1-19F5-4A73-8234-B0EFCFCE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A5844-08FD-4287-8F0A-BF548FCA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4F27F-E6FF-46C7-A861-7579E69B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6CA0C-B3FA-4C3C-A039-0CCCC6E1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D70BE-5405-4D01-8FCD-E22C0A06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33061-0A06-45FF-B7FB-7BAEA787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9615-B137-47AE-808B-85893A2E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2AC2E-5BAA-4E85-830C-EB9785ED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98BC1-19DF-45E4-98C2-43E61DBB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29DB7-7003-4E7A-B10B-926DBBB3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A63DE2-5C02-4E18-8952-D89AA564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A6415D-0C3E-4BD3-8D41-7C94C287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D92467-AAA9-4BCC-84EC-27428082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B7740D-752D-445F-99E8-A0712F4F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A96393-C08B-425D-B31F-D63C2430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E579D1-B140-4C76-9B6E-50C4301A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76A6DB-87EF-4F71-A51A-4D35E961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673-852C-4E26-A927-7549A09D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E9AEF7-26DF-42B6-A34B-EB5CC2C3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1F1DF7-B7A4-4EB1-BC72-49F568D4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A7C0D3-062A-401D-9B2E-465D00F9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21AE5E-57B4-4DC5-AAB7-285D13A9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9541A2-5528-4F00-8DBB-0A67FD85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19BE4-EE22-4EE5-B429-7C2C9649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0ABCD-3E0E-4141-8E47-90B7E402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CDA16-87FA-4563-A16E-EF0AAFEC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4BCF4-ECC1-473F-AA13-E34EB755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79CB0-99BF-44EE-AFE7-73F87D03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738-1BC7-46F3-9D56-68C26F59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CE5FC-76D4-4113-BA3D-C5174996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CCEF9-BDC9-40B8-B03D-D3DF52A2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18AB9-1ECB-4C2A-8A05-11BE88BB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6776E-9127-41FF-823A-C6F9B9FA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152BD-4951-434C-8751-55D59596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7B2F9-C4D8-44CA-A26C-EE06E3AC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A17B7-472F-4E3D-B805-7154C457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6591-9473-4A20-A48E-1DCEBA2F1218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B561-B4F2-4345-B031-2F93F9D2F3BC}" type="slidenum">
              <a:rPr b="1" lang="nl-N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A7AC-503A-4BE9-8F71-C90A0393B7A7}" type="slidenum">
              <a:rPr b="1" lang="nl-N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1EA1-8C44-4797-950A-E34DE76050F0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FA4F-527F-4669-A1CF-70FF539503AD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3617-7B1D-4EFB-97BD-9986651C3299}" type="slidenum">
              <a:rPr b="1" lang="nl-N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D6F0-901D-4F3D-8A28-855E491FF4C3}" type="slidenum">
              <a:rPr b="1" lang="nl-N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3CE9-8504-4D0C-8778-C34999C9DC74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57280" y="5357880"/>
            <a:ext cx="6477120" cy="35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bddc3"/>
                </a:solidFill>
                <a:latin typeface="Tw Cen MT"/>
              </a:rPr>
              <a:t>8.3 POLITIEK &amp; VERZUILING</a:t>
            </a:r>
            <a:br>
              <a:rPr sz="4000"/>
            </a:b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ffffff"/>
                </a:solidFill>
                <a:latin typeface="Tw Cen MT"/>
              </a:rPr>
              <a:t>Oefening met verkiezingsaffich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5715000" y="928800"/>
            <a:ext cx="24782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Kijkwijz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0760" y="1617840"/>
            <a:ext cx="3786120" cy="5119560"/>
          </a:xfrm>
          <a:prstGeom prst="rect">
            <a:avLst/>
          </a:prstGeom>
          <a:ln w="0">
            <a:noFill/>
          </a:ln>
        </p:spPr>
      </p:pic>
      <p:sp>
        <p:nvSpPr>
          <p:cNvPr id="355" name="Tekstvak 4"/>
          <p:cNvSpPr/>
          <p:nvPr/>
        </p:nvSpPr>
        <p:spPr>
          <a:xfrm>
            <a:off x="214200" y="1571760"/>
            <a:ext cx="4857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1. BESCHRIJ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partij / zu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anneer is  het affiche gemaakt / welke aanlei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2. SYMBOL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symbolen herken 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beteken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3. INTERPRE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550880" y="357120"/>
            <a:ext cx="4227480" cy="6000840"/>
          </a:xfrm>
          <a:prstGeom prst="rect">
            <a:avLst/>
          </a:prstGeom>
          <a:ln w="0">
            <a:noFill/>
          </a:ln>
        </p:spPr>
      </p:pic>
      <p:sp>
        <p:nvSpPr>
          <p:cNvPr id="357" name="Tijdelijke aanduiding voor tekst 4"/>
          <p:cNvSpPr/>
          <p:nvPr/>
        </p:nvSpPr>
        <p:spPr>
          <a:xfrm>
            <a:off x="5867280" y="1714680"/>
            <a:ext cx="299088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Beschrij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Symboli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Interpret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Confessionele partij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99760" y="1571400"/>
            <a:ext cx="628668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ff"/>
                </a:solidFill>
                <a:latin typeface="Tw Cen MT"/>
              </a:rPr>
              <a:t>Overeenkomsten en verschill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1500120" y="2286000"/>
            <a:ext cx="2952720" cy="44276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321480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Hahn over arbeidsverhouding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374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Welke symboliek herken je in de afbeelding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Welke visie geeft Hehn op de arbeidsverhoudingen in de tweede helft van de negentiende eeuw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5" descr="HAHNARB2"/>
          <p:cNvPicPr/>
          <p:nvPr/>
        </p:nvPicPr>
        <p:blipFill>
          <a:blip r:embed="rId1"/>
          <a:stretch/>
        </p:blipFill>
        <p:spPr>
          <a:xfrm>
            <a:off x="4356000" y="2060640"/>
            <a:ext cx="444348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6" name="Picture 5" descr="indus3"/>
          <p:cNvPicPr/>
          <p:nvPr/>
        </p:nvPicPr>
        <p:blipFill>
          <a:blip r:embed="rId1"/>
          <a:stretch/>
        </p:blipFill>
        <p:spPr>
          <a:xfrm>
            <a:off x="611280" y="1628640"/>
            <a:ext cx="4160880" cy="4537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indus2"/>
          <p:cNvPicPr/>
          <p:nvPr/>
        </p:nvPicPr>
        <p:blipFill>
          <a:blip r:embed="rId2"/>
          <a:stretch/>
        </p:blipFill>
        <p:spPr>
          <a:xfrm>
            <a:off x="5148360" y="1628640"/>
            <a:ext cx="34606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5" descr="kies1"/>
          <p:cNvPicPr/>
          <p:nvPr/>
        </p:nvPicPr>
        <p:blipFill>
          <a:blip r:embed="rId1"/>
          <a:stretch/>
        </p:blipFill>
        <p:spPr>
          <a:xfrm>
            <a:off x="684360" y="1413000"/>
            <a:ext cx="3573360" cy="5256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10" descr="Hahn13"/>
          <p:cNvPicPr/>
          <p:nvPr/>
        </p:nvPicPr>
        <p:blipFill>
          <a:blip r:embed="rId2"/>
          <a:stretch/>
        </p:blipFill>
        <p:spPr>
          <a:xfrm>
            <a:off x="5292720" y="260280"/>
            <a:ext cx="3533760" cy="388944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11"/>
          <p:cNvSpPr/>
          <p:nvPr/>
        </p:nvSpPr>
        <p:spPr>
          <a:xfrm>
            <a:off x="5003640" y="4508640"/>
            <a:ext cx="374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bert Hahn in de Notenkraker, 14-2-1914. De arbeider:'Alleen als zij er ook van zal profiteren, zijn wij bereid, u te helpen het vrouwenkiesrecht te veroveren.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8:13:56Z</dcterms:created>
  <dc:creator>Floor</dc:creator>
  <dc:description/>
  <dc:language>en-US</dc:language>
  <cp:lastModifiedBy>Franken S.T.</cp:lastModifiedBy>
  <dcterms:modified xsi:type="dcterms:W3CDTF">2012-09-09T12:41:48Z</dcterms:modified>
  <cp:revision>9</cp:revision>
  <dc:subject/>
  <dc:title>   H2. Politiek &amp; verzuiling </dc:title>
</cp:coreProperties>
</file>