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28AB-03EC-4027-AE9F-DCD6967E6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5BBD-D22D-4CC0-B469-9E80147C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59D0-2A46-4786-8F4B-7DC58CEF3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89DC-3731-4A17-A722-5B8703109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496E-A682-41EA-83E0-FF3864767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E679-E8AA-4526-BBE0-0E40AD02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5ABA-8048-4F6C-908F-B8A34DE9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62E5-060D-434E-9D81-D1A13CF6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664A-1103-48A8-A5C0-047F1B54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DF00-8BD7-4077-A498-3714EBD1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BB07-8A22-413D-96A7-13493937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9970-4C15-4C15-9264-B8E61AB2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07FF-B108-4FCB-85D2-52BD91AF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FEF6-D496-446D-9999-AF2EBBAC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933A-BF12-4CF5-BE86-4C595CD2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56CE-E1A8-45E6-81E5-326E777E2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50D2-AA89-4B71-B160-88D521A6A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21AC11-C010-4A1F-AA10-8B8D99878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5EFA70-4747-4C65-8791-9F56B9B0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BD95BC-72F3-4DAF-BC4E-AD130464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15F75C-7057-4C20-8442-1C31F0F6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F2E016-55C7-462D-9AC8-5B049A87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4F36-CB46-4C91-ABF9-822A9837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519982-0F06-457C-97A7-815D34F0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B48AFA-6FAC-46A1-B04E-EA28856C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959DD1-7CB1-4ED8-BFF2-6365AE8E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3D31D6-EE5A-4CC6-A296-D524F806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7CFDBE-7C17-47E3-A4F1-8AD0016B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85055D-20EF-404D-9EB6-3D6D4AAFE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126D80-B719-4164-A567-4347E119F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0947E7-1910-48AE-A533-C57842B68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8BBAEB-CB5E-460D-95EF-56BCFC17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D27133-2288-4EF0-B59A-93D5CD7D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301C-6D17-4F88-853D-CF24BE19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03837C-19DD-4F0A-A52E-B2CA8D61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2F92F1-2716-4209-8793-A6619EEC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C897FD-2C0A-4692-9411-ACC0BC51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008499-3D3C-490A-A589-E756CEAC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E339AE-AB43-4604-9F68-9FAB4E3E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513C00-C431-4700-A5DA-CCF548FD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4C9C6A-36EA-44B2-A583-65B0EF40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0BC391-3E08-48C0-9C87-901333D3B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2E2A8A-DFE0-44C3-8045-E09AE2E1B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602EDE-1390-4865-BFD8-DB4B6391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5DB3-EAEA-491C-8345-08345EDF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BC305F-FB61-44AA-B013-050287EE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98CDA8-7095-4229-BF71-43D3D535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2E8701-23FA-47C6-9D8C-B6554E47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D5E4A8-4444-4EF4-8956-31D4673E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19F779-6FC9-4698-94DD-1F224183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50B5CB-C829-41FE-81DE-A6B9363E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444B40-2AA2-4E7A-A5F5-9C07B942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E42B0C-7CB6-4C7D-85B1-1E18A7E2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9D50C6-58B0-4120-8E17-8609B8D2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331212-26FD-41DE-9B7E-9C1859C6F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FB50-BA12-4608-BE37-460EC2F0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92013C-2CB1-46C5-826C-A7667647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84783-C636-4174-9DBA-CA0E98FA5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8442D-8A08-42F4-8DC5-A0131A41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A4468-33F9-4309-AEEA-5F4278CF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5A5A3-8FF2-41C6-B875-5EE03663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081AE-A389-4248-9691-546805FB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48CA9-A3C5-457A-A57E-7C5B0BAD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C07DC-7517-469C-BFF9-6971A404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294D6-E511-4294-B57A-59A8A36E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16B0C-3AED-4CC2-9679-1D0C0573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4B1F-18F4-40F2-B83E-7FBDFB4D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B0BE6-EB96-44CD-948F-B7E2C01C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6123A-2CC6-4E51-9B5C-F67C9037F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E35D9-88BE-47B5-8263-EA7A7C972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55C9A1-5C97-457A-99A8-BFBB43BD0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586E86-5292-4E1F-B3BE-3257E595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56444F-0FF9-43DB-B8EF-2BD0476B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3EBECE-8CDA-4BE5-9AC1-2B963363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D50272-5662-487E-BB94-4F323DEB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E734D9-BB72-4666-BC0F-600621CD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59CE88-529E-4972-A0FD-1602C4E4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0D42-2F57-41C8-B025-EB43D2B8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512365-C4CE-4D21-9384-6779224D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B37A3E-0EE2-410E-BDD5-694D46FD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401942-713D-41C4-B093-B860A41A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694030-70CE-4B5C-98A5-8D0474E3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B6B703-B05C-4039-9F0A-94F045721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E56D3-E92B-4103-ACC5-33B9C8EF1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BC467-451A-4C0F-9882-9883F7E8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CEFB1-9326-4F47-B75E-1904B707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0A4C7-42A2-47E8-AEC0-8AF0A47C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3F76C-9097-41F5-9FBD-9BA4D60C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8342-1FEA-41AE-9986-AB7D0079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07851-B940-488F-B4F5-EABE912A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439EB-0E32-4638-940F-E25F2A33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2EEC3-D817-4D4E-BAB6-9EBAC357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FB1DE-0D51-4AD2-A482-E82D0938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DCEB5-1AEE-43A2-93A9-708AA1AF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34FC3-AB6A-496A-8240-C14BAF70A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3319E-354C-4D03-90E8-81BB0E83E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E5B6-FBC7-464A-A71B-0ABFBCA853C2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hthoe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hthoe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21E1-E056-4BD9-AA13-0DF5CCC2EF0E}" type="slidenum">
              <a:rPr b="1" lang="nl-NL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hthoe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hthoe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hoe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7E92-59B7-4326-B60F-C3ABC38DAE78}" type="slidenum">
              <a:rPr b="1" lang="nl-NL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AE8F-2BF6-4B50-8147-682EEF4D702B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CD43-7720-44D8-AA08-1744670F8E65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3ABD-341A-4A3F-84E6-061D3E9DEA68}" type="slidenum">
              <a:rPr b="1" lang="nl-NL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hthoe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hthoe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hthoe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hthoek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C5A9-A3C0-42D5-B48D-FD971C14CE06}" type="slidenum">
              <a:rPr b="1" lang="nl-NL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hthoe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D96C-7B00-4F72-B9C3-07E007D00E0A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57280" y="5357880"/>
            <a:ext cx="6477120" cy="35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ebddc3"/>
                </a:solidFill>
                <a:latin typeface="Tw Cen MT"/>
              </a:rPr>
              <a:t>8.3 POLITIEK &amp; VERZUILING</a:t>
            </a:r>
            <a:br>
              <a:rPr sz="4000"/>
            </a:b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600" spc="-1" strike="noStrike">
                <a:solidFill>
                  <a:srgbClr val="ffffff"/>
                </a:solidFill>
                <a:latin typeface="Tw Cen MT"/>
              </a:rPr>
              <a:t>Oefening met verkiezingsaffiche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Picture 3" descr=""/>
          <p:cNvPicPr/>
          <p:nvPr/>
        </p:nvPicPr>
        <p:blipFill>
          <a:blip r:embed="rId1"/>
          <a:stretch/>
        </p:blipFill>
        <p:spPr>
          <a:xfrm>
            <a:off x="5715000" y="928800"/>
            <a:ext cx="247824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Kijkwijz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5000760" y="1617840"/>
            <a:ext cx="3786120" cy="5119560"/>
          </a:xfrm>
          <a:prstGeom prst="rect">
            <a:avLst/>
          </a:prstGeom>
          <a:ln w="0">
            <a:noFill/>
          </a:ln>
        </p:spPr>
      </p:pic>
      <p:sp>
        <p:nvSpPr>
          <p:cNvPr id="355" name="Tekstvak 4"/>
          <p:cNvSpPr/>
          <p:nvPr/>
        </p:nvSpPr>
        <p:spPr>
          <a:xfrm>
            <a:off x="214200" y="1571760"/>
            <a:ext cx="4857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w Cen MT"/>
              </a:rPr>
              <a:t>1. BESCHRIJ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elke partij / zui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anneer is  het affiche gemaakt / welke aanleid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w Cen MT"/>
              </a:rPr>
              <a:t>2. SYMBOL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elke symbolen herken j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elke beteken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w Cen MT"/>
              </a:rPr>
              <a:t>3. INTERPRET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1550880" y="357120"/>
            <a:ext cx="4227480" cy="6000840"/>
          </a:xfrm>
          <a:prstGeom prst="rect">
            <a:avLst/>
          </a:prstGeom>
          <a:ln w="0">
            <a:noFill/>
          </a:ln>
        </p:spPr>
      </p:pic>
      <p:sp>
        <p:nvSpPr>
          <p:cNvPr id="357" name="Tijdelijke aanduiding voor tekst 4"/>
          <p:cNvSpPr/>
          <p:nvPr/>
        </p:nvSpPr>
        <p:spPr>
          <a:xfrm>
            <a:off x="5867280" y="1714680"/>
            <a:ext cx="2990880" cy="43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w Cen MT"/>
              </a:rPr>
              <a:t>Beschrij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w Cen MT"/>
              </a:rPr>
              <a:t>Symboli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w Cen MT"/>
              </a:rPr>
              <a:t>Interpret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Confessionele partije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99760" y="1571400"/>
            <a:ext cx="6286680" cy="639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ffffff"/>
                </a:solidFill>
                <a:latin typeface="Tw Cen MT"/>
              </a:rPr>
              <a:t>Overeenkomsten en verschill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1500120" y="2286000"/>
            <a:ext cx="2952720" cy="44276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4572000" y="2286000"/>
            <a:ext cx="321480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Hahn over arbeidsverhoudinge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374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w Cen MT"/>
              </a:rPr>
              <a:t>Welke symboliek herken je in de afbeelding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w Cen MT"/>
              </a:rPr>
              <a:t>Welke visie geeft Hehn op de arbeidsverhoudingen in de tweede helft van de negentiende eeuw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4" name="Picture 5" descr="HAHNARB2"/>
          <p:cNvPicPr/>
          <p:nvPr/>
        </p:nvPicPr>
        <p:blipFill>
          <a:blip r:embed="rId1"/>
          <a:stretch/>
        </p:blipFill>
        <p:spPr>
          <a:xfrm>
            <a:off x="4356000" y="2060640"/>
            <a:ext cx="444348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6" name="Picture 5" descr="indus3"/>
          <p:cNvPicPr/>
          <p:nvPr/>
        </p:nvPicPr>
        <p:blipFill>
          <a:blip r:embed="rId1"/>
          <a:stretch/>
        </p:blipFill>
        <p:spPr>
          <a:xfrm>
            <a:off x="611280" y="1628640"/>
            <a:ext cx="4160880" cy="45370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indus2"/>
          <p:cNvPicPr/>
          <p:nvPr/>
        </p:nvPicPr>
        <p:blipFill>
          <a:blip r:embed="rId2"/>
          <a:stretch/>
        </p:blipFill>
        <p:spPr>
          <a:xfrm>
            <a:off x="5148360" y="1628640"/>
            <a:ext cx="34606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5" descr="kies1"/>
          <p:cNvPicPr/>
          <p:nvPr/>
        </p:nvPicPr>
        <p:blipFill>
          <a:blip r:embed="rId1"/>
          <a:stretch/>
        </p:blipFill>
        <p:spPr>
          <a:xfrm>
            <a:off x="684360" y="1413000"/>
            <a:ext cx="3573360" cy="52560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0" name="Picture 10" descr="Hahn13"/>
          <p:cNvPicPr/>
          <p:nvPr/>
        </p:nvPicPr>
        <p:blipFill>
          <a:blip r:embed="rId2"/>
          <a:stretch/>
        </p:blipFill>
        <p:spPr>
          <a:xfrm>
            <a:off x="5292720" y="260280"/>
            <a:ext cx="3533760" cy="388944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11"/>
          <p:cNvSpPr/>
          <p:nvPr/>
        </p:nvSpPr>
        <p:spPr>
          <a:xfrm>
            <a:off x="5003640" y="4508640"/>
            <a:ext cx="3745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bert Hahn in de Notenkraker, 14-2-1914. De arbeider:'Alleen als zij er ook van zal profiteren, zijn wij bereid, u te helpen het vrouwenkiesrecht te veroveren.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8:13:56Z</dcterms:created>
  <dc:creator>Floor</dc:creator>
  <dc:description/>
  <dc:language>en-US</dc:language>
  <cp:lastModifiedBy>Franken S.T.</cp:lastModifiedBy>
  <dcterms:modified xsi:type="dcterms:W3CDTF">2012-09-09T12:41:48Z</dcterms:modified>
  <cp:revision>9</cp:revision>
  <dc:subject/>
  <dc:title>   H2. Politiek &amp; verzuiling </dc:title>
</cp:coreProperties>
</file>