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417-58E3-408A-B054-17E317CE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1F2-D72F-47F0-A237-D736A197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31D-3A79-445E-832A-B23575D7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BE4-4E7F-4595-93CE-D9854F02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EA1-FB03-4B68-926B-8A33EF42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7F0-6BAD-4527-9986-420A96AA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D58-F666-42BB-A323-42C69CA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EA1-6067-4567-9E16-43DA7051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AB0-BAFA-432A-8190-F791F874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3AD-27A0-48B5-BF56-C6E99BB8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DF2-8504-4FF9-B67B-3B593CE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6B2-7B5D-4B48-8BAA-129B454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9FF7-6BD8-4938-AC85-DBB89E94B7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fs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i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ehoud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ngd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64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(onder gl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inbouwbedrijf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355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vrolijkeaardbei1_800"/>
          <p:cNvPicPr/>
          <p:nvPr/>
        </p:nvPicPr>
        <p:blipFill>
          <a:blip r:embed="rId2"/>
          <a:stretch/>
        </p:blipFill>
        <p:spPr>
          <a:xfrm>
            <a:off x="5904000" y="4427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open te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la"/>
          <p:cNvPicPr/>
          <p:nvPr/>
        </p:nvPicPr>
        <p:blipFill>
          <a:blip r:embed="rId1"/>
          <a:stretch/>
        </p:blipFill>
        <p:spPr>
          <a:xfrm>
            <a:off x="39528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90"/>
          <p:cNvPicPr/>
          <p:nvPr/>
        </p:nvPicPr>
        <p:blipFill>
          <a:blip r:embed="rId2"/>
          <a:stretch/>
        </p:blipFill>
        <p:spPr>
          <a:xfrm>
            <a:off x="6227640" y="393228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aditioneel of gangb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0x216_v0014-vw4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05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d9GcSo8sfoxNoCaB5HvsDXGVGnUMmVGjR0U393qLPEkgCnvRr842ZPv8mTh1w8"/>
          <p:cNvPicPr/>
          <p:nvPr/>
        </p:nvPicPr>
        <p:blipFill>
          <a:blip r:embed="rId2"/>
          <a:stretch/>
        </p:blipFill>
        <p:spPr>
          <a:xfrm>
            <a:off x="4643280" y="3789360"/>
            <a:ext cx="4211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ologisch of alternat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eveheersbeestje"/>
          <p:cNvPicPr/>
          <p:nvPr/>
        </p:nvPicPr>
        <p:blipFill>
          <a:blip r:embed="rId1"/>
          <a:stretch/>
        </p:blipFill>
        <p:spPr>
          <a:xfrm>
            <a:off x="324000" y="148428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biologische%20bestrijding%20koppert"/>
          <p:cNvPicPr/>
          <p:nvPr/>
        </p:nvPicPr>
        <p:blipFill>
          <a:blip r:embed="rId2"/>
          <a:stretch/>
        </p:blipFill>
        <p:spPr>
          <a:xfrm>
            <a:off x="3348000" y="2349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70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4_org"/>
          <p:cNvPicPr/>
          <p:nvPr/>
        </p:nvPicPr>
        <p:blipFill>
          <a:blip r:embed="rId2"/>
          <a:stretch/>
        </p:blipFill>
        <p:spPr>
          <a:xfrm>
            <a:off x="4932360" y="1557360"/>
            <a:ext cx="384336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and-met-kunstmest"/>
          <p:cNvPicPr/>
          <p:nvPr/>
        </p:nvPicPr>
        <p:blipFill>
          <a:blip r:embed="rId3"/>
          <a:stretch/>
        </p:blipFill>
        <p:spPr>
          <a:xfrm>
            <a:off x="7236000" y="5456160"/>
            <a:ext cx="1908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eksziek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ikstof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86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zwavelgebrek_kool"/>
          <p:cNvPicPr/>
          <p:nvPr/>
        </p:nvPicPr>
        <p:blipFill>
          <a:blip r:embed="rId2"/>
          <a:stretch/>
        </p:blipFill>
        <p:spPr>
          <a:xfrm>
            <a:off x="4500720" y="3051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&amp;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81520" y="2276640"/>
            <a:ext cx="3568680" cy="393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457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of com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 rot="21359400">
            <a:off x="168120" y="2274480"/>
            <a:ext cx="4680000" cy="40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gemeentelijk-vuilniscontainer---1_big--11122215351949245300"/>
          <p:cNvPicPr/>
          <p:nvPr/>
        </p:nvPicPr>
        <p:blipFill>
          <a:blip r:embed="rId2"/>
          <a:stretch/>
        </p:blipFill>
        <p:spPr>
          <a:xfrm rot="252000">
            <a:off x="5079600" y="20649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8:43:54Z</dcterms:created>
  <dc:creator>Pappie</dc:creator>
  <dc:description/>
  <dc:language>en-US</dc:language>
  <cp:lastModifiedBy>Linda Waal</cp:lastModifiedBy>
  <dcterms:modified xsi:type="dcterms:W3CDTF">2012-11-14T12:52:01Z</dcterms:modified>
  <cp:revision>4</cp:revision>
  <dc:subject/>
  <dc:title>Dia 1</dc:title>
</cp:coreProperties>
</file>