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0FF945D-1567-43FF-876C-8937AD176570}"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3122E-3F6A-4DAC-BA3D-045821CF4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0FB5-B7D7-46E5-BCA8-D86D5B08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F90AF-E74E-4AEC-BC75-7CBA3021E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E3DCE-D4F7-4769-8049-AB31FBDAB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C2AAE-7989-4FEA-8341-EC5B118DB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ED85B-3224-4DB2-B457-25541B5B1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16BD7-F23E-4066-A3A9-E47CA1E0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50468-05D5-4F32-B851-A923CD4CD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87A8C-7EA9-4998-8D0F-F6235EBA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262E6-8EEE-49A2-A0FD-06BB16B45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98A17-91F3-467A-9B0B-4A05FA468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46861-1A7D-438A-9EFE-69B435B95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DB986-AB05-440A-9886-A196960D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1084D-B410-42B0-834D-9EB0E630F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774D4-B9CD-4DC3-B7E0-3617F1959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8B562-68DD-4DC3-BEEB-03CA26E90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20896-B18D-448B-AD3C-1C01E133B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E3B9-CAB7-4345-841F-5B9B60928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62791-4610-4394-8C8F-ED9E38A9B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0928-CB8D-4F53-9750-1DF8B7255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D2604-A3C4-4853-A1E2-0A40E9815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634D-305B-4EF5-83C6-D21076B98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8C94-4C8D-4AD8-B54A-8E7C74AC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D84A-FB65-47DC-8CAF-1BF4FC694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7A4F-7C9B-459A-AA3C-E857C5D43C8F}" type="datetime">
              <a:rPr b="0" lang="nl-NL" sz="1400" spc="-1" strike="noStrike">
                <a:solidFill>
                  <a:srgbClr val="003399"/>
                </a:solidFill>
                <a:latin typeface="Times New Roman"/>
              </a:rPr>
              <a:t>28-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D2D0-2EB4-435E-B378-144FF776EC0A}"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2098-EEE9-4C0D-87E2-026B73FF1C46}" type="datetime">
              <a:rPr b="0" lang="nl-NL" sz="1400" spc="-1" strike="noStrike">
                <a:solidFill>
                  <a:srgbClr val="003399"/>
                </a:solidFill>
                <a:latin typeface="Times New Roman"/>
              </a:rPr>
              <a:t>28-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C3FD-AF7D-43B7-BAEB-49E0F762BCC0}"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C605E4A4-324F-44D8-A027-64BC2610E39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54B1B2C5-B4DE-4DD8-BB9A-7B2D695552AA}"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8E9B6CA6-F0AD-4DD8-9740-C13990AA57EB}"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FF2A6043-A5F8-45C8-B64B-EF1916A6C71D}"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9646DD82-4232-4B2A-95C7-BC841F3B0C4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05C075D7-65A8-46B0-A757-364206B7D29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FAEA521B-140A-40FD-93FB-D8C6062DEE8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835898D9-D2A3-47E5-B24D-9E4CDA038ED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5A6D5A0D-8342-426F-8246-C09CB6B8481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E96BC97E-646D-4DC3-91B0-8BA1EE380FA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961FAC29-A2EE-4A07-BA0D-B69088C5494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587DD81D-1566-4224-A352-DC361CD1326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DDFEEA87-0E5A-4DA4-85D3-0F921A0F2B3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06BF8B2C-F433-4AC3-A6A0-66CD41BA653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B30EA9F9-0FC5-452C-9887-72FB5E3A81F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D32B0326-3FDD-4023-BCF4-C1EBC8F870AE}"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50022007-ED16-447D-8D30-74F5E82703D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