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77DE-C059-428B-B84E-6D4372C7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F14-78AF-4D6E-83A9-D410AFF6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EAB-C1DE-4443-94EC-BF7DE4AA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2B0-232E-4A99-8C3D-1644B1D0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A02-57D9-49C6-96B4-B1B3A52A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0A4-2075-472A-A57C-05A41663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51B5-D02A-4E03-884E-C72A7627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4520-1A6C-4B2A-9942-4A70A803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588-C91F-4244-AD17-DDBE9219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3CF-6D69-43A5-A9B7-85F0D1CE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F52-98A4-47B8-A238-8AB9DC84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6792-1AC6-4D7B-B091-36ECC22D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B12B-A840-4F9A-8B7B-724849EE55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Voorka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Voorka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Nazor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Nazor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fsluit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Afsluit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nlei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nhou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Orient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efeni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Ontwer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Werkvoorberei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Werkvoorbereid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Realis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Realisati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Oplever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Oplever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Opleveri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57:32Z</dcterms:created>
  <dc:creator>150291002</dc:creator>
  <dc:description/>
  <dc:language>en-US</dc:language>
  <cp:lastModifiedBy>Jan Timpers</cp:lastModifiedBy>
  <dcterms:modified xsi:type="dcterms:W3CDTF">2008-11-16T13:57:03Z</dcterms:modified>
  <cp:revision>9</cp:revision>
  <dc:subject/>
  <dc:title>Dia 1</dc:title>
</cp:coreProperties>
</file>