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338A-38EC-427D-9CD7-DDA4A7E4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520-B9F4-4EC9-87D7-738D9FE2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813B-CDE0-4440-8A8B-AA3A8FEA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95B-00D5-4991-9D05-806678EA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F2B9-F648-43CC-A921-EF93CF8A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AC3-9EBB-40C4-A4CC-86CFF200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F61B-9723-4232-9DCA-8477DD9A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6D17-0C36-4B91-889A-DAE514FA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EAD-8B5E-4572-8D5E-5D45664E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E8C-04CD-497E-A388-927DB0F4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9F81-B8C1-4C64-BB54-359104B5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FBE-B091-4CFD-9568-E0394B1D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455C-15CE-49F9-B85C-83058A1401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Voorka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Voorka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Nazor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Nazor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Afsluit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Afsluit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nlei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nhou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Orienta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Defeni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Ontwer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Werkvoorberei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Werkvoorbereid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Realisa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Realisati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Oplever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Oplever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Opleveri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0:57:32Z</dcterms:created>
  <dc:creator>150291002</dc:creator>
  <dc:description/>
  <dc:language>en-US</dc:language>
  <cp:lastModifiedBy>Jan Timpers</cp:lastModifiedBy>
  <dcterms:modified xsi:type="dcterms:W3CDTF">2008-11-16T13:57:03Z</dcterms:modified>
  <cp:revision>9</cp:revision>
  <dc:subject/>
  <dc:title>Dia 1</dc:title>
</cp:coreProperties>
</file>