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FBD-18F5-41F1-8691-450C0EEE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737-D913-4D5E-B7FD-E3444926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E5C-C71C-47FB-BD72-26653209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EA2-A15D-4163-8F7C-E79F00C6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FD6-F39E-4B50-94F4-1773451F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960-2DEE-45C3-A2AA-82E7E4AB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529-9686-47A0-B2F3-C5728529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F79-A99B-454D-B3BF-5A52C54E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001-F723-4FA3-BE40-0932F93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B69-310E-4859-B930-0E54402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750-63C6-4315-8A4C-106955B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0D4-ACE7-414D-BAF9-7FEAC13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29E5-14A7-4CC8-AEC1-60829C03C3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Voork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Voorka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Naz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azor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fslui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Afsluit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nl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nhou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Orient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feni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ntwe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Werkvoorbereid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erkvoorbereid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ealis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Realisat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plever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pleve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Opleveri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7:32Z</dcterms:created>
  <dc:creator>150291002</dc:creator>
  <dc:description/>
  <dc:language>en-US</dc:language>
  <cp:lastModifiedBy>Jan Timpers</cp:lastModifiedBy>
  <dcterms:modified xsi:type="dcterms:W3CDTF">2008-11-16T13:57:03Z</dcterms:modified>
  <cp:revision>9</cp:revision>
  <dc:subject/>
  <dc:title>Dia 1</dc:title>
</cp:coreProperties>
</file>