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74F-0258-4895-8944-58F7B90C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C10-2AFD-495C-BFFC-94386461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B0E-686A-4FA9-811F-C3370B05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F05-82F1-4781-B514-84816F87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351-F57B-4202-AF97-C6E08F3A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74C-137D-4DD7-B7C0-748FDEEA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89A-E13B-4D20-929F-2EC552F0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425-933E-46B6-820B-C0C68E6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2B7-476C-4D60-A89F-5E57C052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208-BA62-43C1-8F1B-68449C46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72B-05C1-4504-8E95-C6F4FD0B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B5D-A39E-4C58-A39A-399C6216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D012-207F-4F5E-AFA5-0204B202CB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Voork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Voorka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Nazo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azor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fslui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Afsluit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nl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nhou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rient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feni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Ontwe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Werkvoorber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Werkvoorbereid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Realis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Realisat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pleve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Opleve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Opleveri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7:32Z</dcterms:created>
  <dc:creator>150291002</dc:creator>
  <dc:description/>
  <dc:language>en-US</dc:language>
  <cp:lastModifiedBy>Jan Timpers</cp:lastModifiedBy>
  <dcterms:modified xsi:type="dcterms:W3CDTF">2008-11-16T13:57:03Z</dcterms:modified>
  <cp:revision>9</cp:revision>
  <dc:subject/>
  <dc:title>Dia 1</dc:title>
</cp:coreProperties>
</file>