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B378-1974-4EE8-A015-803EBFB3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12F4-9401-409F-8544-49F78A7E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DA44-0D5E-4544-A518-249D85CA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2631-919A-4DDD-9125-C960D09C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B70-F210-4678-8385-CECFBCE9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D3C8-7956-47D7-B975-A5CF0A1B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A42-3620-4BC0-8883-CF497B7A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E31-6C17-4CDA-B881-83AA440D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A1B6-7422-4135-BCFE-46E07E88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439F-90E4-4B18-85EF-95D6B5A1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887-6E50-4003-825E-B64CEE19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4064-D2CE-4E09-94DE-2A92D8F4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8176-3012-4261-B12B-44548546AE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Voorka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Voorka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Nazor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Nazor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Afsluit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Afsluit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nlei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nhou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Orienta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Defeni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Ontwer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Werkvoorberei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Werkvoorbereid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Realisa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Realisati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Oplever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Oplever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Opleveri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0:57:32Z</dcterms:created>
  <dc:creator>150291002</dc:creator>
  <dc:description/>
  <dc:language>en-US</dc:language>
  <cp:lastModifiedBy>Jan Timpers</cp:lastModifiedBy>
  <dcterms:modified xsi:type="dcterms:W3CDTF">2008-11-16T13:57:03Z</dcterms:modified>
  <cp:revision>9</cp:revision>
  <dc:subject/>
  <dc:title>Dia 1</dc:title>
</cp:coreProperties>
</file>