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B58-782A-42A0-837A-BA156E5E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B70-2D73-4528-A463-EA7F4A9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DD8-93B7-43BC-9A71-E3F4FFE5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8C8-62CA-42B7-B1CF-671C05CB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E6E-C4EE-4340-8E5B-7B64F4D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CC6-ECF6-4427-AADF-3727438F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48D-EF5F-4CD5-AD78-CA5285CE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612-C827-47AA-92ED-A923953E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1FD-B327-4D83-A44E-59457D6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419-2D30-45EF-9226-4E8284C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506-060D-45FF-BB25-595029E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71E-54F0-45F4-A419-4D2CC5E0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171-AA9A-4152-93A7-20F2726391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051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162072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Dinkelland_picto 03.jpg"/>
          <p:cNvPicPr/>
          <p:nvPr/>
        </p:nvPicPr>
        <p:blipFill>
          <a:blip r:embed="rId1"/>
          <a:stretch/>
        </p:blipFill>
        <p:spPr>
          <a:xfrm>
            <a:off x="250920" y="2565360"/>
            <a:ext cx="483372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Dinkelland_picto 04.jpg"/>
          <p:cNvPicPr/>
          <p:nvPr/>
        </p:nvPicPr>
        <p:blipFill>
          <a:blip r:embed="rId2"/>
          <a:stretch/>
        </p:blipFill>
        <p:spPr>
          <a:xfrm>
            <a:off x="5076720" y="2852640"/>
            <a:ext cx="378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3:15Z</dcterms:modified>
  <cp:revision>19</cp:revision>
  <dc:subject/>
  <dc:title>Presentatie  22 maart 2012</dc:title>
</cp:coreProperties>
</file>