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C788-F3B1-4CB8-AA69-6ED6B3AA53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6F3D-5F9F-423B-B797-5CA16DFF95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DCCD-75F3-416A-BE89-CCCD73732A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F98-E1AF-41F0-B43B-6AC9995F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5D0-7573-4AEE-98A3-E116CD7B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140-F24D-47A2-A8A9-BECDE30B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5FA-8390-4DC1-9B49-E582AEA2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2BD-B49C-4128-8839-32F3B0C6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1FE-16B6-4D4C-A4A8-9241238A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DBB-E5D5-4E82-86AB-86980F90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438-03DC-4978-8900-39A923AD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945-9100-4CE9-B1C6-4AAAD9B9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322-CA17-4930-8C0B-CA9DC426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6BF-202B-4552-BDD3-95091E7C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D50-397B-4DE4-8A0A-B7DAC696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CD0B-A50D-4F16-B273-1C5FEEAC52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oorblad twenterand aangepast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KNNV-afdeling vriezenveen"/>
          <p:cNvPicPr/>
          <p:nvPr/>
        </p:nvPicPr>
        <p:blipFill>
          <a:blip r:embed="rId2"/>
          <a:stretch/>
        </p:blipFill>
        <p:spPr>
          <a:xfrm>
            <a:off x="250920" y="189000"/>
            <a:ext cx="2916000" cy="291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187280" y="5445000"/>
            <a:ext cx="484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Faunapass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8212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IMG_0978-bruine-kikker1c"/>
          <p:cNvPicPr/>
          <p:nvPr/>
        </p:nvPicPr>
        <p:blipFill>
          <a:blip r:embed="rId1"/>
          <a:stretch/>
        </p:blipFill>
        <p:spPr>
          <a:xfrm>
            <a:off x="0" y="4451400"/>
            <a:ext cx="2987640" cy="24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alpenwatersalamander1c"/>
          <p:cNvPicPr/>
          <p:nvPr/>
        </p:nvPicPr>
        <p:blipFill>
          <a:blip r:embed="rId2"/>
          <a:stretch/>
        </p:blipFill>
        <p:spPr>
          <a:xfrm>
            <a:off x="0" y="0"/>
            <a:ext cx="23781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gerrit-schepers-adder-evenen-24022010"/>
          <p:cNvPicPr/>
          <p:nvPr/>
        </p:nvPicPr>
        <p:blipFill>
          <a:blip r:embed="rId3"/>
          <a:stretch/>
        </p:blipFill>
        <p:spPr>
          <a:xfrm>
            <a:off x="2627280" y="44798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IMG_0967-kl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25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IMG_1076-alpenwatsalamander1c"/>
          <p:cNvPicPr/>
          <p:nvPr/>
        </p:nvPicPr>
        <p:blipFill>
          <a:blip r:embed="rId5"/>
          <a:stretch/>
        </p:blipFill>
        <p:spPr>
          <a:xfrm>
            <a:off x="2050920" y="0"/>
            <a:ext cx="4464360" cy="250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IMG_1280-twee-boomkikkers-op-rand-emmer-c"/>
          <p:cNvPicPr/>
          <p:nvPr/>
        </p:nvPicPr>
        <p:blipFill>
          <a:blip r:embed="rId6"/>
          <a:stretch/>
        </p:blipFill>
        <p:spPr>
          <a:xfrm>
            <a:off x="5796000" y="2498760"/>
            <a:ext cx="334800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IMG_6542-groene-kikkers1c"/>
          <p:cNvPicPr/>
          <p:nvPr/>
        </p:nvPicPr>
        <p:blipFill>
          <a:blip r:embed="rId7"/>
          <a:stretch/>
        </p:blipFill>
        <p:spPr>
          <a:xfrm>
            <a:off x="0" y="2492280"/>
            <a:ext cx="3708360" cy="196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IMG_6546-paddenpaartje1c"/>
          <p:cNvPicPr/>
          <p:nvPr/>
        </p:nvPicPr>
        <p:blipFill>
          <a:blip r:embed="rId8"/>
          <a:stretch/>
        </p:blipFill>
        <p:spPr>
          <a:xfrm>
            <a:off x="5796000" y="4630680"/>
            <a:ext cx="3348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AN PROBLEEM NAAR OPLO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5" descr="IMG_0987-mestinjecteur1-crop-compri"/>
          <p:cNvPicPr/>
          <p:nvPr/>
        </p:nvPicPr>
        <p:blipFill>
          <a:blip r:embed="rId1"/>
          <a:stretch/>
        </p:blipFill>
        <p:spPr>
          <a:xfrm>
            <a:off x="250920" y="1484280"/>
            <a:ext cx="2665440" cy="18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6" descr="IMG_6244-platgereden-kikker-crop-compri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1701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7"/>
          <p:cNvSpPr/>
          <p:nvPr/>
        </p:nvSpPr>
        <p:spPr>
          <a:xfrm>
            <a:off x="250920" y="3284640"/>
            <a:ext cx="8497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Verleden  &gt;&gt;   Heden    &gt;&gt;  Toekom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nl-NL" sz="3600" spc="-1" strike="noStrike">
                <a:solidFill>
                  <a:srgbClr val="ff3300"/>
                </a:solidFill>
                <a:latin typeface="Times New Roman"/>
              </a:rPr>
              <a:t>HELP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8" descr="IMG_1277-boomkikker-emmer-opvang-crop-compri"/>
          <p:cNvPicPr/>
          <p:nvPr/>
        </p:nvPicPr>
        <p:blipFill>
          <a:blip r:embed="rId3"/>
          <a:stretch/>
        </p:blipFill>
        <p:spPr>
          <a:xfrm>
            <a:off x="3132000" y="1574640"/>
            <a:ext cx="237672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IMG_1163-kinderen-emmers-opvang-cropcomp"/>
          <p:cNvPicPr/>
          <p:nvPr/>
        </p:nvPicPr>
        <p:blipFill>
          <a:blip r:embed="rId4"/>
          <a:stretch/>
        </p:blipFill>
        <p:spPr>
          <a:xfrm>
            <a:off x="3419640" y="3933720"/>
            <a:ext cx="1819080" cy="271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IMG_6247-Rheeze1-compri"/>
          <p:cNvPicPr/>
          <p:nvPr/>
        </p:nvPicPr>
        <p:blipFill>
          <a:blip r:embed="rId5"/>
          <a:stretch/>
        </p:blipFill>
        <p:spPr>
          <a:xfrm>
            <a:off x="5724360" y="1571760"/>
            <a:ext cx="2592720" cy="181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IMG_6253-Rheeze2-compri"/>
          <p:cNvPicPr/>
          <p:nvPr/>
        </p:nvPicPr>
        <p:blipFill>
          <a:blip r:embed="rId6"/>
          <a:stretch/>
        </p:blipFill>
        <p:spPr>
          <a:xfrm>
            <a:off x="6732720" y="3860640"/>
            <a:ext cx="194472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IMG_6272-Singraven1-compri"/>
          <p:cNvPicPr/>
          <p:nvPr/>
        </p:nvPicPr>
        <p:blipFill>
          <a:blip r:embed="rId7"/>
          <a:stretch/>
        </p:blipFill>
        <p:spPr>
          <a:xfrm>
            <a:off x="5724360" y="4869000"/>
            <a:ext cx="25718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catie: Oude Hoevenw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5688000" cy="485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G_1346-topokaart-gebied-compri"/>
          <p:cNvPicPr/>
          <p:nvPr/>
        </p:nvPicPr>
        <p:blipFill>
          <a:blip r:embed="rId2"/>
          <a:stretch/>
        </p:blipFill>
        <p:spPr>
          <a:xfrm>
            <a:off x="179280" y="1268280"/>
            <a:ext cx="365760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uidig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71640" y="1700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eilige passage voor amfibieën op de drukke 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venweg tijdens de voortplantingsper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u: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vangen m.b.v. gaas en emmers en handmatig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zetten in het voor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 -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ilige overgang voor 800 padden,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salamanders en kik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veel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desondanks nog te veel dode 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Tijdelijk info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wenst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58920" y="1700280"/>
            <a:ext cx="67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Jaarrond alle amfibieën en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ptielen v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ili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ar de overkant en te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ploss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aste faunapassage, landschappelijk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passend in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lle amfib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/reptielen veilig naar d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overk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pulatie versterken door ontsnipperin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leef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ast infobord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Bewustwording bevo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58920" y="1989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1. Veilige oversteek popu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 minimaal 3 alternatieven v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ucturele oplo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reng betrokken partijen in beeld en ontwikkel een financieel voorstel om het 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ternatief te real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randvoorwaar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58920" y="198900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Veilige overstee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Maak maximaal gebruik van reeds bestaande informatie, en creëer draagvlak  betrokken organisa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reng betrokken organisaties bij elkaar en kom tot een haalbaar en betaalbaar voor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t biedt opdrachtg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58920" y="198900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ologische uitd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geleiding van de studenten tijdens de prakt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ntacten bewoners, bestuurders, bedrijfsleven en over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indresulta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 de Oude Hoevenweg in Twent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faunapassage die het hele jaar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veilige oversteek garandeert voor all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mfibieën en reptiel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3:10:02Z</dcterms:created>
  <dc:creator>S. Pastink</dc:creator>
  <dc:description/>
  <dc:language>en-US</dc:language>
  <cp:lastModifiedBy>Dick van der Neut</cp:lastModifiedBy>
  <dcterms:modified xsi:type="dcterms:W3CDTF">2012-06-22T09:32:40Z</dcterms:modified>
  <cp:revision>38</cp:revision>
  <dc:subject/>
  <dc:title>Geen diatitel</dc:title>
</cp:coreProperties>
</file>