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DF9-5975-4A6B-8A09-0A508DFF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DC1-6B13-4A9E-8A5F-37D6D109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D67-337B-4DC4-9DCA-95126E54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57A-8D13-4BE9-A6DA-0F16A880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D2D-21B4-4E93-974F-C10C15B1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C74-B3BB-47C0-A0E0-8B2AD37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385-A862-4326-8139-175E5A89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75C-2F66-43A5-A1BA-56F23486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B5F-D186-417C-8FB8-B3C0714E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894-995C-461D-AC7F-9680D54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2A8-32FB-4E1E-8201-02F5BE92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6F8-A889-4BCD-B65C-1C72CF1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36F4-E18A-4F6B-AFA0-DC14DCEF0C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orga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hting Natura Doc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V Ootmarsum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ee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 Tw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al investeringsbedrag 3,2 mil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1: verkenning  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2: ontwikkelin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1: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2: p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3: ontw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3: realisatie 2012 /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alaanbo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ensibiliseren: tentoonstellingen en thematis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-Twente door de ogen van dieren en Tw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atuur door de ogen van Bern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jdelijke tentoonstell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vene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fe en winkel in thematisering mee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eren: met Twentse gidsen op wandel- en fietstochten (Twente door de ogen van Twent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Leren: schoolprogramma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egwijs maken, reserveringen, agenda, verkopen (VV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Faciliteiten: toiletten, horeca, oplaadpunten fiets/telefoon, wi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ijdelijke aanduiding voor inhoud 3" descr="experience ZIEN.jpg"/>
          <p:cNvPicPr/>
          <p:nvPr/>
        </p:nvPicPr>
        <p:blipFill>
          <a:blip r:embed="rId1"/>
          <a:srcRect l="0" t="1581" r="2332" b="-1329"/>
          <a:stretch/>
        </p:blipFill>
        <p:spPr>
          <a:xfrm>
            <a:off x="5940360" y="-243000"/>
            <a:ext cx="3635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12:12Z</dcterms:modified>
  <cp:revision>17</cp:revision>
  <dc:subject/>
  <dc:title>Presentatie  22 maart 2012</dc:title>
</cp:coreProperties>
</file>