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50A-7769-403D-802B-8F97C575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943B-B8F8-44BF-8FCE-09275193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44D-5813-497D-BDD3-B1D2DA15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D2B-4EF9-483D-8B1E-77B9D5E1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BE3-783D-42A4-877F-496C0F37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DA8-8C0E-4B7A-A923-8E5D8255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DBF-4779-4FFD-95F8-95FA5092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30D-754E-428D-A13D-6B0F2389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022-2C28-4864-BE2B-338FF52D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049-22F7-4597-A677-7F4160C7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57EF-1C31-427B-A347-CC39A544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E6EF-02C2-4653-8486-5548BE85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16E7-F61C-4B76-A645-856DE13421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 september 20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ne Kennispoort Twen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el 3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08000" y="3213000"/>
          <a:ext cx="54007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5400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inkelland_landschapspl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werptraject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0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0" y="4233960"/>
            <a:ext cx="914400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80280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besteding buiten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 te voeren werkzaamheden in samenwerking met Hoveniersbedrijf Rob Kempe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ning en werkvoorbereiding va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ndwerk zaamhe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t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zaai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voering v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nd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t werkzaamhe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zaai werkzaamhe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1:21Z</dcterms:created>
  <dc:creator>List</dc:creator>
  <dc:description/>
  <dc:language>en-US</dc:language>
  <cp:lastModifiedBy>Dick van der Neut</cp:lastModifiedBy>
  <dcterms:modified xsi:type="dcterms:W3CDTF">2012-09-13T13:44:56Z</dcterms:modified>
  <cp:revision>15</cp:revision>
  <dc:subject/>
  <dc:title>Presentatie  22 maart 2012</dc:title>
</cp:coreProperties>
</file>