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5727-F0D7-435E-8912-1770A008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A07B-2781-4C8E-B64F-06F9C8FE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ED82-0790-4FC0-97F3-66809FDC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9A31-C498-46F0-B9E7-C1E9E150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9286-1F30-4A3E-B960-F469CB9B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FC77-DCB8-45D5-BF86-FC57CC6A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C7E0-2300-4989-BC89-913C1550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31BB-2D55-439F-AE29-B64D6C93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D52A-7162-444B-8EC6-3019B43F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EB04-B15F-4F75-BCC8-83D9DA4C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9396-9462-462A-BBA9-55B4A05C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8192-56BF-4545-9040-46D84675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29BA-A1AA-43BB-91E3-FC0DF518230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 september 201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ene Kennispoort Tw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1908000" y="2492280"/>
          <a:ext cx="540072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492280"/>
                    <a:ext cx="540072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orga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chting Natura Doc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ente Dinke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ncie Overijs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VV Ootmarsum Dinke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stee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ncie Overijs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ente Dinke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 Tw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al investeringsbedrag 3,2 mil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np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 1: verkenning  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 2: ontwikkeling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p 1: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p 2: p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p 3: ontwe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 3: realisatie 2012 /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houdelijk en ruimtelijk concept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taalaanbo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Sensibiliseren: tentoonstellingen en thematise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O-Twente door de ogen van dieren en Tw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natuur door de ogen van Bern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ijdelijke tentoonstelli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venem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afe en winkel in thematisering meen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Informeren: met Twentse gidsen op wandel- en fietstochten (Twente door de ogen van Twente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Leren: schoolprogramma’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Wegwijs maken, reserveringen, agenda, verkopen (VVV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Faciliteiten: toiletten, horeca, oplaadpunten fiets/telefoon, wi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Tijdelijke aanduiding voor inhoud 3" descr="experience ZIEN.jpg"/>
          <p:cNvPicPr/>
          <p:nvPr/>
        </p:nvPicPr>
        <p:blipFill>
          <a:blip r:embed="rId1"/>
          <a:srcRect l="0" t="1581" r="2332" b="-1329"/>
          <a:stretch/>
        </p:blipFill>
        <p:spPr>
          <a:xfrm>
            <a:off x="5940360" y="-243000"/>
            <a:ext cx="363528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5:21:21Z</dcterms:created>
  <dc:creator>List</dc:creator>
  <dc:description/>
  <dc:language>en-US</dc:language>
  <cp:lastModifiedBy>Dick van der Neut</cp:lastModifiedBy>
  <dcterms:modified xsi:type="dcterms:W3CDTF">2012-09-13T13:12:12Z</dcterms:modified>
  <cp:revision>17</cp:revision>
  <dc:subject/>
  <dc:title>Presentatie  22 maart 2012</dc:title>
</cp:coreProperties>
</file>