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EB4-20BD-425E-9106-56DC9559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A56-DC09-4A1B-B04C-67FEFB47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F98-63B0-4BAC-A26F-3CBD2129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F0D-1323-44A7-8912-089868B7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584-21F2-46D5-900E-5B40C2EE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ACF-DC18-4326-B47B-BC6DF5E4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390-7695-4465-AC07-253BA362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295-B161-4A90-BBBD-3BCD1592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437-F9CA-404E-8C6A-0D3CD4E6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8BC-68BA-4CB3-90D1-F809B2B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D90-75EF-4BE2-A7AB-21CF59F3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873-2053-4208-8D51-AE61B2B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29A-EAD5-41A9-8B3C-F346BF556A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51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162072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inkelland_picto 03.jpg"/>
          <p:cNvPicPr/>
          <p:nvPr/>
        </p:nvPicPr>
        <p:blipFill>
          <a:blip r:embed="rId1"/>
          <a:stretch/>
        </p:blipFill>
        <p:spPr>
          <a:xfrm>
            <a:off x="250920" y="2565360"/>
            <a:ext cx="483372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inkelland_picto 04.jpg"/>
          <p:cNvPicPr/>
          <p:nvPr/>
        </p:nvPicPr>
        <p:blipFill>
          <a:blip r:embed="rId2"/>
          <a:stretch/>
        </p:blipFill>
        <p:spPr>
          <a:xfrm>
            <a:off x="5076720" y="2852640"/>
            <a:ext cx="378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3:15Z</dcterms:modified>
  <cp:revision>19</cp:revision>
  <dc:subject/>
  <dc:title>Presentatie  22 maart 2012</dc:title>
</cp:coreProperties>
</file>