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95B2-DE54-4DF0-A77D-C330BA5F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AB3E-8AFB-4596-A3CC-C219FB20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F8F4-0B90-40F2-A339-89C5DB41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1B0-6192-4163-BEF2-BB9A717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296A-090F-4829-A607-77DA36A7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5824-97B0-408A-94BE-8514319A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8564-A7A0-4ECD-964A-C4C07435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BC6A-5ED2-4F90-A4BF-30D852B8D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2AE-54CE-4B36-A249-872C507B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601B-29AC-42B4-BDDA-B6E40329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3AB9-8A92-480A-8AC9-23E55D7F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1E0B-D3F7-4145-9848-99686950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8246-46A1-4E5E-89BF-79E9160CDB2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50515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-162072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twerptraject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Dinkelland_picto 03.jpg"/>
          <p:cNvPicPr/>
          <p:nvPr/>
        </p:nvPicPr>
        <p:blipFill>
          <a:blip r:embed="rId1"/>
          <a:stretch/>
        </p:blipFill>
        <p:spPr>
          <a:xfrm>
            <a:off x="250920" y="2565360"/>
            <a:ext cx="4833720" cy="3140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" descr="Dinkelland_picto 04.jpg"/>
          <p:cNvPicPr/>
          <p:nvPr/>
        </p:nvPicPr>
        <p:blipFill>
          <a:blip r:embed="rId2"/>
          <a:stretch/>
        </p:blipFill>
        <p:spPr>
          <a:xfrm>
            <a:off x="5076720" y="2852640"/>
            <a:ext cx="378000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43:15Z</dcterms:modified>
  <cp:revision>19</cp:revision>
  <dc:subject/>
  <dc:title>Presentatie  22 maart 2012</dc:title>
</cp:coreProperties>
</file>