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F626-2CD4-44A8-A3C6-3D75C391DB7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64A9-C1D1-4ADB-A980-E38EA76E58F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A15D-60C7-4443-B66B-7BD6B5E62C3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072-9F75-4028-89B2-17637255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F59D-21A8-4045-B725-CB11EDA2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17C-A7DA-41FA-8FF4-4FC045B8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9545-61F5-4347-BF41-4478795E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FA9-87A0-4C3C-B1CB-3B66A77C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9341-8725-467F-B5F1-FF051C80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E25E-7C76-455A-82A2-59AF17FE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056B-7A9E-4ECA-B2F6-FFE9B163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C43D-D954-4B6A-A711-42AB7349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7D1-E781-4C1A-9A64-4575B08F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A8ED-F6BF-4BBA-ACFB-058A71BD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336-B9E8-4DAE-BEDE-EF6D89B6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914B-C84B-413D-9F88-FEF7609F038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voorblad twenterand aangepast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9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KNNV-afdeling vriezenveen"/>
          <p:cNvPicPr/>
          <p:nvPr/>
        </p:nvPicPr>
        <p:blipFill>
          <a:blip r:embed="rId2"/>
          <a:stretch/>
        </p:blipFill>
        <p:spPr>
          <a:xfrm>
            <a:off x="250920" y="189000"/>
            <a:ext cx="2916000" cy="291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187280" y="5445000"/>
            <a:ext cx="484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Times New Roman"/>
              </a:rPr>
              <a:t>Faunapass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720" y="58212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ragen?</a:t>
            </a:r>
            <a:r>
              <a:rPr b="0" lang="nl-NL" sz="6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4292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IMG_0978-bruine-kikker1c"/>
          <p:cNvPicPr/>
          <p:nvPr/>
        </p:nvPicPr>
        <p:blipFill>
          <a:blip r:embed="rId1"/>
          <a:stretch/>
        </p:blipFill>
        <p:spPr>
          <a:xfrm>
            <a:off x="0" y="4451400"/>
            <a:ext cx="2987640" cy="240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alpenwatersalamander1c"/>
          <p:cNvPicPr/>
          <p:nvPr/>
        </p:nvPicPr>
        <p:blipFill>
          <a:blip r:embed="rId2"/>
          <a:stretch/>
        </p:blipFill>
        <p:spPr>
          <a:xfrm>
            <a:off x="0" y="0"/>
            <a:ext cx="2378160" cy="278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gerrit-schepers-adder-evenen-24022010"/>
          <p:cNvPicPr/>
          <p:nvPr/>
        </p:nvPicPr>
        <p:blipFill>
          <a:blip r:embed="rId3"/>
          <a:stretch/>
        </p:blipFill>
        <p:spPr>
          <a:xfrm>
            <a:off x="2627280" y="447984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IMG_0967-kl"/>
          <p:cNvPicPr/>
          <p:nvPr/>
        </p:nvPicPr>
        <p:blipFill>
          <a:blip r:embed="rId4"/>
          <a:stretch/>
        </p:blipFill>
        <p:spPr>
          <a:xfrm>
            <a:off x="6372360" y="0"/>
            <a:ext cx="2771640" cy="2558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IMG_1076-alpenwatsalamander1c"/>
          <p:cNvPicPr/>
          <p:nvPr/>
        </p:nvPicPr>
        <p:blipFill>
          <a:blip r:embed="rId5"/>
          <a:stretch/>
        </p:blipFill>
        <p:spPr>
          <a:xfrm>
            <a:off x="2050920" y="0"/>
            <a:ext cx="4464360" cy="250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IMG_1280-twee-boomkikkers-op-rand-emmer-c"/>
          <p:cNvPicPr/>
          <p:nvPr/>
        </p:nvPicPr>
        <p:blipFill>
          <a:blip r:embed="rId6"/>
          <a:stretch/>
        </p:blipFill>
        <p:spPr>
          <a:xfrm>
            <a:off x="5796000" y="2498760"/>
            <a:ext cx="3348000" cy="2133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2" descr="IMG_6542-groene-kikkers1c"/>
          <p:cNvPicPr/>
          <p:nvPr/>
        </p:nvPicPr>
        <p:blipFill>
          <a:blip r:embed="rId7"/>
          <a:stretch/>
        </p:blipFill>
        <p:spPr>
          <a:xfrm>
            <a:off x="0" y="2492280"/>
            <a:ext cx="3708360" cy="196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3" descr="IMG_6546-paddenpaartje1c"/>
          <p:cNvPicPr/>
          <p:nvPr/>
        </p:nvPicPr>
        <p:blipFill>
          <a:blip r:embed="rId8"/>
          <a:stretch/>
        </p:blipFill>
        <p:spPr>
          <a:xfrm>
            <a:off x="5796000" y="4630680"/>
            <a:ext cx="3348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AN PROBLEEM NAAR OPLO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5" descr="IMG_0987-mestinjecteur1-crop-compri"/>
          <p:cNvPicPr/>
          <p:nvPr/>
        </p:nvPicPr>
        <p:blipFill>
          <a:blip r:embed="rId1"/>
          <a:stretch/>
        </p:blipFill>
        <p:spPr>
          <a:xfrm>
            <a:off x="250920" y="1484280"/>
            <a:ext cx="2665440" cy="183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6" descr="IMG_6244-platgereden-kikker-crop-compri"/>
          <p:cNvPicPr/>
          <p:nvPr/>
        </p:nvPicPr>
        <p:blipFill>
          <a:blip r:embed="rId2"/>
          <a:stretch/>
        </p:blipFill>
        <p:spPr>
          <a:xfrm>
            <a:off x="250920" y="4005360"/>
            <a:ext cx="2663640" cy="1701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7"/>
          <p:cNvSpPr/>
          <p:nvPr/>
        </p:nvSpPr>
        <p:spPr>
          <a:xfrm>
            <a:off x="250920" y="3284640"/>
            <a:ext cx="8497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Verleden  &gt;&gt;   Heden    &gt;&gt;  Toekom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nl-NL" sz="3600" spc="-1" strike="noStrike">
                <a:solidFill>
                  <a:srgbClr val="ff3300"/>
                </a:solidFill>
                <a:latin typeface="Times New Roman"/>
              </a:rPr>
              <a:t>HELP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8" descr="IMG_1277-boomkikker-emmer-opvang-crop-compri"/>
          <p:cNvPicPr/>
          <p:nvPr/>
        </p:nvPicPr>
        <p:blipFill>
          <a:blip r:embed="rId3"/>
          <a:stretch/>
        </p:blipFill>
        <p:spPr>
          <a:xfrm>
            <a:off x="3132000" y="1574640"/>
            <a:ext cx="237672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9" descr="IMG_1163-kinderen-emmers-opvang-cropcomp"/>
          <p:cNvPicPr/>
          <p:nvPr/>
        </p:nvPicPr>
        <p:blipFill>
          <a:blip r:embed="rId4"/>
          <a:stretch/>
        </p:blipFill>
        <p:spPr>
          <a:xfrm>
            <a:off x="3419640" y="3933720"/>
            <a:ext cx="1819080" cy="271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0" descr="IMG_6247-Rheeze1-compri"/>
          <p:cNvPicPr/>
          <p:nvPr/>
        </p:nvPicPr>
        <p:blipFill>
          <a:blip r:embed="rId5"/>
          <a:stretch/>
        </p:blipFill>
        <p:spPr>
          <a:xfrm>
            <a:off x="5724360" y="1571760"/>
            <a:ext cx="2592720" cy="181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1" descr="IMG_6253-Rheeze2-compri"/>
          <p:cNvPicPr/>
          <p:nvPr/>
        </p:nvPicPr>
        <p:blipFill>
          <a:blip r:embed="rId6"/>
          <a:stretch/>
        </p:blipFill>
        <p:spPr>
          <a:xfrm>
            <a:off x="6732720" y="3860640"/>
            <a:ext cx="1944720" cy="1200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2" descr="IMG_6272-Singraven1-compri"/>
          <p:cNvPicPr/>
          <p:nvPr/>
        </p:nvPicPr>
        <p:blipFill>
          <a:blip r:embed="rId7"/>
          <a:stretch/>
        </p:blipFill>
        <p:spPr>
          <a:xfrm>
            <a:off x="5724360" y="4869000"/>
            <a:ext cx="25718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ocatie: Oude Hoevenw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5688000" cy="4854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IMG_1346-topokaart-gebied-compri"/>
          <p:cNvPicPr/>
          <p:nvPr/>
        </p:nvPicPr>
        <p:blipFill>
          <a:blip r:embed="rId2"/>
          <a:stretch/>
        </p:blipFill>
        <p:spPr>
          <a:xfrm>
            <a:off x="179280" y="1268280"/>
            <a:ext cx="365760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uidige situ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71640" y="170028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Veilige passage voor amfibieën op de drukke O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venweg tijdens de voortplantingsper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u: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pvangen m.b.v. gaas en emmers en handmatig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zetten in het voorj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esultaat: -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ilige overgang voor 800 padden,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salamanders en kik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veel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desondanks nog te veel dode d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Informatie voorziening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Tijdelijk infob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ewenste situ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58920" y="1700280"/>
            <a:ext cx="67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Jaarrond alle amfibieën en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ptielen v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ilig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ar de overkant en te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Oplossing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aste faunapassage, landschappelijk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passend in omgev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esultaat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Alle amfib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/reptielen veilig naar de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overk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pulatie versterken door ontsnippering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leef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Informatie voorziening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Vast infobord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Bewustwording bevol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ject opdrach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58920" y="198900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1. Veilige oversteek popu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derzoek minimaal 3 alternatieven v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ructurele oplo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2. Financieel voorste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reng betrokken partijen in beeld en ontwikkel een financieel voorstel om het gew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lternatief te real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ject opdrachten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randvoorwaard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58920" y="1989000"/>
            <a:ext cx="67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Veilige overstee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Maak maximaal gebruik van reeds bestaande informatie, en creëer draagvlak  betrokken organisa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2.  Financieel voorste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Breng betrokken organisaties bij elkaar en kom tot een haalbaar en betaalbaar voors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at biedt opdrachtgev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58920" y="198900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cologische uitd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geleiding van de studenten tijdens de prakt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ntacten bewoners, bestuurders, bedrijfsleven en over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indresulta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 de Oude Hoevenweg in Twente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faunapassage die het hele jaar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veilige oversteek garandeert voor alle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mfibieën en reptiel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3:10:02Z</dcterms:created>
  <dc:creator>S. Pastink</dc:creator>
  <dc:description/>
  <dc:language>en-US</dc:language>
  <cp:lastModifiedBy>Dick van der Neut</cp:lastModifiedBy>
  <dcterms:modified xsi:type="dcterms:W3CDTF">2012-06-22T09:32:40Z</dcterms:modified>
  <cp:revision>38</cp:revision>
  <dc:subject/>
  <dc:title>Geen diatitel</dc:title>
</cp:coreProperties>
</file>