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566-4F78-43A7-B49C-E6FF8D1A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787-32C2-413F-9535-26EDCE0A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D670-47F2-4194-9B5B-1C7A679D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F39-3D49-4E61-8511-60F82F40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A950-34C2-4E9F-BD7C-A085CA49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CCE-58C5-4175-9910-CF8B79B7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D67-86CA-4BB6-92B8-4AAAB38A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566-4C8E-4AFC-BFD9-F9F4F594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1A8-9FB3-4FF9-B637-AA026408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D05-0325-4377-BE21-FC8560E9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C8E-28BA-4BDC-BB19-A8E61A1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4CD-9750-4C60-A4EC-56BA2169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84CA-7DCA-456A-87C5-57128867DB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249228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houdelijk en ruimtelijk concept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051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-162072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werptrajec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Dinkelland_picto 03.jpg"/>
          <p:cNvPicPr/>
          <p:nvPr/>
        </p:nvPicPr>
        <p:blipFill>
          <a:blip r:embed="rId1"/>
          <a:stretch/>
        </p:blipFill>
        <p:spPr>
          <a:xfrm>
            <a:off x="250920" y="2565360"/>
            <a:ext cx="4833720" cy="314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Dinkelland_picto 04.jpg"/>
          <p:cNvPicPr/>
          <p:nvPr/>
        </p:nvPicPr>
        <p:blipFill>
          <a:blip r:embed="rId2"/>
          <a:stretch/>
        </p:blipFill>
        <p:spPr>
          <a:xfrm>
            <a:off x="5076720" y="2852640"/>
            <a:ext cx="378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43:15Z</dcterms:modified>
  <cp:revision>19</cp:revision>
  <dc:subject/>
  <dc:title>Presentatie  22 maart 2012</dc:title>
</cp:coreProperties>
</file>