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EF9-CE7F-4BE3-B2B0-1CEC8013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9BD-5232-4F76-9438-1621FC2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22F-C7A4-43E5-B130-5CF7E474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1BB-070D-4E89-A840-BDA8B702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B8E-B6FE-493B-AF80-8561BA2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30B-88F4-44B1-B285-D2C38B59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37F-E52B-4F21-9FA5-00F31F64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959-E9B5-45A8-85AB-970CEE33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081-256F-49C8-9DC4-9CE28414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4F0-CD22-4865-8568-AAA6188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C34-7B0D-4501-A4D9-7865366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C64-F8A0-4E52-9EBA-9B9E4A33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58C7-DEDD-4EEA-93D8-53503B47A4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51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162072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inkelland_picto 03.jpg"/>
          <p:cNvPicPr/>
          <p:nvPr/>
        </p:nvPicPr>
        <p:blipFill>
          <a:blip r:embed="rId1"/>
          <a:stretch/>
        </p:blipFill>
        <p:spPr>
          <a:xfrm>
            <a:off x="250920" y="2565360"/>
            <a:ext cx="483372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inkelland_picto 04.jpg"/>
          <p:cNvPicPr/>
          <p:nvPr/>
        </p:nvPicPr>
        <p:blipFill>
          <a:blip r:embed="rId2"/>
          <a:stretch/>
        </p:blipFill>
        <p:spPr>
          <a:xfrm>
            <a:off x="5076720" y="2852640"/>
            <a:ext cx="378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3:15Z</dcterms:modified>
  <cp:revision>19</cp:revision>
  <dc:subject/>
  <dc:title>Presentatie  22 maart 2012</dc:title>
</cp:coreProperties>
</file>