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18CF-50EC-4FB3-B5B3-E1FB86623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915C-3A55-4E11-B7A5-DD36B2AD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F975-49C7-4995-BC1C-08DE98584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D53D-6974-46BD-A654-05977470B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34E1-AA3A-4566-9878-CE66B709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B9AD-4A15-445A-BD4A-13D498D3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1D10-D890-4F6B-A801-13845EDD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3EA1-224D-4A1F-A173-C3977233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8CCE-237F-40BB-BE28-07A96B09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E880-04AB-4894-B988-1222D685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6ECD-2314-43F1-93F2-D66A7836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4AFF-D5C9-42D4-A9EF-4B4714ED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F112-5B13-412F-AB16-2AC2FD31CBF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 september 201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ene Kennispoort Tw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Object 3"/>
          <p:cNvGraphicFramePr/>
          <p:nvPr/>
        </p:nvGraphicFramePr>
        <p:xfrm>
          <a:off x="1908000" y="2492280"/>
          <a:ext cx="5400720" cy="38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492280"/>
                    <a:ext cx="540072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organis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chting Natura Doc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eente Dinke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ncie Overijs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VV Ootmarsum Dinke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stee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ncie Overijs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eente Dinke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 Tw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al investeringsbedrag 3,2 mil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anp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e 1: verkenning  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e 2: ontwikkeling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p 1: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p 2: p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p 3: ontwe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e 3: realisatie 2012 /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houdelijk en ruimtelijk concept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taalaanbod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Sensibiliseren: tentoonstellingen en thematiser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O-Twente door de ogen van dieren en Tw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natuur door de ogen van Bern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ijdelijke tentoonstelli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venem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afe en winkel in thematisering meen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Informeren: met Twentse gidsen op wandel- en fietstochten (Twente door de ogen van Twente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Leren: schoolprogramma’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Wegwijs maken, reserveringen, agenda, verkopen (VVV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Faciliteiten: toiletten, horeca, oplaadpunten fiets/telefoon, wif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Tijdelijke aanduiding voor inhoud 3" descr="experience ZIEN.jpg"/>
          <p:cNvPicPr/>
          <p:nvPr/>
        </p:nvPicPr>
        <p:blipFill>
          <a:blip r:embed="rId1"/>
          <a:srcRect l="0" t="1581" r="2332" b="-1329"/>
          <a:stretch/>
        </p:blipFill>
        <p:spPr>
          <a:xfrm>
            <a:off x="5940360" y="-243000"/>
            <a:ext cx="363528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5:21:21Z</dcterms:created>
  <dc:creator>List</dc:creator>
  <dc:description/>
  <dc:language>en-US</dc:language>
  <cp:lastModifiedBy>Dick van der Neut</cp:lastModifiedBy>
  <dcterms:modified xsi:type="dcterms:W3CDTF">2012-09-13T13:12:12Z</dcterms:modified>
  <cp:revision>17</cp:revision>
  <dc:subject/>
  <dc:title>Presentatie  22 maart 2012</dc:title>
</cp:coreProperties>
</file>