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9A3A-74E6-4CAC-A6DE-2310E5B79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C1E-ABCA-426C-9E01-F8528260A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98B2-FF88-4E5E-9AFC-2A8E6263A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2B2-DA27-44CF-861C-F52F45AC5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339E-E837-496C-A7EA-C0CCD57C1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468D-0ACE-45CA-8205-EFE9FB35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C16B-3837-4BE6-8D7D-D0CF0227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AFD-D1A1-4694-A3C9-AE0478E8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6275-D9B1-455A-8BE9-8A4026E78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4938-7287-457A-BFBE-0B55BB51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FDA-9934-4D99-9FFA-51A045B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328-BB1C-4B32-A731-D0DBFE71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3829-872E-487E-8BCC-00F40CE13BA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 september 201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ene Kennispoort Tw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Object 3"/>
          <p:cNvGraphicFramePr/>
          <p:nvPr/>
        </p:nvGraphicFramePr>
        <p:xfrm>
          <a:off x="1908000" y="2492280"/>
          <a:ext cx="540072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2492280"/>
                    <a:ext cx="540072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organis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chting Natura Doc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VV Ootmarsum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steerd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ncie Overijs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ente Dinkel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 Tw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al investeringsbedrag 3,2 mil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anpa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1: verkenning  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2: ontwikkeling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1: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2: p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p 3: ontw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3: realisatie 2012 /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houdelijk en ruimtelijk concept (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taalaanbod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Sensibiliseren: tentoonstellingen en thematisering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NO-Twente door de ogen van dieren en Tw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De natuur door de ogen van Bern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Tijdelijke tentoonstelli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Evenemen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Cafe en winkel in thematisering meene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Informeren: met Twentse gidsen op wandel- en fietstochten (Twente door de ogen van Twenten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Leren: schoolprogramma’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Wegwijs maken, reserveringen, agenda, verkopen (VVV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Faciliteiten: toiletten, horeca, oplaadpunten fiets/telefoon, wifi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Tijdelijke aanduiding voor inhoud 3" descr="experience ZIEN.jpg"/>
          <p:cNvPicPr/>
          <p:nvPr/>
        </p:nvPicPr>
        <p:blipFill>
          <a:blip r:embed="rId1"/>
          <a:srcRect l="0" t="1581" r="2332" b="-1329"/>
          <a:stretch/>
        </p:blipFill>
        <p:spPr>
          <a:xfrm>
            <a:off x="5940360" y="-243000"/>
            <a:ext cx="363528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15:21:21Z</dcterms:created>
  <dc:creator>List</dc:creator>
  <dc:description/>
  <dc:language>en-US</dc:language>
  <cp:lastModifiedBy>Dick van der Neut</cp:lastModifiedBy>
  <dcterms:modified xsi:type="dcterms:W3CDTF">2012-09-13T13:12:12Z</dcterms:modified>
  <cp:revision>17</cp:revision>
  <dc:subject/>
  <dc:title>Presentatie  22 maart 2012</dc:title>
</cp:coreProperties>
</file>