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8552-1788-40A5-860B-26607F9B5C0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F503-9898-4A61-AA5B-268E27CCDA6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FC47-F814-4048-8FA3-422C44576A9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513F-BE6F-461E-BF57-D3FDAA34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09C8-FDF5-4C4F-9329-A50AB305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B530-F413-469C-B5F3-C1C0AF0B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33D-9205-469E-BB17-E8A2042E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13A1-7064-44E8-BDE5-139201EA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5FF-9CFF-4DD0-B502-057702B9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29C-3A42-489A-BE07-78B3DA78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AA11-11A6-40BA-B18A-07862853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120A-1B7A-4005-8E57-B25C57FA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51AC-E668-4D5F-86E1-94EC06EE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6D6-F694-4769-A3FA-1E2EEF26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ECE-9826-4091-9F0E-A39422C6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5EDF-F182-4E3F-9F64-D6A165AB6F8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voorblad twenterand aangepast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89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KNNV-afdeling vriezenveen"/>
          <p:cNvPicPr/>
          <p:nvPr/>
        </p:nvPicPr>
        <p:blipFill>
          <a:blip r:embed="rId2"/>
          <a:stretch/>
        </p:blipFill>
        <p:spPr>
          <a:xfrm>
            <a:off x="250920" y="189000"/>
            <a:ext cx="2916000" cy="291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1187280" y="5445000"/>
            <a:ext cx="484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Times New Roman"/>
              </a:rPr>
              <a:t>Faunapass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720" y="58212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ragen?</a:t>
            </a:r>
            <a:r>
              <a:rPr b="0" lang="nl-NL" sz="6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4292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IMG_0978-bruine-kikker1c"/>
          <p:cNvPicPr/>
          <p:nvPr/>
        </p:nvPicPr>
        <p:blipFill>
          <a:blip r:embed="rId1"/>
          <a:stretch/>
        </p:blipFill>
        <p:spPr>
          <a:xfrm>
            <a:off x="0" y="4451400"/>
            <a:ext cx="2987640" cy="240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alpenwatersalamander1c"/>
          <p:cNvPicPr/>
          <p:nvPr/>
        </p:nvPicPr>
        <p:blipFill>
          <a:blip r:embed="rId2"/>
          <a:stretch/>
        </p:blipFill>
        <p:spPr>
          <a:xfrm>
            <a:off x="0" y="0"/>
            <a:ext cx="2378160" cy="278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gerrit-schepers-adder-evenen-24022010"/>
          <p:cNvPicPr/>
          <p:nvPr/>
        </p:nvPicPr>
        <p:blipFill>
          <a:blip r:embed="rId3"/>
          <a:stretch/>
        </p:blipFill>
        <p:spPr>
          <a:xfrm>
            <a:off x="2627280" y="4479840"/>
            <a:ext cx="3168720" cy="2378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IMG_0967-kl"/>
          <p:cNvPicPr/>
          <p:nvPr/>
        </p:nvPicPr>
        <p:blipFill>
          <a:blip r:embed="rId4"/>
          <a:stretch/>
        </p:blipFill>
        <p:spPr>
          <a:xfrm>
            <a:off x="6372360" y="0"/>
            <a:ext cx="2771640" cy="2558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IMG_1076-alpenwatsalamander1c"/>
          <p:cNvPicPr/>
          <p:nvPr/>
        </p:nvPicPr>
        <p:blipFill>
          <a:blip r:embed="rId5"/>
          <a:stretch/>
        </p:blipFill>
        <p:spPr>
          <a:xfrm>
            <a:off x="2050920" y="0"/>
            <a:ext cx="4464360" cy="2506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IMG_1280-twee-boomkikkers-op-rand-emmer-c"/>
          <p:cNvPicPr/>
          <p:nvPr/>
        </p:nvPicPr>
        <p:blipFill>
          <a:blip r:embed="rId6"/>
          <a:stretch/>
        </p:blipFill>
        <p:spPr>
          <a:xfrm>
            <a:off x="5796000" y="2498760"/>
            <a:ext cx="3348000" cy="2133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2" descr="IMG_6542-groene-kikkers1c"/>
          <p:cNvPicPr/>
          <p:nvPr/>
        </p:nvPicPr>
        <p:blipFill>
          <a:blip r:embed="rId7"/>
          <a:stretch/>
        </p:blipFill>
        <p:spPr>
          <a:xfrm>
            <a:off x="0" y="2492280"/>
            <a:ext cx="3708360" cy="196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3" descr="IMG_6546-paddenpaartje1c"/>
          <p:cNvPicPr/>
          <p:nvPr/>
        </p:nvPicPr>
        <p:blipFill>
          <a:blip r:embed="rId8"/>
          <a:stretch/>
        </p:blipFill>
        <p:spPr>
          <a:xfrm>
            <a:off x="5796000" y="4630680"/>
            <a:ext cx="3348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AN PROBLEEM NAAR OPLO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5" descr="IMG_0987-mestinjecteur1-crop-compri"/>
          <p:cNvPicPr/>
          <p:nvPr/>
        </p:nvPicPr>
        <p:blipFill>
          <a:blip r:embed="rId1"/>
          <a:stretch/>
        </p:blipFill>
        <p:spPr>
          <a:xfrm>
            <a:off x="250920" y="1484280"/>
            <a:ext cx="2665440" cy="183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6" descr="IMG_6244-platgereden-kikker-crop-compri"/>
          <p:cNvPicPr/>
          <p:nvPr/>
        </p:nvPicPr>
        <p:blipFill>
          <a:blip r:embed="rId2"/>
          <a:stretch/>
        </p:blipFill>
        <p:spPr>
          <a:xfrm>
            <a:off x="250920" y="4005360"/>
            <a:ext cx="2663640" cy="1701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7"/>
          <p:cNvSpPr/>
          <p:nvPr/>
        </p:nvSpPr>
        <p:spPr>
          <a:xfrm>
            <a:off x="250920" y="3284640"/>
            <a:ext cx="8497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Verleden  &gt;&gt;   Heden    &gt;&gt;  Toekom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nl-NL" sz="3600" spc="-1" strike="noStrike">
                <a:solidFill>
                  <a:srgbClr val="ff3300"/>
                </a:solidFill>
                <a:latin typeface="Times New Roman"/>
              </a:rPr>
              <a:t>HELP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78" descr="IMG_1277-boomkikker-emmer-opvang-crop-compri"/>
          <p:cNvPicPr/>
          <p:nvPr/>
        </p:nvPicPr>
        <p:blipFill>
          <a:blip r:embed="rId3"/>
          <a:stretch/>
        </p:blipFill>
        <p:spPr>
          <a:xfrm>
            <a:off x="3132000" y="1574640"/>
            <a:ext cx="2376720" cy="17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9" descr="IMG_1163-kinderen-emmers-opvang-cropcomp"/>
          <p:cNvPicPr/>
          <p:nvPr/>
        </p:nvPicPr>
        <p:blipFill>
          <a:blip r:embed="rId4"/>
          <a:stretch/>
        </p:blipFill>
        <p:spPr>
          <a:xfrm>
            <a:off x="3419640" y="3933720"/>
            <a:ext cx="1819080" cy="271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0" descr="IMG_6247-Rheeze1-compri"/>
          <p:cNvPicPr/>
          <p:nvPr/>
        </p:nvPicPr>
        <p:blipFill>
          <a:blip r:embed="rId5"/>
          <a:stretch/>
        </p:blipFill>
        <p:spPr>
          <a:xfrm>
            <a:off x="5724360" y="1571760"/>
            <a:ext cx="2592720" cy="181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1" descr="IMG_6253-Rheeze2-compri"/>
          <p:cNvPicPr/>
          <p:nvPr/>
        </p:nvPicPr>
        <p:blipFill>
          <a:blip r:embed="rId6"/>
          <a:stretch/>
        </p:blipFill>
        <p:spPr>
          <a:xfrm>
            <a:off x="6732720" y="3860640"/>
            <a:ext cx="1944720" cy="1200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2" descr="IMG_6272-Singraven1-compri"/>
          <p:cNvPicPr/>
          <p:nvPr/>
        </p:nvPicPr>
        <p:blipFill>
          <a:blip r:embed="rId7"/>
          <a:stretch/>
        </p:blipFill>
        <p:spPr>
          <a:xfrm>
            <a:off x="5724360" y="4869000"/>
            <a:ext cx="25718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ocatie: Oude Hoevenw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5688000" cy="4854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IMG_1346-topokaart-gebied-compri"/>
          <p:cNvPicPr/>
          <p:nvPr/>
        </p:nvPicPr>
        <p:blipFill>
          <a:blip r:embed="rId2"/>
          <a:stretch/>
        </p:blipFill>
        <p:spPr>
          <a:xfrm>
            <a:off x="179280" y="1268280"/>
            <a:ext cx="365760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uidige situ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71640" y="170028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Veilige passage voor amfibieën op de drukke O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venweg tijdens de voortplantingsper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Nu: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pvangen m.b.v. gaas en emmers en handmatig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zetten in het voorj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esultaat: -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ilige overgang voor 800 padden,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salamanders en kik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veel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desondanks nog te veel dode d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Informatie voorziening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Tijdelijk infob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ewenste situ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258920" y="1700280"/>
            <a:ext cx="67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Jaarrond alle amfibieën en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ptielen v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ilig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ar de overkant en te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Oplossing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aste faunapassage, landschappelijk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passend in omgev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esultaat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Alle amfibi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/reptielen veilig naar de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overk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pulatie versterken door ontsnippering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leef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Informatie voorziening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Vast infobord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Bewustwording bevol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ject opdrach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58920" y="1989000"/>
            <a:ext cx="67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1. Veilige oversteek popu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derzoek minimaal 3 alternatieven v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ructurele oplo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2. Financieel voorste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reng betrokken partijen in beeld en ontwikkel een financieel voorstel om het gewen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lternatief te real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ject opdrachten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randvoorwaard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58920" y="1989000"/>
            <a:ext cx="67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Veilige overstee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Maak maximaal gebruik van reeds bestaande informatie, en creëer draagvlak  betrokken organisa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2.  Financieel voorste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Breng betrokken organisaties bij elkaar en kom tot een haalbaar en betaalbaar voors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at biedt opdrachtgev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58920" y="198900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cologische uitd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geleiding van de studenten tijdens de prakt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ntacten bewoners, bestuurders, bedrijfsleven en over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indresulta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 de Oude Hoevenweg in Twente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faunapassage die het hele jaar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veilige oversteek garandeert voor alle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mfibieën en reptiel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3:10:02Z</dcterms:created>
  <dc:creator>S. Pastink</dc:creator>
  <dc:description/>
  <dc:language>en-US</dc:language>
  <cp:lastModifiedBy>Dick van der Neut</cp:lastModifiedBy>
  <dcterms:modified xsi:type="dcterms:W3CDTF">2012-06-22T09:32:40Z</dcterms:modified>
  <cp:revision>38</cp:revision>
  <dc:subject/>
  <dc:title>Geen diatitel</dc:title>
</cp:coreProperties>
</file>