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C9DA-D6FD-41C7-8CAE-11DCC3AF8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6D4A-9F2E-4EDA-AF18-249DCCA4F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41D-EBFD-43E0-A037-15C26D93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7D8B-8FD7-41B0-B5C1-48E95679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7197-C4A9-49BF-80E6-A2AF28FC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40ED-AAA8-45D6-8FFC-6EEF0757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5B40-2CBB-45E4-91A9-2AB7F6826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B009-94B0-4B11-97D7-A2D08CAB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320E-2338-40AF-B821-06EDAB27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2B0-D7D4-4F27-858A-1DC7BF2D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094-555E-4C85-9025-885E3342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DC99-F252-481A-8553-4C07EC72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D53D-A31E-45F8-9515-75265ABD201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 september 20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ne Kennispoort Twen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el 3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08000" y="3213000"/>
          <a:ext cx="54007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213000"/>
                    <a:ext cx="5400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Dinkelland_landschapspla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werptraject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2903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"/>
          <p:cNvPicPr/>
          <p:nvPr/>
        </p:nvPicPr>
        <p:blipFill>
          <a:blip r:embed="rId2"/>
          <a:stretch/>
        </p:blipFill>
        <p:spPr>
          <a:xfrm>
            <a:off x="0" y="4233960"/>
            <a:ext cx="914400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179280" y="0"/>
            <a:ext cx="8028000" cy="678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besteding buitenruim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Uit te voeren werkzaamheden in samenwerking met Hoveniersbedrijf Rob Kempe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ning en werkvoorbereiding va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ndwerk zaamhe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t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zaai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itvoering v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rond werkzaamhe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lant werkzaamhed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zaai werkzaamhe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1:21Z</dcterms:created>
  <dc:creator>List</dc:creator>
  <dc:description/>
  <dc:language>en-US</dc:language>
  <cp:lastModifiedBy>Dick van der Neut</cp:lastModifiedBy>
  <dcterms:modified xsi:type="dcterms:W3CDTF">2012-09-13T13:44:56Z</dcterms:modified>
  <cp:revision>15</cp:revision>
  <dc:subject/>
  <dc:title>Presentatie  22 maart 2012</dc:title>
</cp:coreProperties>
</file>