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E95D-4B9A-4A37-A37A-BC81915B0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4340-97E5-4DE7-8E70-10E42A35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8811-584A-4FE3-9E7B-E1A218234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32FA-B202-4720-B61B-F6A00EF6E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DC97-965F-4039-8AE1-206012A0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E3E2-4B3E-4829-BEAB-52C8EC3E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818E-E9BF-40F4-B5C2-1E2AE3A9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EACB-C13C-4551-AC81-EAB3B0D1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1CB3-90E6-4860-BCE5-1759A6F1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6E20-5A00-474D-84F4-05E09689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1D83-791E-4CCE-B281-B888F92A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95E5-09DA-431F-9D4F-04FAC37C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1A34-A891-4508-89A7-DE17AE5A860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 september 201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ene Kennispoort Tw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Object 3"/>
          <p:cNvGraphicFramePr/>
          <p:nvPr/>
        </p:nvGraphicFramePr>
        <p:xfrm>
          <a:off x="1908000" y="2492280"/>
          <a:ext cx="5400720" cy="38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492280"/>
                    <a:ext cx="540072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houdelijk en ruimtelijk concept (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50515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-162072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werptraject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Dinkelland_picto 03.jpg"/>
          <p:cNvPicPr/>
          <p:nvPr/>
        </p:nvPicPr>
        <p:blipFill>
          <a:blip r:embed="rId1"/>
          <a:stretch/>
        </p:blipFill>
        <p:spPr>
          <a:xfrm>
            <a:off x="250920" y="2565360"/>
            <a:ext cx="4833720" cy="3140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" descr="Dinkelland_picto 04.jpg"/>
          <p:cNvPicPr/>
          <p:nvPr/>
        </p:nvPicPr>
        <p:blipFill>
          <a:blip r:embed="rId2"/>
          <a:stretch/>
        </p:blipFill>
        <p:spPr>
          <a:xfrm>
            <a:off x="5076720" y="2852640"/>
            <a:ext cx="378000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15:21:21Z</dcterms:created>
  <dc:creator>List</dc:creator>
  <dc:description/>
  <dc:language>en-US</dc:language>
  <cp:lastModifiedBy>Dick van der Neut</cp:lastModifiedBy>
  <dcterms:modified xsi:type="dcterms:W3CDTF">2012-09-13T13:43:15Z</dcterms:modified>
  <cp:revision>19</cp:revision>
  <dc:subject/>
  <dc:title>Presentatie  22 maart 2012</dc:title>
</cp:coreProperties>
</file>