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A96-57C4-4AEF-A6BC-68017335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509-9CDC-4CCA-9EF5-0A6F649C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ADB-6F2E-42E1-8478-F74D8D2A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6C8-B02F-4526-8705-D73F99B3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A9C-89FB-47A5-AE0C-72236B55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D90-CA29-4AB0-88A7-2366A939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39D-D5EB-41A0-9531-203F8F67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4A1-57B9-4FFD-9001-64EAD1BB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8BA-2BA4-4250-BBCD-8B8C406E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45E-1FB2-46CC-8365-31618EB5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FAC-641E-4787-B27B-10364FAE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928-1BE6-46C3-9E6E-BE2E2031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1A7E-2C21-4DF3-8FCD-E58B1340B7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l 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321300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nkelland_landschapspl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0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0" y="4233960"/>
            <a:ext cx="91440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028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besteding buiten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 te voeren werkzaamheden in samenwerking met Hoveniersbedrijf Rob Kempe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ning en werkvoorbereiding v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werk 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ing 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 werk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4:56Z</dcterms:modified>
  <cp:revision>15</cp:revision>
  <dc:subject/>
  <dc:title>Presentatie  22 maart 2012</dc:title>
</cp:coreProperties>
</file>