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AB07-EBC1-40E1-82CD-EA86D48637BB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27F0-08FF-46EC-90B3-09BEAB85CE8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D45D-CD7E-49DE-B0D4-8F9E481E93F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3A48-64ED-47B5-BE71-A9CBD589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AA7D-7EB6-46C8-8B35-692CC22A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E50-E198-49C8-9DEB-5CA0F0EF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4CB5-26BA-4D37-99BE-6895D1244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9EA6-02D6-4362-B449-BB765F690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2F5-3F79-40A6-B10C-9D23645A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3699-87BB-42FB-B7B1-91D5C2C0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FD7E-6C52-4B2D-99B7-A6EF0F8B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9504-DE6E-4FD6-B11F-C25030D93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4D5B-DB13-453F-8CCF-8CF675AEB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3E85-DBFE-4EAB-8F0C-05C3F43A0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80CA-12DC-4347-ADD2-854C8521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22C47-9069-41F1-86DE-69F968F7794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voorblad twenterand aangepast"/>
          <p:cNvPicPr/>
          <p:nvPr/>
        </p:nvPicPr>
        <p:blipFill>
          <a:blip r:embed="rId1"/>
          <a:stretch/>
        </p:blipFill>
        <p:spPr>
          <a:xfrm>
            <a:off x="-30240" y="0"/>
            <a:ext cx="9174240" cy="689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KNNV-afdeling vriezenveen"/>
          <p:cNvPicPr/>
          <p:nvPr/>
        </p:nvPicPr>
        <p:blipFill>
          <a:blip r:embed="rId2"/>
          <a:stretch/>
        </p:blipFill>
        <p:spPr>
          <a:xfrm>
            <a:off x="250920" y="189000"/>
            <a:ext cx="2916000" cy="2916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4"/>
          <p:cNvSpPr/>
          <p:nvPr/>
        </p:nvSpPr>
        <p:spPr>
          <a:xfrm>
            <a:off x="1187280" y="5445000"/>
            <a:ext cx="484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Faunapassag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720" y="582120"/>
            <a:ext cx="777240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Vragen?</a:t>
            </a:r>
            <a:r>
              <a:rPr b="0" lang="nl-NL" sz="6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429264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5" descr="IMG_0978-bruine-kikker1c"/>
          <p:cNvPicPr/>
          <p:nvPr/>
        </p:nvPicPr>
        <p:blipFill>
          <a:blip r:embed="rId1"/>
          <a:stretch/>
        </p:blipFill>
        <p:spPr>
          <a:xfrm>
            <a:off x="0" y="4451400"/>
            <a:ext cx="2987640" cy="2406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6" descr="alpenwatersalamander1c"/>
          <p:cNvPicPr/>
          <p:nvPr/>
        </p:nvPicPr>
        <p:blipFill>
          <a:blip r:embed="rId2"/>
          <a:stretch/>
        </p:blipFill>
        <p:spPr>
          <a:xfrm>
            <a:off x="0" y="0"/>
            <a:ext cx="2378160" cy="2781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gerrit-schepers-adder-evenen-24022010"/>
          <p:cNvPicPr/>
          <p:nvPr/>
        </p:nvPicPr>
        <p:blipFill>
          <a:blip r:embed="rId3"/>
          <a:stretch/>
        </p:blipFill>
        <p:spPr>
          <a:xfrm>
            <a:off x="2627280" y="4479840"/>
            <a:ext cx="3168720" cy="2378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8" descr="IMG_0967-kl"/>
          <p:cNvPicPr/>
          <p:nvPr/>
        </p:nvPicPr>
        <p:blipFill>
          <a:blip r:embed="rId4"/>
          <a:stretch/>
        </p:blipFill>
        <p:spPr>
          <a:xfrm>
            <a:off x="6372360" y="0"/>
            <a:ext cx="2771640" cy="2558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9" descr="IMG_1076-alpenwatsalamander1c"/>
          <p:cNvPicPr/>
          <p:nvPr/>
        </p:nvPicPr>
        <p:blipFill>
          <a:blip r:embed="rId5"/>
          <a:stretch/>
        </p:blipFill>
        <p:spPr>
          <a:xfrm>
            <a:off x="2050920" y="0"/>
            <a:ext cx="4464360" cy="2506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IMG_1280-twee-boomkikkers-op-rand-emmer-c"/>
          <p:cNvPicPr/>
          <p:nvPr/>
        </p:nvPicPr>
        <p:blipFill>
          <a:blip r:embed="rId6"/>
          <a:stretch/>
        </p:blipFill>
        <p:spPr>
          <a:xfrm>
            <a:off x="5796000" y="2498760"/>
            <a:ext cx="3348000" cy="2133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2" descr="IMG_6542-groene-kikkers1c"/>
          <p:cNvPicPr/>
          <p:nvPr/>
        </p:nvPicPr>
        <p:blipFill>
          <a:blip r:embed="rId7"/>
          <a:stretch/>
        </p:blipFill>
        <p:spPr>
          <a:xfrm>
            <a:off x="0" y="2492280"/>
            <a:ext cx="3708360" cy="196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3" descr="IMG_6546-paddenpaartje1c"/>
          <p:cNvPicPr/>
          <p:nvPr/>
        </p:nvPicPr>
        <p:blipFill>
          <a:blip r:embed="rId8"/>
          <a:stretch/>
        </p:blipFill>
        <p:spPr>
          <a:xfrm>
            <a:off x="5796000" y="4630680"/>
            <a:ext cx="33480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AN PROBLEEM NAAR OPLO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75" descr="IMG_0987-mestinjecteur1-crop-compri"/>
          <p:cNvPicPr/>
          <p:nvPr/>
        </p:nvPicPr>
        <p:blipFill>
          <a:blip r:embed="rId1"/>
          <a:stretch/>
        </p:blipFill>
        <p:spPr>
          <a:xfrm>
            <a:off x="250920" y="1484280"/>
            <a:ext cx="2665440" cy="183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6" descr="IMG_6244-platgereden-kikker-crop-compri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17017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77"/>
          <p:cNvSpPr/>
          <p:nvPr/>
        </p:nvSpPr>
        <p:spPr>
          <a:xfrm>
            <a:off x="250920" y="3284640"/>
            <a:ext cx="849780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Verleden  &gt;&gt;   Heden    &gt;&gt;  Toekoms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nl-NL" sz="2400" spc="-1" strike="noStrike">
                <a:solidFill>
                  <a:srgbClr val="ff3300"/>
                </a:solidFill>
                <a:latin typeface="Times New Roman"/>
              </a:rPr>
              <a:t>       </a:t>
            </a:r>
            <a:r>
              <a:rPr b="1" lang="nl-NL" sz="3600" spc="-1" strike="noStrike">
                <a:solidFill>
                  <a:srgbClr val="ff3300"/>
                </a:solidFill>
                <a:latin typeface="Times New Roman"/>
              </a:rPr>
              <a:t>HELP</a:t>
            </a:r>
            <a:r>
              <a:rPr b="1" lang="nl-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78" descr="IMG_1277-boomkikker-emmer-opvang-crop-compri"/>
          <p:cNvPicPr/>
          <p:nvPr/>
        </p:nvPicPr>
        <p:blipFill>
          <a:blip r:embed="rId3"/>
          <a:stretch/>
        </p:blipFill>
        <p:spPr>
          <a:xfrm>
            <a:off x="3132000" y="1574640"/>
            <a:ext cx="237672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9" descr="IMG_1163-kinderen-emmers-opvang-cropcomp"/>
          <p:cNvPicPr/>
          <p:nvPr/>
        </p:nvPicPr>
        <p:blipFill>
          <a:blip r:embed="rId4"/>
          <a:stretch/>
        </p:blipFill>
        <p:spPr>
          <a:xfrm>
            <a:off x="3419640" y="3933720"/>
            <a:ext cx="1819080" cy="2716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0" descr="IMG_6247-Rheeze1-compri"/>
          <p:cNvPicPr/>
          <p:nvPr/>
        </p:nvPicPr>
        <p:blipFill>
          <a:blip r:embed="rId5"/>
          <a:stretch/>
        </p:blipFill>
        <p:spPr>
          <a:xfrm>
            <a:off x="5724360" y="1571760"/>
            <a:ext cx="2592720" cy="181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1" descr="IMG_6253-Rheeze2-compri"/>
          <p:cNvPicPr/>
          <p:nvPr/>
        </p:nvPicPr>
        <p:blipFill>
          <a:blip r:embed="rId6"/>
          <a:stretch/>
        </p:blipFill>
        <p:spPr>
          <a:xfrm>
            <a:off x="6732720" y="3860640"/>
            <a:ext cx="1944720" cy="1200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2" descr="IMG_6272-Singraven1-compri"/>
          <p:cNvPicPr/>
          <p:nvPr/>
        </p:nvPicPr>
        <p:blipFill>
          <a:blip r:embed="rId7"/>
          <a:stretch/>
        </p:blipFill>
        <p:spPr>
          <a:xfrm>
            <a:off x="5724360" y="4869000"/>
            <a:ext cx="25718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Locatie: Oude Hoevenw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843280" y="1484280"/>
            <a:ext cx="5688000" cy="4854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IMG_1346-topokaart-gebied-compri"/>
          <p:cNvPicPr/>
          <p:nvPr/>
        </p:nvPicPr>
        <p:blipFill>
          <a:blip r:embed="rId2"/>
          <a:stretch/>
        </p:blipFill>
        <p:spPr>
          <a:xfrm>
            <a:off x="179280" y="1268280"/>
            <a:ext cx="365760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Huidig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971640" y="170028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eilige passage voor amfibieën op de drukke O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Hoevenweg tijdens de voortplantingsperi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Nu: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pvangen m.b.v. gaas en emmers en handmatig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verzetten in het voorja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 -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eilige overgang voor 800 padden,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salamanders en kik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veel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- desondanks nog te veel dode di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Tijdelijk infob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Gewenste situat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258920" y="1700280"/>
            <a:ext cx="67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oel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Jaarrond alle amfibieën en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reptielen v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ili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aar de overkant en teru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Oploss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Vaste faunapassage, landschappelijk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 passend in omgev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Resultaat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Alle amfibie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ë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n/reptielen veilig naar d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overk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Populatie versterken door ontsnippering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 leefgeb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Informatie voorziening: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Vast infobord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Bewustwording bevo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258920" y="19890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1. Veilige oversteek popula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Onderzoek minimaal 3 alternatieven v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structurele oplo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reng betrokken partijen in beeld en ontwikkel een financieel voorstel om het 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lternatief te realise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Project opdrachten</a:t>
            </a:r>
            <a:br>
              <a:rPr sz="4400"/>
            </a:b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(randvoorwaarde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1258920" y="1989000"/>
            <a:ext cx="676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Veilige oversteek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Maak maximaal gebruik van reeds bestaande informatie, en creëer draagvlak  betrokken organisat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2.  Financieel voorstel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: Breng betrokken organisaties bij elkaar en kom tot een haalbaar en betaalbaar voorst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Wat biedt opdrachtgev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1258920" y="198900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cologische uitda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Begeleiding van de studenten tijdens de praktij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Contacten bewoners, bestuurders, bedrijfsleven en overhe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Times New Roman"/>
              </a:rPr>
              <a:t>Eindresulta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n de Oude Hoevenweg in Twente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faunapassage die het hele jaar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een veilige oversteek garandeert voor alle 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amfibieën en reptiel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3:10:02Z</dcterms:created>
  <dc:creator>S. Pastink</dc:creator>
  <dc:description/>
  <dc:language>en-US</dc:language>
  <cp:lastModifiedBy>Dick van der Neut</cp:lastModifiedBy>
  <dcterms:modified xsi:type="dcterms:W3CDTF">2012-06-22T09:32:40Z</dcterms:modified>
  <cp:revision>38</cp:revision>
  <dc:subject/>
  <dc:title>Geen diatitel</dc:title>
</cp:coreProperties>
</file>