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pptx" ContentType="application/vnd.openxmlformats-officedocument.presentationml.presentation"/>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1CC58-27B3-4E08-9A3D-095043DF6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D269C-74CE-4446-9BF6-757B705E4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A585F-3388-48BF-9FE4-262EB2491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1384D-13A4-425A-9BC6-AB81A975B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530CD-6917-4539-BA96-2157DAFF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4705-B8E5-4648-AB9C-597C5F2C6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8D06-9D55-4F9D-91BA-4B342BC3E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D071-9F30-40E5-9EC2-7FBFD4A75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E4F9-AEAC-4803-BDB8-56DDB3096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4E40-4E27-4E92-9AB4-F8FB8D307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56111-5956-4D64-989A-325BDD6E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274C-3514-4A09-A745-7BCA14E5B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ppt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1440"/>
          <a:ext cx="9144000" cy="6858000"/>
        </p:xfrm>
        <a:graphic>
          <a:graphicData uri="http://schemas.openxmlformats.org/presentationml/2006/ole">
            <p:oleObj progId="PowerPoint.Show.12" r:id="rId2" spid="">
              <p:embed/>
              <p:pic>
                <p:nvPicPr>
                  <p:cNvPr id="1" name="Object 7" descr=""/>
                  <p:cNvPicPr/>
                  <p:nvPr/>
                </p:nvPicPr>
                <p:blipFill>
                  <a:blip r:embed="rId3"/>
                  <a:stretch/>
                </p:blipFill>
                <p:spPr>
                  <a:xfrm>
                    <a:off x="0" y="144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5"/>
          <p:cNvSpPr>
            <a:spLocks noGrp="1"/>
          </p:cNvSpPr>
          <p:nvPr>
            <p:ph type="sldNum" idx="3"/>
          </p:nvPr>
        </p:nvSpPr>
        <p:spPr>
          <a:xfrm>
            <a:off x="6588000" y="6237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555A-DB01-447E-A0A8-ADA602AB4AFA}" type="slidenum">
              <a:rPr b="0" lang="en-GB"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overijssel.nl/cascokaar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3" descr=""/>
          <p:cNvPicPr/>
          <p:nvPr/>
        </p:nvPicPr>
        <p:blipFill>
          <a:blip r:embed="rId1"/>
          <a:stretch/>
        </p:blipFill>
        <p:spPr>
          <a:xfrm>
            <a:off x="685800" y="692280"/>
            <a:ext cx="7772400" cy="5400720"/>
          </a:xfrm>
          <a:prstGeom prst="rect">
            <a:avLst/>
          </a:prstGeom>
          <a:ln w="0">
            <a:noFill/>
          </a:ln>
        </p:spPr>
      </p:pic>
      <p:sp>
        <p:nvSpPr>
          <p:cNvPr id="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Informatie</a:t>
            </a:r>
            <a:endParaRPr b="0"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ccccff"/>
                </a:solidFill>
                <a:uFillTx/>
                <a:latin typeface="Tahoma"/>
                <a:hlinkClick r:id="rId1"/>
              </a:rPr>
              <a:t>www.overijssel.nl/cascokaart</a:t>
            </a:r>
            <a:r>
              <a:rPr b="0" lang="nl-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Te leveren werkzaamhede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Voorbereiding van de inventarisatie</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Het inventariseren ( controleren) in het veld van de rode, groene en blauwe lijnen op de kaart</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Inventariseren van de houtwallen ( groen en rood) conform format gebruikt in Tubbergen. Er wordt gekeken naar het landschapselement, type houtwal, bedekking, kwaliteit, leeftijd en afmeting. Wat betreft blauw controleren of er reeds aanplant aanwezig is.</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everen van inventarisatielijst met de hierbovengenoemde gegevens van de houtwallen</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Excel sheet met de gegevens van de houtwall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Vragen</a:t>
            </a:r>
            <a:endParaRPr b="0" lang="en-US" sz="4400" spc="-1" strike="noStrike">
              <a:solidFill>
                <a:srgbClr val="ffffff"/>
              </a:solidFill>
              <a:latin typeface="Tahoma"/>
            </a:endParaRPr>
          </a:p>
        </p:txBody>
      </p:sp>
      <p:pic>
        <p:nvPicPr>
          <p:cNvPr id="6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ascokaart Noordoost Twente</a:t>
            </a:r>
            <a:endParaRPr b="0" lang="en-US" sz="4400" spc="-1" strike="noStrike">
              <a:solidFill>
                <a:srgbClr val="ffffff"/>
              </a:solidFill>
              <a:latin typeface="Tahoma"/>
            </a:endParaRPr>
          </a:p>
        </p:txBody>
      </p:sp>
      <p:pic>
        <p:nvPicPr>
          <p:cNvPr id="50" name="Picture 3" descr=""/>
          <p:cNvPicPr/>
          <p:nvPr/>
        </p:nvPicPr>
        <p:blipFill>
          <a:blip r:embed="rId1"/>
          <a:stretch/>
        </p:blipFill>
        <p:spPr>
          <a:xfrm>
            <a:off x="68436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2"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4"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Tahoma"/>
              </a:rPr>
              <a:t>Waarom deze extra controle op de inventarisatie ?</a:t>
            </a:r>
            <a:endParaRPr b="0" lang="en-US" sz="4000" spc="-1" strike="noStrike">
              <a:solidFill>
                <a:srgbClr val="ffffff"/>
              </a:solidFill>
              <a:latin typeface="Tahoma"/>
            </a:endParaRPr>
          </a:p>
        </p:txBody>
      </p:sp>
      <p:pic>
        <p:nvPicPr>
          <p:cNvPr id="60" name="Picture 5" descr=""/>
          <p:cNvPicPr/>
          <p:nvPr/>
        </p:nvPicPr>
        <p:blipFill>
          <a:blip r:embed="rId1"/>
          <a:stretch/>
        </p:blipFill>
        <p:spPr>
          <a:xfrm>
            <a:off x="752400" y="1981080"/>
            <a:ext cx="7639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1:04:40Z</dcterms:created>
  <dc:creator>Geurtse</dc:creator>
  <dc:description/>
  <dc:language>en-US</dc:language>
  <cp:lastModifiedBy>Dick van der Neut</cp:lastModifiedBy>
  <dcterms:modified xsi:type="dcterms:W3CDTF">2012-09-13T07:20:16Z</dcterms:modified>
  <cp:revision>13</cp:revision>
  <dc:subject/>
  <dc:title>PowerPoint-presentatie</dc:title>
</cp:coreProperties>
</file>