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089-F9A8-4D0A-9EE1-D42B237E89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ACD-AFAD-4A5E-8ED8-2596C47FBF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AA61-13C5-4447-BB13-D6167D38F4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E97-570D-4563-A233-81D6FFA1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6A9-9B20-4FA6-B98C-5312B97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211-8C59-4549-8A6B-242E378D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A9F-36B8-4084-B47F-DE5E06D7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C1B-DAAC-4AE3-A643-707689FD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A30-4336-4E6B-BF10-8EF0211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8AE-E71D-4ED6-8943-D4F7FE99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F43-0B2E-4275-9DDC-59C75A87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8ED-1BEF-4F69-A5C9-63596B0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46A-AEC0-4076-A8A9-D7344134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22D-FC67-4936-AB60-DCD8B401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CC4-490D-4DA6-BF20-2A88068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33A4-5A05-4E94-A28E-B76C9577B4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oorblad twenterand aangepast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KNNV-afdeling vriezenveen"/>
          <p:cNvPicPr/>
          <p:nvPr/>
        </p:nvPicPr>
        <p:blipFill>
          <a:blip r:embed="rId2"/>
          <a:stretch/>
        </p:blipFill>
        <p:spPr>
          <a:xfrm>
            <a:off x="250920" y="189000"/>
            <a:ext cx="291600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187280" y="5445000"/>
            <a:ext cx="48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Faunapass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821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IMG_0978-bruine-kikker1c"/>
          <p:cNvPicPr/>
          <p:nvPr/>
        </p:nvPicPr>
        <p:blipFill>
          <a:blip r:embed="rId1"/>
          <a:stretch/>
        </p:blipFill>
        <p:spPr>
          <a:xfrm>
            <a:off x="0" y="4451400"/>
            <a:ext cx="2987640" cy="24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alpenwatersalamander1c"/>
          <p:cNvPicPr/>
          <p:nvPr/>
        </p:nvPicPr>
        <p:blipFill>
          <a:blip r:embed="rId2"/>
          <a:stretch/>
        </p:blipFill>
        <p:spPr>
          <a:xfrm>
            <a:off x="0" y="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gerrit-schepers-adder-evenen-24022010"/>
          <p:cNvPicPr/>
          <p:nvPr/>
        </p:nvPicPr>
        <p:blipFill>
          <a:blip r:embed="rId3"/>
          <a:stretch/>
        </p:blipFill>
        <p:spPr>
          <a:xfrm>
            <a:off x="2627280" y="44798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IMG_0967-kl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25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IMG_1076-alpenwatsalamander1c"/>
          <p:cNvPicPr/>
          <p:nvPr/>
        </p:nvPicPr>
        <p:blipFill>
          <a:blip r:embed="rId5"/>
          <a:stretch/>
        </p:blipFill>
        <p:spPr>
          <a:xfrm>
            <a:off x="2050920" y="0"/>
            <a:ext cx="4464360" cy="250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IMG_1280-twee-boomkikkers-op-rand-emmer-c"/>
          <p:cNvPicPr/>
          <p:nvPr/>
        </p:nvPicPr>
        <p:blipFill>
          <a:blip r:embed="rId6"/>
          <a:stretch/>
        </p:blipFill>
        <p:spPr>
          <a:xfrm>
            <a:off x="5796000" y="249876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IMG_6542-groene-kikkers1c"/>
          <p:cNvPicPr/>
          <p:nvPr/>
        </p:nvPicPr>
        <p:blipFill>
          <a:blip r:embed="rId7"/>
          <a:stretch/>
        </p:blipFill>
        <p:spPr>
          <a:xfrm>
            <a:off x="0" y="2492280"/>
            <a:ext cx="3708360" cy="196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IMG_6546-paddenpaartje1c"/>
          <p:cNvPicPr/>
          <p:nvPr/>
        </p:nvPicPr>
        <p:blipFill>
          <a:blip r:embed="rId8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AN PROBLEEM NAAR OPLO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5" descr="IMG_0987-mestinjecteur1-crop-compri"/>
          <p:cNvPicPr/>
          <p:nvPr/>
        </p:nvPicPr>
        <p:blipFill>
          <a:blip r:embed="rId1"/>
          <a:stretch/>
        </p:blipFill>
        <p:spPr>
          <a:xfrm>
            <a:off x="250920" y="1484280"/>
            <a:ext cx="2665440" cy="18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6" descr="IMG_6244-platgereden-kikker-crop-compri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1701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7"/>
          <p:cNvSpPr/>
          <p:nvPr/>
        </p:nvSpPr>
        <p:spPr>
          <a:xfrm>
            <a:off x="250920" y="3284640"/>
            <a:ext cx="8497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Verleden  &gt;&gt;   Heden    &gt;&gt;  Toekom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nl-NL" sz="3600" spc="-1" strike="noStrike">
                <a:solidFill>
                  <a:srgbClr val="ff3300"/>
                </a:solidFill>
                <a:latin typeface="Times New Roman"/>
              </a:rPr>
              <a:t>HELP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8" descr="IMG_1277-boomkikker-emmer-opvang-crop-compri"/>
          <p:cNvPicPr/>
          <p:nvPr/>
        </p:nvPicPr>
        <p:blipFill>
          <a:blip r:embed="rId3"/>
          <a:stretch/>
        </p:blipFill>
        <p:spPr>
          <a:xfrm>
            <a:off x="3132000" y="157464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IMG_1163-kinderen-emmers-opvang-cropcomp"/>
          <p:cNvPicPr/>
          <p:nvPr/>
        </p:nvPicPr>
        <p:blipFill>
          <a:blip r:embed="rId4"/>
          <a:stretch/>
        </p:blipFill>
        <p:spPr>
          <a:xfrm>
            <a:off x="3419640" y="3933720"/>
            <a:ext cx="181908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IMG_6247-Rheeze1-compri"/>
          <p:cNvPicPr/>
          <p:nvPr/>
        </p:nvPicPr>
        <p:blipFill>
          <a:blip r:embed="rId5"/>
          <a:stretch/>
        </p:blipFill>
        <p:spPr>
          <a:xfrm>
            <a:off x="5724360" y="1571760"/>
            <a:ext cx="25927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IMG_6253-Rheeze2-compri"/>
          <p:cNvPicPr/>
          <p:nvPr/>
        </p:nvPicPr>
        <p:blipFill>
          <a:blip r:embed="rId6"/>
          <a:stretch/>
        </p:blipFill>
        <p:spPr>
          <a:xfrm>
            <a:off x="673272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IMG_6272-Singraven1-compri"/>
          <p:cNvPicPr/>
          <p:nvPr/>
        </p:nvPicPr>
        <p:blipFill>
          <a:blip r:embed="rId7"/>
          <a:stretch/>
        </p:blipFill>
        <p:spPr>
          <a:xfrm>
            <a:off x="5724360" y="4869000"/>
            <a:ext cx="2571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tie: Oude Hoeven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5688000" cy="485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1346-topokaart-gebied-compri"/>
          <p:cNvPicPr/>
          <p:nvPr/>
        </p:nvPicPr>
        <p:blipFill>
          <a:blip r:embed="rId2"/>
          <a:stretch/>
        </p:blipFill>
        <p:spPr>
          <a:xfrm>
            <a:off x="179280" y="1268280"/>
            <a:ext cx="365760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71640" y="1700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eilige passage voor amfibieën op de drukke 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venweg tijdens de voortplantings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u: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vangen m.b.v. gaas en emmers en handmatig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zetten in het voor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 -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ilige overgang voor 800 padden,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salamanders en kik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veel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sondanks nog te veel dode 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ijdelijk info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wenst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58920" y="1700280"/>
            <a:ext cx="67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aarrond alle amfibieën 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tielen v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li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ar de overkant en 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oss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aste faunapassage, landschappelijk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passend in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lle amfib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/reptielen veilig naar d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overk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pulatie versterken door ontsnipperin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leef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ast infobord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Bewustwording bevo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1989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1. Veilige oversteek popu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 minimaal 3 alternatieven v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ucturele oplo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reng betrokken partijen in beeld en ontwikkel een financieel voorstel om het 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ternatief te real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randvoorwaa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58920" y="198900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Veilige overstee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Maak maximaal gebruik van reeds bestaande informatie, en creëer draagvlak  betrokken organisa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reng betrokken organisaties bij elkaar en kom tot een haalbaar en betaalbaar voor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biedt opdrachtg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58920" y="198900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ologische uitd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geleiding van de studenten tijdens d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tacten bewoners, bestuurders, bedrijfsleven en over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resulta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 de Oude Hoevenweg in Twent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faunapassage die het hele jaar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veilige oversteek garandeert voor all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mfibieën en reptie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3:10:02Z</dcterms:created>
  <dc:creator>S. Pastink</dc:creator>
  <dc:description/>
  <dc:language>en-US</dc:language>
  <cp:lastModifiedBy>Dick van der Neut</cp:lastModifiedBy>
  <dcterms:modified xsi:type="dcterms:W3CDTF">2012-06-22T09:32:40Z</dcterms:modified>
  <cp:revision>38</cp:revision>
  <dc:subject/>
  <dc:title>Geen diatitel</dc:title>
</cp:coreProperties>
</file>