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A94-AF3F-4D6A-8A31-6A5FA90E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958-C519-4301-8DD4-A3F3FF47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B431-5AB2-475E-9D98-3118B864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A80-63B4-4969-953A-A4E5D40C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0AB0-C2AC-4423-BBC3-C139F761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2CCB-65A5-4454-A6A6-452E351C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1FF-7BBB-4A4B-A802-07173D6A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7F55-97FC-4C57-92C0-DCD0F4D0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7BC-5299-44BD-B81C-3FD57B18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449-38B6-4FD5-BAB4-060A1AF1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313-530D-4ECA-9C05-1DCD8A1A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B19-EC3E-4E27-9A1D-9133B4DF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4C1A-27FC-40CE-9541-026298E41B1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 september 20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ne Kennispoort Twen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el 3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908000" y="3213000"/>
          <a:ext cx="54007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213000"/>
                    <a:ext cx="54007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Dinkelland_landschapspl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werptraject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0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0" y="4233960"/>
            <a:ext cx="914400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802800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besteding buiten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 te voeren werkzaamheden in samenwerking met Hoveniersbedrijf Rob Kempe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ning en werkvoorbereiding va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ndwerk zaamhe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t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zaai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voering v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nd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t werkzaamhe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zaai werkzaamhe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1:21Z</dcterms:created>
  <dc:creator>List</dc:creator>
  <dc:description/>
  <dc:language>en-US</dc:language>
  <cp:lastModifiedBy>Dick van der Neut</cp:lastModifiedBy>
  <dcterms:modified xsi:type="dcterms:W3CDTF">2012-09-13T13:44:56Z</dcterms:modified>
  <cp:revision>15</cp:revision>
  <dc:subject/>
  <dc:title>Presentatie  22 maart 2012</dc:title>
</cp:coreProperties>
</file>