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FD5-E1E6-40C6-B7F8-EB469F29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E79-1050-4702-8258-535EB90F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DB880-98DA-480B-90F5-4490A3ED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D168B-DAA4-456B-A174-A960B0D6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1F939-E8E7-4B66-A402-EEB7035D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1A051-E8B1-477F-AD51-FD34FC76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C5C91-CA64-47DB-8086-4F8BEDA4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395C5-2A4C-4B2C-9F32-ED78DC1F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C20A0-75C3-45DE-B1FB-7414DB07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B8E28-BF82-4819-96A0-6B1AED98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C27D1-52A0-4E5D-8D1F-D1B912CF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D77-7CE8-4668-B51F-523F4233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671-3562-4465-B3E5-378C8FF9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1DB9-7E67-406B-B9BF-3B7F6C0F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D594-BD42-478F-A1EA-324B2762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EE57-0332-492B-9502-10CE3B14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06C6-112A-409C-A502-9AF5B6F8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9C36-4E66-47CD-BDB2-EE5A7FBF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2D89-CD51-4B6A-9BFB-1F124667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CEBD-CAF9-49D7-9AF7-77B0D633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A9B-25D0-466C-B837-9475C136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1303-ACE5-497D-B516-2191E7E0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ABAA-CC1E-4B25-A845-D0E92AA7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61F7-2739-4D76-9301-ABB0B160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C93A-D1D5-46FC-AC11-516C5233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187B-D214-4CB7-9BC4-070B7608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F1E6-2B0E-4443-84FD-45C8C2B2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F547-5D43-4A00-996F-5EFB5BAE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640B-754D-491C-B4C6-8E4649E6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AFE2-4C16-400F-9F13-EFD772F5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2A55-5803-4737-8D6C-32AD8CB0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EE6-F68F-4C3D-8131-C0223800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6CE4-048A-4322-9124-684C8C56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086E-E525-462B-A156-29D70BDA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BCED-3604-437E-876F-F3E61CD9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B4C66-3DD9-4ABD-B645-39BDB72D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BC8F-94DC-4650-975F-3300B774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6C84-0689-4256-B05A-963EC852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DA58C-433B-46EF-B3B1-05F0EEC8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CE291-7241-4F7D-B305-E12A7BDF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C8E58-89BA-4177-91EC-DA5BA277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7C961-5A99-44E3-8E56-8B602249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B32-8486-45FB-A7D6-3B8B0E8E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22FAB-8D11-429B-94CA-D4265B84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E7BB-8B90-4876-B6B6-870A380D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B4A0-F9BA-4783-878E-8C7E1EDC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34C9D-8839-4C56-9AD9-21C67436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0A798-8AF3-4A98-8266-70032241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5F82D-26F0-44A6-904F-98B6E99A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3E70-AD09-462A-940F-9D4FE0D5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5482-6CE8-42FE-9881-AD430E9A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DA26-0B9C-4E08-8881-A88AD76A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DB67A-81AA-4E37-A7F6-5F22B3E7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740-E12F-44A7-B96F-42EC5685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34033-5588-4F9D-A2C8-213E6BD6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2A44B-13A6-4707-98E5-9DDC8D92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FB693-6075-47E5-859D-BB11961B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21086-08FB-401F-BF9F-9FD2E7B5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4DB40-3517-46FE-B76B-AF39A0F8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BC607-D722-4AFF-987A-07A4375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3EF3-2D93-4112-9FE6-A7A5869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F8B6F-487C-4111-88C1-84395D7A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1E31-7F12-4905-BEFA-E073F0CD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D924D-297E-44C6-913E-F7DDF6C9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EF2-374F-493A-B091-91A0FD50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4F844-8FE2-4B72-87AD-21AACA69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7057B-0E97-4DA4-93BF-FA7A5973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8141A-02D4-4C5A-8466-D88CD535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AD488-DF76-4037-871B-0A09629F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AB951-C983-46EF-9032-7A8D0827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1D3F4-C462-4C84-873F-41E22E6B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B36B1-D0C9-43E7-900B-B5C0A684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2478E-45FA-40CE-9027-3C3BBC08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D1E97-340C-465A-A43B-53779121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ED91-035B-4DE3-8640-97A05B8B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C43-2A0A-47B7-82A3-320BC09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48D68-3804-4487-AC05-0E6D0D93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DD20-7089-4272-A2F3-831E06EE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B04B-D33A-46AC-8697-160B1FF0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C2863-3799-4DA2-B989-2F27742F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57524-5516-4D97-9B76-4FCFB1B9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181EA-F897-415B-8710-9C4E78F4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506B6-9FD1-4B5C-83DA-787CB94B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7D788-2F97-4692-8835-2BCAF282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C310-F475-4127-BC8F-B7E9CC30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049FF-6046-4998-8B7F-390AF66F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B85-B16E-4355-BE82-57F7A60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3C20C-32D3-4368-AFDE-15EA4EC2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FD5A-A402-47E4-8A7C-1BB596D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BDEBA-9DCE-4016-9EE1-8EC1976E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3A090-BAA4-468E-8F56-6F78A29C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39BE2-12CF-4489-8B02-1804BAAF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3FF79-708D-438D-8D1C-6C363FCB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4829D-BE64-4CF9-9A2B-75F24F22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ED9F0-C1A8-4842-8D82-B1A73311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6F63B-8C1A-46AE-946C-E9EB023B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0BC2A-67BD-4DDA-BB2C-0591E3A2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54D-AF20-48AD-B35F-F849D29B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7E34B-7B9F-464E-86B9-46792D5E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E80D1-567B-442E-B871-94B09CA8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BB8B9-86F8-4FA6-8DBD-0BC74833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FAD67-16B2-4876-A2E4-22FF76EE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120AF-1A4A-4340-852A-0B212E9A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7FC82-CA98-4782-9C2E-7C93F85A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60E1C-2A9A-4F0F-91E9-EA7A02B2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EC9C1-453E-4081-A77F-4D4CA0E7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DB71F-758F-4B95-9129-2B7185A9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72272-3B0B-4D3F-A09B-467D453A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257F-E02A-40B6-9EF4-1709DB1E1C5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hte verbindingslijn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E898-B3CD-4E1F-BDE3-9B6C2ED1E73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2CCB-D294-4AC2-B3E7-53A9C19424A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echte verbindingslijn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0331-CFD1-49C1-88EA-882417B598E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echte verbindingslijn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echte verbindingslijn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E485-EBB3-46A8-B0AA-94875C9BE7E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F416-D28A-4853-8A59-2D3DD14CA2B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hte verbindingslijn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echte verbindingslijn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EF9B-CF83-47E1-B1F7-292B61EE4D4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88CE-3CA2-4462-A563-8DBD821C51A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5753-FCF2-4DBA-A913-CE89AA1B2BB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kstvak 3"/>
          <p:cNvSpPr/>
          <p:nvPr/>
        </p:nvSpPr>
        <p:spPr>
          <a:xfrm>
            <a:off x="2857680" y="428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raktijkles voeren en verzo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kstvak 5"/>
          <p:cNvSpPr/>
          <p:nvPr/>
        </p:nvSpPr>
        <p:spPr>
          <a:xfrm>
            <a:off x="428760" y="1214280"/>
            <a:ext cx="85010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Ho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ruwe celstof. Dit is goed voor de maag- en darmwerking va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lanten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vit.D omdat het door de zon bestraald is (UV-stra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oet kruidig ruiken en mag niet stoffig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bruik hooi alleen als voer en niet als bodembedekk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iet morsen en verkwisten want hooi is d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http://www.roosdiervoeders.nl/images/hooi/hooi%20persen%20006.jpg"/>
          <p:cNvPicPr/>
          <p:nvPr/>
        </p:nvPicPr>
        <p:blipFill>
          <a:blip r:embed="rId1"/>
          <a:stretch/>
        </p:blipFill>
        <p:spPr>
          <a:xfrm>
            <a:off x="4000680" y="3643200"/>
            <a:ext cx="4565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kstvak 1"/>
          <p:cNvSpPr/>
          <p:nvPr/>
        </p:nvSpPr>
        <p:spPr>
          <a:xfrm>
            <a:off x="357120" y="214200"/>
            <a:ext cx="8501040" cy="11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Beperkt of onbeperkt vo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ommige dieren krijgen onbeperkt 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ghen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legmeel of leg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chapen, geiten en koei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ruw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nbeperkt voeren noemt men ook wel  “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</a:rPr>
              <a:t> Ad Libit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 meeste dieren krijgen beperkt vo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konij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40 g korrels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isse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net zoveel als de vissen in één minuut op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uizen/hamster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één eetlepel per dier per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http://lh6.ggpht.com/_2kmXKOsEHgY/R2Q7CKqdL_I/AAAAAAAABV4/ayk7U32XxkQ/PB240008.JPG"/>
          <p:cNvPicPr/>
          <p:nvPr/>
        </p:nvPicPr>
        <p:blipFill>
          <a:blip r:embed="rId1"/>
          <a:stretch/>
        </p:blipFill>
        <p:spPr>
          <a:xfrm>
            <a:off x="714240" y="4786200"/>
            <a:ext cx="2773440" cy="1851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etermaas.nl/gerbils/images/amon-food.jpg"/>
          <p:cNvPicPr/>
          <p:nvPr/>
        </p:nvPicPr>
        <p:blipFill>
          <a:blip r:embed="rId2"/>
          <a:stretch/>
        </p:blipFill>
        <p:spPr>
          <a:xfrm>
            <a:off x="5143680" y="4699080"/>
            <a:ext cx="25002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kstvak 1"/>
          <p:cNvSpPr/>
          <p:nvPr/>
        </p:nvSpPr>
        <p:spPr>
          <a:xfrm>
            <a:off x="285840" y="214200"/>
            <a:ext cx="8715240" cy="10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Vi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n zijn belangrijk voor de gezondheid en de weerstand van de dieren. Bij gebrek aan vitaminen ontstaan ziek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komt voor in groenvoer zoals gras,mais, bieten en wortelen. Het is tevens een natuurlijke kleurstof;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aro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gebrek ontstaan nachtblindheid en ontstekingen aan de 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is belangrijk voor het uitharden van de bo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onvoldoende Vit. D ontstaat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Rachitis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 (zachte en kromme bo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Rachitischer Wellensittich"/>
          <p:cNvPicPr/>
          <p:nvPr/>
        </p:nvPicPr>
        <p:blipFill>
          <a:blip r:embed="rId1"/>
          <a:stretch/>
        </p:blipFill>
        <p:spPr>
          <a:xfrm>
            <a:off x="3500280" y="4500720"/>
            <a:ext cx="21909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kstvak 2"/>
          <p:cNvSpPr/>
          <p:nvPr/>
        </p:nvSpPr>
        <p:spPr>
          <a:xfrm>
            <a:off x="285840" y="285840"/>
            <a:ext cx="857232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ineralen zijn belangrijk voor allerlei processen in het licha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agnesium (Mg)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elangrijk voor zenuw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jzer (Fe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indt zuurstof in het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alcium en fosfor (Ca en P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opbouw van b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elen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ruch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od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schildk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atr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ochthuishouding in het lich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n krachtvoerkorrels zijn meestal voldoende mineralen meegepe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ls je geen of weinig krachtvoer voert, zorg dan voor een liksteen of een like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t op of de dieren niet aan bijv. muren of hekken likken of bij elkaar urine drink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http://www.bndestem.nl/multimedia/archive/00761/BS_4512361_4512361-_761260b.jpg"/>
          <p:cNvPicPr/>
          <p:nvPr/>
        </p:nvPicPr>
        <p:blipFill>
          <a:blip r:embed="rId1"/>
          <a:stretch/>
        </p:blipFill>
        <p:spPr>
          <a:xfrm>
            <a:off x="5143680" y="4572000"/>
            <a:ext cx="2671560" cy="2095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img.2dehands.be/f/normal/51674149_2-voederblok-rumevite-likemmer-ruminlix-schaap.jpg"/>
          <p:cNvPicPr/>
          <p:nvPr/>
        </p:nvPicPr>
        <p:blipFill>
          <a:blip r:embed="rId2"/>
          <a:stretch/>
        </p:blipFill>
        <p:spPr>
          <a:xfrm>
            <a:off x="1000080" y="4572000"/>
            <a:ext cx="28576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kstvak 1"/>
          <p:cNvSpPr/>
          <p:nvPr/>
        </p:nvSpPr>
        <p:spPr>
          <a:xfrm>
            <a:off x="285840" y="285840"/>
            <a:ext cx="871524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En verd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Zorg voor smakelijk voer van goede kw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en verrotte of beschimmelde producten vo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reng eens wat variatie aan in het rantso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t voer goed verdelen zodat elk dier voldoende tijd en ruimte he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economisch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er dat droog en schoon is hergeb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oerbakken maximaal  halfvol anders morsen de dier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ergeet het drinkwater niet te controleren en bij te vu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volgens het voer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www.dierenarts-asse.be/DIERENARTS_ASSE/_images/cavia11.jpg"/>
          <p:cNvPicPr/>
          <p:nvPr/>
        </p:nvPicPr>
        <p:blipFill>
          <a:blip r:embed="rId1"/>
          <a:stretch/>
        </p:blipFill>
        <p:spPr>
          <a:xfrm>
            <a:off x="5286240" y="3214800"/>
            <a:ext cx="3033720" cy="336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www.keukens-info.be/images/weegschaal-3.jpg"/>
          <p:cNvPicPr/>
          <p:nvPr/>
        </p:nvPicPr>
        <p:blipFill>
          <a:blip r:embed="rId2"/>
          <a:stretch/>
        </p:blipFill>
        <p:spPr>
          <a:xfrm>
            <a:off x="1571760" y="3571920"/>
            <a:ext cx="2381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0" y="120600"/>
          <a:ext cx="8858160" cy="7175520"/>
        </p:xfrm>
        <a:graphic>
          <a:graphicData uri="http://schemas.openxmlformats.org/drawingml/2006/table">
            <a:tbl>
              <a:tblPr/>
              <a:tblGrid>
                <a:gridCol w="1771560"/>
                <a:gridCol w="1771920"/>
                <a:gridCol w="1771560"/>
                <a:gridCol w="17715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o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eveel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xtra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pme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korr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g per kilo lichaamsgewi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hand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vi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 g per ca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schuilple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nk om voldoende vitamine C 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leine k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/2 eetlepel per volwassen d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plak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ltijd de dieren controler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ip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me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handjes gemengd graan in de 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romsnav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f parkietenza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d en drinkwater niet onder de zitstokken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ogel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zaad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voer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tropi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sier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sierviss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eveelheid voor één minu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illetjes v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odem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troleer op dode/ziek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korrel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g per g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¼ em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rrels goed verde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x daags (basket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grote winterp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2:20:02Z</dcterms:created>
  <dc:creator>wouter keppel</dc:creator>
  <dc:description/>
  <dc:language>en-US</dc:language>
  <cp:lastModifiedBy>WKE</cp:lastModifiedBy>
  <dcterms:modified xsi:type="dcterms:W3CDTF">2010-02-03T09:47:12Z</dcterms:modified>
  <cp:revision>14</cp:revision>
  <dc:subject/>
  <dc:title>Dia 1</dc:title>
</cp:coreProperties>
</file>