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7AC8-DCE7-493A-9BBE-386DB643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A63E-FEA0-4326-AA69-9B1E225A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4291-DE1A-48BC-9D83-9D0FD958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1C7E-A203-44D2-849D-31F16BBD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6E40-645B-4CA1-A2B5-D99822BA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F8E2-6213-4BC1-ADF6-1D4F52B6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0BAA-5901-40CF-9E93-E08DEE17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D1FD-DAE6-4A58-A1C0-BD6F0562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E736-C461-475B-8730-AAD8F453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A0CC-F0B7-41E8-A863-3AF8A43F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2556-1083-449B-B7B7-71286579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FF87-4C64-46C3-BFE5-F2B626C1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71C3-DBDB-4923-B8BE-6A26B5FB33A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goldenwonders.com/pictures/ms-t-rottweiler.jpg&amp;imgrefurl=http://tostoprussia.blogspot.com/2003_09_01_tostoprussia_archive.html&amp;h=480&amp;w=640&amp;sz=42&amp;tbnid=k_LLHcot7R0J:&amp;tbnh=101&amp;tbnw=134&amp;start=8&amp;prev=/images%3Fq%3Drottweiler%26hl%3Dnl%26lr%3D%26sa%3D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nl/imgres?imgurl=http://www.rijneckerhof.nl/herderhh/kortharige_Hollandse_herders.JPG&amp;imgrefurl=http://www.rijneckerhof.nl/pagina/hollandse_herder/hollandse_herder_gallerie_1.htm&amp;h=507&amp;w=672&amp;sz=55&amp;tbnid=_wRfHmv87hIJ:&amp;tbnh=102&amp;tbnw=135&amp;start=7&amp;prev=/images%3Fq%3Dhollandse%2Bherder%26hl%3Dnl%26lr%3D%26sa%3D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nl/imgres?imgurl=http://www.wildpromotie.nl/Jagerslatijn/pics/teckelstandaardkorthaar.jpg&amp;imgrefurl=http://www.wildpromotie.nl/Jagerslatijn/teckelkorthaar.htm&amp;h=286&amp;w=440&amp;sz=42&amp;tbnid=V4s-Wpz1WPUJ:&amp;tbnh=79&amp;tbnw=121&amp;start=2&amp;prev=/images%3Fq%3Dteckel%26hl%3Dnl%26lr%3D%26sa%3DG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olaris.net/services/image-archive/animals/wolf.jpg&amp;imgrefurl=http://www.polaris.net/services/image-archive/animals/.packed-index.html&amp;h=474&amp;w=582&amp;sz=58&amp;tbnid=jOmIVKRLeJUJ:&amp;tbnh=107&amp;tbnw=131&amp;start=9&amp;prev=/images%3Fq%3Dwolf%26hl%3Dnl%26lr%3D%26sa%3DN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nl/imgres?imgurl=http://www.zeetours.nl/images/wereldkaart.gif&amp;imgrefurl=http://www.zeetours.nl/content/vaargebieden/vaargebieden.html&amp;h=227&amp;w=451&amp;sz=33&amp;tbnid=w5ckgYdnQUsJ:&amp;tbnh=62&amp;tbnw=123&amp;start=2&amp;prev=/images%3Fq%3Dwereldkaart%26hl%3Dnl%26lr%3D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dogbiz.com/dogs-grp2/whippet/images/whippet-280x220-tig-256.gif&amp;imgrefurl=http://www.dogbiz.com/dogs-grp2/whippet/whippet.htm&amp;h=220&amp;w=280&amp;sz=16&amp;tbnid=gapjaluqd_oJ:&amp;tbnh=85&amp;tbnw=108&amp;start=6&amp;prev=/images%3Fq%3Dwhippet%26hl%3Dnl%26lr%3D%26sa%3D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nl/imgres?imgurl=http://www.dogsonline.rijke.nl/encyclopedie/images/afghaanse_windhond.jpg&amp;imgrefurl=http://www.dogsonline.rijke.nl/encyclopedie/a/afgaanse_windhond.htm&amp;h=180&amp;w=186&amp;sz=15&amp;tbnid=PuaQDrpqObYJ:&amp;tbnh=93&amp;tbnw=96&amp;start=5&amp;prev=/images%3Fq%3Dafghaanse%2Bwindhond%26hl%3Dnl%26lr%3D%26sa%3DG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nl/imgres?imgurl=http://www.huisdieren.nu/afbeeldingen/honden/groot/Duitse-Herder2-Evert-Mulder.jpg&amp;imgrefurl=http://www.huisdieren.nu/pvh/werkgroepen/honden/werkgroep%2520honden.htm&amp;h=260&amp;w=400&amp;sz=16&amp;tbnid=OSxEep2UVa8J:&amp;tbnh=78&amp;tbnw=120&amp;start=2&amp;prev=/images%3Fq%3Dduitse%2Bherder%26hl%3Dnl%26lr%3D%26sa%3DG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google.nl/imgres?imgurl=http://home.planet.nl/~topaaz/ArnovGeldersSp.jpg&amp;imgrefurl=http://home.planet.nl/~topaaz/&amp;h=375&amp;w=340&amp;sz=17&amp;tbnid=brBTClfAV1AJ:&amp;tbnh=116&amp;tbnw=106&amp;start=13&amp;prev=/images%3Fq%3Dmechelse%2Bherder%26hl%3Dnl%26lr%3D%26sa%3DG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images.google.nl/imgres?imgurl=http://web.hardynet.com/~ht_cchall/head5-01.jpg&amp;imgrefurl=http://web.hardynet.com/~ht_cchall/Heidi.htm&amp;h=389&amp;w=370&amp;sz=25&amp;tbnid=HReuLAjSPqoJ:&amp;tbnh=118&amp;tbnw=113&amp;start=4&amp;prev=/images%3Fq%3Ddoberman%2Bpincher%26hl%3Dnl%26lr%3D%26sa%3DN" TargetMode="External"/><Relationship Id="rId10" Type="http://schemas.openxmlformats.org/officeDocument/2006/relationships/image" Target="../media/image10.jpeg"/><Relationship Id="rId11" Type="http://schemas.openxmlformats.org/officeDocument/2006/relationships/hyperlink" Target="http://images.google.nl/imgres?imgurl=http://www.rottweiler.on.ca/index/bh1.jpg&amp;imgrefurl=http://www.rottweiler.on.ca/&amp;h=155&amp;w=221&amp;sz=9&amp;tbnid=WX1JOU3ZKoQJ:&amp;tbnh=71&amp;tbnw=101&amp;start=2&amp;prev=/images%3Fq%3Drottweiler%26hl%3Dnl%26lr%3D" TargetMode="External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hondenschool-appel.nl/images/drentse%2520patrijs.jpg&amp;imgrefurl=http://www.hondenschool-appel.nl/drentse_patrijshond.htm&amp;h=283&amp;w=329&amp;sz=17&amp;tbnid=lrdBJ5cb-isJ:&amp;tbnh=98&amp;tbnw=113&amp;start=2&amp;prev=/images%3Fq%3Ddrentse%2Bpatrijs%26hl%3Dnl%26lr%3D%26sa%3D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nl/imgres?imgurl=http://www.gohunting.co.kr/dog/dog_kind/images/pointer.jpg&amp;imgrefurl=http://imagesearch.yahoo.co.kr/isurf/3196/3368/14693/3369/19704/0000411429.html&amp;h=232&amp;w=400&amp;sz=31&amp;tbnid=Q1D4fAARyQcJ:&amp;tbnh=69&amp;tbnw=118&amp;start=1&amp;prev=/images%3Fq%3Dpointer%26hl%3Dnl%26lr%3D%26sa%3D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nl/imgres?imgurl=http://www.cz-pes.cz/ridgeback/obrazky/beki2.jpg&amp;imgrefurl=http://www.cz-pes.cz/katalog_ridgeback.php&amp;h=300&amp;w=350&amp;sz=39&amp;tbnid=0qDFOKbtSQgJ:&amp;tbnh=99&amp;tbnw=115&amp;start=17&amp;prev=/images%3Fq%3Drhodesian%2Bridgeback%26hl%3Dnl%26lr%3D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images.google.nl/imgres?imgurl=http://www.petoffice.co.jp/mbl/ph/zukan/dog300jpg/beagle.jpg&amp;imgrefurl=http://www.petoffice.co.jp/cgi/zukan/newdogshow.cgi%3Fbango%3D39&amp;h=225&amp;w=300&amp;sz=37&amp;tbnid=92XDBTkzZUwJ:&amp;tbnh=83&amp;tbnw=110&amp;start=4&amp;prev=/images%3Fq%3Dbeagle%26hl%3Dnl%26lr%3D" TargetMode="External"/><Relationship Id="rId8" Type="http://schemas.openxmlformats.org/officeDocument/2006/relationships/image" Target="../media/image15.jpeg"/><Relationship Id="rId9" Type="http://schemas.openxmlformats.org/officeDocument/2006/relationships/hyperlink" Target="http://images.google.nl/imgres?imgurl=http://www.takingthelead.co.uk/4images/data/media/12/Parson%2520Jack%2520Russell%2520Terrier.jpg&amp;imgrefurl=http://www.takingthelead.co.uk/4images/details.php%3Fimage_id%3D436&amp;h=232&amp;w=290&amp;sz=17&amp;tbnid=yKX97E_smD8J:&amp;tbnh=88&amp;tbnw=110&amp;start=8&amp;prev=/images%3Fq%3Djack%2Brussell%2Bterrier%26hl%3Dnl%26lr%3D%26sa%3DN" TargetMode="External"/><Relationship Id="rId10" Type="http://schemas.openxmlformats.org/officeDocument/2006/relationships/image" Target="../media/image16.jpeg"/><Relationship Id="rId11" Type="http://schemas.openxmlformats.org/officeDocument/2006/relationships/hyperlink" Target="http://images.google.nl/imgres?imgurl=http://www.arcobaleno.net/curiosita/bull-terrier.jpg&amp;imgrefurl=http://www.arcobaleno.net/curiosita/caneGioco.htm&amp;h=157&amp;w=200&amp;sz=9&amp;tbnid=9oRe-4f51PUJ:&amp;tbnh=77&amp;tbnw=98&amp;start=6&amp;prev=/images%3Fq%3Dbull%2Bterrier%26hl%3Dnl%26lr%3D%26sa%3DG" TargetMode="External"/><Relationship Id="rId12" Type="http://schemas.openxmlformats.org/officeDocument/2006/relationships/image" Target="../media/image17.jpeg"/><Relationship Id="rId13" Type="http://schemas.openxmlformats.org/officeDocument/2006/relationships/hyperlink" Target="http://images.google.nl/imgres?imgurl=http://www.xyberpet.com/dog%2520exchange/airedale.jpg&amp;imgrefurl=http://www.netpuppy.com.hk/pre-order2.htm&amp;h=490&amp;w=490&amp;sz=33&amp;tbnid=8SZ-5RzG6ZcJ:&amp;tbnh=126&amp;tbnw=126&amp;start=1&amp;prev=/images%3Fq%3Dairedale%2Bterrier%26hl%3Dnl%26lr%3D%26sa%3DG" TargetMode="External"/><Relationship Id="rId14" Type="http://schemas.openxmlformats.org/officeDocument/2006/relationships/image" Target="../media/image18.jpe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hondkopen.nl/foto%27s/gezelschapshonden9/mops/toy.jpg&amp;imgrefurl=http://www.hondkopen.nl/rassen/rasbeschrijvingen/groep9/Mopshond.htm&amp;h=151&amp;w=177&amp;sz=6&amp;tbnid=uKqxbYth7X4J:&amp;tbnh=81&amp;tbnw=94&amp;start=17&amp;prev=/images%3Fq%3Dmopshond%26hl%3Dnl%26lr%3D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nl/imgres?imgurl=http://www.dogsonline.rijke.nl/fotoalbums/maltezer/images/kluifje1_jpg.jpg&amp;imgrefurl=http://www.dogsonline.rijke.nl/fotoalbums/maltezer/maltezer.htm&amp;h=200&amp;w=266&amp;sz=21&amp;tbnid=-txyweCCSXMJ:&amp;tbnh=81&amp;tbnw=107&amp;start=3&amp;prev=/images%3Fq%3Dmaltezer%2Bleeuwtje%26hl%3Dnl%26lr%3D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images.google.nl/imgres?imgurl=http://www.veterinerim.net/dogs/breeds/images/Yorkshire%2520Terrier.jpg&amp;imgrefurl=http://www.veterinerim.net/dogs/breeds/breeds.htm&amp;h=346&amp;w=292&amp;sz=23&amp;tbnid=vug2h8ozoi0J:&amp;tbnh=114&amp;tbnw=97&amp;start=7&amp;prev=/images%3Fq%3Dyorkshire%2Bterrier%26hl%3Dnl%26lr%3D%26sa%3DG" TargetMode="External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90720" y="5335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Hondenr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http://images.google.nl/images?q=tbn:k_LLHcot7R0J:www.goldenwonders.com/pictures/ms-t-rottweil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981080"/>
            <a:ext cx="1532160" cy="115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ttp://images.google.nl/images?q=tbn:_wRfHmv87hIJ:www.rijneckerhof.nl/herderhh/kortharige_Hollandse_herder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2895480"/>
            <a:ext cx="1542960" cy="1165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ttp://images.google.nl/images?q=tbn:V4s-Wpz1WPUJ:www.wildpromotie.nl/Jagerslatijn/pics/teckelstandaardkorthaar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3600" y="4495680"/>
            <a:ext cx="191628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83808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762120" y="5335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Het ontstaan van r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" descr="http://images.google.nl/images?q=tbn:jOmIVKRLeJUJ:www.polaris.net/services/image-archive/animals/wolf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447920"/>
            <a:ext cx="2209680" cy="18032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4038480" y="190512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Alle honden stammen af van de wo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048120" y="3429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Rassen ontstonden d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2514600" y="3962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3124080" y="4038480"/>
            <a:ext cx="5562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domestic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natuurlijke gren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fokken voor bepaald soor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4" descr="http://images.google.nl/images?q=tbn:w5ckgYdnQUsJ:www.zeetours.nl/images/wereldkaart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4913280"/>
            <a:ext cx="20923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143000" y="3808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De honden ingedeeld in groe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04920" y="152388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04920" y="1371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1.  wind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http://images.google.nl/images?q=tbn:gapjaluqd_oJ:www.dogbiz.com/dogs-grp2/whippet/images/whippet-280x220-tig-256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219320"/>
            <a:ext cx="1523880" cy="1198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http://images.google.nl/images?q=tbn:PuaQDrpqObYJ:www.dogsonline.rijke.nl/encyclopedie/images/afghaanse_windhon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1219320"/>
            <a:ext cx="1218960" cy="1182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9"/>
          <p:cNvSpPr/>
          <p:nvPr/>
        </p:nvSpPr>
        <p:spPr>
          <a:xfrm>
            <a:off x="228600" y="3352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2. herders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1" descr="http://images.google.nl/images?q=tbn:OSxEep2UVa8J:www.huisdieren.nu/afbeeldingen/honden/groot/Duitse-Herder2-Evert-Mulder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29000" y="3048120"/>
            <a:ext cx="1676520" cy="1090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http://images.google.nl/images?q=tbn:brBTClfAV1AJ:home.planet.nl/~topaaz/ArnovGeldersSp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62720" y="2666880"/>
            <a:ext cx="1420560" cy="15541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4"/>
          <p:cNvSpPr/>
          <p:nvPr/>
        </p:nvSpPr>
        <p:spPr>
          <a:xfrm>
            <a:off x="228600" y="53341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3. waak- en verdedigings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6" descr="http://images.google.nl/images?q=tbn:HReuLAjSPqoJ:web.hardynet.com/~ht_cchall/head5-01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81480" y="4876920"/>
            <a:ext cx="1292400" cy="1349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http://images.google.nl/images?q=tbn:WX1JOU3ZKoQJ:www.rottweiler.on.ca/index/bh1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705720" y="4876920"/>
            <a:ext cx="1828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04920" y="6858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4. Staande jacht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http://images.google.nl/images?q=tbn:lrdBJ5cb-isJ:www.hondenschool-appel.nl/images/drentse%2520patrij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90440"/>
            <a:ext cx="1600200" cy="1387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ttp://images.google.nl/images?q=tbn:Q1D4fAARyQcJ:www.gohunting.co.kr/dog/dog_kind/images/pointer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228600"/>
            <a:ext cx="1981080" cy="11588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228600" y="2438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5. Lopende (jacht)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9" descr="http://images.google.nl/images?q=tbn:0qDFOKbtSQgJ:www.cz-pes.cz/ridgeback/obrazky/beki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67080" y="1981080"/>
            <a:ext cx="1600200" cy="137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http://images.google.nl/images?q=tbn:92XDBTkzZUwJ:www.petoffice.co.jp/mbl/ph/zukan/dog300jpg/beagle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77120" y="1981080"/>
            <a:ext cx="1828800" cy="13795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2"/>
          <p:cNvSpPr/>
          <p:nvPr/>
        </p:nvSpPr>
        <p:spPr>
          <a:xfrm>
            <a:off x="228600" y="45720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6. Terrië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4" descr="http://images.google.nl/images?q=tbn:yKX97E_smD8J:www.takingthelead.co.uk/4images/data/media/12/Parson%2520Jack%2520Russell%2520Terrier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819520" y="4008600"/>
            <a:ext cx="1676160" cy="1341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http://images.google.nl/images?q=tbn:9oRe-4f51PUJ:www.arcobaleno.net/curiosita/bull-terrier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724280" y="4114800"/>
            <a:ext cx="1600200" cy="1255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http://images.google.nl/images?q=tbn:8SZ-5RzG6ZcJ:www.xyberpet.com/dog%2520exchange/airedale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705720" y="40384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04920" y="457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7.  gezelschaps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http://images.google.nl/images?q=tbn:uKqxbYth7X4J:www.hondkopen.nl/foto%27s/gezelschapshonden9/mops/to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228600"/>
            <a:ext cx="1523880" cy="1312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ttp://images.google.nl/images?q=tbn:-txyweCCSXMJ:www.dogsonline.rijke.nl/fotoalbums/maltezer/images/kluifje1_jpg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62720" y="304920"/>
            <a:ext cx="1676160" cy="1269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://images.google.nl/images?q=tbn:vug2h8ozoi0J:www.veterinerim.net/dogs/breeds/images/Yorkshire%2520Terrier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43800" y="228600"/>
            <a:ext cx="1230480" cy="14479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9"/>
          <p:cNvSpPr/>
          <p:nvPr/>
        </p:nvSpPr>
        <p:spPr>
          <a:xfrm>
            <a:off x="304920" y="2819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8. Poolhonden en sledehon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11" descr="http://images.google.nl/images?q=tbn:e7aFPM5rHykJ:www.tier-net.de/tier_real/tierlexikon/dogs/gfx/alaska%2520malamute.gif"/>
          <p:cNvPicPr/>
          <p:nvPr/>
        </p:nvPicPr>
        <p:blipFill>
          <a:blip r:embed="rId7"/>
          <a:stretch/>
        </p:blipFill>
        <p:spPr>
          <a:xfrm>
            <a:off x="4952880" y="2133720"/>
            <a:ext cx="1524240" cy="1454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http://images.google.nl/images?q=tbn:6ULGWfHNWFAJ:www.doggy.net/images-rassen(J)/samojeed2.jpg"/>
          <p:cNvPicPr/>
          <p:nvPr/>
        </p:nvPicPr>
        <p:blipFill>
          <a:blip r:embed="rId8"/>
          <a:stretch/>
        </p:blipFill>
        <p:spPr>
          <a:xfrm>
            <a:off x="6858000" y="2133720"/>
            <a:ext cx="1828800" cy="13935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4"/>
          <p:cNvSpPr/>
          <p:nvPr/>
        </p:nvSpPr>
        <p:spPr>
          <a:xfrm>
            <a:off x="380880" y="48769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9. Jouw favoriete hond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5334120" y="4267080"/>
            <a:ext cx="2971800" cy="1752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WordArt 16"/>
          <p:cNvSpPr txBox="1"/>
          <p:nvPr/>
        </p:nvSpPr>
        <p:spPr>
          <a:xfrm>
            <a:off x="6172200" y="4648320"/>
            <a:ext cx="1371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??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12:05:33Z</dcterms:created>
  <dc:creator>wke</dc:creator>
  <dc:description/>
  <dc:language>en-US</dc:language>
  <cp:lastModifiedBy>Wouter Keppel</cp:lastModifiedBy>
  <dcterms:modified xsi:type="dcterms:W3CDTF">2014-12-11T09:34:13Z</dcterms:modified>
  <cp:revision>2</cp:revision>
  <dc:subject/>
  <dc:title>PowerPoint-presentatie</dc:title>
</cp:coreProperties>
</file>